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explode.wav" ContentType="audio/x-wav"/>
  <Override PartName="/ppt/media/gunshot.wav" ContentType="audio/x-wav"/>
  <Override PartName="/ppt/media/chimes.wav" ContentType="audio/x-wav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135-5C66-440F-B30A-23BC92BA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6A9-0DE7-4ADB-BA29-31463B76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C92D7-ECEF-4D1B-B972-7740311D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8CEF6-33F9-42BD-AF50-A8A4CC40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3F05F-CD4F-4930-AB12-7C9DFA2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E1F92-6D81-4DFF-8286-29FCBD25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647A-047A-4697-902A-A1B637F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22E2A-20F3-44F5-B7F1-0015899F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E6E66-1803-4217-A2AD-9600114F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F7B05-31CE-4E3D-8B70-FF1F0CE2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B8718-C20D-4A33-83CD-E332108C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F4B33-5677-42A6-BA96-562BFC65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021-44B4-4E39-860C-CB0E0CA8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DC443-95DE-4D03-AE41-83514FF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3FC62-615E-43D2-A361-7A875F8B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24217-3ED4-4C54-B2D8-AC1239FB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D5256-DAFC-4FE2-B9B7-7248AE53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56ECB-A904-4592-AC1D-31DE233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60A19-C129-4F13-B7A9-CC8D43D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407DB-445A-4C5C-8ABD-20EE1C4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10CD7-1A23-499A-9E4A-4C79051C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BECA-B222-4E31-BFB5-AE53691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1A89E-559B-4556-9926-3538EF5E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64E-6FD7-4316-B2A6-D33FB76C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5ECD0-6915-4C00-8942-E7382EA8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08E7E-6142-481A-8526-9B3261B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5E810-8CF7-4C61-8B6D-E5DCF6C7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5C020-9970-4BB1-AB67-39FCD115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4245-34D8-4F05-A786-530DF444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C39BE-9A59-42E8-BF17-77D083E7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C9C4C-F3B6-4E7B-A03A-B2FDC50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4FDD3-8D90-4280-A945-1A3BD3FE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D2B2E-12D5-40BD-9615-4074D04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F1532-E385-4979-A795-5A4F401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B962-BD11-4FF2-9AFC-60DFCBCE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BD425-0218-4C17-94DC-403E25BC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9372-104B-47A1-B283-C1E10F95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6161-306B-403D-8767-40D7E18B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B759F-0DD0-4FD5-A090-DA881926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3D9DA-1B1A-4CDC-8219-4619D530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ED4BE-52D4-4DBB-875D-EDB0D751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3507F-DADF-41ED-A0CA-CD55C04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D3973-B37E-45B8-A7DD-F7EF1EE8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70B1-8F87-40BB-9B72-630F91B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FA211-1E16-42F1-BCCA-58CABD6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C4D3-3A08-4C6F-9E45-02F456E1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38697-44B7-4604-BA1E-297D77B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9FDB7-F090-4334-AAAF-D91C22C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9C2BF-00B6-45B2-853B-4C3CF582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28581-37B7-4829-873E-14073AC2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68C2A-87EA-4B14-8866-B3E6B672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9CFED-746A-4E4F-843A-34EBB8ED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A5B72-1933-4BDE-8C3E-ACE539F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4B419-C7AF-421A-A28D-0DA64AF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427C5-9F3F-4A8F-8483-A662774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B6BC5-ED60-4CE9-B72E-FA806BFA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42FD-6CFB-4404-8F81-053C440D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7AF69-DA5E-4261-802D-779C7111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F4E4C-E73D-4356-A9BC-98EE1D2E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F2F66-F1C7-493D-B4A9-2D3AC38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39E51-1976-421D-BE20-B47AC604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9D232-65DC-4368-B4C8-EDA17C26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56EB0-8A93-49F0-A805-10636BA9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EA2CA-4F51-4E07-97FC-32A2EB41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CF5B8-BE3B-4395-BCC7-A8E6D70F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74876-939E-47E4-80E6-FDEA67EF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9FC9D-BC62-470E-A6A2-279616D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003F-F535-4B5C-8E50-FC15A26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14D79-4BDC-49AC-AC15-0AE61142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477CF-314F-4FA2-9878-4E075477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846F9-3BD5-45E2-871A-0ACDE28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95DE4-ED45-4112-B00D-C129CF4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1F36B-D45A-4502-85A1-B58BE83F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23CA4-D989-41DF-B660-5B9A114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4F455-01B0-458F-9523-F9C6213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3206C-14C4-4AAA-A44C-F5ACD09C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3FD2E-D246-49DF-803D-8C233D97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4F993-1B5D-4098-8503-2FDD9728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247-64A8-43C8-81E2-883BE7AD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BDBD1-A915-4950-A7C4-628EBFC8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6868E-D7DB-4C95-B792-FC00BFAF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BEDC1-0557-4801-84A6-C78F7C4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4E8EF-4B30-4B40-884E-06676BA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A1B06-0A75-46CD-8C72-8383E512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20363-1C4F-46A6-B9B9-04B42AF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C8E2A-268D-4271-BFFE-B11884D8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1D4CA-6E65-40CC-B7BB-EFBA98F7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12769-1000-47A7-AAC4-991230AC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86F4F-704D-4ABC-9D26-4415C6EA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184E-CC93-433E-BBBC-B4FB100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3F250-7334-4406-800C-9C938A7C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1912C-7E4C-4339-8417-0285A834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95FEE-C121-4C1A-8593-6CDAAC4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7CE71-C100-4623-8A99-A6186F22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F928D-B986-4DFD-AE5F-AC8AA287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09DB7-7B44-4DF3-8C95-DE771022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A2B3E-B975-45DE-9082-47F2B82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E1B35-9229-47DF-A35B-FB0A7D9B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EE3D4-2FB9-4C1E-B0D2-74795BC7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6D6E8-1D71-4A25-B59E-6C4AD01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A41E-DE54-480E-9F1A-D25A8CF3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25A2F-7548-4E7C-AD69-D2A72034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C0683-8657-43A0-B1DA-D902C92E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86F43-9214-48F8-994A-DDEE341A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D5472-8A99-45C0-8990-7E8EAF28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A8314-7E11-4142-90D9-28A281C1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30222-809D-48BD-A23D-1167CE9D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4E286-5714-47BB-9F3E-77B38153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1F0AF-650A-49B1-9814-2DD12372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4F073-E60C-4FF7-B79E-2EB2BE20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B700E-724F-4253-B205-1C073EC0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DFC-FE36-4EF4-85BB-18DE8605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C63F-5553-4EAF-A90E-B0B4F4CC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BB1ED-BBE1-4A9E-BF6B-5EFCC39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CF3C9-2FCB-4B54-8620-320CD9DF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DA7EE-BFCD-414F-B436-19C16B7E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F0547-7841-4F62-A302-586C65C8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EAC80-83B5-4C35-8C30-CD8DC40D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733BB-9AAD-4452-9D8C-EEF1321B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A0067-00DE-487C-8148-FCB76874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DEF4E-D19D-4B89-B47F-A3AEB35A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BD45F-AD41-4BAE-8632-090F6EED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82137-4D80-4ACA-B994-55B8FE9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E916-04CE-4F32-9E0B-59D2D6A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0CA7E-44C5-4FAF-ACDC-2A3C8E7B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4538D-E2E2-4917-A30C-756BF16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66B41-D608-4BCD-8F58-294ACC1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4F9BE-2D27-42E5-9D24-775B705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65F98-56AE-44EA-A692-D11B1A81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54995-ECE1-45BA-9B60-751A3113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8DF49-EDA8-4C0C-B51B-62814819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451A3-069A-4C9D-B826-1EEC50C5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91586-A565-4558-99A1-B1D662AF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28D46-1D5D-4325-9B5D-00BA84D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452E-35E0-4477-9B5C-40DC6DBA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8B953-96B8-4474-9C7E-8FF01ECB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AC5AD-E4AE-4A7C-8811-7D6C004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86D87-172F-48EC-AD7B-C489D2BF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43522-2985-4976-859B-6EAA795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D2914-AEDF-42CB-A9C1-8004D74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0AA89-B8C2-4BE9-A8F3-05CAA1D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844E7-160C-49AF-85E7-FB1713D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6C456-6BC4-48A6-B4E9-A612FEE1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6A91C-E123-4C2C-9FE9-820B6B94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6343F-9920-4A97-81DC-2410ADC7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C1A-595C-42A9-8D38-BD5CEED3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74B53-E066-4198-A3F8-8C893519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40370-C85B-415B-8AA7-4299E18B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2264F-EE32-40B0-9BE3-DFC5236D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3C3C6-3A1B-4D39-B5FB-70586581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351F9-04A3-4C5B-A0F9-E1C70E5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5291F-9F0E-43A0-8806-EC06F57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7E2F0-1EAF-48F0-9DBC-B84BEA6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77A44D-62CA-48AA-B858-4459BF7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A8729-BA38-4174-A603-AC314F11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ABF21-EC36-4887-BAA4-6A61AF7B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0C9-5B57-4AC4-BF30-B72ABDE6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493CB3-0260-40CB-9813-A4DFF8F0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9F266E-3486-4BD8-91A7-E6AE8609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95CAEB-4C8D-4989-AECD-52752F3E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5A8E83-E5F0-40ED-90B2-0B673483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490208-1898-4064-8448-63DA22F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F0DF9A-498D-492F-BA25-CB9F010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CFC229-61D6-4FAF-8CC8-7CB5648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1B7BCB-9E0D-4728-9024-BD9E63D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12185E-884C-4D94-92CB-D685975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2B5319-0539-40D0-A20D-60E7883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DFFFC-16EA-40B6-A3B9-15ADA3A3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99DB3C-8690-42C0-8722-CB156C87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C19E3A-7DFB-469A-A568-D14D44A7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4FE0E39-11C7-4621-9545-13F8F1DC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4BABA0-7CE9-43E4-8560-6922CD5B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6FD01C-31D6-4A0E-98F3-98C74E0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FBD55-CD11-476D-AC42-B72D966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2536F7-2A34-4726-B9CE-94E99A98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79FDBC-1893-428E-9A1E-58BC1CF9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177A15-E8D2-45A4-95BD-53AA0E31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6143C5-F4D9-41BF-8328-CD375BCE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351E3-8D80-4CA2-8CFA-6A359A8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F94E5-1471-4F75-98CF-3BCA6CD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DBB49-A285-43A6-B96B-E61678FE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30F387-5DD7-4B8D-A7A8-DE2C9165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57DE5-A900-4669-BA52-816B6819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EFE001-B1C8-4F05-A98B-73378A0D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1077E-386C-4FE4-BD56-37A13495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8C088-36EA-4BE5-9FD1-E3C31720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A0517-3FF1-4DAE-BCF0-55D6F275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46404C-B1C0-4443-9972-BFF45D41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307F3D-8F65-4C48-BB0B-BC4E0CD7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9B2B8-FA38-41C4-9CC9-B8D2B772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C49B2-6335-45A0-885F-15591F71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6F02E3-01DB-49E4-8FC8-DDAA3CC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F0E658-A141-4E29-9493-78D482C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57F373-D0F4-40E4-87AC-3E677B9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32A788-23C2-41B3-8E65-A36A28E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C0AD14-C180-41A6-ADE5-0128543B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214CD6-7266-4036-83DC-29E8B4F0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C8455-E5F2-453D-9A6F-4113B7B1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9BB022-1FE4-448F-AA6F-F3B5047F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E2D65-B191-4FB1-8331-16C5FE1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35ECC-FEE8-43AE-BD0E-A81BEE6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B2FCFB-B354-4580-9B7E-0B4393A1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F9AB34-DC3A-4ECE-AA2A-D2B42AF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DB25DC-39D0-439B-AA0C-932791A1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639062-7516-4938-93D5-C2AFF17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BF9E5C-9EC3-4554-AE78-6AE7447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395D18-56F0-46F5-94C4-0484EDE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88FB5C-084E-4248-8331-A0B6844B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D5F74F-3216-4DAB-9B25-97C8506C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CECD44-643C-4964-99B0-12798C05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25B897-F05C-4755-B1F1-D2FD3F08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30A1F-0D69-4227-ACF3-1F932044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214EA7-E5A0-487A-8E8A-CA7651B7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6B2A05-69AF-4E8E-9C39-3799D738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C51FA7-B223-42D7-9F32-3EA2E18D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2D1912-252A-4AFB-8288-D75B6C6E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479BC9-7B8F-4250-A38E-AF677A65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3BC3A5-167B-43DE-997E-509C6D8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E68CFD-90B0-43B2-BBAA-3D9DE85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20BE06-8B00-4783-B674-927406D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10AD3C-9DB7-4378-AB3C-23FD1637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F0130D-1E8B-4470-B80D-ABFEEE73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121-847D-4119-95FA-B38F9C11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BC33F-83E4-42F1-A739-BB2D461D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BF2BD5-B124-45CD-87B8-9E9BA748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C8720-891E-4E4F-ABAA-30FE5FE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7C7D7-2095-4963-9A99-94AA491F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916AE-CC95-4474-BB1F-DAD534A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95E96-7D8B-4AD2-981C-80BB8D80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96042-117C-4BFA-8B31-A0955797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A0885-8E11-4C09-A817-83571B61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7A14-9686-4D74-A4CB-28060728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451D-F8AB-4DAD-94F8-FA1E9BB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0062-8039-41A3-96EB-2F902B16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48C-AC78-4EC7-9BE9-8BED82A7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1E3C-DD1C-4129-9A02-3801D134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9157-A7AC-42CA-9928-BF2E6ABF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A493-6B36-4C54-80A3-D68C42D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9C0A-B49A-476B-BF0D-BD1759D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4AD2-C3BD-4484-937D-E92C653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1E6D3-9AE2-4700-A82F-C49A3980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0B90-F3E7-47E0-9E0E-09672704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90B4-B88D-4173-8F79-2BF79846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7C91-70CF-4B15-A3C0-7F1DD0F3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F6CB-9FBE-434F-AD46-60FCEFA2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224-2613-4DC8-A1D2-9F097794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2657-66F7-4214-8615-92AB0AD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1C16-A68B-49A3-8103-3318A84A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1F7A-A146-426E-8212-64CE6FA1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F1352-307F-4E8B-9E70-638F3E75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8636F-23F1-4329-A1A0-081C654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A107-705E-46AA-AE96-94F925B4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B182D-6C50-4E81-B25F-149F9F6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EA47-F86B-4314-9637-60CBFACC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48ABB-2257-4E1E-9AB1-B45EC9C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DF6C-EE18-4921-92CB-21CCF6C2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EEB-D748-4B77-978B-E1131E4F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2B250-1B6B-4676-AE77-A8E75842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7B139-9590-405D-BD60-3A14C126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086D1-A508-4444-9A42-201A99C7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682B-2BE2-4880-B571-F749C8B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1249-214E-4571-B8A3-8B5C9A8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A71B-EED9-40B4-9C43-2C4FBAAD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9033-2236-4278-998A-ECFE7CBC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F4B35-63C4-4910-9E57-C5CBF8D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1FCC-0B5B-42E5-96C5-4569D27D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CD82-620F-4151-8B6F-E12244F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C09-C75E-4FE5-898B-D86DA378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82A4-97EE-4809-8033-DC53D99C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7413-173A-49B4-9B75-5621110E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E4F1-6C53-43A3-A8E2-36D55872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2D82F-BE48-487F-A0B8-A24D42DB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2C06-F50A-4522-95B9-1B7106A5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B944-C050-4AFE-A704-DE8481F3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DAB4-98F4-41A4-BF38-4D3FF6D7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0C8AD-E8F0-4ED2-B538-5FDF83D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DCD06-5DE8-49FC-976D-960235D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6A1D-1A24-4B73-B1D3-CE50B46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D30-1670-4DCA-8B17-5A36CD9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8DA5-AF5F-46F2-BA62-15493948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7C486-CC45-49F2-9E39-457CE15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A1BD-3EF2-4D91-8C0C-1D0C8973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702E-8298-425B-9666-8F532351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72417-B748-4436-B05E-63999286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FBDF4-DC2A-471A-A4CA-55911C1A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BAFC1-D479-4C1C-923D-5F950B13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0C031-54A8-4561-A989-B3FCB290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B4C1-FE54-475D-9068-23AABF5B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0D09-0DAF-4390-B9F4-DE40C238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6E9-EFE8-4C9E-9C5F-03A7306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4794-6F9D-4516-998C-0F818D0C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49570-0A77-4A40-AA03-4EEC457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6D98-8B42-4B6D-8DF9-318B7F62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841FB-C8ED-4812-B918-931BE3E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3C229-3932-4E15-AA6D-6C6470B0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DE960-846E-47CE-94AA-B496DB51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C75FE-EFD7-4902-BBCB-4DF48AED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1FC97-A2BA-4C29-889C-260A680E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1C520-1577-4771-B4F7-16842F49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4BA91-B051-48F5-B0FD-65ACC98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5370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2C2-BC36-41C0-989F-D92BE3408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12288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矩形 12288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矩形 12288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矩形 12288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矩形 12288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矩形 12288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矩形 12288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C031-F022-4D54-A1D5-DA89B5632E53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图片 122893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组合 12697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6" name="椭圆 12697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椭圆 12697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椭圆 12698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椭圆 12698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椭圆 12698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0242-5910-4853-8564-E44BD504F9C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126988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130049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4" name="任意多边形 130050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5" name="组合 130051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66" name="任意多边形 130052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任意多边形 130053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任意多边形 130054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任意多边形 130055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任意多边形 130056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任意多边形 130057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任意多边形 130058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任意多边形 130059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任意多边形 130060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任意多边形 130061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任意多边形 130062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任意多边形 130063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任意多边形 130064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9" name="任意多边形 130065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任意多边形 130066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任意多边形 130067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任意多边形 130068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3" name="任意多边形 130069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4" name="任意多边形 130070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5" name="任意多边形 130071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6" name="任意多边形 130072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7" name="任意多边形 130073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8" name="任意多边形 130074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9" name="任意多边形 130075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0" name="任意多边形 130076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91" name="组合 130077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92" name="任意多边形 130078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任意多边形 130079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任意多边形 130080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任意多边形 130081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任意多边形 130082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任意多边形 130083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任意多边形 130084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任意多边形 130085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任意多边形 130086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任意多边形 130087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任意多边形 130088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任意多边形 130089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任意多边形 130090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任意多边形 130091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任意多边形 130092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组合 130093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08" name="任意多边形 130094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任意多边形 130095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组合 130096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11" name="任意多边形 130097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任意多边形 130098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任意多边形 130099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任意多边形 130100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任意多边形 130101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任意多边形 130102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任意多边形 130103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任意多边形 130104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任意多边形 130105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0" name="任意多边形 130106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任意多边形 130107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任意多边形 130108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任意多边形 130109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任意多边形 130110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任意多边形 130111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任意多边形 130112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任意多边形 130113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2E40-65C8-4D97-9E1F-A1FFBAE6D80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3" name="图片 130119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0619-6CD4-4AD9-ABF7-33926FE726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图片 133126" descr="t1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组合 16385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713" name="矩形 16386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矩形 16387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715" name="图片 16388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0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41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4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47C0-4E40-4A7F-A8AD-51339FBFCF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57350" descr="t1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9D67-A435-43F4-925C-78410DFE1D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组合 7372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0" name="组合 73730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1" name="任意多边形 73731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2" name="任意多边形 73732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3" name="任意多边形 73733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4" name="任意多边形 73734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5" name="任意多边形 73735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06" name="任意多边形 73736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任意多边形 73737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808" name="图片 73743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4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23D1-6D39-4551-B3C1-B410CA1AFC3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446C-321A-4C08-9859-BBB86E91CF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5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D405-FE58-4C37-9CCE-E8532AEA61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直接连接符 106497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33" name="组合 106503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934" name="椭圆 106504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椭圆 106505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椭圆 106506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椭圆 106507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椭圆 106508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椭圆 106509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椭圆 106510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椭圆 106511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椭圆 106512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椭圆 106513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椭圆 106514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椭圆 106515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椭圆 106516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椭圆 106517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椭圆 106518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椭圆 106519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椭圆 106520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椭圆 106521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椭圆 106522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椭圆 106523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椭圆 106524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椭圆 106525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椭圆 106526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椭圆 106527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椭圆 106528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椭圆 106529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椭圆 106530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椭圆 106531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椭圆 106532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椭圆 106533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椭圆 106534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65" name="直接连接符 106535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FD10-CD1A-4859-A3D2-7BBFAD111D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35E-9675-4D8D-84E5-6C807ED5DA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56326" descr="t1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任意多边形 110593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08" name="组合 110599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09" name="任意多边形 110600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任意多边形 110601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任意多边形 110602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12" name="组合 110603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13" name="任意多边形 110604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任意多边形 110605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任意多边形 110606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任意多边形 110607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任意多边形 110608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组合 110609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1019" name="任意多边形 110610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任意多边形 110611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任意多边形 110612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22" name="组合 110613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023" name="任意多边形 110614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任意多边形 110615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任意多边形 110616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任意多边形 110617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任意多边形 110618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任意多边形 110619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9" name="任意多边形 110620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7F1-4837-42C5-A221-C97D643190A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任意多边形 117763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E73-2536-4067-81C0-9E5D64C184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组合 123905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114" name="组合 123906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115" name="矩形 123907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矩形 123908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组合 123909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118" name="矩形 123910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矩形 123911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矩形 123912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矩形 123913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矩形 123914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498-8C81-4FD4-9484-95AF3C8C1FBA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组合 128001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165" name="椭圆 12800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椭圆 12800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椭圆 12800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椭圆 12800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椭圆 12800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椭圆 12800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E3D1-241B-4576-B345-A48DAC56DA8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组合 131073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13" name="任意多边形 131074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14" name="组合 131075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15" name="任意多边形 131076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任意多边形 131077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任意多边形 131078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任意多边形 131079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任意多边形 131080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任意多边形 131081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任意多边形 131082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任意多边形 131083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任意多边形 131084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任意多边形 131085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任意多边形 131086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任意多边形 131087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任意多边形 131088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任意多边形 131089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任意多边形 131090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任意多边形 131091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任意多边形 131092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任意多边形 131093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任意多边形 131094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任意多边形 131095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任意多边形 131096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任意多边形 131097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任意多边形 131098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任意多边形 131099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任意多边形 131100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40" name="组合 131101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41" name="任意多边形 131102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任意多边形 131103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任意多边形 131104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任意多边形 131105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任意多边形 131106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任意多边形 131107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任意多边形 131108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任意多边形 131109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任意多边形 131110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任意多边形 131111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任意多边形 131112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任意多边形 131113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任意多边形 131114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任意多边形 131115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任意多边形 131116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组合 131117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57" name="任意多边形 131118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任意多边形 131119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组合 131120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60" name="任意多边形 131121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任意多边形 131122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任意多边形 131123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任意多边形 131124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任意多边形 131125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任意多边形 131126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任意多边形 131127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任意多边形 131128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任意多边形 131129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任意多边形 131130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任意多边形 131131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任意多边形 131132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任意多边形 131133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任意多边形 131134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任意多边形 131135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任意多边形 131136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任意多边形 131137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7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7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424A-964F-4BAE-AB2A-4EA987993A7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7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7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7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D20-9E19-4346-8688-940C3060DE8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C87-0F64-4FE5-A954-D43A99BF7E1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组合 72707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组合 7270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任意多边形 72709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任意多边形 72710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任意多边形 72711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任意多边形 72712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任意多边形 72713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3" name="任意多边形 72714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任意多边形 72715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图片 72719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D35C-2F98-439B-AFAC-143563F515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图片 83974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CD1B-F6E4-4E79-8DC8-6BC1447145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图片 86022" descr="t1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E0F1-D855-4B84-BA93-A2257520E6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9094" descr="t1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直接连接符 105473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50C8-58A4-4D02-9DC7-0C15A50C5C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组合 105479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8" name="椭圆 105480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椭圆 105481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椭圆 105482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椭圆 105483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椭圆 105484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椭圆 105485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椭圆 105486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椭圆 105487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椭圆 105488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椭圆 105489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椭圆 105490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椭圆 105491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椭圆 105492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椭圆 105493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椭圆 105494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椭圆 105495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椭圆 105496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椭圆 105497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椭圆 105498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椭圆 105499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椭圆 105500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椭圆 105501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椭圆 105502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椭圆 105503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椭圆 105504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椭圆 105505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椭圆 105506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椭圆 105507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椭圆 105508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椭圆 105509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椭圆 105510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99" name="图片 105511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任意多边形 109569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5E0-B41B-488A-B7A6-8C04C250886B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任意多边形 109575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任意多边形 109576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44" name="组合 109577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45" name="任意多边形 109578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任意多边形 109579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任意多边形 109580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任意多边形 109581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任意多边形 109582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任意多边形 109583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任意多边形 109584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任意多边形 109585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任意多边形 109586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54" name="组合 10958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55" name="组合 10958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56" name="任意多边形 10958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任意多边形 109590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任意多边形 109591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任意多边形 109592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任意多边形 109593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任意多边形 109594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62" name="组合 109595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63" name="任意多边形 109596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任意多边形 109597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任意多边形 109598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任意多边形 109599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任意多边形 109600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任意多边形 109601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任意多边形 109602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任意多边形 109603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1" name="组合 109604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72" name="任意多边形 109605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任意多边形 109606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4" name="组合 109607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375" name="组合 109608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376" name="任意多边形 109609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77" name="组合 109610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378" name="任意多边形 109611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任意多边形 109612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任意多边形 109613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任意多边形 109614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任意多边形 109615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任意多边形 109616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任意多边形 109617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任意多边形 109618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6" name="直接连接符 109619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87" name="图片 109620" descr="t1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9C00-D612-44E8-A823-4F88B06AB1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图片 116742" descr="t1"/>
          <p:cNvPicPr/>
          <p:nvPr/>
        </p:nvPicPr>
        <p:blipFill>
          <a:blip r:embed="rId3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gunshot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371600" y="-85320"/>
            <a:ext cx="41148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360" name="图片 2058" descr="隐隐约约隐隐约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1" name="矩形 2059"/>
          <p:cNvSpPr txBox="1"/>
          <p:nvPr/>
        </p:nvSpPr>
        <p:spPr>
          <a:xfrm>
            <a:off x="1116000" y="189000"/>
            <a:ext cx="6408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土地的誓言</a:t>
            </a:r>
            <a:endParaRPr b="0" lang="en-US" sz="4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-175248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ahoma"/>
              </a:rPr>
              <a:t>修辞方法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7693200" cy="6669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排比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黑体"/>
              </a:rPr>
              <a:t>——</a:t>
            </a:r>
            <a:r>
              <a:rPr b="0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连用“当我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黑体"/>
              </a:rPr>
              <a:t>…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把各种有意味的事物组成一个个画面，电影似的展现关东大地的丰饶美丽，造成一种连贯的、逐渐增强的气势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比喻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地层里的洪流象我的心喷涌的血液” ，使“关东大地”有了生命有了感情，可以象人一样召唤我，激励我为之奋斗为之牺牲，使感情愈发强烈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呼告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她”转为“你”的人称转换，是情感变化的结果，情感从平稳～到激动，情感显得更加直接而迫切，具有强烈的抒情效果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．如何理解本文的标题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──“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土地的誓言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这一标题是比较独特的，其要点在于“誓言”。从文章来看，这誓言是作者对着土地发出的。作者在文章末尾壮怀激越地发誓：“我要回到她的身边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为了她，我愿付出一切。我必须看见一个更美丽的故乡出现在我的面前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──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或者我的坟前。”这种掷地有声的誓言读者自可强烈地感受到。因此，这一标题应该理解为“面对土地发出的誓言”而不是“土地自身发出的誓言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这种表达方式并不是独一无二的。例如朱德的“母亲的回忆”，其意就是“关于母亲的回忆”而不是“母亲自身的回忆”。作者之所以作如此表达，估计是在不影响意思表达的前提下力求简洁，在拟写标题之时就更是如此。况且，本文集中笔力写“土地”，将“土地”二字置于最醒目的位置也确实是一种较好的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6551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．怎样理解文中“我常常感到它在泛滥着一种热情”中的“泛滥”与“在那田垄里埋葬过我的欢笑”中的“埋葬”这两个词语的确切含义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1692000" y="333000"/>
            <a:ext cx="7272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泛滥”原意是“江河水溢出，淹没土地”，又引申为“思想、事物到处扩散”。作者的心情正如决堤之水不可遏抑地向四下泛滥奔流，作者那激愤狂放的心情用了“泛滥”来形容较之用“澎湃”“涌动”等词语更多了几分野性和难以驾驭的力量。至于“埋葬过我的欢笑”中的“埋葬”就更加特殊，埋葬只用于已经死去的事物，那么，我的欢笑已经死去了吗？是的，昔日在田垄间留下的欢笑曾经是晶莹如露珠般点缀在垄上，散发着迷人的光泽。而今，这一切早已不复存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．为什么文章起初写“关东大地”用“她”来称呼，而到了后面时却又改口说“土地，原野，我的家乡，你必须被解放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你必须站立”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称的变化实际上是情感的变化的结果。文章开始用第三人称，是因为感情起初比较平稳，但随着作者情绪一步步的激动，作者就不满足于使用向第三者介绍的人称代词“她”了，于是抛开读者直接与自己所叙述的对象进行对话交流，对土地以“你”相称，情感显得更加直接而迫切。这在修辞上叫做“呼告”，具有强烈的抒情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课文总结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土地的誓言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这篇抒情散文充满着饱满、深沉的爱国热情。他把九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一八事变以后东北流亡人民压抑的情感用火 一样炽热 的语言表达出来。日本侵略强占了关东原野十年之久，他失去的是美好家园，对国人来说，她是祖国完整版图上沦丧的土地，文章对关东原野的怀念，正体现中华民族驱逐民族侵略者，收复东北失地的激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-167688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6600cc"/>
                </a:solidFill>
                <a:latin typeface="Arial"/>
              </a:rPr>
              <a:t>艺术特点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00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a50021"/>
                </a:solidFill>
                <a:latin typeface="Arial"/>
              </a:rPr>
              <a:t>叙述与抒情相结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形成文章的波澜起伏，节奏鲜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a50021"/>
                </a:solidFill>
                <a:latin typeface="Arial"/>
              </a:rPr>
              <a:t>排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—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连用“当我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把各种有意味的事物组成一个个画面，电影似的展现关东大地的丰饶美丽，造成一种连贯的、逐渐增强的气势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a50021"/>
                </a:solidFill>
                <a:latin typeface="Arial"/>
              </a:rPr>
              <a:t>比喻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地层里的洪流象我的心喷涌的血液” ，使“关东大地”有了生命有了感情，可以象人一样召唤我，激励我为之奋斗为之牺牲，使感情愈发强烈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a50021"/>
                </a:solidFill>
                <a:latin typeface="Arial"/>
              </a:rPr>
              <a:t>呼告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她”转为“你”的人称转换，是情感变化的结果，情感从平稳～到激动，情感显得更加直接而迫切，具有强烈的抒情效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2057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eaeaea"/>
                </a:solidFill>
                <a:uFillTx/>
                <a:latin typeface="Times New Roman"/>
                <a:ea typeface="华文行楷"/>
              </a:rPr>
              <a:t>作业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8" name="文本框 11268"/>
          <p:cNvSpPr/>
          <p:nvPr/>
        </p:nvSpPr>
        <p:spPr>
          <a:xfrm>
            <a:off x="15238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你的家乡留给你怎样的印象？写一篇短文，描绘一下你印象中的故乡，表达你对她的情感。字数不限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图片 12291" descr="b1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再   见</a:t>
            </a:r>
            <a:endParaRPr b="0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图片 44033" descr="5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44034" descr="dhm_843_small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44035" descr="images"/>
          <p:cNvPicPr/>
          <p:nvPr/>
        </p:nvPicPr>
        <p:blipFill>
          <a:blip r:embed="rId3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44036" descr="taonan"/>
          <p:cNvPicPr/>
          <p:nvPr/>
        </p:nvPicPr>
        <p:blipFill>
          <a:blip r:embed="rId4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4100" descr="gdls-1"/>
          <p:cNvPicPr/>
          <p:nvPr/>
        </p:nvPicPr>
        <p:blipFill>
          <a:blip r:embed="rId1"/>
          <a:stretch/>
        </p:blipFill>
        <p:spPr>
          <a:xfrm>
            <a:off x="2057400" y="2819520"/>
            <a:ext cx="6114960" cy="4038480"/>
          </a:xfrm>
          <a:prstGeom prst="rect">
            <a:avLst/>
          </a:prstGeom>
          <a:ln w="0">
            <a:noFill/>
          </a:ln>
        </p:spPr>
      </p:pic>
      <p:sp>
        <p:nvSpPr>
          <p:cNvPr id="1367" name="文本框 4101"/>
          <p:cNvSpPr/>
          <p:nvPr/>
        </p:nvSpPr>
        <p:spPr>
          <a:xfrm>
            <a:off x="1523880" y="12193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93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日晚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分，日本“关东军”将沈阳北郊柳条湖附近一段路轨炸毁，却反诬中国军队破坏铁路、袭击日本军队。以此为借口，日军随即攻占沈阳，策划并制造了震惊中外的“九一八”事变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ffff"/>
                </a:solidFill>
                <a:uFillTx/>
                <a:latin typeface="Garamond"/>
                <a:ea typeface="华文行楷"/>
              </a:rPr>
              <a:t>作品背景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Arial"/>
                <a:ea typeface="隶书"/>
              </a:rPr>
              <a:t>   </a:t>
            </a:r>
            <a:r>
              <a:rPr b="0" lang="zh-CN" sz="4800" spc="-1" strike="noStrike" u="sng">
                <a:solidFill>
                  <a:srgbClr val="ffffcc"/>
                </a:solidFill>
                <a:uFillTx/>
                <a:latin typeface="Arial"/>
                <a:ea typeface="隶书"/>
              </a:rPr>
              <a:t>作者简介：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914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66"/>
                </a:solidFill>
                <a:uFillTx/>
                <a:latin typeface="黑体"/>
                <a:ea typeface="黑体"/>
              </a:rPr>
              <a:t>端木蕻（</a:t>
            </a:r>
            <a:r>
              <a:rPr b="1" lang="en-US" sz="3600" spc="-1" strike="noStrike" u="sng">
                <a:solidFill>
                  <a:srgbClr val="ffff66"/>
                </a:solidFill>
                <a:uFillTx/>
                <a:latin typeface="黑体"/>
                <a:ea typeface="黑体"/>
              </a:rPr>
              <a:t>hao</a:t>
            </a:r>
            <a:r>
              <a:rPr b="1" lang="zh-CN" sz="3600" spc="-1" strike="noStrike" u="sng">
                <a:solidFill>
                  <a:srgbClr val="ffff66"/>
                </a:solidFill>
                <a:uFillTx/>
                <a:latin typeface="黑体"/>
                <a:ea typeface="黑体"/>
              </a:rPr>
              <a:t>）良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30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年代中期“东北作家群”代表作家之一，这一流派都是从东北流亡到上海及关内各地的一些年轻作家，如萧红，萧军等。他们开了抗日文学的先声，第一次在作品中把作家的心血，与东北广袤的黑土，铁蹄下的不屈相结合，以一种浓郁的眷恋乡土的爱国主义情绪和粗犷的地方风格振奋人心。他的代表作还有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</a:rPr>
              <a:t>科尔沁旗草原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</a:rPr>
              <a:t>、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</a:rPr>
              <a:t>大地的海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等作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6147" descr="t1"/>
          <p:cNvPicPr/>
          <p:nvPr/>
        </p:nvPicPr>
        <p:blipFill>
          <a:blip r:embed="rId1"/>
          <a:stretch/>
        </p:blipFill>
        <p:spPr>
          <a:xfrm>
            <a:off x="4038480" y="1295280"/>
            <a:ext cx="4876920" cy="3675240"/>
          </a:xfrm>
          <a:prstGeom prst="rect">
            <a:avLst/>
          </a:prstGeom>
          <a:ln w="0">
            <a:noFill/>
          </a:ln>
        </p:spPr>
      </p:pic>
      <p:sp>
        <p:nvSpPr>
          <p:cNvPr id="1372" name="矩形 6148"/>
          <p:cNvSpPr/>
          <p:nvPr/>
        </p:nvSpPr>
        <p:spPr>
          <a:xfrm>
            <a:off x="304920" y="15228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3" name="文本框 6149"/>
          <p:cNvSpPr/>
          <p:nvPr/>
        </p:nvSpPr>
        <p:spPr>
          <a:xfrm>
            <a:off x="1600200" y="4952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他注重方言的运用，又自觉地吸收电影剪接手法来结构小说，叙述带跳跃性，用笔举重若轻，讲究力度，在小说体式上有新的创造。抗战时期他先后出版了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科尔沁旗草原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》《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大地的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》《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长江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等长篇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4" name="文本框 6150"/>
          <p:cNvSpPr/>
          <p:nvPr/>
        </p:nvSpPr>
        <p:spPr>
          <a:xfrm>
            <a:off x="1676520" y="137160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他还善于在抗日的题材下表现东北特殊的风情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遥远的风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》《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浑河的急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都有磅礴的气势，民族意识通过地方的粗犷性格表露出来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eaeaea"/>
                </a:solidFill>
                <a:uFillTx/>
                <a:latin typeface="Times New Roman"/>
                <a:ea typeface="华文行楷"/>
              </a:rPr>
              <a:t>作者作品简介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7172" descr="EN00354_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1905120" y="137160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1377" name="文本框 7174"/>
          <p:cNvSpPr/>
          <p:nvPr/>
        </p:nvSpPr>
        <p:spPr>
          <a:xfrm>
            <a:off x="1143000" y="236232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本文的结构看似复杂，实则线索清晰，结构简单。第一段的主要内容是：我常常想起关东原野上的一切，我时时听见故乡的呼唤，我的内心为此热血沸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第二段的主要内容是：故乡美好的生活令我梦萦魂牵，我发誓要为故乡母亲而战斗而牺牲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两段文字一气呵成，任由情感的激流倾泻，在结构上有如双峰对峙，又宛若对仗工整的一副长联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cc66"/>
                </a:solidFill>
                <a:uFillTx/>
                <a:latin typeface="Times New Roman"/>
                <a:ea typeface="华文行楷"/>
              </a:rPr>
              <a:t>朗读课文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矩形 98305"/>
          <p:cNvSpPr/>
          <p:nvPr/>
        </p:nvSpPr>
        <p:spPr>
          <a:xfrm>
            <a:off x="1042920" y="907920"/>
            <a:ext cx="8101080" cy="85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怪  诞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 （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d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à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n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）              </a:t>
            </a: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亘  古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gèn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炽  痛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 （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chì</a:t>
            </a: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）              </a:t>
            </a: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嗥  鸣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háo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污  秽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 （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huì</a:t>
            </a: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）              </a:t>
            </a: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泛  滥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l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à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n</a:t>
            </a:r>
            <a:r>
              <a:rPr b="0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谰  语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 （ </a:t>
            </a:r>
            <a:r>
              <a:rPr b="1" lang="en-US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lán</a:t>
            </a:r>
            <a:r>
              <a:rPr b="0" lang="zh-CN" sz="4000" spc="-1" strike="noStrike">
                <a:solidFill>
                  <a:srgbClr val="080808"/>
                </a:solidFill>
                <a:latin typeface="华文新魏"/>
                <a:ea typeface="华文新魏"/>
              </a:rPr>
              <a:t>）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        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                     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       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0" name="矩形 98306"/>
          <p:cNvSpPr/>
          <p:nvPr/>
        </p:nvSpPr>
        <p:spPr>
          <a:xfrm>
            <a:off x="3419640" y="115920"/>
            <a:ext cx="280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  <a:ea typeface="隶书"/>
              </a:rPr>
              <a:t>生字词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Comic Sans MS"/>
                <a:ea typeface="华文彩云"/>
              </a:rPr>
              <a:t>思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文章题目是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土地的誓言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，是不是就是指土地发出的誓言呢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什么誓言？（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隶书"/>
              </a:rPr>
              <a:t>书中原话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你们体会到了作者怎样的思想感情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3" name="spring.WAV" descr=""/>
          <p:cNvPicPr/>
          <p:nvPr/>
        </p:nvPicPr>
        <p:blipFill>
          <a:blip r:embed="rId1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38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8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86302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ahoma"/>
                <a:ea typeface="隶书"/>
              </a:rPr>
              <a:t>段落大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8080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ahoma"/>
              </a:rPr>
              <a:t>第一段</a:t>
            </a: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： </a:t>
            </a:r>
            <a:r>
              <a:rPr b="1" lang="zh-CN" sz="3600" spc="-1" strike="noStrike">
                <a:solidFill>
                  <a:srgbClr val="080808"/>
                </a:solidFill>
                <a:latin typeface="Tahoma"/>
              </a:rPr>
              <a:t>作者常常回忆美丽丰饶的关东平原，抒发了作者对故乡深切的思念之情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ahoma"/>
              </a:rPr>
              <a:t>第二段</a:t>
            </a: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： </a:t>
            </a:r>
            <a:r>
              <a:rPr b="1" lang="zh-CN" sz="3600" spc="-1" strike="noStrike">
                <a:solidFill>
                  <a:srgbClr val="080808"/>
                </a:solidFill>
                <a:latin typeface="Tahoma"/>
              </a:rPr>
              <a:t>故乡美好的生活让“我”梦萦魂牵，“我”发誓要为故乡母亲战斗到底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8:29:28Z</dcterms:created>
  <dc:creator>jwc</dc:creator>
  <dc:description/>
  <dc:language>en-US</dc:language>
  <cp:lastModifiedBy>admin</cp:lastModifiedBy>
  <dcterms:modified xsi:type="dcterms:W3CDTF">2019-03-25T09:24:22Z</dcterms:modified>
  <cp:revision>15</cp:revision>
  <dc:subject/>
  <dc:title>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