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67AF-E52C-4247-B11B-3898ED27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4FBD-5082-42EA-B370-17DDCD19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0E7-4F50-4412-AFF3-AD66608F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9F9C-FB30-4CB0-8886-39789664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003A-8639-4C95-B0EF-4B32B132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6BC8-E70B-471F-B5E4-99B1F09C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DAF3-0B23-4BCB-973C-1543D9A8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A123-539F-45E6-A58C-12D30423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9573-8E8C-44ED-B64D-5717800E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8D26-35A9-49C3-8D55-196C754D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3884-3EA1-4469-B22C-36088012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D1D0-B5C5-48EC-8DEC-428195E5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AC31-A0D8-4756-ABD5-EC153970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533B-BDCC-496F-9068-01260379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F127-6281-4923-89CE-52E2C45D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F304-9833-4E42-B83B-677F1D48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DDEE-0C59-4BC6-A0C3-857A617C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95D-2B83-4CC9-9244-3F2F5484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858-F8E0-4E76-8B02-E5F4CFAC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6FD-8D71-48AF-BDE8-24081F87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C7A5-1B2C-4DBE-8B2E-BEE8CF9B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672C-CAE3-4294-9A35-65DECACC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5B9-3456-4A12-AF03-FD213531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CDF-0F02-436D-BAA4-403F9994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944C-7BA6-478E-9E39-9BF2DAFA02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EB6B-8393-4D5B-8C0A-3CBBE9DDFA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kt10026"/>
          <p:cNvPicPr/>
          <p:nvPr/>
        </p:nvPicPr>
        <p:blipFill>
          <a:blip r:embed="rId1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kt1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石阶"/>
          <p:cNvPicPr/>
          <p:nvPr/>
        </p:nvPicPr>
        <p:blipFill>
          <a:blip r:embed="rId3"/>
          <a:stretch/>
        </p:blipFill>
        <p:spPr>
          <a:xfrm>
            <a:off x="4933800" y="0"/>
            <a:ext cx="42102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5"/>
          <p:cNvSpPr txBox="1"/>
          <p:nvPr/>
        </p:nvSpPr>
        <p:spPr>
          <a:xfrm rot="5400000">
            <a:off x="-569160" y="1788120"/>
            <a:ext cx="5780160" cy="3574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80"/>
                </a:solidFill>
                <a:latin typeface="华文彩云"/>
              </a:rPr>
              <a:t>台阶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80"/>
              </a:solidFill>
              <a:latin typeface="华文彩云"/>
              <a:ea typeface="华文彩云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570480" y="5029200"/>
            <a:ext cx="1277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方正姚体"/>
              </a:rPr>
              <a:t>李森祥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蓝天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0" y="2997360"/>
            <a:ext cx="90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7200" y="762120"/>
            <a:ext cx="80773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5400" spc="-1" strike="noStrike">
                <a:solidFill>
                  <a:srgbClr val="3333cc"/>
                </a:solidFill>
                <a:latin typeface="Arial"/>
                <a:ea typeface="宋体"/>
              </a:rPr>
              <a:t>作业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回家之后为父亲做一件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力所能及的事。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886200" y="2400480"/>
            <a:ext cx="1371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4" name="Picture 6" descr="gifbj064"/>
          <p:cNvPicPr/>
          <p:nvPr/>
        </p:nvPicPr>
        <p:blipFill>
          <a:blip r:embed="rId2"/>
          <a:stretch/>
        </p:blipFill>
        <p:spPr>
          <a:xfrm>
            <a:off x="6553080" y="380988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许  巍  完美生活.mp3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03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9677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知识活动目标：把握小说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力活动目标：学习命题立意，组织材料的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情感活动目标：理解、尊敬、热爱父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堂活动重难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点：课堂活动目标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难点：课堂活动目标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作者李森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森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9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衢州人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7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入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曾在嘉兴军分区某部工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少校。李森祥的小说以农村、军营两大生活为主要题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塑造出一系列生动的普通人尤其是农民的质朴形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..  198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开始文学创作，后进入浙江省广电局从事专业影视创作。代表作品有短篇小说《小学老师》、中篇小说《抒情年代》、长篇小说《传世之鼓》等，现已创作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万字的作品，有我们熟悉的《天下粮仓》等。他有着丰富的农村生活经验，作品中充满对劳动人民的深厚感情，生活中的他同样保持着朴实无华的风格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蓝天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676520" y="1905120"/>
            <a:ext cx="51814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速读课文，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认识新朋友。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1" name="Picture 4" descr="gifbj064"/>
          <p:cNvPicPr/>
          <p:nvPr/>
        </p:nvPicPr>
        <p:blipFill>
          <a:blip r:embed="rId2"/>
          <a:stretch/>
        </p:blipFill>
        <p:spPr>
          <a:xfrm>
            <a:off x="6934320" y="4038480"/>
            <a:ext cx="2209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rbkt006"/>
          <p:cNvPicPr/>
          <p:nvPr/>
        </p:nvPicPr>
        <p:blipFill>
          <a:blip r:embed="rId1"/>
          <a:stretch/>
        </p:blipFill>
        <p:spPr>
          <a:xfrm>
            <a:off x="5076720" y="2637000"/>
            <a:ext cx="4067280" cy="4221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838080" y="533520"/>
            <a:ext cx="72392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读书之境界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5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读懂人物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 </a:t>
            </a:r>
            <a:r>
              <a:rPr b="1" lang="zh-CN" sz="5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读懂作者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   </a:t>
            </a:r>
            <a:r>
              <a:rPr b="1" lang="zh-CN" sz="5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读出自己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蓝天2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380880" y="60948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读懂人物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175248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父亲是个怎样的人？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7" name="Picture 5" descr="gifbj064"/>
          <p:cNvPicPr/>
          <p:nvPr/>
        </p:nvPicPr>
        <p:blipFill>
          <a:blip r:embed="rId2"/>
          <a:stretch/>
        </p:blipFill>
        <p:spPr>
          <a:xfrm>
            <a:off x="6553080" y="3809880"/>
            <a:ext cx="2590920" cy="30481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1906560" y="3124080"/>
            <a:ext cx="338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新屋造好了，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父亲怎么样了？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762120" y="28954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66680" y="18208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08840" y="5335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仿宋_GB2312"/>
                <a:ea typeface="仿宋_GB2312"/>
              </a:rPr>
              <a:t>读懂作者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80880" y="220968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作者在父亲身上倾注了怎样的情感？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3" name="Picture 6" descr="父亲19"/>
          <p:cNvPicPr/>
          <p:nvPr/>
        </p:nvPicPr>
        <p:blipFill>
          <a:blip r:embed="rId1"/>
          <a:stretch/>
        </p:blipFill>
        <p:spPr>
          <a:xfrm>
            <a:off x="0" y="3886200"/>
            <a:ext cx="9144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kt1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250920" y="68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937440" y="4572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读出自己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838080" y="22860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聊聊你的父亲，或者聊聊你知道的父亲，请试着感受父亲们的品格或胸怀。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030120ms-2b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4495680" y="2362320"/>
            <a:ext cx="46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父亲，我想对您说：……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925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92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192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192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BC</cp:lastModifiedBy>
  <dcterms:modified xsi:type="dcterms:W3CDTF">2015-12-23T05:13:34Z</dcterms:modified>
  <cp:revision>1</cp:revision>
  <dc:subject/>
  <dc:title>PowerPoint 演示文稿</dc:title>
</cp:coreProperties>
</file>