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gif" ContentType="image/gif"/>
  <Override PartName="/ppt/media/image15.jpeg" ContentType="image/jpeg"/>
  <Override PartName="/ppt/media/image10.jpeg" ContentType="image/jpeg"/>
  <Override PartName="/ppt/media/image5.png" ContentType="image/png"/>
  <Override PartName="/ppt/media/image42.gif" ContentType="image/gif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34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38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EAB-47C6-46F3-82CD-CE32A587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A6C-3075-4656-9D5C-349CA519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5AF-14B8-4581-88AA-FEE8DAB3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626-58D2-4D99-98C3-1CB3E382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BE84-E94F-4BA2-A7B9-F830A40E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6FD3-52B4-4F9B-BEA0-1CEB714D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3440-B499-451B-B4EA-CC773DF7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A5CA-A107-4AAC-BCA6-7F216F56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5D72-D6CE-45C7-B585-58B379F1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92C7-1E72-4182-9D62-3444E974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8014-4118-4F54-AD7C-DEACDBDC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D6B-887E-405C-98C7-85E51F4B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C2F1-C402-4B70-B9A8-FC52B22E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21B3-43A2-469A-ADA4-9AB5606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F071-3F0D-4870-A86F-90C16ED4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9ACB-6A23-4B35-81AA-3B3CA992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2952-E559-43FA-B75F-04B39783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62F9-3D43-4145-9C60-BD4DBF80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72E9-883A-4F50-B099-7B5AC75D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33A8-2468-4D5F-A12C-9ADBB382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6573-C0E3-48F1-A692-8963AC1F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77FD5-1B52-4774-9A51-8B07DAF4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063-9885-4E08-A0C2-C78C54C0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C684-0E81-48E9-A9FC-C0753431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20D4C-B63A-43AE-865E-F56348E4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FFA7-5B39-4C02-88AA-7FB9A21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E74C-06BF-4715-9529-31CCDA40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0BC0-EFED-424F-9E78-6197C38F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355D-2BE5-4A95-ABB5-00A15B22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3773-530B-41A2-87CC-85458F5E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B02-BDAE-4D53-A37C-5DCA6025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021-0E30-442E-978E-277C5289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445-C3AD-458C-8D0E-29C70498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733-8486-4AF3-9642-18E4945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D58-5666-48A8-85F4-D671907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D7C-ED4D-4117-9604-663652E0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A7C6-6B7C-488D-B713-B1C2618F25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FE4F-9E02-40B6-8744-B8C70C62EC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3EEC-ACE6-47D0-902B-03D5D884F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8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363,11,&#24187;&#28783;&#29255; 11" TargetMode="External"/><Relationship Id="rId3" Type="http://schemas.openxmlformats.org/officeDocument/2006/relationships/hyperlink" Target="363,11,&#24187;&#28783;&#29255; 11" TargetMode="External"/><Relationship Id="rId4" Type="http://schemas.openxmlformats.org/officeDocument/2006/relationships/hyperlink" Target="363,11,&#24187;&#28783;&#29255; 11" TargetMode="External"/><Relationship Id="rId5" Type="http://schemas.openxmlformats.org/officeDocument/2006/relationships/hyperlink" Target="362,12,&#24187;&#28783;&#29255; 12" TargetMode="External"/><Relationship Id="rId6" Type="http://schemas.openxmlformats.org/officeDocument/2006/relationships/hyperlink" Target="362,12,&#24187;&#28783;&#29255; 12" TargetMode="External"/><Relationship Id="rId7" Type="http://schemas.openxmlformats.org/officeDocument/2006/relationships/hyperlink" Target="362,12,&#24187;&#28783;&#29255; 12" TargetMode="External"/><Relationship Id="rId8" Type="http://schemas.openxmlformats.org/officeDocument/2006/relationships/hyperlink" Target="361,13,&#24187;&#28783;&#29255; 13" TargetMode="External"/><Relationship Id="rId9" Type="http://schemas.openxmlformats.org/officeDocument/2006/relationships/hyperlink" Target="361,13,&#24187;&#28783;&#29255; 13" TargetMode="External"/><Relationship Id="rId10" Type="http://schemas.openxmlformats.org/officeDocument/2006/relationships/hyperlink" Target="361,13,&#24187;&#28783;&#29255; 13" TargetMode="External"/><Relationship Id="rId11" Type="http://schemas.openxmlformats.org/officeDocument/2006/relationships/hyperlink" Target="286,14,&#24187;&#28783;&#29255; 14" TargetMode="External"/><Relationship Id="rId12" Type="http://schemas.openxmlformats.org/officeDocument/2006/relationships/hyperlink" Target="286,14,&#24187;&#28783;&#29255; 14" TargetMode="External"/><Relationship Id="rId13" Type="http://schemas.openxmlformats.org/officeDocument/2006/relationships/hyperlink" Target="286,14,&#24187;&#28783;&#29255; 14" TargetMode="External"/><Relationship Id="rId14" Type="http://schemas.openxmlformats.org/officeDocument/2006/relationships/hyperlink" Target="307,15,&#24187;&#28783;&#29255; 15" TargetMode="External"/><Relationship Id="rId15" Type="http://schemas.openxmlformats.org/officeDocument/2006/relationships/hyperlink" Target="307,15,&#24187;&#28783;&#29255; 15" TargetMode="External"/><Relationship Id="rId16" Type="http://schemas.openxmlformats.org/officeDocument/2006/relationships/hyperlink" Target="307,15,&#24187;&#28783;&#29255; 15" TargetMode="External"/><Relationship Id="rId17" Type="http://schemas.openxmlformats.org/officeDocument/2006/relationships/hyperlink" Target="309,17,&#24187;&#28783;&#29255; 17" TargetMode="External"/><Relationship Id="rId18" Type="http://schemas.openxmlformats.org/officeDocument/2006/relationships/hyperlink" Target="309,17,&#24187;&#28783;&#29255; 17" TargetMode="External"/><Relationship Id="rId19" Type="http://schemas.openxmlformats.org/officeDocument/2006/relationships/hyperlink" Target="309,17,&#24187;&#28783;&#29255; 17" TargetMode="External"/><Relationship Id="rId20" Type="http://schemas.openxmlformats.org/officeDocument/2006/relationships/hyperlink" Target="308,19,&#24187;&#28783;&#29255; 19" TargetMode="External"/><Relationship Id="rId21" Type="http://schemas.openxmlformats.org/officeDocument/2006/relationships/hyperlink" Target="308,19,&#24187;&#28783;&#29255; 19" TargetMode="External"/><Relationship Id="rId22" Type="http://schemas.openxmlformats.org/officeDocument/2006/relationships/hyperlink" Target="308,19,&#24187;&#28783;&#29255; 19" TargetMode="External"/><Relationship Id="rId23" Type="http://schemas.openxmlformats.org/officeDocument/2006/relationships/hyperlink" Target="357,9,&#24187;&#28783;&#29255; 9" TargetMode="External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187280" y="1508040"/>
            <a:ext cx="5337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ccc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cecff">
                      <a:alpha val="50000"/>
                    </a:srgbClr>
                  </a:outerShdw>
                </a:effectLst>
                <a:latin typeface="华文新魏"/>
              </a:rPr>
              <a:t>苏州园林</a:t>
            </a:r>
            <a:endParaRPr b="0" lang="en-US" sz="1800" spc="1" strike="noStrike">
              <a:ln w="12600">
                <a:solidFill>
                  <a:srgbClr val="cccc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cecff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940360" y="3141720"/>
            <a:ext cx="187632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叶圣陶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229360"/>
            <a:ext cx="453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苏州园林001"/>
          <p:cNvPicPr/>
          <p:nvPr/>
        </p:nvPicPr>
        <p:blipFill>
          <a:blip r:embed="rId2"/>
          <a:stretch/>
        </p:blipFill>
        <p:spPr>
          <a:xfrm>
            <a:off x="0" y="2781360"/>
            <a:ext cx="4211640" cy="4076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gg"/>
          <p:cNvPicPr/>
          <p:nvPr/>
        </p:nvPicPr>
        <p:blipFill>
          <a:blip r:embed="rId3"/>
          <a:stretch/>
        </p:blipFill>
        <p:spPr>
          <a:xfrm>
            <a:off x="5148360" y="1197000"/>
            <a:ext cx="3614760" cy="3600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1476360" y="1230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对称的建筑是图案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433760" y="5118120"/>
            <a:ext cx="45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园林是美术画，美术画要求自然之趣，是不讲究对称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37200" y="2421000"/>
            <a:ext cx="91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华文琥珀"/>
              </a:rPr>
              <a:t>作比较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WordArt 2"/>
          <p:cNvSpPr txBox="1"/>
          <p:nvPr/>
        </p:nvSpPr>
        <p:spPr>
          <a:xfrm>
            <a:off x="684360" y="0"/>
            <a:ext cx="80787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c00ff"/>
                  </a:solidFill>
                  <a:miter/>
                </a:ln>
                <a:solidFill>
                  <a:srgbClr val="cc00ff"/>
                </a:solidFill>
                <a:latin typeface="宋体"/>
              </a:rPr>
              <a:t>讲究亭台轩榭的布局</a:t>
            </a:r>
            <a:endParaRPr b="0" lang="en-US" sz="1800" spc="1" strike="noStrike">
              <a:ln w="12600">
                <a:solidFill>
                  <a:srgbClr val="cc00ff"/>
                </a:solidFill>
                <a:miter/>
              </a:ln>
              <a:solidFill>
                <a:srgbClr val="cc00ff"/>
              </a:solidFill>
              <a:latin typeface="宋体"/>
              <a:ea typeface="宋体"/>
            </a:endParaRPr>
          </a:p>
        </p:txBody>
      </p:sp>
      <p:pic>
        <p:nvPicPr>
          <p:cNvPr id="221" name="Picture 4" descr="arraw_002"/>
          <p:cNvPicPr/>
          <p:nvPr/>
        </p:nvPicPr>
        <p:blipFill>
          <a:blip r:embed="rId4"/>
          <a:stretch/>
        </p:blipFill>
        <p:spPr>
          <a:xfrm>
            <a:off x="8261280" y="6308640"/>
            <a:ext cx="684360" cy="44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859280" y="4094280"/>
            <a:ext cx="4278240" cy="2763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liuyuan3"/>
          <p:cNvPicPr/>
          <p:nvPr/>
        </p:nvPicPr>
        <p:blipFill>
          <a:blip r:embed="rId3"/>
          <a:stretch/>
        </p:blipFill>
        <p:spPr>
          <a:xfrm>
            <a:off x="0" y="835200"/>
            <a:ext cx="4859280" cy="3259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0" y="4094280"/>
            <a:ext cx="4643280" cy="2763720"/>
          </a:xfrm>
          <a:prstGeom prst="rect">
            <a:avLst/>
          </a:prstGeom>
          <a:ln w="0">
            <a:noFill/>
          </a:ln>
        </p:spPr>
      </p:pic>
      <p:sp>
        <p:nvSpPr>
          <p:cNvPr id="225" name="WordArt 2"/>
          <p:cNvSpPr txBox="1"/>
          <p:nvPr/>
        </p:nvSpPr>
        <p:spPr>
          <a:xfrm>
            <a:off x="304920" y="0"/>
            <a:ext cx="85341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33cc"/>
                  </a:solidFill>
                  <a:miter/>
                </a:ln>
                <a:solidFill>
                  <a:srgbClr val="cc00ff"/>
                </a:solidFill>
                <a:latin typeface="宋体"/>
              </a:rPr>
              <a:t>讲究假山池沼的配合</a:t>
            </a:r>
            <a:endParaRPr b="0" lang="en-US" sz="1800" spc="1" strike="noStrike">
              <a:ln w="12600">
                <a:solidFill>
                  <a:srgbClr val="0033cc"/>
                </a:solidFill>
                <a:miter/>
              </a:ln>
              <a:solidFill>
                <a:srgbClr val="cc00ff"/>
              </a:solidFill>
              <a:latin typeface="宋体"/>
              <a:ea typeface="宋体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8839080" y="2895480"/>
            <a:ext cx="406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7" name="Picture 6" descr="耦 园 假 山"/>
          <p:cNvPicPr/>
          <p:nvPr/>
        </p:nvPicPr>
        <p:blipFill>
          <a:blip r:embed="rId5"/>
          <a:stretch/>
        </p:blipFill>
        <p:spPr>
          <a:xfrm>
            <a:off x="4859280" y="1096920"/>
            <a:ext cx="4278240" cy="27637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2627280" y="1370160"/>
            <a:ext cx="17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假山的堆叠，是一项艺术而不仅是技术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05560" y="1370160"/>
            <a:ext cx="26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河道：高低屈曲任其自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00520" y="518004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水：“活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325760"/>
            <a:ext cx="317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山：或重峦叠嶂或小山配合着竹子花草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—“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身在山间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7080" y="5699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鱼：戏莲叶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3" name="Picture 4" descr="arraw_002"/>
          <p:cNvPicPr/>
          <p:nvPr/>
        </p:nvPicPr>
        <p:blipFill>
          <a:blip r:embed="rId6"/>
          <a:stretch/>
        </p:blipFill>
        <p:spPr>
          <a:xfrm>
            <a:off x="8261280" y="6308640"/>
            <a:ext cx="684360" cy="44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点击图像可缩小，按任意键可放大"/>
          <p:cNvPicPr/>
          <p:nvPr/>
        </p:nvPicPr>
        <p:blipFill>
          <a:blip r:embed="rId2"/>
          <a:stretch/>
        </p:blipFill>
        <p:spPr>
          <a:xfrm>
            <a:off x="4448160" y="1027080"/>
            <a:ext cx="3724200" cy="2689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4"/>
          <p:cNvPicPr/>
          <p:nvPr/>
        </p:nvPicPr>
        <p:blipFill>
          <a:blip r:embed="rId3"/>
          <a:stretch/>
        </p:blipFill>
        <p:spPr>
          <a:xfrm>
            <a:off x="203040" y="981000"/>
            <a:ext cx="4050000" cy="273528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4500720" y="4033800"/>
            <a:ext cx="3671280" cy="2304720"/>
            <a:chOff x="4500720" y="4033800"/>
            <a:chExt cx="3671280" cy="2304720"/>
          </a:xfrm>
        </p:grpSpPr>
        <p:sp>
          <p:nvSpPr>
            <p:cNvPr id="237" name="Rectangle 5"/>
            <p:cNvSpPr/>
            <p:nvPr/>
          </p:nvSpPr>
          <p:spPr>
            <a:xfrm>
              <a:off x="4500720" y="4033800"/>
              <a:ext cx="3671280" cy="2304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38" name="Picture 6" descr="P4020006"/>
            <p:cNvPicPr/>
            <p:nvPr/>
          </p:nvPicPr>
          <p:blipFill>
            <a:blip r:embed="rId4"/>
            <a:stretch/>
          </p:blipFill>
          <p:spPr>
            <a:xfrm>
              <a:off x="4586040" y="4119120"/>
              <a:ext cx="3543120" cy="217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103320" y="4033800"/>
            <a:ext cx="4397040" cy="2304720"/>
            <a:chOff x="103320" y="4033800"/>
            <a:chExt cx="4397040" cy="2304720"/>
          </a:xfrm>
        </p:grpSpPr>
        <p:sp>
          <p:nvSpPr>
            <p:cNvPr id="240" name="Rectangle 8"/>
            <p:cNvSpPr/>
            <p:nvPr/>
          </p:nvSpPr>
          <p:spPr>
            <a:xfrm>
              <a:off x="103320" y="4033800"/>
              <a:ext cx="4397040" cy="2304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41" name="Picture 9" descr="GH"/>
            <p:cNvPicPr/>
            <p:nvPr/>
          </p:nvPicPr>
          <p:blipFill>
            <a:blip r:embed="rId5"/>
            <a:stretch/>
          </p:blipFill>
          <p:spPr>
            <a:xfrm>
              <a:off x="208080" y="4122720"/>
              <a:ext cx="423972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Text Box 13"/>
          <p:cNvSpPr/>
          <p:nvPr/>
        </p:nvSpPr>
        <p:spPr>
          <a:xfrm>
            <a:off x="-203040" y="5388120"/>
            <a:ext cx="87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落叶树和常绿树相间，花时不同的多种花树相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217440" y="2909880"/>
            <a:ext cx="39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高树与低树俯仰生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WordArt 2"/>
          <p:cNvSpPr txBox="1"/>
          <p:nvPr/>
        </p:nvSpPr>
        <p:spPr>
          <a:xfrm>
            <a:off x="304920" y="0"/>
            <a:ext cx="85341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宋体"/>
              </a:rPr>
              <a:t>讲究花草树木的映衬</a:t>
            </a:r>
            <a:endParaRPr b="0" lang="en-US" sz="1800" spc="1" strike="noStrike">
              <a:ln w="1260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宋体"/>
              <a:ea typeface="宋体"/>
            </a:endParaRPr>
          </a:p>
        </p:txBody>
      </p:sp>
      <p:sp>
        <p:nvSpPr>
          <p:cNvPr id="245" name=""/>
          <p:cNvSpPr/>
          <p:nvPr/>
        </p:nvSpPr>
        <p:spPr>
          <a:xfrm>
            <a:off x="6661440" y="3168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珠光宝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172360" y="2727360"/>
            <a:ext cx="70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琥珀"/>
              </a:rPr>
              <a:t>作比较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7" name="Picture 4" descr="arraw_002"/>
          <p:cNvPicPr/>
          <p:nvPr/>
        </p:nvPicPr>
        <p:blipFill>
          <a:blip r:embed="rId6"/>
          <a:stretch/>
        </p:blipFill>
        <p:spPr>
          <a:xfrm>
            <a:off x="8261280" y="6308640"/>
            <a:ext cx="684360" cy="44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684360" y="5105520"/>
            <a:ext cx="4426920" cy="1752120"/>
            <a:chOff x="684360" y="5105520"/>
            <a:chExt cx="4426920" cy="1752120"/>
          </a:xfrm>
        </p:grpSpPr>
        <p:sp>
          <p:nvSpPr>
            <p:cNvPr id="249" name="Rectangle 3"/>
            <p:cNvSpPr/>
            <p:nvPr/>
          </p:nvSpPr>
          <p:spPr>
            <a:xfrm>
              <a:off x="814680" y="5178600"/>
              <a:ext cx="4296600" cy="1679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50" name="Picture 4" descr="TN_B008"/>
            <p:cNvPicPr/>
            <p:nvPr/>
          </p:nvPicPr>
          <p:blipFill>
            <a:blip r:embed="rId2"/>
            <a:stretch/>
          </p:blipFill>
          <p:spPr>
            <a:xfrm>
              <a:off x="684360" y="5105520"/>
              <a:ext cx="4296600" cy="167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304920" y="1123920"/>
            <a:ext cx="4231800" cy="1828800"/>
            <a:chOff x="304920" y="1123920"/>
            <a:chExt cx="4231800" cy="1828800"/>
          </a:xfrm>
        </p:grpSpPr>
        <p:sp>
          <p:nvSpPr>
            <p:cNvPr id="252" name="Rectangle 6"/>
            <p:cNvSpPr/>
            <p:nvPr/>
          </p:nvSpPr>
          <p:spPr>
            <a:xfrm>
              <a:off x="429480" y="1276200"/>
              <a:ext cx="4107240" cy="1676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53" name="Picture 7" descr="TN_B043"/>
            <p:cNvPicPr/>
            <p:nvPr/>
          </p:nvPicPr>
          <p:blipFill>
            <a:blip r:embed="rId3"/>
            <a:stretch/>
          </p:blipFill>
          <p:spPr>
            <a:xfrm>
              <a:off x="304920" y="1123920"/>
              <a:ext cx="4107240" cy="17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192240" y="3349800"/>
            <a:ext cx="3834360" cy="1828800"/>
            <a:chOff x="192240" y="3349800"/>
            <a:chExt cx="3834360" cy="1828800"/>
          </a:xfrm>
        </p:grpSpPr>
        <p:sp>
          <p:nvSpPr>
            <p:cNvPr id="255" name="Rectangle 9"/>
            <p:cNvSpPr/>
            <p:nvPr/>
          </p:nvSpPr>
          <p:spPr>
            <a:xfrm>
              <a:off x="304920" y="3426120"/>
              <a:ext cx="3721680" cy="1752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56" name="Picture 10" descr="TN_B030"/>
            <p:cNvPicPr/>
            <p:nvPr/>
          </p:nvPicPr>
          <p:blipFill>
            <a:blip r:embed="rId4"/>
            <a:stretch/>
          </p:blipFill>
          <p:spPr>
            <a:xfrm>
              <a:off x="192240" y="3349800"/>
              <a:ext cx="37216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Text Box 11"/>
          <p:cNvSpPr/>
          <p:nvPr/>
        </p:nvSpPr>
        <p:spPr>
          <a:xfrm>
            <a:off x="4537080" y="1276200"/>
            <a:ext cx="41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苏州园林的墙壁上有砖砌的镂空图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416560" y="5373720"/>
            <a:ext cx="37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廊子是隔而不隔，界而未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WordArt 2"/>
          <p:cNvSpPr txBox="1"/>
          <p:nvPr/>
        </p:nvSpPr>
        <p:spPr>
          <a:xfrm>
            <a:off x="304920" y="0"/>
            <a:ext cx="85341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7d7da9"/>
                  </a:solidFill>
                  <a:miter/>
                </a:ln>
                <a:solidFill>
                  <a:srgbClr val="7d7da9"/>
                </a:solidFill>
                <a:latin typeface="宋体"/>
              </a:rPr>
              <a:t>讲究近景远景的层次</a:t>
            </a:r>
            <a:endParaRPr b="0" lang="en-US" sz="1800" spc="1" strike="noStrike">
              <a:ln w="12600">
                <a:solidFill>
                  <a:srgbClr val="7d7da9"/>
                </a:solidFill>
                <a:miter/>
              </a:ln>
              <a:solidFill>
                <a:srgbClr val="7d7da9"/>
              </a:solidFill>
              <a:latin typeface="宋体"/>
              <a:ea typeface="宋体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4413240" y="2343240"/>
            <a:ext cx="4032360" cy="2189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arraw_002"/>
          <p:cNvPicPr/>
          <p:nvPr/>
        </p:nvPicPr>
        <p:blipFill>
          <a:blip r:embed="rId6"/>
          <a:stretch/>
        </p:blipFill>
        <p:spPr>
          <a:xfrm>
            <a:off x="8261280" y="6308640"/>
            <a:ext cx="684360" cy="44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苏州园林002"/>
          <p:cNvPicPr/>
          <p:nvPr/>
        </p:nvPicPr>
        <p:blipFill>
          <a:blip r:embed="rId2"/>
          <a:stretch/>
        </p:blipFill>
        <p:spPr>
          <a:xfrm>
            <a:off x="-225360" y="0"/>
            <a:ext cx="936936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2"/>
          <p:cNvSpPr txBox="1"/>
          <p:nvPr/>
        </p:nvSpPr>
        <p:spPr>
          <a:xfrm>
            <a:off x="304920" y="0"/>
            <a:ext cx="85341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讲究每一个角落的图画美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点击图像可缩小，按任意键可放大"/>
          <p:cNvPicPr/>
          <p:nvPr/>
        </p:nvPicPr>
        <p:blipFill>
          <a:blip r:embed="rId2"/>
          <a:stretch/>
        </p:blipFill>
        <p:spPr>
          <a:xfrm>
            <a:off x="0" y="0"/>
            <a:ext cx="4572000" cy="6248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732200" y="0"/>
            <a:ext cx="4411800" cy="62485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7200" y="615636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角落：图画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5119560"/>
            <a:ext cx="9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栽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78920" y="511956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39320" y="6156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蔓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0" name="Picture 4" descr="arraw_002"/>
          <p:cNvPicPr/>
          <p:nvPr/>
        </p:nvPicPr>
        <p:blipFill>
          <a:blip r:embed="rId4"/>
          <a:stretch/>
        </p:blipFill>
        <p:spPr>
          <a:xfrm>
            <a:off x="8261280" y="6308640"/>
            <a:ext cx="68436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苏州园林0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WordArt 2"/>
          <p:cNvSpPr txBox="1"/>
          <p:nvPr/>
        </p:nvSpPr>
        <p:spPr>
          <a:xfrm>
            <a:off x="304920" y="0"/>
            <a:ext cx="85341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讲究门窗的图案美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443640" y="237816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门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8120" y="2590920"/>
            <a:ext cx="236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窗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59280" y="554688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黑体"/>
              </a:rPr>
              <a:t>图案美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8" name="Picture 4" descr="arraw_002"/>
          <p:cNvPicPr/>
          <p:nvPr/>
        </p:nvPicPr>
        <p:blipFill>
          <a:blip r:embed="rId4"/>
          <a:stretch/>
        </p:blipFill>
        <p:spPr>
          <a:xfrm>
            <a:off x="8388360" y="5867280"/>
            <a:ext cx="75564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苏州园林0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WordArt 2"/>
          <p:cNvSpPr txBox="1"/>
          <p:nvPr/>
        </p:nvSpPr>
        <p:spPr>
          <a:xfrm>
            <a:off x="304920" y="0"/>
            <a:ext cx="85341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讲究色彩的搭配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3975120"/>
            <a:ext cx="3421080" cy="28828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796000" y="4508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安静闲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960" y="4157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色彩：漆广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5" name="Picture 4" descr="arraw_002"/>
          <p:cNvPicPr/>
          <p:nvPr/>
        </p:nvPicPr>
        <p:blipFill>
          <a:blip r:embed="rId4"/>
          <a:stretch/>
        </p:blipFill>
        <p:spPr>
          <a:xfrm>
            <a:off x="8169120" y="6237360"/>
            <a:ext cx="649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1067040" cy="5029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 rot="5476200">
            <a:off x="6274080" y="3785040"/>
            <a:ext cx="3440160" cy="1514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107932" dir="18900000" blurRad="0" rotWithShape="0">
                    <a:srgbClr val="808080"/>
                  </a:outerShdw>
                </a:effectLst>
                <a:latin typeface="楷体_GB2312"/>
              </a:rPr>
              <a:t>下有苏杭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107932" dir="18900000" blurRad="0" rotWithShape="0">
                  <a:srgbClr val="80808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14400" y="304920"/>
            <a:ext cx="7772400" cy="1447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514600" y="2438280"/>
            <a:ext cx="4343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2320" y="-48931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41960" y="1980720"/>
            <a:ext cx="73080" cy="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760" bIns="32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080" y="148428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对苏州园林的印象是什么？有什么写作意图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苏州园林的总特点是什么？哪些方面最能体现这一特点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6920" y="1981080"/>
            <a:ext cx="884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黑体"/>
              </a:rPr>
              <a:t>我觉得苏州园林是我国各地园林的标本，各地园林或多或少都受到苏州园林的影响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黑体"/>
              </a:rPr>
              <a:t>让大家用艺术的眼光去鉴赏苏州园林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0160" y="426420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苏州园林的总特征是“游览者无论站在哪个点（角度）上，眼前总是一幅完美的图画。” 具体表现为四个“讲究”和一个“一切”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609480" y="457200"/>
            <a:ext cx="25909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随堂练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826920" y="159876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0200" y="54612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仔细研读文本第四段，思考如下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苏园主人造假山和池沼的原因是什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循的是什么原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本段可分几层，各写什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为什么说“假山的堆叠”是“一项艺术而不仅是技术”请结合本段的阅读及有关图片谈谈你的理解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池沼的安排有何讲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54440" y="4292640"/>
            <a:ext cx="5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、思考课后练习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842320" y="-482292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00000" y="1828440"/>
            <a:ext cx="7043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609480" y="457200"/>
            <a:ext cx="25909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布置作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3386160" cy="26319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427560" y="2349360"/>
            <a:ext cx="27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Tahoma"/>
                <a:ea typeface="华文彩云"/>
              </a:rPr>
              <a:t>再见！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32" name="Picture 6" descr="沧浪亭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0" y="3645000"/>
            <a:ext cx="9144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州的园林艺术历史悠久，现存园林远则上千年，近则四五百年，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全城有一百多处园林，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不管到哪处游览，不管站在哪个角度欣赏，都给你一幅完美图画的感觉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说是集历代江南园林艺术之大成。其中合称四大园的沧浪亭、狮子林、拙政园、留园分别代表了宋、元、明、清四代不同的艺术风格。现已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被联合国教科文组织列为世界文化遗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7440" y="25304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华文琥珀"/>
              </a:rPr>
              <a:t>江南园林甲天下，苏州园林甲江南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6716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459320" y="21542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7" name="Picture 4" descr="苏州园林"/>
          <p:cNvPicPr/>
          <p:nvPr/>
        </p:nvPicPr>
        <p:blipFill>
          <a:blip r:embed="rId2"/>
          <a:stretch/>
        </p:blipFill>
        <p:spPr>
          <a:xfrm>
            <a:off x="4778280" y="-27000"/>
            <a:ext cx="4481640" cy="3311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294948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Picture 6" descr="沧浪亭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08640" cy="328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留园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78280" y="3505320"/>
            <a:ext cx="4365720" cy="3352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288144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778280" y="2397240"/>
            <a:ext cx="15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拙政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87280" y="23972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沧浪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187800" y="62546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留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8192160" y="6140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留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Picture 14" descr="狮子林"/>
          <p:cNvPicPr/>
          <p:nvPr/>
        </p:nvPicPr>
        <p:blipFill>
          <a:blip r:embed="rId7"/>
          <a:stretch/>
        </p:blipFill>
        <p:spPr>
          <a:xfrm>
            <a:off x="0" y="3505320"/>
            <a:ext cx="4508640" cy="3352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5"/>
          <p:cNvSpPr/>
          <p:nvPr/>
        </p:nvSpPr>
        <p:spPr>
          <a:xfrm>
            <a:off x="2517840" y="588024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狮子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42320" y="-482292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琥珀"/>
              </a:rPr>
              <a:t>叶圣陶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原名叶绍钧，现代著名作家、教育家，有“优秀的语言艺术家”之称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作有长篇小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倪焕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他原籍江苏苏州吴县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之前，他一直生活在苏州，对苏州园林很熟悉，又有深厚的感情和深入的研究。本文是叶老病愈后为摄影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州园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的序言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4360" y="304920"/>
            <a:ext cx="25905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简介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842320" y="-482292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48360" y="1980720"/>
            <a:ext cx="96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30360" y="304920"/>
            <a:ext cx="25905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预习检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538280"/>
            <a:ext cx="891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出心裁       轩榭             池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        重峦叠嶂           丘壑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着眼      相间       嶙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镂空      蔷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3960" y="153828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GB Pinyinok-C"/>
                <a:ea typeface="GB Pinyinok-C"/>
              </a:rPr>
              <a:t>xuān xiè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70280" y="1538280"/>
            <a:ext cx="14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GB Pinyinok-C"/>
                <a:ea typeface="GB Pinyinok-C"/>
              </a:rPr>
              <a:t>zhǎo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61000" y="256068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GB Pinyinok-C"/>
                <a:ea typeface="GB Pinyinok-C"/>
              </a:rPr>
              <a:t>hè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6160" y="3579840"/>
            <a:ext cx="20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GB Pinyinok-C"/>
                <a:ea typeface="GB Pinyinok-C"/>
              </a:rPr>
              <a:t>lín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(</a:t>
            </a:r>
            <a:r>
              <a:rPr b="1" lang="en-US" sz="3200" spc="-1" strike="noStrike">
                <a:solidFill>
                  <a:srgbClr val="cc0000"/>
                </a:solidFill>
                <a:latin typeface="GB Pinyinok-C"/>
                <a:ea typeface="GB Pinyinok-C"/>
              </a:rPr>
              <a:t>xún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8160" y="4508640"/>
            <a:ext cx="10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GB Pinyinok-C"/>
                <a:ea typeface="GB Pinyinok-C"/>
              </a:rPr>
              <a:t>lòu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19120" y="4508640"/>
            <a:ext cx="24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GB Pinyinok-C"/>
                <a:ea typeface="GB Pinyinok-C"/>
              </a:rPr>
              <a:t>qiáng wēi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90640" y="3579840"/>
            <a:ext cx="128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B Pinyinok-C"/>
                <a:ea typeface="GB Pinyinok-C"/>
              </a:rPr>
              <a:t>(zhuó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0840" y="256068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GB Pinyinok-C"/>
                <a:ea typeface="GB Pinyinok-C"/>
              </a:rPr>
              <a:t>dié zhàng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77880" y="1538280"/>
            <a:ext cx="18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ái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7440" y="2421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chèn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20400" y="3579840"/>
            <a:ext cx="12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B Pinyinok-C"/>
                <a:ea typeface="GB Pinyinok-C"/>
              </a:rPr>
              <a:t>(jiàn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1720" y="5529240"/>
            <a:ext cx="44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划出课下注释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279360" y="2241720"/>
            <a:ext cx="71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概述共同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2801880" y="1079640"/>
            <a:ext cx="492120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讲究亭台轩榭的布局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2"/>
              </a:rPr>
              <a:t>（</a:t>
            </a:r>
            <a:r>
              <a:rPr b="0" lang="en-US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3"/>
              </a:rPr>
              <a:t>3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4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讲究假山池沼的配合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5"/>
              </a:rPr>
              <a:t>（</a:t>
            </a:r>
            <a:r>
              <a:rPr b="0" lang="en-US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6"/>
              </a:rPr>
              <a:t>4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7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讲究花草树木的映衬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8"/>
              </a:rPr>
              <a:t>（</a:t>
            </a:r>
            <a:r>
              <a:rPr b="0" lang="en-US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9"/>
              </a:rPr>
              <a:t>5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10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讲究近景远景的层次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11"/>
              </a:rPr>
              <a:t>（</a:t>
            </a:r>
            <a:r>
              <a:rPr b="0" lang="en-US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12"/>
              </a:rPr>
              <a:t>6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13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801880" y="3643200"/>
            <a:ext cx="492120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讲究角落的图画美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14"/>
              </a:rPr>
              <a:t>（</a:t>
            </a:r>
            <a:r>
              <a:rPr b="0" lang="en-US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15"/>
              </a:rPr>
              <a:t>7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16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讲究门窗的图案美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17"/>
              </a:rPr>
              <a:t>（</a:t>
            </a:r>
            <a:r>
              <a:rPr b="0" lang="en-US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18"/>
              </a:rPr>
              <a:t>8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19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讲究色彩的搭配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20"/>
              </a:rPr>
              <a:t>（</a:t>
            </a:r>
            <a:r>
              <a:rPr b="0" lang="en-US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21"/>
              </a:rPr>
              <a:t>9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22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3648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7331040" y="1406520"/>
            <a:ext cx="152280" cy="2116080"/>
          </a:xfrm>
          <a:custGeom>
            <a:avLst/>
            <a:gdLst>
              <a:gd name="textAreaLeft" fmla="*/ 0 w 152280"/>
              <a:gd name="textAreaRight" fmla="*/ 55080 w 152280"/>
              <a:gd name="textAreaTop" fmla="*/ 55080 h 2116080"/>
              <a:gd name="textAreaBottom" fmla="*/ 2061000 h 21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7331040" y="3784680"/>
            <a:ext cx="158760" cy="1557360"/>
          </a:xfrm>
          <a:custGeom>
            <a:avLst/>
            <a:gdLst>
              <a:gd name="textAreaLeft" fmla="*/ 0 w 158760"/>
              <a:gd name="textAreaRight" fmla="*/ 57240 w 158760"/>
              <a:gd name="textAreaTop" fmla="*/ 40320 h 1557360"/>
              <a:gd name="textAreaBottom" fmla="*/ 1517040 h 15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7489800" y="1722600"/>
            <a:ext cx="60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处讲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7489800" y="386064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小处注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8489880" y="2006640"/>
            <a:ext cx="0" cy="221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8097120" y="131364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8238240" y="4344840"/>
            <a:ext cx="78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次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3413160" y="60246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不止这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800640" y="54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琥珀"/>
              </a:rPr>
              <a:t>总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1782720" y="5797440"/>
            <a:ext cx="1714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3728160" y="54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琥珀"/>
              </a:rPr>
              <a:t>分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" y="4665600"/>
            <a:ext cx="2147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ea typeface="黑体"/>
                <a:hlinkClick r:id="rId23"/>
              </a:rPr>
              <a:t>总特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92160" y="477036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81200" y="2565360"/>
            <a:ext cx="201600" cy="1733760"/>
          </a:xfrm>
          <a:custGeom>
            <a:avLst/>
            <a:gdLst>
              <a:gd name="textAreaLeft" fmla="*/ 128880 w 201600"/>
              <a:gd name="textAreaRight" fmla="*/ 201960 w 201600"/>
              <a:gd name="textAreaTop" fmla="*/ 45000 h 1733760"/>
              <a:gd name="textAreaBottom" fmla="*/ 1688760 h 17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82720" y="213660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3963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局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49600" y="1244520"/>
            <a:ext cx="152280" cy="2262240"/>
          </a:xfrm>
          <a:custGeom>
            <a:avLst/>
            <a:gdLst>
              <a:gd name="textAreaLeft" fmla="*/ 97200 w 152280"/>
              <a:gd name="textAreaRight" fmla="*/ 152640 w 152280"/>
              <a:gd name="textAreaTop" fmla="*/ 58680 h 2262240"/>
              <a:gd name="textAreaBottom" fmla="*/ 2203560 h 226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92440" y="3784680"/>
            <a:ext cx="152280" cy="1557360"/>
          </a:xfrm>
          <a:custGeom>
            <a:avLst/>
            <a:gdLst>
              <a:gd name="textAreaLeft" fmla="*/ 97200 w 152280"/>
              <a:gd name="textAreaRight" fmla="*/ 152640 w 152280"/>
              <a:gd name="textAreaTop" fmla="*/ 40320 h 1557360"/>
              <a:gd name="textAreaBottom" fmla="*/ 151704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57320" y="2136600"/>
            <a:ext cx="52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完美的图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340000" y="2732040"/>
            <a:ext cx="0" cy="11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5446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我的印象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标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07240" y="602460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首尾呼应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1520" y="84240"/>
            <a:ext cx="266724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全文结构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84280" y="2052720"/>
            <a:ext cx="4946760" cy="2938320"/>
          </a:xfrm>
          <a:prstGeom prst="cloudCallout">
            <a:avLst>
              <a:gd name="adj1" fmla="val -60236"/>
              <a:gd name="adj2" fmla="val -78148"/>
            </a:avLst>
          </a:prstGeom>
          <a:solidFill>
            <a:srgbClr val="ccec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先用波浪线划出各个自然段的中心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34280" y="6021360"/>
            <a:ext cx="522360" cy="522360"/>
          </a:xfrm>
          <a:custGeom>
            <a:avLst/>
            <a:gdLst>
              <a:gd name="textAreaLeft" fmla="*/ 32400 w 522360"/>
              <a:gd name="textAreaRight" fmla="*/ 489960 w 522360"/>
              <a:gd name="textAreaTop" fmla="*/ 32400 h 522360"/>
              <a:gd name="textAreaBottom" fmla="*/ 48996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4318" y="10800"/>
                </a:moveTo>
                <a:lnTo>
                  <a:pt x="3756" y="17844"/>
                </a:lnTo>
                <a:lnTo>
                  <a:pt x="3756" y="3756"/>
                </a:lnTo>
                <a:close/>
              </a:path>
              <a:path fill="darken" w="21600" h="21600">
                <a:moveTo>
                  <a:pt x="16173" y="3756"/>
                </a:moveTo>
                <a:lnTo>
                  <a:pt x="16173" y="17844"/>
                </a:lnTo>
                <a:lnTo>
                  <a:pt x="17844" y="17844"/>
                </a:lnTo>
                <a:lnTo>
                  <a:pt x="17844" y="375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103400" y="2766960"/>
            <a:ext cx="6937200" cy="1311120"/>
            <a:chOff x="1103400" y="2766960"/>
            <a:chExt cx="6937200" cy="1311120"/>
          </a:xfrm>
        </p:grpSpPr>
        <p:sp>
          <p:nvSpPr>
            <p:cNvPr id="197" name="Rectangle 1028"/>
            <p:cNvSpPr/>
            <p:nvPr/>
          </p:nvSpPr>
          <p:spPr>
            <a:xfrm>
              <a:off x="1103400" y="276696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8" name="Rectangle 1029"/>
            <p:cNvSpPr/>
            <p:nvPr/>
          </p:nvSpPr>
          <p:spPr>
            <a:xfrm>
              <a:off x="1103400" y="2766960"/>
              <a:ext cx="693720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0" lang="en-US" sz="8000" spc="-1" strike="noStrike">
                  <a:solidFill>
                    <a:srgbClr val="0033cc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33cc"/>
                  </a:solidFill>
                  <a:latin typeface="Times New Roman"/>
                </a:rPr>
                <a:t>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079880" y="3730680"/>
            <a:ext cx="4932000" cy="2726640"/>
            <a:chOff x="4079880" y="3730680"/>
            <a:chExt cx="4932000" cy="2726640"/>
          </a:xfrm>
        </p:grpSpPr>
        <p:sp>
          <p:nvSpPr>
            <p:cNvPr id="200" name="Rectangle 1031"/>
            <p:cNvSpPr/>
            <p:nvPr/>
          </p:nvSpPr>
          <p:spPr>
            <a:xfrm>
              <a:off x="4187160" y="3821400"/>
              <a:ext cx="4824720" cy="2635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01" name="Picture 1032" descr="留 园"/>
            <p:cNvPicPr/>
            <p:nvPr/>
          </p:nvPicPr>
          <p:blipFill>
            <a:blip r:embed="rId2"/>
            <a:stretch/>
          </p:blipFill>
          <p:spPr>
            <a:xfrm>
              <a:off x="4079880" y="3730680"/>
              <a:ext cx="4771080" cy="266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5313240" y="358920"/>
            <a:ext cx="3830040" cy="3239640"/>
            <a:chOff x="5313240" y="358920"/>
            <a:chExt cx="3830040" cy="3239640"/>
          </a:xfrm>
        </p:grpSpPr>
        <p:sp>
          <p:nvSpPr>
            <p:cNvPr id="203" name="Rectangle 1034"/>
            <p:cNvSpPr/>
            <p:nvPr/>
          </p:nvSpPr>
          <p:spPr>
            <a:xfrm>
              <a:off x="5562720" y="466920"/>
              <a:ext cx="3580560" cy="313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04" name="Picture 1035" descr="拙 政 园 之 冬"/>
            <p:cNvPicPr/>
            <p:nvPr/>
          </p:nvPicPr>
          <p:blipFill>
            <a:blip r:embed="rId3"/>
            <a:stretch/>
          </p:blipFill>
          <p:spPr>
            <a:xfrm>
              <a:off x="5313240" y="358920"/>
              <a:ext cx="3705480" cy="316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Text Box 1036"/>
          <p:cNvSpPr/>
          <p:nvPr/>
        </p:nvSpPr>
        <p:spPr>
          <a:xfrm>
            <a:off x="6649920" y="27669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拙政园之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1037"/>
          <p:cNvSpPr/>
          <p:nvPr/>
        </p:nvSpPr>
        <p:spPr>
          <a:xfrm>
            <a:off x="5770440" y="5486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留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96920" y="1341360"/>
            <a:ext cx="3706560" cy="4956840"/>
            <a:chOff x="196920" y="1341360"/>
            <a:chExt cx="3706560" cy="4956840"/>
          </a:xfrm>
        </p:grpSpPr>
        <p:sp>
          <p:nvSpPr>
            <p:cNvPr id="208" name="Rectangle 1042"/>
            <p:cNvSpPr/>
            <p:nvPr/>
          </p:nvSpPr>
          <p:spPr>
            <a:xfrm>
              <a:off x="294480" y="1539720"/>
              <a:ext cx="3609000" cy="4758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09" name="Picture 1043" descr="网 师 园"/>
            <p:cNvPicPr/>
            <p:nvPr/>
          </p:nvPicPr>
          <p:blipFill>
            <a:blip r:embed="rId4"/>
            <a:stretch/>
          </p:blipFill>
          <p:spPr>
            <a:xfrm>
              <a:off x="196920" y="1341360"/>
              <a:ext cx="3609360" cy="48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Text Box 1044"/>
          <p:cNvSpPr/>
          <p:nvPr/>
        </p:nvSpPr>
        <p:spPr>
          <a:xfrm>
            <a:off x="1717560" y="55738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网师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Rectangle 1045"/>
          <p:cNvSpPr/>
          <p:nvPr/>
        </p:nvSpPr>
        <p:spPr>
          <a:xfrm>
            <a:off x="100080" y="358920"/>
            <a:ext cx="521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琥珀"/>
              </a:rPr>
              <a:t>总是一幅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完美的图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拙政园——荷风四面亭"/>
          <p:cNvPicPr/>
          <p:nvPr/>
        </p:nvPicPr>
        <p:blipFill>
          <a:blip r:embed="rId2"/>
          <a:stretch/>
        </p:blipFill>
        <p:spPr>
          <a:xfrm>
            <a:off x="-453960" y="0"/>
            <a:ext cx="10512360" cy="6912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黑体"/>
              </a:rPr>
              <a:t>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4" name="Picture 4" descr="arraw_002"/>
          <p:cNvPicPr/>
          <p:nvPr/>
        </p:nvPicPr>
        <p:blipFill>
          <a:blip r:embed="rId3"/>
          <a:stretch/>
        </p:blipFill>
        <p:spPr>
          <a:xfrm>
            <a:off x="8459640" y="5867280"/>
            <a:ext cx="68436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6:53:38Z</dcterms:created>
  <dc:creator>gcy</dc:creator>
  <dc:description/>
  <dc:language>en-US</dc:language>
  <cp:lastModifiedBy>zmj</cp:lastModifiedBy>
  <dcterms:modified xsi:type="dcterms:W3CDTF">2012-11-21T03:15:39Z</dcterms:modified>
  <cp:revision>75</cp:revision>
  <dc:subject>苏州园林.ppt</dc:subject>
  <dc:title>苏州园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