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59B-9E4B-451F-8116-D18EB666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165-8EAA-44E2-91AD-15CABBB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395-EEF4-4FAA-9C52-8135F272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1A3-8CA5-4D80-89B1-8D3F6FF0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CCAE-F9C5-4CEC-B208-13F47175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C540-6869-4C99-A478-D4B86D7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E8F-4E45-4063-BFE0-D12FEDF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ABF9-AF36-4C25-A1AD-D2613A3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3FE6-48A3-4FB5-A400-0F67B0D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D91-AB23-4310-9055-06DBA56A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B2CD-8B6D-40A4-BB00-F3552AC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930-5B54-4A9C-B3AA-925E93B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5A65-3304-476A-A855-28A0416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1C7-1E7E-4D07-B8FF-6235D95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EAA-38E9-4EEE-A211-98B6CE1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F967-1BAD-419D-A5D5-D1EFFD02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972-862F-41A5-982E-8DE4F79C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533-A7E9-4030-B55C-7EF4A17E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38D-5B85-498B-A2A0-206708B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B44-22B3-47E3-B9EA-9BF3A51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8C4-A295-4186-ABF5-64E453E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E6D-70D5-4A06-AB09-6838C87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1C9-2B21-483B-8CAF-89783FA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CC8-808C-49D6-B3F6-A6C283F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188E-C4C1-4B1A-A0A3-9E01FCF9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A24E-0E7B-4FDE-AB40-65081E7087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2987640" y="6165720"/>
            <a:ext cx="38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2"/>
          <p:cNvSpPr txBox="1"/>
          <p:nvPr/>
        </p:nvSpPr>
        <p:spPr>
          <a:xfrm>
            <a:off x="2209680" y="1890720"/>
            <a:ext cx="556272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使至塞上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5" name="WordArt 3" descr=""/>
          <p:cNvPicPr/>
          <p:nvPr/>
        </p:nvPicPr>
        <p:blipFill>
          <a:blip r:embed="rId1"/>
          <a:stretch/>
        </p:blipFill>
        <p:spPr>
          <a:xfrm>
            <a:off x="4870440" y="4260960"/>
            <a:ext cx="302436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906440" y="380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大漠孤烟直，长河落日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523880" y="1219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一联勾勒出一幅极其雄浑、阔大、壮美的大漠中黄昏落日的典型景色，表现了诗人开阔的胸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沙漠浩瀚无边，所以用一个“大”字形容。边塞荒凉，烽火台燃起的那一股浓烟就显得格外醒目，因此称作“孤烟”。一个“孤”字写出了景物的单调，紧接着一个“直”字却又突出了它的劲拔、坚毅之美。一个“长”字写出了诗人对横贯沙漠的黄河的真实感觉。长河落日本来很平常，这里用一个“圆”字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突出了在大漠中观落日的特殊感受，给人以亲切温暧又微带苍茫的感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句形象地状写了大沙漠中孤烟垂直，落日浑圆的奇异壮观的景象，并寓悲凉之情于壮美景色之中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侧面烘托了守边将土凄凉艰苦的生活环境，借以反映了他们不畏艰苦，积极保卫边疆的爱国主义精神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联是千古名句，为后人所激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82760" y="304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萧关逢候骑，都护在燕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371600" y="1143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尾二句写到达边塞的情景，借候骑之口，点明都护崔希逸远在燕然前线，用以概括守边将士繁重紧张的战斗生活，赞美了他们以身许国的爱国热情。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思是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边塞，却没有遇到将官，侦察兵告诉使臣：“首将正在燕然前线。”“萧关”，地名，在今宁夏回族自治区固原县东南。“候骑”，在前线担任侦察、通讯的骑兵。“都护”，官名，边疆都护府的长官，此指河西节度副使崔希逸。“燕然”，山名。在今蒙古人民共和国境内的杭爱山。东汉窦宪为车骑将军，大破北单于，登燕然山，刻石记功而还。这里借作前线的代称，并非实指，暗示唐军作战得胜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2"/>
          <p:cNvSpPr txBox="1"/>
          <p:nvPr/>
        </p:nvSpPr>
        <p:spPr>
          <a:xfrm>
            <a:off x="3048120" y="45720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诗意散译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133720" y="1447920"/>
            <a:ext cx="6324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我奉命慰问战士轻车奔赴遥远的边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以典属国的身份长途跋涉路过居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有如蓬草随风万里飘出汉家的要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又似回归的大雁飞入北国的蓝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仿宋_GB2312"/>
              </a:rPr>
              <a:t>浩瀚的沙漠上一股狼烟升起又高又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仿宋_GB2312"/>
              </a:rPr>
              <a:t>滔滔的黄河边远望一轮落日大而浑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在萧关巧遇巡逻侦察的骑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告知我都护仍在遥远的燕然前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3048120" y="4572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总体赏析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3880" y="1447920"/>
            <a:ext cx="7315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全诗善于捕捉典型景物作精心刻画，叙事精练简洁，画面奇丽壮美，达到了精心锤炼与自然质朴的交融统一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人称王维“诗中有画”，于此诗可见一斑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楼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十八因里说：“大漠孤烟直，长河落日圆”。想来烟如何直？日自然是圆的。这‘直’字似无理，‘圆’字似太俗。合上书一想，倒像是见了这景的。要说再找两个字换这两个，竟再找不出两面三刀个字来。”这就是“诗的好处，有口里说不出来的意思，想去却是逼真的；又似乎无理的，想去竟是有理有情的。”这段评诗的话，可以帮我们认识王维这首诗的高妙的艺术境界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2"/>
          <p:cNvSpPr txBox="1"/>
          <p:nvPr/>
        </p:nvSpPr>
        <p:spPr>
          <a:xfrm>
            <a:off x="3048120" y="228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总体赏析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447920" y="1066680"/>
            <a:ext cx="7391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诗人把笔墨重点用在了他最擅胜场的方面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景。作者出使，恰在春天。途中见数行归雁北翔，诗人即景设喻，用归雁自比，既叙事，又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[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景，一笔两到，贴切自然。尤其是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漠孤烟直，长河落日圆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联，写进入边塞后所看到的塞外奇特壮丽的风光，画面开阔，意境雄浑，近人王国维称之为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古壮观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名句。边疆沙漠，浩瀚无边，所以用了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漠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。边塞荒凉，没有什么奇观异景，烽火台淆起的那一股浓烟就显得格外醒目，因此称作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孤烟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一个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孤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写出了景物的单调，紧接一个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直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，却又表现了它的劲拔、坚毅之美。沙漠上没有山峦林木，那横贯其间的黄河，就非用一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个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不能表达诗人的感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2"/>
          <p:cNvSpPr txBox="1"/>
          <p:nvPr/>
        </p:nvSpPr>
        <p:spPr>
          <a:xfrm>
            <a:off x="3048120" y="4572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总体赏析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371600" y="1295280"/>
            <a:ext cx="7391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落日，本来容易给人以感伤的印象，这里用一“圆”字，却给予人以亲切温暧而又苍茫的感觉。一个“圆”字，一个“直”字，不公准确地描绘了沙漠不关心的景象，而且表现了作者的深切的感受。诗人把自已的孤寂情绪巧妙溶化在广阔的自然景象的描绘中。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红楼梦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第四十八回里说：“‘大漠孤烟直，长河落日圆’。想来烟如何直？日自然是圆的。这‘直’字似无理，‘圆’字似太俗。合上书一想，倒像是见了这景的。要说再找两个字换这两个，竟再找不出两个字来。”这就是“诗的好处，有口里说不出来的意思，想去却是逼真的；又似乎无理的，想去竟是有理有情的。”这段话可算道出了这两句诗高超的艺术境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2"/>
          <p:cNvSpPr txBox="1"/>
          <p:nvPr/>
        </p:nvSpPr>
        <p:spPr>
          <a:xfrm>
            <a:off x="2666880" y="457200"/>
            <a:ext cx="41911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课外古诗赏析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219320" y="1752480"/>
            <a:ext cx="25146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山居秋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王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山新雨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气晚来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明月松间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泉石上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竹喧归浣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动下渔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随意春芳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王孙自可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352680" y="1828800"/>
            <a:ext cx="55627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凉州馆中与诸判官夜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唐）岑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弯弯月出挂城头，城头月出照凉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凉州七里十万家，胡人半解弹琵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琵琶一曲肠堪断，风萧萧兮夜漫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河西幕中多故人，故人别来三五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花门楼前见秋草，岂能贫贱相看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生大笑能几回？斗酒相逢须醉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4356000" y="33577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33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144880" y="2494080"/>
            <a:ext cx="6073560" cy="31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单车欲问边，属国过居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征蓬出汉塞，归雁入胡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大漠孤烟直，长河落日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萧关逢候骑，都护在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05320" y="838080"/>
            <a:ext cx="2514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使至塞上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11440" y="1676520"/>
            <a:ext cx="17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9966"/>
                </a:solidFill>
                <a:latin typeface="华文行楷"/>
                <a:ea typeface="华文行楷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2"/>
          <p:cNvSpPr txBox="1"/>
          <p:nvPr/>
        </p:nvSpPr>
        <p:spPr>
          <a:xfrm>
            <a:off x="3200400" y="457200"/>
            <a:ext cx="3276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作者简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00200" y="1447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00200" y="2514600"/>
            <a:ext cx="73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600200" y="1600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维（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01-761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字摩诘，蒲州（今山西永济）人，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少有才名。开元九年（</a:t>
            </a: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21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中进士，任太乐丞，后因事受牵累被贬到济州（今山乐长青县）作司库参军。开元二十二年（</a:t>
            </a: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34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得宰相张九龄提拔为右拾遗，后迁监察御史。开元二十五年（</a:t>
            </a: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37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因张九龄受贬，王维也受排挤。这年春天奉使出塞，在凉州住了一段时间。开元二十七年从凉州返回长安，任殿中待御史。开元末至安禄山叛乱前，曾先后在终南山、辋川隐居，过着亦官亦隐的生活。天宝十五年（</a:t>
            </a: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56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安禄山攻陷长安，王维扈从不及而被俘，被迫授伪职。叛乱平息后，受降官处分。乾元二年（</a:t>
            </a:r>
            <a:r>
              <a:rPr b="0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59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迁中书舍人，后转尚书右丞，世称王右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523880" y="1447920"/>
            <a:ext cx="73152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    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王维是个多才多艺并有较高艺术修养的作家，他能诗能画，精通音乐，首创破墨山水画，成一派之宗。受音乐、书法、绘画的影响，他的诗独特色，无论是政治诗还是边塞诗和山水诗，都达到较高的艺术成就。</a:t>
            </a:r>
            <a:r>
              <a:rPr b="0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他的诗歌呈现丰富多彩的艺术特色，具有词句秀冶，意境清新，格调高雅，音韵婉转，情景交融的特点。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尤其是避世隐居时的诗歌，多以山水田园景色寄托孤寂闲适的情怀。这一类诗以感受敏锐，体物细微，诗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“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中有事画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”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见长，对后世影响深远。唐代宗称王维是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“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天宝中诗名冠代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”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人物。宋朝苏轼曾称赞说：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“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味摩诘之诗，诗中有画；观摩诘之画，画中有诗。</a:t>
            </a:r>
            <a:r>
              <a:rPr b="0" lang="zh-CN" sz="2600" spc="-1" strike="noStrike">
                <a:solidFill>
                  <a:srgbClr val="3399ff"/>
                </a:solidFill>
                <a:latin typeface="Times New Roman"/>
                <a:ea typeface="仿宋_GB2312"/>
              </a:rPr>
              <a:t>”</a:t>
            </a:r>
            <a:r>
              <a:rPr b="0" lang="zh-CN" sz="2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3200400" y="457200"/>
            <a:ext cx="3276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作者简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1026"/>
          <p:cNvSpPr txBox="1"/>
          <p:nvPr/>
        </p:nvSpPr>
        <p:spPr>
          <a:xfrm>
            <a:off x="2743200" y="380880"/>
            <a:ext cx="3962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历史背景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1752480" y="1676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9966"/>
                </a:solidFill>
                <a:latin typeface="华文行楷"/>
                <a:ea typeface="华文行楷"/>
              </a:rPr>
              <a:t>开元二十四年（</a:t>
            </a:r>
            <a:r>
              <a:rPr b="0" lang="en-US" sz="3200" spc="-1" strike="noStrike">
                <a:solidFill>
                  <a:srgbClr val="339966"/>
                </a:solidFill>
                <a:latin typeface="华文行楷"/>
                <a:ea typeface="华文行楷"/>
              </a:rPr>
              <a:t>736</a:t>
            </a:r>
            <a:r>
              <a:rPr b="0" lang="zh-CN" sz="3200" spc="-1" strike="noStrike">
                <a:solidFill>
                  <a:srgbClr val="339966"/>
                </a:solidFill>
                <a:latin typeface="华文行楷"/>
                <a:ea typeface="华文行楷"/>
              </a:rPr>
              <a:t>年）吐番发兵攻打唐属小国小勃律（在今克什米尔北）。</a:t>
            </a:r>
            <a:r>
              <a:rPr b="0" lang="en-US" sz="3200" spc="-1" strike="noStrike">
                <a:solidFill>
                  <a:srgbClr val="339966"/>
                </a:solidFill>
                <a:latin typeface="华文行楷"/>
                <a:ea typeface="华文行楷"/>
              </a:rPr>
              <a:t>737</a:t>
            </a:r>
            <a:r>
              <a:rPr b="0" lang="zh-CN" sz="3200" spc="-1" strike="noStrike">
                <a:solidFill>
                  <a:srgbClr val="339966"/>
                </a:solidFill>
                <a:latin typeface="华文行楷"/>
                <a:ea typeface="华文行楷"/>
              </a:rPr>
              <a:t>年春，可西节度副大使崔希逸在青涤西大破吐番军。王维奉使出塞宣慰，并在灯西节度使幕兼为判官。本扁即写出塞时沿途景色。察访军情。这实际是将王维排挤出朝迁。这道诗作于赴边途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505320" y="838080"/>
            <a:ext cx="2514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使至塞上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11440" y="1676520"/>
            <a:ext cx="17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9966"/>
                </a:solidFill>
                <a:latin typeface="华文行楷"/>
                <a:ea typeface="华文行楷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981080" y="2514600"/>
            <a:ext cx="5943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00"/>
                </a:solidFill>
                <a:uFillTx/>
                <a:latin typeface="华文行楷"/>
                <a:ea typeface="华文行楷"/>
              </a:rPr>
              <a:t>单车欲问边，属国过居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00"/>
                </a:solidFill>
                <a:uFillTx/>
                <a:latin typeface="华文行楷"/>
                <a:ea typeface="华文行楷"/>
              </a:rPr>
              <a:t>征蓬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出汉塞，归雁入胡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大漠孤烟直，长河落日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萧关逢候骑，都护在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3880" y="380880"/>
            <a:ext cx="70866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注释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车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句：写轻车出使，慰问塞上将士。单车，轻车简从。属国，典属国（秦汉官名）简称，唐代人有时以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属国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指使臣。这里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属国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往吐蕃的使者，王维奉使问边，所以自称属国。居延，汉末设县，在今甘肃省张掖县西北。此二句一本作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衔命辞天阙，单车欲问边。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981080" y="2666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蓬：言蓬草遇秋，随风远去。</a:t>
            </a:r>
            <a:r>
              <a:rPr b="0" lang="zh-CN" sz="20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600200" y="3124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孤烟直：孤烟指烽火与燧烟，古时边塞告警或报平安的信号。燧烟燃狼粪，取其烟直而聚，故云孤烟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981080" y="39625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河：指黄河。</a:t>
            </a:r>
            <a:r>
              <a:rPr b="0" lang="zh-CN" sz="2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600200" y="4495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萧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句：写在萧关遇到侦察的骑兵，得知首将（护都）正在前线。萧关，在今宁夏回族自治区固原县东南。候骑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ì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骑马的侦察兵。护都，当时边疆重镇都护府的长官、首将。燕然，山名，今蒙古三音诺颜汗中部的杭爱山。</a:t>
            </a:r>
            <a:r>
              <a:rPr b="0" lang="zh-CN" sz="2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81532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13516" y="3837"/>
                </a:moveTo>
                <a:lnTo>
                  <a:pt x="16092" y="6448"/>
                </a:lnTo>
                <a:lnTo>
                  <a:pt x="16092" y="4707"/>
                </a:lnTo>
                <a:lnTo>
                  <a:pt x="17868" y="4707"/>
                </a:lnTo>
                <a:lnTo>
                  <a:pt x="17868" y="8224"/>
                </a:lnTo>
                <a:lnTo>
                  <a:pt x="20479" y="10800"/>
                </a:lnTo>
                <a:lnTo>
                  <a:pt x="18825" y="10800"/>
                </a:lnTo>
                <a:lnTo>
                  <a:pt x="18825" y="17989"/>
                </a:lnTo>
                <a:lnTo>
                  <a:pt x="8207" y="17989"/>
                </a:lnTo>
                <a:lnTo>
                  <a:pt x="8207" y="10800"/>
                </a:lnTo>
                <a:lnTo>
                  <a:pt x="6553" y="10800"/>
                </a:lnTo>
                <a:close/>
              </a:path>
              <a:path fill="darkenLess" w="27032" h="21600">
                <a:moveTo>
                  <a:pt x="16092" y="6448"/>
                </a:moveTo>
                <a:lnTo>
                  <a:pt x="16092" y="4707"/>
                </a:lnTo>
                <a:lnTo>
                  <a:pt x="17868" y="4707"/>
                </a:lnTo>
                <a:lnTo>
                  <a:pt x="17868" y="8224"/>
                </a:lnTo>
                <a:close/>
              </a:path>
              <a:path fill="darkenLess" w="27032" h="21600">
                <a:moveTo>
                  <a:pt x="12593" y="14299"/>
                </a:moveTo>
                <a:lnTo>
                  <a:pt x="14439" y="14299"/>
                </a:lnTo>
                <a:lnTo>
                  <a:pt x="14439" y="17989"/>
                </a:lnTo>
                <a:lnTo>
                  <a:pt x="18825" y="17989"/>
                </a:lnTo>
                <a:lnTo>
                  <a:pt x="18825" y="10800"/>
                </a:lnTo>
                <a:lnTo>
                  <a:pt x="8207" y="10800"/>
                </a:lnTo>
                <a:lnTo>
                  <a:pt x="8207" y="17989"/>
                </a:lnTo>
                <a:lnTo>
                  <a:pt x="12593" y="17989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133720" y="457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981080" y="4572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单车欲问边，属国过居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00200" y="1295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车欲问边，属国过居延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头交代了出使的目的和经过的地点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车前往，向哪里去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写其轻车简从，言慰问使团规模不大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慰问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边塞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典属国的简称。本为秦汉时官名，这里指代使臣，是王维自指（一说作附属之国，颜师古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言属国者，存其国号而属汉朝，故曰属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城名，汉末设县，在今甘肃省张掖县西北，远在西北边塞 。此二句一本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衔命辞天阙，单车欲问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轻车前往，向哪里去呢？，居延在今甘肃张掖县西北，老人家在西北边塞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4290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906440" y="380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征蓬出汉塞，归雁入胡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371600" y="1143000"/>
            <a:ext cx="746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蓬出汉塞，归雁入胡天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承前句，描绘塞外景色，以征蓬归雁作比，侧重表现行程的艰苦遥远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逢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逢草遇秋，随风远去，这里以征蓬喻万里行程；写归雁，是说南雁北飞回归故地，点出出使的季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比喻通俗自然。诗人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蓬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比，说自己像随风而去的蓬草一样出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塞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振翅北飞的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燕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进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天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诗人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蓬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比，说自已像随风而去的蓬草一样出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塞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振翮北飞的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样进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天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古诗中多用飞蓬比喻漂流在外的游子，这里却是比喻一个负有朝延使命的大臣，正是暗写诗人内心的激愤和抑郁。与首句的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呼应。万里行程只用了十个字轻轻带过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09:57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6-22T03:09:45Z</dcterms:modified>
  <cp:revision>32</cp:revision>
  <dc:subject>第一PPT模板网-WWW.1PPT.COM</dc:subject>
  <dc:title>第一PPT模板网-WWW.1PPT.COM</dc:title>
</cp:coreProperties>
</file>