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camera.wav" ContentType="audio/x-wav"/>
  <Override PartName="/ppt/media/image6.jpeg" ContentType="image/jpeg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image7.jpeg" ContentType="image/jpeg"/>
  <Override PartName="/ppt/media/voltage.wav" ContentType="audio/x-wav"/>
  <Override PartName="/ppt/media/arrow.wav" ContentType="audio/x-wav"/>
  <Override PartName="/ppt/media/coin.wav" ContentType="audio/x-wav"/>
  <Override PartName="/ppt/media/laser.wav" ContentType="audio/x-wav"/>
  <Override PartName="/ppt/media/image4.jpeg" ContentType="image/jpeg"/>
  <Override PartName="/ppt/media/cashreg.wav" ContentType="audio/x-wav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501-1BDD-4431-A0CD-50519F48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2CB-241F-4CFD-9210-C3226440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7F1-FD51-487C-87BC-7EF0CBFC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F65-23D7-49B6-9A7A-C5CF097B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380-8EA2-4E31-A01B-37747611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587-E6AC-4880-9502-CC63FB5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425-2235-4AAA-8CFE-D038C61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0F4-F82D-45AA-8C3D-8E0E68D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342-D390-4A2B-9A57-7F74E00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685-5A0D-48EE-B662-14DE177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D5F-E6C9-41FE-AA92-AAA4F68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6DF-DB4E-4A2D-967E-CC7D4F3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F228-649B-427A-9E44-D1E7D92D59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voltage.wav"/><Relationship Id="rId5" Type="http://schemas.openxmlformats.org/officeDocument/2006/relationships/audio" Target="../media/laser.wav"/><Relationship Id="rId6" Type="http://schemas.openxmlformats.org/officeDocument/2006/relationships/audio" Target="../media/arrow.wav"/><Relationship Id="rId7" Type="http://schemas.openxmlformats.org/officeDocument/2006/relationships/audio" Target="../media/cashreg.wav"/><Relationship Id="rId8" Type="http://schemas.openxmlformats.org/officeDocument/2006/relationships/audio" Target="../media/coin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44640"/>
            <a:ext cx="8497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诗四首——使至塞上</a:t>
            </a: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·</a:t>
            </a: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王维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58920" y="1125360"/>
            <a:ext cx="705816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76720" y="478440"/>
            <a:ext cx="33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至塞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车欲问边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国过居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征蓬出汉塞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雁入胡天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漠孤烟直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河落日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萧关逢候骑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护在燕然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99376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维，字摩洁，唐山水田园诗人， “诗佛”。 “诗中有画，画中有诗” 。开元二十五年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春天，王维奉唐玄宗之命，赴西北边塞慰问战胜吐蕃的河西副大使崔希逸（实际是被排挤出朝廷）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的就是这次出使的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42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华文行楷"/>
              </a:rPr>
              <a:t>作家作品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使至塞上》简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79440"/>
            <a:ext cx="835344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使至塞上》这首诗，通过作者叙述出使边塞的情况，抒发了作者内心的激愤和抑郁。开头两句交代了作者的去向。二三两句既概括地交待了行程，又抒发了作者内心的不平。五六句以出色的描写，道出了边塞之景的奇特壮丽和孤寂之感。结尾两句以写到达边塞作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876960"/>
            <a:ext cx="424980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车欲问边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国过居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蓬出汉塞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雁入胡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漠孤烟直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河落日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萧关逢候骑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护在燕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987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叙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5002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抒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940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绘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80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叙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出使边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2492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内心抑郁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即景设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4437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塞外风光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千古壮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478080" y="2565360"/>
            <a:ext cx="1521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情由事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34000" y="2492280"/>
            <a:ext cx="1521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景由事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-10008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行楷"/>
              </a:rPr>
              <a:t>结构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1268280"/>
            <a:ext cx="144720" cy="5256360"/>
          </a:xfrm>
          <a:custGeom>
            <a:avLst/>
            <a:gdLst>
              <a:gd name="textAreaLeft" fmla="*/ 0 w 144720"/>
              <a:gd name="textAreaRight" fmla="*/ 52200 w 14472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341360"/>
            <a:ext cx="287280" cy="525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Times New Roman"/>
                <a:ea typeface="宋体-PUA"/>
              </a:rPr>
              <a:t>大漠孤烟直，长河落日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ecff"/>
                </a:solidFill>
                <a:latin typeface="Times New Roman"/>
              </a:rPr>
              <a:t>◎</a:t>
            </a:r>
            <a:r>
              <a:rPr b="0" i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情景交融</a:t>
            </a:r>
            <a:r>
              <a:rPr b="0" i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219320"/>
            <a:ext cx="30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777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莽莽大漠，一片苍茫，遥远无际。数行归雁北翔，似乎连心都跟着远去了。极目远眺，平静的像是已经静止了的远方，那古旧的烽火台上的狼烟十分显眼醒目，如此浩瀚无边的边疆大漠上，这本是庄严肃穆的烽火，此时看来又是何等的孤寂寥落。黄河静静的流淌着，仿佛一带而过，长河尽头，便是那最令人心醉却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也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心碎的落日。至塞上，方知天地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宽广，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塞上，方知生命无际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漠孤烟直，长河落日圆”一联，写进入边塞后所看到的塞外奇特壮丽的风光，画面开阔，意境雄浑，近人王国维称之为“千古壮观”的名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仅准确地描绘了沙漠的景象，而且表现了作者的深切的感受。诗人把自己的孤寂情绪巧妙地溶化在广阔的自然景象的描绘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3258000"/>
            <a:ext cx="857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诗中 “大漠孤烟直，长河落日圆”一句描绘出了诗人进入边塞后所看到的塞外奇特壮丽的风光。一个“孤”字写出了景物的单调，“直”字，表现了它的刚劲、坚毅之美。“长”字，表达出黄河横贯其间给人的感觉。“圆”字，给人以亲切温暖而又苍茫的感觉。这就把诗人孤寂的情绪巧妙地融在广阔的自然景象的描绘之中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900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赏析：“大漠孤烟直，长河落日圆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0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使至塞上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　　这首诗叙述了作者出使塞外的艰苦行程，描绘了塞外奇特壮美的风光，歌颂了河西军队的声威，同时也表达了诗人的抑郁、孤寂的思想感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1-23T05:02:45Z</dcterms:modified>
  <cp:revision>45</cp:revision>
  <dc:subject/>
  <dc:title>PowerPoint Presentation</dc:title>
</cp:coreProperties>
</file>