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49FB-B920-4D4D-B3DA-FD61046A1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99F1-4C0C-4FD0-A3B7-7F36CEF3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0F2C-AD3F-49D5-AD7F-C375E6623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C7E0-10CF-46DF-AD6C-4E0D558BD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F41C-E440-40C7-AEBF-14D657F1A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EEEB-0B79-4765-9499-A6B7794B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CAD5-6654-4FBD-AE98-33BB9D8D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163B-55C5-4B87-97C3-D7911D46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7EAF-ADA2-44DA-8DB3-AE983005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BC69-BC07-4A39-87CF-31867C65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418C-CF4D-427C-9B9E-3190EDC9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C2A9-C977-4D09-8585-8F165F57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7A94-66DD-4688-A83C-7397DB75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1903-9176-4200-988B-9F8DED97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E346-9A97-49A6-844B-DCA4D2F5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7FBC-A321-4AEB-8100-D0C20CAE5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B898-1EE0-4E49-90D9-DF2D33356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2FD3-4E1B-4EFA-A713-11AFD3E0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F21F-8EC2-454D-94E0-6C505D48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0A2D-8AFE-4A83-9793-6C940BCC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AF0D-6041-499D-B4E2-072AAA52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52D6-452F-4CC9-A053-FA3E49F3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9E83-2A25-447F-8E2F-1D761945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D1FB-42CF-465B-BAA2-72B140F3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543B-7577-4F58-A1EA-A35034414DD4}" type="slidenum"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03FB-E94D-4F89-BFAA-A0533F9C90E8}" type="slidenum">
              <a:rPr b="0" lang="zh-CN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80808"/>
                </a:solidFill>
                <a:latin typeface="Arial"/>
              </a:rPr>
              <a:t>诉衷情</a:t>
            </a:r>
            <a:br>
              <a:rPr sz="4800"/>
            </a:br>
            <a:r>
              <a:rPr b="0" lang="zh-CN" sz="4800" spc="-1" strike="noStrike">
                <a:solidFill>
                  <a:srgbClr val="080808"/>
                </a:solidFill>
                <a:latin typeface="Arial"/>
              </a:rPr>
              <a:t>                            </a:t>
            </a:r>
            <a:r>
              <a:rPr b="0" lang="zh-CN" sz="4000" spc="-1" strike="noStrike">
                <a:solidFill>
                  <a:srgbClr val="080808"/>
                </a:solidFill>
                <a:latin typeface="Arial"/>
              </a:rPr>
              <a:t>陆游</a:t>
            </a:r>
            <a:endParaRPr b="0" lang="en-US" sz="4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4000" y="40464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陆游：南宋词人，字务观，号放翁，越州山阴（今浙江绍兴）人。出生的第二年适逢靖康之乱，随父离开中原南下，少年时就生活在战乱和动荡之中，中年入蜀抗金。在仕途中不断受到当权派的排斥打击，两度因力主抗金而被罢职，退居山阴，写下了大量的诗词，回荡着爱国忧民的激情。《诉衷情》就是其中的名篇之一，正是作者晚年隐居山阴农村以后写的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87280" y="1125360"/>
            <a:ext cx="662472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80808"/>
                </a:solidFill>
                <a:latin typeface="Arial"/>
              </a:rPr>
              <a:t>戍           貂裘              鬓 </a:t>
            </a:r>
            <a:r>
              <a:rPr b="0" lang="zh-CN" sz="40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321300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关河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梦断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何处  尘暗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旧貂裘。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3120" y="3506760"/>
            <a:ext cx="43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08000" y="1268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shù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16360" y="126828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diāo qiú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32360" y="270828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451640" y="1268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bīn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4064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思考（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）：圈划出直接表现词人情感的词句，交流听后的感受。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27082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）：这种浓郁的情感又是如何通过具体的词句表现出来的呢？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458136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80808"/>
                </a:solidFill>
                <a:latin typeface="Arial"/>
              </a:rPr>
              <a:t>）：“此身谁料，心在天山，身老沧州” ，你能说说这其中有着怎样的感慨吗？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Arial"/>
              </a:rPr>
              <a:t>时代的风雨，艰难的现实，爱国的情怀，读着这样的词句，很自然地能让我们联想到了词人的哪些的诗词呢？或者从你已学过的古诗词中，你能说出和这首词的感情色彩类似的词句或诗句吗？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8930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116640" indent="-11664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陆游：《示儿》“死去无知万事空，但悲不见九州同”；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116640" indent="-11664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《 《十一月四日风雨大作》“夜阑卧听风吹雨，铁马冰河入梦来”；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116640" indent="-11664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《春望》“感时花溅泪，恨别鸟惊心”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116640" indent="-11664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文天祥：《过零丁洋》“人生自古谁无死，留取丹心照汗青”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116640" indent="-11664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岳飞：《满江红》“壮志饥餐胡虏肉，笑谈渴饮匈奴血”等等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1680" y="1197000"/>
            <a:ext cx="8540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、背诵全词；并积累生字新词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3-5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个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、用散文的形式改写这首词，可适当地加入环境、心理活动、神情、动作等描写，但力求意境、思想和原词保持一致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23:58:39Z</dcterms:created>
  <dc:creator>Lenovo User</dc:creator>
  <dc:description/>
  <dc:language>en-US</dc:language>
  <cp:lastModifiedBy>Lenovo User</cp:lastModifiedBy>
  <dcterms:modified xsi:type="dcterms:W3CDTF">2009-10-12T00:55:2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02000000000001024120</vt:lpwstr>
  </property>
</Properties>
</file>