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laser.wav" ContentType="audio/x-wav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11.png" ContentType="image/pn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F76-00D6-4EC2-BC39-06652A0E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572-38AE-4E4A-A892-B919EB43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B1C-FEAB-4840-81C8-E2148E09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7C9-7470-4DF0-8957-3AE3EAEE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5F6E-BB8B-4A27-B882-26CB3C06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B020-7185-41DE-8254-F3A837D8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6A5F-F3FA-48B1-A1E3-34C578FE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F6A2-6BF3-4A43-9E79-2D8FAD40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9486-7823-407B-909D-8CD244AB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92E4-367C-4690-A438-0E399EAA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7614-1B0E-401C-9DB2-06D9384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19B-E8F5-4427-BF49-81B236EB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B6EC-95C0-4A5A-97F9-9A9BC8CE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2882-BEA9-40C5-BD18-E127AABF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A17-571E-40FD-ACC6-FFE62254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2E66-89C6-4C15-B581-CBF103C2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02E4-1079-4434-AC55-BA6C1AC5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FED-47DA-4EE3-B083-9073F56D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575-759B-46EC-8BB1-3BB5BCA8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ED1-3503-4FE8-B37D-CDC1F49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133-ED2C-4E1E-B895-25CC86D8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D43-84D4-4BEF-AB4E-9A5450F4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EF8-3405-4A55-AE57-4DD6276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3D9-AA85-43A4-ADBC-9FD3A896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E46E-F55B-4713-9D9B-7B197DA4006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32BC-BA7F-44C1-A997-CC40F2388B6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sreader.com/images/ys/qxssg/zp01/000001.jpg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sreader.com/images/ys/qxssg/zp17/000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sreader.com/images/ys/qxssg/zp07/000001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9"/>
          <p:cNvGrpSpPr/>
          <p:nvPr/>
        </p:nvGrpSpPr>
        <p:grpSpPr>
          <a:xfrm>
            <a:off x="971640" y="2924280"/>
            <a:ext cx="7160760" cy="2233080"/>
            <a:chOff x="971640" y="2924280"/>
            <a:chExt cx="7160760" cy="2233080"/>
          </a:xfrm>
        </p:grpSpPr>
        <p:sp>
          <p:nvSpPr>
            <p:cNvPr id="83" name="Rectangle 8"/>
            <p:cNvSpPr/>
            <p:nvPr/>
          </p:nvSpPr>
          <p:spPr>
            <a:xfrm>
              <a:off x="971640" y="2924280"/>
              <a:ext cx="7160760" cy="2233080"/>
            </a:xfrm>
            <a:prstGeom prst="rect">
              <a:avLst/>
            </a:prstGeom>
            <a:solidFill>
              <a:srgbClr val="fd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4" name="Group 7"/>
            <p:cNvGrpSpPr/>
            <p:nvPr/>
          </p:nvGrpSpPr>
          <p:grpSpPr>
            <a:xfrm>
              <a:off x="971640" y="2924280"/>
              <a:ext cx="7160400" cy="2232720"/>
              <a:chOff x="971640" y="2924280"/>
              <a:chExt cx="7160400" cy="2232720"/>
            </a:xfrm>
          </p:grpSpPr>
          <p:sp>
            <p:nvSpPr>
              <p:cNvPr id="85" name="Rectangle 4"/>
              <p:cNvSpPr/>
              <p:nvPr/>
            </p:nvSpPr>
            <p:spPr>
              <a:xfrm>
                <a:off x="971640" y="2924280"/>
                <a:ext cx="7160400" cy="360"/>
              </a:xfrm>
              <a:prstGeom prst="rect">
                <a:avLst/>
              </a:prstGeom>
              <a:solidFill>
                <a:srgbClr val="fd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6" name="Rectangle 5"/>
              <p:cNvSpPr/>
              <p:nvPr/>
            </p:nvSpPr>
            <p:spPr>
              <a:xfrm>
                <a:off x="971640" y="2924280"/>
                <a:ext cx="7160400" cy="2232720"/>
              </a:xfrm>
              <a:prstGeom prst="rect">
                <a:avLst/>
              </a:prstGeom>
              <a:solidFill>
                <a:srgbClr val="fd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0066"/>
                    </a:solidFill>
                    <a:uFillTx/>
                    <a:latin typeface="Arial"/>
                    <a:hlinkClick r:id="rId1"/>
                  </a:rPr>
                  <a:t>  </a:t>
                </a:r>
                <a:endParaRPr b="0" lang="en-US" sz="9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Picture 12" descr="0000361011"/>
          <p:cNvPicPr/>
          <p:nvPr/>
        </p:nvPicPr>
        <p:blipFill>
          <a:blip r:embed="rId2"/>
          <a:srcRect l="0" t="0" r="0" b="34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4"/>
          <p:cNvSpPr/>
          <p:nvPr/>
        </p:nvSpPr>
        <p:spPr>
          <a:xfrm>
            <a:off x="5724360" y="3572640"/>
            <a:ext cx="18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刘敬智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1258920" y="1484280"/>
            <a:ext cx="6626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始终眷恋着祖国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56167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幼圆"/>
              </a:rPr>
              <a:t>五、胜利归来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4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Picture 6" descr="1"/>
          <p:cNvPicPr/>
          <p:nvPr/>
        </p:nvPicPr>
        <p:blipFill>
          <a:blip r:embed="rId2"/>
          <a:stretch/>
        </p:blipFill>
        <p:spPr>
          <a:xfrm>
            <a:off x="1258920" y="2708280"/>
            <a:ext cx="3000240" cy="3575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556160" y="291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00720" y="4437000"/>
            <a:ext cx="38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7d7da9"/>
                </a:solidFill>
                <a:latin typeface="Times New Roman"/>
              </a:rPr>
              <a:t>1955</a:t>
            </a:r>
            <a:r>
              <a:rPr b="1" lang="zh-CN" sz="3200" spc="-1" strike="noStrike">
                <a:solidFill>
                  <a:srgbClr val="7d7da9"/>
                </a:solidFill>
                <a:latin typeface="Times New Roman"/>
              </a:rPr>
              <a:t>年钱学森一家乘克莱夫兰总统号轮船回国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4500720" y="2060640"/>
            <a:ext cx="3958920" cy="1584360"/>
          </a:xfrm>
          <a:prstGeom prst="cloudCallout">
            <a:avLst>
              <a:gd name="adj1" fmla="val -12550"/>
              <a:gd name="adj2" fmla="val 50000"/>
            </a:avLst>
          </a:prstGeom>
          <a:solidFill>
            <a:srgbClr val="99cc00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回家啦 </a:t>
            </a:r>
            <a:r>
              <a:rPr b="0" i="1" lang="en-US" sz="4800" spc="-1" strike="noStrike">
                <a:solidFill>
                  <a:srgbClr val="ff0000"/>
                </a:solidFill>
                <a:latin typeface="Arial"/>
                <a:ea typeface="隶书"/>
              </a:rPr>
              <a:t>!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24000" y="907920"/>
            <a:ext cx="9009000" cy="1052640"/>
            <a:chOff x="324000" y="907920"/>
            <a:chExt cx="9009000" cy="1052640"/>
          </a:xfrm>
        </p:grpSpPr>
        <p:grpSp>
          <p:nvGrpSpPr>
            <p:cNvPr id="137" name="Group 3"/>
            <p:cNvGrpSpPr/>
            <p:nvPr/>
          </p:nvGrpSpPr>
          <p:grpSpPr>
            <a:xfrm>
              <a:off x="614520" y="1015920"/>
              <a:ext cx="711360" cy="474840"/>
              <a:chOff x="614520" y="1015920"/>
              <a:chExt cx="711360" cy="47484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614520" y="1015920"/>
                <a:ext cx="437400" cy="474840"/>
              </a:xfrm>
              <a:prstGeom prst="rect">
                <a:avLst/>
              </a:prstGeom>
              <a:solidFill>
                <a:srgbClr val="7d7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997560" y="101592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7d7da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6"/>
            <p:cNvGrpSpPr/>
            <p:nvPr/>
          </p:nvGrpSpPr>
          <p:grpSpPr>
            <a:xfrm>
              <a:off x="738360" y="1438200"/>
              <a:ext cx="737640" cy="474840"/>
              <a:chOff x="738360" y="1438200"/>
              <a:chExt cx="737640" cy="474840"/>
            </a:xfrm>
          </p:grpSpPr>
          <p:sp>
            <p:nvSpPr>
              <p:cNvPr id="141" name="Rectangle 7"/>
              <p:cNvSpPr/>
              <p:nvPr/>
            </p:nvSpPr>
            <p:spPr>
              <a:xfrm>
                <a:off x="738360" y="1438200"/>
                <a:ext cx="421560" cy="4748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1107000" y="143820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43" name="Rectangle 9"/>
            <p:cNvSpPr/>
            <p:nvPr/>
          </p:nvSpPr>
          <p:spPr>
            <a:xfrm>
              <a:off x="324000" y="136512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959040" y="907920"/>
              <a:ext cx="31680" cy="10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flipV="1">
              <a:off x="640080" y="173016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46" name="WordArt 12"/>
          <p:cNvSpPr txBox="1"/>
          <p:nvPr/>
        </p:nvSpPr>
        <p:spPr>
          <a:xfrm>
            <a:off x="7164360" y="33577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赤子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7308720" y="4292640"/>
            <a:ext cx="100836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755640" y="3933720"/>
            <a:ext cx="23763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归国之路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4067280" y="234936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拜师求学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4067280" y="3213000"/>
            <a:ext cx="2019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创业辉煌</a:t>
            </a:r>
            <a:endParaRPr b="0" lang="en-US" sz="40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4140360" y="4005360"/>
            <a:ext cx="2019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决心回国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WordArt 18"/>
          <p:cNvSpPr txBox="1"/>
          <p:nvPr/>
        </p:nvSpPr>
        <p:spPr>
          <a:xfrm>
            <a:off x="4140360" y="4869000"/>
            <a:ext cx="2019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饱受折磨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3" name="WordArt 19"/>
          <p:cNvSpPr txBox="1"/>
          <p:nvPr/>
        </p:nvSpPr>
        <p:spPr>
          <a:xfrm>
            <a:off x="4140360" y="5661000"/>
            <a:ext cx="2019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胜利归来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3276720" y="4005360"/>
            <a:ext cx="647640" cy="504720"/>
          </a:xfrm>
          <a:prstGeom prst="rightArrow">
            <a:avLst>
              <a:gd name="adj1" fmla="val 50000"/>
              <a:gd name="adj2" fmla="val 3207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AutoShape 21"/>
          <p:cNvSpPr/>
          <p:nvPr/>
        </p:nvSpPr>
        <p:spPr>
          <a:xfrm>
            <a:off x="6372360" y="4076640"/>
            <a:ext cx="647640" cy="504720"/>
          </a:xfrm>
          <a:prstGeom prst="rightArrow">
            <a:avLst>
              <a:gd name="adj1" fmla="val 50000"/>
              <a:gd name="adj2" fmla="val 3207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>
            <a:off x="4932360" y="5445000"/>
            <a:ext cx="2890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>
            <a:off x="4932360" y="2924280"/>
            <a:ext cx="2890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>
            <a:off x="4932360" y="3716280"/>
            <a:ext cx="2890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4932360" y="4508640"/>
            <a:ext cx="2890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45450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幼圆"/>
              </a:rPr>
              <a:t>结构梳理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8" dur="3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景色11"/>
          <p:cNvPicPr/>
          <p:nvPr/>
        </p:nvPicPr>
        <p:blipFill>
          <a:blip r:embed="rId1"/>
          <a:stretch/>
        </p:blipFill>
        <p:spPr>
          <a:xfrm>
            <a:off x="539640" y="2421000"/>
            <a:ext cx="820908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94920" y="213372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这篇人物通讯记述了钱学森在取得学术上的辉煌成就后，毅然放弃国外优裕的工作和生活条件，冲破重重阻力回到祖国的艰苦历程，表现了他眷恋祖国的赤子之心。</a:t>
            </a:r>
            <a:r>
              <a:rPr b="1" lang="zh-CN" sz="3600" spc="-1" strike="noStrike">
                <a:solidFill>
                  <a:srgbClr val="c0c0c0"/>
                </a:solidFill>
                <a:latin typeface="Arial"/>
              </a:rPr>
              <a:t>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826920" y="620640"/>
            <a:ext cx="3240360" cy="14414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主题归纳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景色5"/>
          <p:cNvPicPr/>
          <p:nvPr/>
        </p:nvPicPr>
        <p:blipFill>
          <a:blip r:embed="rId1"/>
          <a:stretch/>
        </p:blipFill>
        <p:spPr>
          <a:xfrm>
            <a:off x="179280" y="5373720"/>
            <a:ext cx="8785440" cy="120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2"/>
          <p:cNvPicPr/>
          <p:nvPr/>
        </p:nvPicPr>
        <p:blipFill>
          <a:blip r:embed="rId2"/>
          <a:stretch/>
        </p:blipFill>
        <p:spPr>
          <a:xfrm>
            <a:off x="5651640" y="11592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-360" y="1773360"/>
            <a:ext cx="8588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1</a:t>
            </a:r>
            <a:r>
              <a:rPr b="1" i="1" lang="en-US" sz="2800" spc="-1" strike="noStrike">
                <a:solidFill>
                  <a:srgbClr val="3399ff"/>
                </a:solidFill>
                <a:latin typeface="幼圆"/>
                <a:ea typeface="幼圆"/>
              </a:rPr>
              <a:t>.</a:t>
            </a: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美国移民局通知他，不许离开美国</a:t>
            </a:r>
            <a:r>
              <a:rPr b="1" i="1" lang="en-US" sz="2800" spc="-1" strike="noStrike">
                <a:solidFill>
                  <a:srgbClr val="3399ff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并以判刑和罚款加以恐吓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2</a:t>
            </a:r>
            <a:r>
              <a:rPr b="1" i="1" lang="en-US" sz="2800" spc="-1" strike="noStrike">
                <a:solidFill>
                  <a:srgbClr val="3399ff"/>
                </a:solidFill>
                <a:latin typeface="幼圆"/>
                <a:ea typeface="幼圆"/>
              </a:rPr>
              <a:t>.</a:t>
            </a: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被联邦调查局非法逮捕，关押</a:t>
            </a: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15</a:t>
            </a: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3</a:t>
            </a:r>
            <a:r>
              <a:rPr b="1" i="1" lang="en-US" sz="2800" spc="-1" strike="noStrike">
                <a:solidFill>
                  <a:srgbClr val="3399ff"/>
                </a:solidFill>
                <a:latin typeface="幼圆"/>
                <a:ea typeface="幼圆"/>
              </a:rPr>
              <a:t>.</a:t>
            </a: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美移民局非法限制钱的自由，要他一个月到移民局报到一次，并不准离开洛杉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幼圆"/>
                <a:ea typeface="幼圆"/>
              </a:rPr>
              <a:t>4.</a:t>
            </a: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处在与世隔绝的境地</a:t>
            </a:r>
            <a:r>
              <a:rPr b="1" i="1" lang="zh-CN" sz="2800" spc="-1" strike="noStrike">
                <a:solidFill>
                  <a:srgbClr val="3399ff"/>
                </a:solidFill>
                <a:latin typeface="Arial"/>
                <a:ea typeface="幼圆"/>
              </a:rPr>
              <a:t>——</a:t>
            </a:r>
            <a:r>
              <a:rPr b="1" i="1" lang="zh-CN" sz="2800" spc="-1" strike="noStrike">
                <a:solidFill>
                  <a:srgbClr val="3399ff"/>
                </a:solidFill>
                <a:latin typeface="幼圆"/>
                <a:ea typeface="幼圆"/>
              </a:rPr>
              <a:t>五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47376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隶书"/>
                <a:ea typeface="隶书"/>
              </a:rPr>
              <a:t>再读课文  讨论问题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331280" y="1339560"/>
            <a:ext cx="53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一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钱学森受到哪些阻挠和迫害？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"/>
          <p:cNvPicPr/>
          <p:nvPr/>
        </p:nvPicPr>
        <p:blipFill>
          <a:blip r:embed="rId1"/>
          <a:stretch/>
        </p:blipFill>
        <p:spPr>
          <a:xfrm>
            <a:off x="324000" y="5373720"/>
            <a:ext cx="8642160" cy="1227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幼圆"/>
              </a:rPr>
              <a:t>    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幼圆"/>
              </a:rPr>
              <a:t>(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二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幼圆"/>
              </a:rPr>
              <a:t>)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幼圆"/>
              </a:rPr>
              <a:t>这种迫害，并没有磨掉钱学森夫妇的返回祖国的意志！他们做了那些回国的准备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4000" y="2060280"/>
            <a:ext cx="8540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1 .</a:t>
            </a:r>
            <a:r>
              <a:rPr b="1" i="1" lang="zh-CN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总是摆好三只轻便的小箱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2</a:t>
            </a:r>
            <a:r>
              <a:rPr b="1" i="1" lang="en-US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.</a:t>
            </a:r>
            <a:r>
              <a:rPr b="1" i="1" lang="zh-CN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租房只签一年的合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3</a:t>
            </a:r>
            <a:r>
              <a:rPr b="1" i="1" lang="en-US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.</a:t>
            </a:r>
            <a:r>
              <a:rPr b="1" i="1" lang="zh-CN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五年中搬了五次家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4.</a:t>
            </a:r>
            <a:r>
              <a:rPr b="1" i="1" lang="zh-CN" sz="3600" spc="-1" strike="noStrike">
                <a:solidFill>
                  <a:srgbClr val="3399ff"/>
                </a:solidFill>
                <a:latin typeface="华文新魏"/>
                <a:ea typeface="华文新魏"/>
              </a:rPr>
              <a:t>还教育孩子：他们的祖父和外祖母在想念他们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4643280" y="5013360"/>
            <a:ext cx="30974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回家</a:t>
            </a:r>
            <a:endParaRPr b="0" lang="en-US" sz="4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125360"/>
            <a:ext cx="8137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d7da9"/>
                </a:solidFill>
                <a:latin typeface="幼圆"/>
                <a:ea typeface="幼圆"/>
              </a:rPr>
              <a:t>    </a:t>
            </a:r>
            <a:r>
              <a:rPr b="0" lang="en-US" sz="3200" spc="-1" strike="noStrike">
                <a:solidFill>
                  <a:srgbClr val="cc0066"/>
                </a:solidFill>
                <a:latin typeface="幼圆"/>
                <a:ea typeface="幼圆"/>
              </a:rPr>
              <a:t>(</a:t>
            </a:r>
            <a:r>
              <a:rPr b="0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三</a:t>
            </a:r>
            <a:r>
              <a:rPr b="0" lang="en-US" sz="3200" spc="-1" strike="noStrike">
                <a:solidFill>
                  <a:srgbClr val="cc0066"/>
                </a:solidFill>
                <a:latin typeface="幼圆"/>
                <a:ea typeface="幼圆"/>
              </a:rPr>
              <a:t>) </a:t>
            </a:r>
            <a:r>
              <a:rPr b="1" lang="en-US" sz="3200" spc="-1" strike="noStrike">
                <a:solidFill>
                  <a:srgbClr val="cc0066"/>
                </a:solidFill>
                <a:latin typeface="幼圆"/>
                <a:ea typeface="幼圆"/>
              </a:rPr>
              <a:t>1955</a:t>
            </a:r>
            <a:r>
              <a:rPr b="1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年</a:t>
            </a:r>
            <a:r>
              <a:rPr b="1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6</a:t>
            </a:r>
            <a:r>
              <a:rPr b="1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月</a:t>
            </a:r>
            <a:r>
              <a:rPr b="1" lang="en-US" sz="3200" spc="-1" strike="noStrike">
                <a:solidFill>
                  <a:srgbClr val="cc0066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幼圆"/>
                <a:ea typeface="幼圆"/>
              </a:rPr>
              <a:t>饱受折磨的钱学森为了早日回到祖国，写信给人大常委会，向祖国母亲发出求救的呼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幼圆"/>
              </a:rPr>
              <a:t>         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幼圆"/>
              </a:rPr>
              <a:t>从钱学森向祖国的人大常委会求救这一举动，你能揣摩他心里想的是什么吗？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WordArt 7"/>
          <p:cNvSpPr txBox="1"/>
          <p:nvPr/>
        </p:nvSpPr>
        <p:spPr>
          <a:xfrm>
            <a:off x="755640" y="549360"/>
            <a:ext cx="266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叶落归根</a:t>
            </a:r>
            <a:endParaRPr b="0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39640" y="3645000"/>
            <a:ext cx="824256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ccecff"/>
                </a:solidFill>
                <a:latin typeface="Arial"/>
                <a:ea typeface="隶书"/>
              </a:rPr>
              <a:t>      </a:t>
            </a:r>
            <a:r>
              <a:rPr b="0" i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对新中国的高度信任和报效祖国的急切心情</a:t>
            </a:r>
            <a:r>
              <a:rPr b="1" i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景色1"/>
          <p:cNvPicPr/>
          <p:nvPr/>
        </p:nvPicPr>
        <p:blipFill>
          <a:blip r:embed="rId1"/>
          <a:stretch/>
        </p:blipFill>
        <p:spPr>
          <a:xfrm>
            <a:off x="4500720" y="4149720"/>
            <a:ext cx="4012920" cy="2160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394920" y="1988640"/>
            <a:ext cx="8467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他在写给父亲的信中，不止一次地发出“旅客生涯作到何时”的感叹。他告诉父亲，他不止一次梦见上海，梦见那所伴他度过童年时代的房子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95280" y="6897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幼圆"/>
                <a:ea typeface="幼圆"/>
              </a:rPr>
              <a:t>三读课文  品味语言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4360" y="4851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i="1" lang="zh-CN" sz="3200" spc="-1" strike="noStrike">
                <a:solidFill>
                  <a:srgbClr val="0033cc"/>
                </a:solidFill>
                <a:latin typeface="Arial"/>
                <a:ea typeface="方正姚体"/>
              </a:rPr>
              <a:t>两个“不止一次”起了怎样的表达作用？你能用贴切的成语来形容钱学森流露的眷恋情思吗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04560" y="2420640"/>
            <a:ext cx="883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66"/>
                </a:solidFill>
                <a:latin typeface="Arial"/>
                <a:ea typeface="隶书"/>
              </a:rPr>
              <a:t> </a:t>
            </a:r>
            <a:r>
              <a:rPr b="1" i="1" lang="zh-CN" sz="4800" spc="-1" strike="noStrike">
                <a:solidFill>
                  <a:srgbClr val="7d7da9"/>
                </a:solidFill>
                <a:latin typeface="Arial"/>
                <a:ea typeface="隶书"/>
              </a:rPr>
              <a:t>表现对祖国魂牵梦绕的眷恋</a:t>
            </a:r>
            <a:r>
              <a:rPr b="1" i="1" lang="en-US" sz="4800" spc="-1" strike="noStrike">
                <a:solidFill>
                  <a:srgbClr val="7d7da9"/>
                </a:solidFill>
                <a:latin typeface="Arial"/>
                <a:ea typeface="隶书"/>
              </a:rPr>
              <a:t>!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7572"/>
                </a:solidFill>
                <a:latin typeface="Arial"/>
                <a:ea typeface="隶书"/>
              </a:rPr>
              <a:t>    </a:t>
            </a:r>
            <a:r>
              <a:rPr b="1" i="1" lang="zh-CN" sz="4800" spc="-1" strike="noStrike">
                <a:solidFill>
                  <a:srgbClr val="007572"/>
                </a:solidFill>
                <a:latin typeface="Arial"/>
                <a:ea typeface="隶书"/>
              </a:rPr>
              <a:t>第一个是对祖国的眷恋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7572"/>
                </a:solidFill>
                <a:latin typeface="Arial"/>
                <a:ea typeface="隶书"/>
              </a:rPr>
              <a:t>    </a:t>
            </a:r>
            <a:r>
              <a:rPr b="1" i="1" lang="zh-CN" sz="4800" spc="-1" strike="noStrike">
                <a:solidFill>
                  <a:srgbClr val="007572"/>
                </a:solidFill>
                <a:latin typeface="Arial"/>
                <a:ea typeface="隶书"/>
              </a:rPr>
              <a:t>第二个是对故土的眷恋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39640" y="476280"/>
            <a:ext cx="3384720" cy="1655640"/>
          </a:xfrm>
          <a:prstGeom prst="rightArrow">
            <a:avLst>
              <a:gd name="adj1" fmla="val 50000"/>
              <a:gd name="adj2" fmla="val 51099"/>
            </a:avLst>
          </a:prstGeom>
          <a:solidFill>
            <a:srgbClr val="ff99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幼圆"/>
              </a:rPr>
              <a:t>提 示：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2" name="Picture 7" descr="DSC01005"/>
          <p:cNvPicPr/>
          <p:nvPr/>
        </p:nvPicPr>
        <p:blipFill>
          <a:blip r:embed="rId1"/>
          <a:stretch/>
        </p:blipFill>
        <p:spPr>
          <a:xfrm>
            <a:off x="684360" y="5084640"/>
            <a:ext cx="748800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8000" y="1123920"/>
            <a:ext cx="8540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幼圆"/>
              </a:rPr>
              <a:t>（二）</a:t>
            </a:r>
            <a:r>
              <a:rPr b="1" lang="zh-CN" sz="3600" spc="-1" strike="noStrike">
                <a:solidFill>
                  <a:srgbClr val="007572"/>
                </a:solidFill>
                <a:latin typeface="幼圆"/>
                <a:ea typeface="幼圆"/>
              </a:rPr>
              <a:t>这位次长大为震惊。他认为：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007572"/>
                </a:solidFill>
                <a:latin typeface="幼圆"/>
                <a:ea typeface="幼圆"/>
              </a:rPr>
              <a:t>钱学森无论在哪里都抵得上五个师。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007572"/>
                </a:solidFill>
                <a:latin typeface="幼圆"/>
                <a:ea typeface="幼圆"/>
              </a:rPr>
              <a:t>他说：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007572"/>
                </a:solidFill>
                <a:latin typeface="幼圆"/>
                <a:ea typeface="幼圆"/>
              </a:rPr>
              <a:t>我宁肯枪毙他，也不愿放他回中国。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007572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33cc"/>
                </a:solidFill>
                <a:latin typeface="Arial"/>
                <a:ea typeface="方正姚体"/>
              </a:rPr>
              <a:t>　　　写美国海军次长的态度对文章内容和感情的表达起着什么作用？如果把引用的话改成客观叙述，你认为好不好？为什么？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4" name="Picture 4" descr="DSC01155"/>
          <p:cNvPicPr/>
          <p:nvPr/>
        </p:nvPicPr>
        <p:blipFill>
          <a:blip r:embed="rId1"/>
          <a:stretch/>
        </p:blipFill>
        <p:spPr>
          <a:xfrm>
            <a:off x="4284720" y="4581360"/>
            <a:ext cx="3887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6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4000" y="1557360"/>
            <a:ext cx="849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572"/>
                </a:solidFill>
                <a:latin typeface="隶书"/>
                <a:ea typeface="隶书"/>
              </a:rPr>
              <a:t>     </a:t>
            </a:r>
            <a:r>
              <a:rPr b="1" i="1" lang="zh-CN" sz="4000" spc="-1" strike="noStrike">
                <a:solidFill>
                  <a:srgbClr val="007572"/>
                </a:solidFill>
                <a:latin typeface="隶书"/>
                <a:ea typeface="隶书"/>
              </a:rPr>
              <a:t>美国海军次长的态度不仅说明了钱学森的价值，更预示了钱学森回国的道路将艰难而曲折，会受到美国当局的重重阻挠，同时，也反衬了钱学森眷念祖国的深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7572"/>
                </a:solidFill>
                <a:latin typeface="隶书"/>
                <a:ea typeface="隶书"/>
              </a:rPr>
              <a:t>如果改为客观叙述不好。那样不能形象地说明钱学森在美国军界首脑人物心目中的重要地位，也不如引用原话显得真实可信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539640" y="260280"/>
            <a:ext cx="3168720" cy="1656000"/>
          </a:xfrm>
          <a:prstGeom prst="rightArrow">
            <a:avLst>
              <a:gd name="adj1" fmla="val 50000"/>
              <a:gd name="adj2" fmla="val 47828"/>
            </a:avLst>
          </a:prstGeom>
          <a:solidFill>
            <a:srgbClr val="ff99cc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提示：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4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3"/>
          <p:cNvGrpSpPr/>
          <p:nvPr/>
        </p:nvGrpSpPr>
        <p:grpSpPr>
          <a:xfrm>
            <a:off x="0" y="907920"/>
            <a:ext cx="9009000" cy="1052640"/>
            <a:chOff x="0" y="907920"/>
            <a:chExt cx="9009000" cy="1052640"/>
          </a:xfrm>
        </p:grpSpPr>
        <p:grpSp>
          <p:nvGrpSpPr>
            <p:cNvPr id="91" name="Group 4"/>
            <p:cNvGrpSpPr/>
            <p:nvPr/>
          </p:nvGrpSpPr>
          <p:grpSpPr>
            <a:xfrm>
              <a:off x="290520" y="1015920"/>
              <a:ext cx="711360" cy="474840"/>
              <a:chOff x="290520" y="1015920"/>
              <a:chExt cx="711360" cy="474840"/>
            </a:xfrm>
          </p:grpSpPr>
          <p:sp>
            <p:nvSpPr>
              <p:cNvPr id="92" name="Rectangle 5"/>
              <p:cNvSpPr/>
              <p:nvPr/>
            </p:nvSpPr>
            <p:spPr>
              <a:xfrm>
                <a:off x="290520" y="1015920"/>
                <a:ext cx="437400" cy="474840"/>
              </a:xfrm>
              <a:prstGeom prst="rect">
                <a:avLst/>
              </a:prstGeom>
              <a:solidFill>
                <a:srgbClr val="7d7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3" name="Rectangle 6"/>
              <p:cNvSpPr/>
              <p:nvPr/>
            </p:nvSpPr>
            <p:spPr>
              <a:xfrm>
                <a:off x="673560" y="101592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7d7da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7"/>
            <p:cNvGrpSpPr/>
            <p:nvPr/>
          </p:nvGrpSpPr>
          <p:grpSpPr>
            <a:xfrm>
              <a:off x="414360" y="1438200"/>
              <a:ext cx="737640" cy="474840"/>
              <a:chOff x="414360" y="1438200"/>
              <a:chExt cx="737640" cy="474840"/>
            </a:xfrm>
          </p:grpSpPr>
          <p:sp>
            <p:nvSpPr>
              <p:cNvPr id="95" name="Rectangle 8"/>
              <p:cNvSpPr/>
              <p:nvPr/>
            </p:nvSpPr>
            <p:spPr>
              <a:xfrm>
                <a:off x="414360" y="1438200"/>
                <a:ext cx="421560" cy="4748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" name="Rectangle 9"/>
              <p:cNvSpPr/>
              <p:nvPr/>
            </p:nvSpPr>
            <p:spPr>
              <a:xfrm>
                <a:off x="783000" y="143820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7" name="Rectangle 10"/>
            <p:cNvSpPr/>
            <p:nvPr/>
          </p:nvSpPr>
          <p:spPr>
            <a:xfrm>
              <a:off x="0" y="136512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635040" y="907920"/>
              <a:ext cx="31680" cy="10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 flipV="1">
              <a:off x="316080" y="173016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0" name="Rectangle 13"/>
          <p:cNvSpPr/>
          <p:nvPr/>
        </p:nvSpPr>
        <p:spPr>
          <a:xfrm>
            <a:off x="395280" y="2492280"/>
            <a:ext cx="851364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正音练习：给加底线的词注音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眷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恋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）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诞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生（  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萌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发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( 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诬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蔑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  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募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集（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）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签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定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(    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0760" y="717120"/>
            <a:ext cx="361296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预习课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4753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位卑未敢忘忧国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8920" y="1844640"/>
            <a:ext cx="8541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一个至高无上的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爱国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面前，我们不得不低下自己一向高昂的头，捂住胸口，静静地忧思：从鲁迅彷徨呐喊到现在为止，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阿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Q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正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今天仍具有现实的社会意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们改变自己的麻木冷漠的看客角色！柏扬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丑陋的中国人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似乎还是没有让国人感到自己就是那个丑陋的中国人，王小波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沉默的大多数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依然还是大多数人仍在沉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  陆游在很多年前就说过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位卑未敢忘忧国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没有人可以改变那种与生俱来的炎黄子孙的血种！我们无法选择父母和生死，同样你我们也无法选择出生的国家，人跟国家之间的联系是命定的。我们需要坐标来确定我们的存在，疼，那么我们还活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9" name="Picture 4" descr="956"/>
          <p:cNvPicPr/>
          <p:nvPr/>
        </p:nvPicPr>
        <p:blipFill>
          <a:blip r:embed="rId1"/>
          <a:stretch/>
        </p:blipFill>
        <p:spPr>
          <a:xfrm>
            <a:off x="5796000" y="549360"/>
            <a:ext cx="2521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24000" y="76464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爱国，其实很简单，把国家当成是自己的，把那种爱国的思想完全渗入在自己的点滴行动之中，融化在自己所做的每一件事情当中，从我做起，从现在做起，从身边的小事做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　　   爱国意味着衣着整洁、谈吐文雅、举止端正；意味着尊老爱幼、谦和有礼、热诚助人；意味着你要经常面带微笑，让别人和你一起感受到：噢，生活，是多么美好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　　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爱国意味着少发牢骚，多点幽默感；每天多认识一个汉字，多背诵一首古诗词，多欣赏一曲中国民歌，更多地了解祖国丰富璀璨的文化；意味着经常读报，天天看新闻联播，时时关心着祖国的一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1" name="Picture 4" descr="770"/>
          <p:cNvPicPr/>
          <p:nvPr/>
        </p:nvPicPr>
        <p:blipFill>
          <a:blip r:embed="rId1"/>
          <a:stretch/>
        </p:blipFill>
        <p:spPr>
          <a:xfrm flipH="1" rot="10800000">
            <a:off x="5219640" y="5734080"/>
            <a:ext cx="2808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9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50920" y="836640"/>
            <a:ext cx="854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爱国意味着当有人向你求救时，你绝不会使他失望，而是使他觉得他没有找错人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    爱国意味着你必须时时忍受着克服弱点的痛苦，把自己变成一个受人欢迎和令人尊敬的中国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如果人人皆如此，那么中国将拥有世界上最伟大的进步和文明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    爱国需要做小事，但即使对小事来说，也应该少说多做。说得够多了，还是让我们去做吧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    现在让我们一起朗诵著名诗人艾青先生的那首深情的诗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爱这土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“为什么我的眼里常含着泪水？因为我对这土地爱得深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……”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1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11280" y="2276640"/>
            <a:ext cx="7993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d7da9"/>
                </a:solidFill>
                <a:latin typeface="Tahoma"/>
                <a:ea typeface="黑体"/>
              </a:rPr>
              <a:t>１．课外继续搜集有关爱国主义的诗文和故事；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d7da9"/>
                </a:solidFill>
                <a:latin typeface="Tahoma"/>
                <a:ea typeface="黑体"/>
              </a:rPr>
              <a:t>２．</a:t>
            </a:r>
            <a:r>
              <a:rPr b="1" lang="zh-CN" sz="4000" spc="-1" strike="noStrike">
                <a:solidFill>
                  <a:srgbClr val="7d7da9"/>
                </a:solidFill>
                <a:latin typeface="Times New Roman"/>
              </a:rPr>
              <a:t>以“如果我出国留学了”为题</a:t>
            </a:r>
            <a:r>
              <a:rPr b="1" lang="zh-CN" sz="4000" spc="-1" strike="noStrike">
                <a:solidFill>
                  <a:srgbClr val="7d7da9"/>
                </a:solidFill>
                <a:latin typeface="Tahoma"/>
                <a:ea typeface="黑体"/>
              </a:rPr>
              <a:t>完成一篇以爱国情怀为主题的文章，在班级交流。 </a:t>
            </a:r>
            <a:r>
              <a:rPr b="0" lang="zh-CN" sz="4000" spc="-1" strike="noStrike">
                <a:solidFill>
                  <a:srgbClr val="7d7da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0" y="981000"/>
            <a:ext cx="9009000" cy="1052640"/>
            <a:chOff x="0" y="981000"/>
            <a:chExt cx="9009000" cy="1052640"/>
          </a:xfrm>
        </p:grpSpPr>
        <p:grpSp>
          <p:nvGrpSpPr>
            <p:cNvPr id="195" name="Group 4"/>
            <p:cNvGrpSpPr/>
            <p:nvPr/>
          </p:nvGrpSpPr>
          <p:grpSpPr>
            <a:xfrm>
              <a:off x="290520" y="1089000"/>
              <a:ext cx="711360" cy="474840"/>
              <a:chOff x="290520" y="1089000"/>
              <a:chExt cx="711360" cy="474840"/>
            </a:xfrm>
          </p:grpSpPr>
          <p:sp>
            <p:nvSpPr>
              <p:cNvPr id="196" name="Rectangle 5"/>
              <p:cNvSpPr/>
              <p:nvPr/>
            </p:nvSpPr>
            <p:spPr>
              <a:xfrm>
                <a:off x="290520" y="1089000"/>
                <a:ext cx="437400" cy="474840"/>
              </a:xfrm>
              <a:prstGeom prst="rect">
                <a:avLst/>
              </a:prstGeom>
              <a:solidFill>
                <a:srgbClr val="7d7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97" name="Rectangle 6"/>
              <p:cNvSpPr/>
              <p:nvPr/>
            </p:nvSpPr>
            <p:spPr>
              <a:xfrm>
                <a:off x="673560" y="1089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7d7da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7"/>
            <p:cNvGrpSpPr/>
            <p:nvPr/>
          </p:nvGrpSpPr>
          <p:grpSpPr>
            <a:xfrm>
              <a:off x="414360" y="1511280"/>
              <a:ext cx="737640" cy="474840"/>
              <a:chOff x="414360" y="1511280"/>
              <a:chExt cx="737640" cy="474840"/>
            </a:xfrm>
          </p:grpSpPr>
          <p:sp>
            <p:nvSpPr>
              <p:cNvPr id="199" name="Rectangle 8"/>
              <p:cNvSpPr/>
              <p:nvPr/>
            </p:nvSpPr>
            <p:spPr>
              <a:xfrm>
                <a:off x="414360" y="1511280"/>
                <a:ext cx="421560" cy="4748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00" name="Rectangle 9"/>
              <p:cNvSpPr/>
              <p:nvPr/>
            </p:nvSpPr>
            <p:spPr>
              <a:xfrm>
                <a:off x="783000" y="1511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01" name="Rectangle 10"/>
            <p:cNvSpPr/>
            <p:nvPr/>
          </p:nvSpPr>
          <p:spPr>
            <a:xfrm>
              <a:off x="0" y="1438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2" name="Rectangle 11"/>
            <p:cNvSpPr/>
            <p:nvPr/>
          </p:nvSpPr>
          <p:spPr>
            <a:xfrm>
              <a:off x="635040" y="981000"/>
              <a:ext cx="31680" cy="10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3" name="Rectangle 12"/>
            <p:cNvSpPr/>
            <p:nvPr/>
          </p:nvSpPr>
          <p:spPr>
            <a:xfrm flipV="1">
              <a:off x="316080" y="1803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93280" y="620640"/>
            <a:ext cx="397836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幼圆"/>
              </a:rPr>
              <a:t>作业布置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460836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幼圆"/>
                <a:ea typeface="幼圆"/>
              </a:rPr>
              <a:t>高度的赞誉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64000" y="2923920"/>
            <a:ext cx="5176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我国航天科技事业的先驱和杰出代表，被誉为“中国航天之父”和“火箭之王”。</a:t>
            </a: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16000" y="5589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钱 学 森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6406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两弹一星功勋奖章”获得者之一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7da9"/>
                </a:solidFill>
                <a:latin typeface="Arial"/>
              </a:rPr>
              <a:t>他直接领导和参与了我国的导弹、原子弹、人造卫星的研制工作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Picture 1028" descr="1"/>
          <p:cNvPicPr/>
          <p:nvPr/>
        </p:nvPicPr>
        <p:blipFill>
          <a:blip r:embed="rId1"/>
          <a:stretch/>
        </p:blipFill>
        <p:spPr>
          <a:xfrm>
            <a:off x="826920" y="3141720"/>
            <a:ext cx="3888000" cy="263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29" descr="1"/>
          <p:cNvPicPr/>
          <p:nvPr/>
        </p:nvPicPr>
        <p:blipFill>
          <a:blip r:embed="rId2"/>
          <a:stretch/>
        </p:blipFill>
        <p:spPr>
          <a:xfrm>
            <a:off x="5292720" y="2997360"/>
            <a:ext cx="2419200" cy="2950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30"/>
          <p:cNvSpPr/>
          <p:nvPr/>
        </p:nvSpPr>
        <p:spPr>
          <a:xfrm>
            <a:off x="7377480" y="2924280"/>
            <a:ext cx="12776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获“国家杰出贡献科学家”荣誉称号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1031"/>
          <p:cNvSpPr/>
          <p:nvPr/>
        </p:nvSpPr>
        <p:spPr>
          <a:xfrm>
            <a:off x="684360" y="6021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Times New Roman"/>
              </a:rPr>
              <a:t>钱学森和妻子蒋英在授予荣誉称号仪式上。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6"/>
          <p:cNvPicPr/>
          <p:nvPr/>
        </p:nvPicPr>
        <p:blipFill>
          <a:blip r:embed="rId1"/>
          <a:stretch/>
        </p:blipFill>
        <p:spPr>
          <a:xfrm>
            <a:off x="826920" y="0"/>
            <a:ext cx="7925040" cy="949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24000" y="2421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请你用一两句话概括地说出你对钱学森的印象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24000" y="4221000"/>
            <a:ext cx="3889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2000">
                <a:solidFill>
                  <a:srgbClr val="000099"/>
                </a:solidFill>
                <a:latin typeface="华文行楷"/>
                <a:ea typeface="华文行楷"/>
              </a:rPr>
              <a:t>对祖国无限热爱，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2000">
                <a:solidFill>
                  <a:srgbClr val="000099"/>
                </a:solidFill>
                <a:latin typeface="华文行楷"/>
                <a:ea typeface="华文行楷"/>
              </a:rPr>
              <a:t>对祖国贡献巨大。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6769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感知课文  梳理结构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20640"/>
            <a:ext cx="765504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幼圆"/>
              </a:rPr>
              <a:t>一 拜师求学  成绩优异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6" name="Picture 4" descr="1"/>
          <p:cNvPicPr/>
          <p:nvPr/>
        </p:nvPicPr>
        <p:blipFill>
          <a:blip r:embed="rId1"/>
          <a:stretch/>
        </p:blipFill>
        <p:spPr>
          <a:xfrm>
            <a:off x="826920" y="2565360"/>
            <a:ext cx="3816360" cy="2586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900000" y="530064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Times New Roman"/>
              </a:rPr>
              <a:t>钱学森的老师——著名物理学家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冯 </a:t>
            </a:r>
            <a:r>
              <a:rPr b="1" lang="zh-CN" sz="2000" spc="-1" strike="noStrike">
                <a:solidFill>
                  <a:srgbClr val="cc0066"/>
                </a:solidFill>
                <a:latin typeface="Times New Roman"/>
              </a:rPr>
              <a:t>·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卡 门   教 授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8" descr="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2349360"/>
            <a:ext cx="1967040" cy="2735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5580000" y="5299560"/>
            <a:ext cx="25210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1936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获博士学位 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（航空和数学）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 rot="5400000">
            <a:off x="4117680" y="4819680"/>
            <a:ext cx="22291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拜师求学 成绩优异</a:t>
            </a:r>
            <a:endParaRPr b="0" i="1" lang="en-US" sz="4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549360"/>
            <a:ext cx="571032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幼圆"/>
                <a:ea typeface="幼圆"/>
              </a:rPr>
              <a:t>二 创业辉煌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5280" y="2133360"/>
            <a:ext cx="81550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做出了巨大贡献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无法估价的贡献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一颗明亮的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终身教授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火箭技术的先驱和工程控制论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zh-CN" sz="4000" spc="-1" strike="noStrike">
                <a:solidFill>
                  <a:srgbClr val="0066ff"/>
                </a:solidFill>
                <a:latin typeface="Arial"/>
              </a:rPr>
              <a:t>创始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WordArt 5"/>
          <p:cNvSpPr txBox="1"/>
          <p:nvPr/>
        </p:nvSpPr>
        <p:spPr>
          <a:xfrm rot="5400000">
            <a:off x="6276960" y="3019320"/>
            <a:ext cx="26636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创业辉煌</a:t>
            </a:r>
            <a:endParaRPr b="0" lang="en-US" sz="4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48466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三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幼圆"/>
              </a:rPr>
              <a:t>决心回国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92000" y="2276640"/>
            <a:ext cx="4824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成绩辉煌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待遇丰厚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毅然决心回国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3995640" y="4797360"/>
            <a:ext cx="5400720" cy="1871640"/>
          </a:xfrm>
          <a:prstGeom prst="irregularSeal1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ccecff"/>
                </a:solidFill>
                <a:latin typeface="Arial"/>
                <a:ea typeface="幼圆"/>
              </a:rPr>
              <a:t>回 国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91920"/>
            <a:ext cx="599904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66"/>
                </a:solidFill>
                <a:latin typeface="Arial"/>
                <a:ea typeface="幼圆"/>
              </a:rPr>
              <a:t>四、饱受折磨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773360"/>
            <a:ext cx="707544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c0c0"/>
                </a:solidFill>
                <a:latin typeface="Arial"/>
              </a:rPr>
              <a:t>    </a:t>
            </a:r>
            <a:r>
              <a:rPr b="1" i="1" lang="zh-CN" sz="4800" spc="-1" strike="noStrike">
                <a:solidFill>
                  <a:srgbClr val="0033cc"/>
                </a:solidFill>
                <a:latin typeface="Arial"/>
              </a:rPr>
              <a:t>美国想方设法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zh-CN" sz="4800" spc="-1" strike="noStrike">
                <a:solidFill>
                  <a:srgbClr val="0033cc"/>
                </a:solidFill>
                <a:latin typeface="Arial"/>
              </a:rPr>
              <a:t>阻止钱学森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回国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WordArt 1030"/>
          <p:cNvSpPr txBox="1"/>
          <p:nvPr/>
        </p:nvSpPr>
        <p:spPr>
          <a:xfrm rot="5400000">
            <a:off x="6370200" y="4437000"/>
            <a:ext cx="2736720" cy="28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不许回国</a:t>
            </a:r>
            <a:endParaRPr b="0" i="1" lang="en-US" sz="2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7:51:35Z</dcterms:created>
  <dc:creator/>
  <dc:description>第一PPT模板网-WWW.1PPT.COM
</dc:description>
  <dc:language>en-US</dc:language>
  <cp:lastModifiedBy>Administrator</cp:lastModifiedBy>
  <dcterms:modified xsi:type="dcterms:W3CDTF">2017-08-01T02:19:44Z</dcterms:modified>
  <cp:revision>118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