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2B2-8174-45B9-854D-F41AF7A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B43-FC0E-474B-911D-A5D95B2E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A81-86E5-42E6-9BFB-B64A23A3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E1E-807E-47C2-B513-A1F78A16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E603-655B-4002-A88C-F661124B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E950-30DE-4C0F-AD17-2C79D2B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64F4-7532-48B9-BFC3-8941F6B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AC06-00C1-40DB-90B2-BAE8060B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312A-7095-4524-BCE2-CECF306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D393-127F-4BBB-B940-9BA0F67E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7CB-929B-4CAA-A0B1-6977755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F66-B847-4CCB-9A2C-8C06A153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F78E-F1A2-4F0F-857D-74ED204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9C68-57F0-4002-9728-84AAB55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2C1-9B97-4344-93C7-9BB336D7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B27-B911-4C31-86A2-E6398221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0E0C-FAA2-434B-9A28-629D96C6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F93-E5B9-49F9-9B23-F27F78C0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206-3DD1-4C61-94AF-5ADA6E99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A06-3320-49D6-92E1-E4C581F5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914-5901-45D5-AC83-D38CD60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332-D28B-4482-9C14-421EF96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D2B-0DBC-4573-A989-00A1DEC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64B-2A64-437F-BA11-C31524B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915-24F1-41C9-8C64-E2EAD82D782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720"/>
            <a:ext cx="3279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5D92-4962-4BC6-B09E-DFC1BB284D0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01/000001.jpg" TargetMode="External"/><Relationship Id="rId2" Type="http://schemas.openxmlformats.org/officeDocument/2006/relationships/hyperlink" Target="http://www.ssreader.com/images/ys/qxssg/zp01/00000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17/000001.jpg" TargetMode="External"/><Relationship Id="rId2" Type="http://schemas.openxmlformats.org/officeDocument/2006/relationships/hyperlink" Target="http://www.ssreader.com/images/ys/qxssg/zp17/000001.jpg" TargetMode="External"/><Relationship Id="rId3" Type="http://schemas.openxmlformats.org/officeDocument/2006/relationships/hyperlink" Target="http://www.ssreader.com/images/ys/qxssg/zp17/00000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04/000001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ssreader.com/images/ys/qxssg/zp02/000001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03/0000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15/0000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sreader.com/images/ys/qxssg/zp07/0000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姚体"/>
              </a:rPr>
              <a:t>始终眷恋着祖国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1009800" y="2560680"/>
            <a:ext cx="7121520" cy="2460240"/>
            <a:chOff x="1009800" y="2560680"/>
            <a:chExt cx="7121520" cy="2460240"/>
          </a:xfrm>
        </p:grpSpPr>
        <p:sp>
          <p:nvSpPr>
            <p:cNvPr id="96" name="Rectangle 8"/>
            <p:cNvSpPr/>
            <p:nvPr/>
          </p:nvSpPr>
          <p:spPr>
            <a:xfrm>
              <a:off x="1009800" y="2560680"/>
              <a:ext cx="7121520" cy="2460240"/>
            </a:xfrm>
            <a:prstGeom prst="rect">
              <a:avLst/>
            </a:prstGeom>
            <a:solidFill>
              <a:srgbClr val="fd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7" name="Group 7"/>
            <p:cNvGrpSpPr/>
            <p:nvPr/>
          </p:nvGrpSpPr>
          <p:grpSpPr>
            <a:xfrm>
              <a:off x="1009800" y="2560680"/>
              <a:ext cx="7121520" cy="2459880"/>
              <a:chOff x="1009800" y="2560680"/>
              <a:chExt cx="7121520" cy="245988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1009800" y="2560680"/>
                <a:ext cx="7121520" cy="36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1009800" y="2560680"/>
                <a:ext cx="7121520" cy="245988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666699"/>
                    </a:solidFill>
                    <a:uFillTx/>
                    <a:latin typeface="Arial"/>
                    <a:hlinkClick r:id="rId1"/>
                  </a:rPr>
                  <a:t>  </a:t>
                </a:r>
                <a:endParaRPr b="0" lang="en-US" sz="9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0" name="Picture 6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92320" y="2435400"/>
            <a:ext cx="2889360" cy="3582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965520" y="2593800"/>
            <a:ext cx="16426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钱    学     森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922360" y="256536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中国人民的骄傲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提示：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表现对祖国魂牵梦绕的眷恋！第一个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止一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是对祖国的眷恋；第二个是对故土的眷恋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成语：魂牵梦绕、望眼欲穿、归心似箭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三、饱受折磨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想方设法阻止钱回国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位次长大为震惊。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认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学森无论在哪里都抵得上五个师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宁肯枪毙他，也不愿放他回中国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美国海军次长的态度对文章内容和感情的表达起着什么作用？如果把引用的话改成客观叙述，你认为好不好？为什么？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提示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美国海军次长的态度不仅说明了钱学森的价值，更预示了钱学森回国的道路将艰难而曲折，会受到美国当局的重重阻挠，同时，也反衬了钱学森眷念祖国的深情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改为客观叙述不好。那样不能形象地说明钱学森在美国军界首脑人物心目中的重要地位，也不如引用原话显得真实可信。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钱学森受到哪些阻挠和迫害？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美国移民局通知他，不许离开美国， 并以判刑和罚款加以恐吓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被联邦调查局非法逮捕，关押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美移民局非法限制钱的自由，要他一个月到移民局报到一次，并不准离开洛杉矶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处在与世隔绝的境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年的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种迫害，并没有磨掉钱学森夫妇的返回祖国的意志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们做了那些回国的准备？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总是摆好三只轻便的小箱子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租房只签一年的合同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、五年中搬了五次家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还教育孩子：他们的祖父和外祖母在想念他们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1955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月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饱受折磨的钱学森为了早日回到祖国，写信给人大常委会，向祖国母亲发出求救的呼声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从钱学森向祖国的人大常委会求救这一举动，你能揣摩他心里想的是什么吗？ 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提示：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Arial"/>
              </a:rPr>
              <a:t>对新中国的高度信任和报效祖国的急切心情。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胜利归来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1011240" y="2664000"/>
            <a:ext cx="7121520" cy="1509480"/>
            <a:chOff x="1011240" y="2664000"/>
            <a:chExt cx="7121520" cy="1509480"/>
          </a:xfrm>
        </p:grpSpPr>
        <p:sp>
          <p:nvSpPr>
            <p:cNvPr id="145" name="Rectangle 8"/>
            <p:cNvSpPr/>
            <p:nvPr/>
          </p:nvSpPr>
          <p:spPr>
            <a:xfrm>
              <a:off x="1011240" y="2664000"/>
              <a:ext cx="7121520" cy="1509480"/>
            </a:xfrm>
            <a:prstGeom prst="rect">
              <a:avLst/>
            </a:prstGeom>
            <a:solidFill>
              <a:srgbClr val="fd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6" name="Group 7"/>
            <p:cNvGrpSpPr/>
            <p:nvPr/>
          </p:nvGrpSpPr>
          <p:grpSpPr>
            <a:xfrm>
              <a:off x="1011240" y="2664000"/>
              <a:ext cx="7121520" cy="1509480"/>
              <a:chOff x="1011240" y="2664000"/>
              <a:chExt cx="7121520" cy="1509480"/>
            </a:xfrm>
          </p:grpSpPr>
          <p:sp>
            <p:nvSpPr>
              <p:cNvPr id="147" name="Rectangle 4"/>
              <p:cNvSpPr/>
              <p:nvPr/>
            </p:nvSpPr>
            <p:spPr>
              <a:xfrm>
                <a:off x="1011240" y="2664000"/>
                <a:ext cx="7121520" cy="36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Rectangle 5"/>
              <p:cNvSpPr/>
              <p:nvPr/>
            </p:nvSpPr>
            <p:spPr>
              <a:xfrm>
                <a:off x="1011240" y="2664000"/>
                <a:ext cx="7121520" cy="1509480"/>
              </a:xfrm>
              <a:prstGeom prst="rect">
                <a:avLst/>
              </a:prstGeom>
              <a:solidFill>
                <a:srgbClr val="fd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666699"/>
                    </a:solidFill>
                    <a:uFillTx/>
                    <a:latin typeface="Arial"/>
                    <a:hlinkClick r:id="rId2"/>
                  </a:rPr>
                  <a:t>  </a:t>
                </a:r>
                <a:r>
                  <a:rPr b="0" lang="zh-CN" sz="9300" spc="-1" strike="noStrike">
                    <a:solidFill>
                      <a:srgbClr val="003366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3366"/>
                    </a:solidFill>
                    <a:latin typeface="Times New Roman"/>
                  </a:rPr>
                  <a:t>                                        </a:t>
                </a:r>
                <a:endParaRPr b="0" lang="en-US" sz="9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9" name="Picture 6" descr="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3068640"/>
            <a:ext cx="2819520" cy="3214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45561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191120" y="28954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1955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年钱学森一家乘克莱夫兰总统号轮船回国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启发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世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代，海外学子不顾美、英等国政府的阻挠政策，义无反顾地掀起了回归新中国的浪潮；今天又有许多海外学子纷纷归来报效祖国。你知道哪些，介绍给同学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明确：例如李四光、李忠尧、邓稼先、郭永怀等科学家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高度的赞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我国航天科技事业的先驱和杰出代表，被誉为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中国航天之父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和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火箭之王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。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篇人物通讯记述了钱学森在取得学术上的辉煌成就后，毅然放弃国外优裕的工作和生活条件，冲破重重阻力回到祖国的艰苦历程，表现了他眷恋祖国的赤子之心。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篇通讯线索清楚，你知道以什么为线索的吗？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时间为线索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（明线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拜师求学      创业辉煌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2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饱受折磨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华文中宋"/>
              </a:rPr>
              <a:t>胜利归来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暗线：钱学森眷恋祖国的深情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4267080" y="335268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343400" y="4800600"/>
            <a:ext cx="7621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3504960" y="3581280"/>
            <a:ext cx="236196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两弹一星功勋奖章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获得者之一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钱学森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直接领导和参与了我国的导弹、原子弹、人造卫星的研制工作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028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733920"/>
            <a:ext cx="4114800" cy="278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29" descr="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3352680"/>
            <a:ext cx="2716200" cy="3313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30"/>
          <p:cNvSpPr/>
          <p:nvPr/>
        </p:nvSpPr>
        <p:spPr>
          <a:xfrm>
            <a:off x="8232120" y="3352680"/>
            <a:ext cx="911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获“国家杰出贡献科学家”荣誉称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838080" y="32767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钱学森和妻子蒋英在授予荣誉称号仪式上。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江泽民在授奖仪式上致词，高度评价了钱学森对我国科技事业做出的贡献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1028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4640" y="2362320"/>
            <a:ext cx="5599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一、拜师求学，成绩优异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1028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421000"/>
            <a:ext cx="4951440" cy="3443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29"/>
          <p:cNvSpPr/>
          <p:nvPr/>
        </p:nvSpPr>
        <p:spPr>
          <a:xfrm>
            <a:off x="993240" y="2362320"/>
            <a:ext cx="91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钱学森的老师——著名物理学家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7212600" y="2362320"/>
            <a:ext cx="1155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冯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·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卡  门   教   授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得博士学位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航空和数学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位的最高一级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4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2438280"/>
            <a:ext cx="2685960" cy="3733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066680" y="29718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1939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年，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岁时。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二 、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创业辉煌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做出了巨大贡献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无法估价的贡献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一颗明亮的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终身教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火箭技术的先驱和工程控制论的创始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66ff"/>
                </a:solidFill>
                <a:latin typeface="Arial"/>
              </a:rPr>
              <a:t>决心回国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成绩辉煌，待遇丰厚，毅然决心回国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探究 </a:t>
            </a: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读读句子，讨论问题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他在写给父亲的信中，不止一次地发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旅客生涯作到何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感叹。他告诉父亲，他不止一次梦见上海，梦见那所伴他度过童年时代的房子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止一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了怎样的表达作用？你能用贴切的成语来形容钱学森流露的眷恋情思吗？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7:51:35Z</dcterms:created>
  <dc:creator/>
  <dc:description>第一PPT模板网-WWW.1PPT.COM
</dc:description>
  <dc:language>en-US</dc:language>
  <cp:lastModifiedBy>Administrator</cp:lastModifiedBy>
  <dcterms:modified xsi:type="dcterms:W3CDTF">2017-08-01T02:16:10Z</dcterms:modified>
  <cp:revision>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