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47E7-A58B-4A01-9ED4-9E1B686F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CA3-3156-4560-999B-324044E0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324-CCCD-47A6-A6CF-EA7C665C7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51BC-A007-4168-86E3-B1C40CDB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988-2D69-4739-B34D-F0B70CE3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1987-F44A-4500-97A8-0859F5DE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8BF-EB74-43E4-819D-70373328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5CD-0FD6-412E-9E52-36C4C773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8DA-C3D9-404E-8732-21A0A7A9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73F-57B3-4687-83E6-20520164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3F0-53CC-4C89-8EB4-7D28FEF9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968-6F3E-4ED1-A5B1-6EC11EB9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342D-88B7-45E4-9BEA-3955C232CA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16000" y="4365720"/>
            <a:ext cx="7056360" cy="1557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3300"/>
                </a:solidFill>
                <a:latin typeface="Times New Roman"/>
              </a:rPr>
              <a:t>28.</a:t>
            </a:r>
            <a:r>
              <a:rPr b="1" lang="zh-CN" sz="9600" spc="-1" strike="noStrike">
                <a:solidFill>
                  <a:srgbClr val="ff3300"/>
                </a:solidFill>
                <a:latin typeface="Times New Roman"/>
              </a:rPr>
              <a:t>狮子和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9152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4000" y="234936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50920" y="0"/>
            <a:ext cx="88930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6000" y="216000"/>
            <a:ext cx="7391160" cy="5143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56000" y="263700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8360" y="476280"/>
            <a:ext cx="7391520" cy="5143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0000" y="20656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学习目标</a:t>
            </a:r>
            <a:r>
              <a:rPr b="1" lang="en-US" sz="4800" spc="-1" strike="noStrike">
                <a:solidFill>
                  <a:srgbClr val="9933ff"/>
                </a:solidFill>
                <a:latin typeface="Times New Roman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熟读课文，能用自己的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归纳大意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9933ff"/>
                </a:solidFill>
                <a:latin typeface="Times New Roman"/>
              </a:rPr>
              <a:t>明白课文中所蕴含的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141720"/>
            <a:ext cx="424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00000" y="1628640"/>
            <a:ext cx="6985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貌好看不一定是有用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虽然外表不漂亮，却很实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3141720"/>
            <a:ext cx="633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的东西各有优缺点，在不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情况下，优点就可能变成缺点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不能因为有些东西存在某些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而看不见它的优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83664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把课文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陶罐和铁罐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作比较学习，把两篇课文联系起来说说共同之处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2781360"/>
            <a:ext cx="8388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共同点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是两篇课文告诉我们要学会全面地看问题， 正确对待自己和别人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表达方法上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是两篇课文都是通过具体的事例来说明道理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76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身段   抱怨   机灵  犹豫   凶猛   匀称   珊瑚   不禁  噘嘴   皱纹  痛痛快快   精美别致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灰心丧气   没精打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6920" y="836640"/>
            <a:ext cx="605016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读一些寓言故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阅读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同步练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中的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公鸡和母鸡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棵大树死了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爸爸教我动脑筋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等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然后开个故事会，让学生讲寓言故事，再说一说故事所讲的道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rcraft</cp:lastModifiedBy>
  <dcterms:modified xsi:type="dcterms:W3CDTF">2005-12-08T14:54:58Z</dcterms:modified>
  <cp:revision>5</cp:revision>
  <dc:subject/>
  <dc:title>PowerPoint Presentation</dc:title>
</cp:coreProperties>
</file>