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D10-D8D1-4C7F-BD3F-677E9429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6A7-61A8-4BAF-8009-0DC522EB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0BCE-AA7A-462F-917B-4F3F529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37338-9C53-4BDB-8F5A-A69CA746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B33C5-EF3A-4327-BE07-C6C365CD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B4668-2CB6-4BFB-BD69-2E07226D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0C090-69E3-4ED6-B00E-234C22C4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F6409-8066-404F-9A4B-FD6E44A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52B35-0EC3-4D7E-A3AB-F1DF2A6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46AB-3219-4071-9FF4-80588E98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22966-89BC-4DC8-8A93-45E6B874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F8F1E-E28F-4A5A-AE26-4AD21C42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9E9-8A1B-4BBB-B3AC-CBEAF2D2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D5DD4-D422-403D-A27C-4165B6E9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803DB-83D9-4BA8-994B-547CDFD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DE725-60A4-443D-9360-28A997F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1E11-F151-4368-9A81-28883E2A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8D2DD-0D90-45FE-9AFE-A3D325F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32D88-951E-4FBE-918B-97B59DD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61221-A33B-465C-873C-090864D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9D50B-0742-4348-ADAD-85F7746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35B85-0DC9-4A58-A96F-1B87953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F53A7-3DE3-4D0E-8AB4-AD9C85B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AB8-135D-4A38-AA5D-8F7F507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8BF12-02C6-4EC3-815F-4FCC364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4147F-6A03-488A-BBCF-D6C984A4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D988F-64B6-4788-BE7C-45F6714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1BE0-C047-46E4-AC7D-655F4E38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43180-463A-41B2-8C07-A803073E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74AD-8C60-4740-82B3-5D90B509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E722B-163A-4C4D-B9D0-735206B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033C8-8B8F-4253-8760-9899B8B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5B268-EFB4-48A9-9EDB-346E003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A5541-81E7-4A58-A6AE-B1FA6026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9AC0-9C12-4528-917F-EF9004B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55D68-29A6-4AC8-A02B-B879F21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7735-4D12-49E1-9B55-D027A50B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0389A-04F5-4F1D-8260-584A2F1B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DC4-0C8F-4170-B43D-7993F90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25E1-0AEF-4E3D-A4BB-3AFD5E3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B4CF-C365-4DA7-B7C8-7B559F3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82F-F478-46CB-BC95-495D180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F2E6-9612-4881-9E72-5B23A21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3FC-02AA-4451-8B1A-C95162C8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604-C002-48CB-98E3-58D1AD50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4F2-7307-45F9-B009-5728CDA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BAAB-E533-47A9-B90A-75BCCBD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9D3D-8D65-49F4-B257-CC2C40F6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E37E-1E29-4784-9A00-DC04164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9406-8D16-4BEA-9183-D3DD01A8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B20C-E462-41BB-B624-07E978E3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E27A-5D10-46A3-86D4-8885349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1AE7-F9D0-4C23-B5DC-C94F86A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CFE4-D279-4EFA-AB25-B7D4C88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8C6B-766C-4AD4-AF1E-BC1D95C4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3F7-8A52-41B5-88AA-F0F0C300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DACA-5209-414C-B27C-81D74AFE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607F-63A5-45F7-9629-A0588B3F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69BA-0055-45AD-BE73-61B3972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BA08-7714-4F1E-8602-9F48183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5F90-05CC-4580-9F01-E733082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ED80-8000-4199-A6C6-0AAC42ED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DE75-AF97-47C4-A08B-ABE1DCEF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2EE5-8963-4673-B6CB-419C71CA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4366-C592-4A8B-BFB9-EC3B5957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8738-B97A-4341-85D1-5B350CF9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6AD-26A4-4613-A2EB-CF935B9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BBFA-BAAD-4C32-BD5A-907EE1B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6166-5042-4AD2-8F08-D38D34FC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F091-8517-4901-9DE7-41CA4934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612A-25BE-42D2-9D33-52C30981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C381-DE5F-4358-8D37-D8B5883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1AA6-1377-4317-A007-0817786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2F72-EB6B-4496-82B1-93E430B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B3C0-9F56-4EA7-9513-EB765C1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71F9-2F44-4EC0-A7A5-87FD301F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BBE8-3D89-4F5C-9719-980CAF36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572-2BBE-417B-8934-8AE74798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E87C-C4C8-4FDF-8315-C883C73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78BD6-7CB8-4A9A-8AFF-B991BCE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5602-5489-4619-A56F-30D8245A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55C3-9F56-4C7F-A962-D9F7E1F2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3D50-BD90-43CC-B881-8CD0ADC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0E41-7DE9-48A3-9791-35BE004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9B27-D923-4201-A55C-C7E4F3A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1EF4-F1F6-488C-B9EB-8561FCB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BEA1-735A-4131-93B5-64E045D9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51C9-C66C-42CA-82CD-030ADCF4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3C2-8926-400A-AA0E-B14E943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44C8-5A0D-42D1-A1A6-68AD3489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FC07-2FEE-48A8-A889-30E7895A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A778-E2EB-4FCF-A7CC-5E268D1A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9483-0AFD-4B0C-A80D-D1E7994D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2352-BFC0-4581-9201-4A4EC6A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B9EC-C25D-4E34-8428-93A4E201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1442-32BF-4864-89F8-CB9DB3FA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F074-0444-41B1-9E25-327DD9E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F2AF-F01F-4824-B0AD-1692F49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42CA-4D08-4E50-927B-ABF3E00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922-9299-4A75-AE9D-EAFBF5D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F364-B503-4F9C-9F53-6ABAD3D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04B5-F20D-44B3-AA66-CE6F772D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DA10-5BF7-4E19-8082-371E2442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7246-0EE0-4696-ACC0-4B7FD02E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D13A-2E9B-46EB-AA5E-EE0F741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3C3B-AF65-4B8D-BB97-EEAD48E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546B-2636-4255-86ED-778B245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3C3B-718A-4726-B367-EE46FC06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F40A-B077-4003-9559-C824D0D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3352-8D76-4374-A730-DE0DEAB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FE7-6654-49CC-B986-8F9F661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C99F-20B5-4D62-8D4D-C5949F8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7500-D558-4168-B72B-D983B23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F572-E69F-407A-88C6-BEDA41C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6B29B-2CF8-4708-8983-4F73E689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8044-1DE1-432A-9AFD-18B0E8EF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89D3E-FDCE-447F-810E-F070F6DC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0285-F305-4AD8-9147-0ABD1BF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CEB47-4AA5-423F-8A0B-30F4383B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C10F2-7A1B-469E-BD10-0B83D76D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E274-69A3-4B49-B02E-BF273F55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BEF-6D6C-40FE-897D-2267D64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4033-CFD8-47D0-B3E6-BF628A4D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1CDF-4ADA-474F-99D3-95C21DF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7D6D9-0956-43B9-80D6-65DF51A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F3AF-B7CF-4894-87A0-4A92D0B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14E0F-DB94-4FBC-BCF9-87AAB7AA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572A1-DD6C-42B9-9226-6821C080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765F-D856-4484-95CB-26CE2B00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587B0-539F-41CE-9C62-B0B89AFD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7509-8A37-43BD-A8CD-384DFEE3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DB54-6097-44C5-B7D1-C050B47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A4C6-5660-4D79-8333-E39E512B0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D4BD-2A24-4942-BFC0-9B8117777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6A3-503E-4035-9ED8-ED0D5A98F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DD7-6877-4998-870E-F03E06363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1C3-907C-4E1F-94F5-CAC3E2C4A8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A29-5422-4422-B763-D4D5BDF03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B41-12BE-45C4-BD2D-91B0DA3618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246-928F-495C-82FF-B87C02D4F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21E-188B-49FD-B0F8-7C05291F0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394C-2EB2-488D-819B-C5075A6FB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BEF-4265-4E60-BBAE-1FFED6F3B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62,3,&#24187;&#28783;&#29255; 3" TargetMode="External"/><Relationship Id="rId3" Type="http://schemas.openxmlformats.org/officeDocument/2006/relationships/hyperlink" Target="258,4,&#24187;&#28783;&#29255; 4" TargetMode="External"/><Relationship Id="rId4" Type="http://schemas.openxmlformats.org/officeDocument/2006/relationships/hyperlink" Target="266,5,&#24187;&#28783;&#29255; 5" TargetMode="External"/><Relationship Id="rId5" Type="http://schemas.openxmlformats.org/officeDocument/2006/relationships/hyperlink" Target="267,6,&#24187;&#28783;&#29255; 6" TargetMode="External"/><Relationship Id="rId6" Type="http://schemas.openxmlformats.org/officeDocument/2006/relationships/hyperlink" Target="264,7,&#24187;&#28783;&#29255; 7" TargetMode="External"/><Relationship Id="rId7" Type="http://schemas.openxmlformats.org/officeDocument/2006/relationships/hyperlink" Target="268,8,&#24187;&#28783;&#29255; 8" TargetMode="External"/><Relationship Id="rId8" Type="http://schemas.openxmlformats.org/officeDocument/2006/relationships/hyperlink" Target="261,9,&#24187;&#28783;&#29255; 9" TargetMode="External"/><Relationship Id="rId9" Type="http://schemas.openxmlformats.org/officeDocument/2006/relationships/hyperlink" Target="265,11,&#24187;&#28783;&#29255; 11" TargetMode="External"/><Relationship Id="rId10" Type="http://schemas.openxmlformats.org/officeDocument/2006/relationships/hyperlink" Target="265,11,&#24187;&#28783;&#29255; 11" TargetMode="External"/><Relationship Id="rId11" Type="http://schemas.openxmlformats.org/officeDocument/2006/relationships/hyperlink" Target="269,10,&#24187;&#28783;&#29255; 10" TargetMode="External"/><Relationship Id="rId12" Type="http://schemas.openxmlformats.org/officeDocument/2006/relationships/hyperlink" Target="265,11,&#24187;&#28783;&#29255; 11" TargetMode="External"/><Relationship Id="rId13" Type="http://schemas.openxmlformats.org/officeDocument/2006/relationships/hyperlink" Target="265,11,&#24187;&#28783;&#29255; 11" TargetMode="External"/><Relationship Id="rId14" Type="http://schemas.openxmlformats.org/officeDocument/2006/relationships/hyperlink" Target="265,11,&#24187;&#28783;&#29255; 11" TargetMode="External"/><Relationship Id="rId15" Type="http://schemas.openxmlformats.org/officeDocument/2006/relationships/hyperlink" Target="269,10,&#24187;&#28783;&#29255; 10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华文彩云"/>
                <a:ea typeface="华文彩云"/>
              </a:rPr>
              <a:t>山 中 访 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2771"/>
          <p:cNvSpPr/>
          <p:nvPr/>
        </p:nvSpPr>
        <p:spPr>
          <a:xfrm>
            <a:off x="356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2772"/>
          <p:cNvSpPr/>
          <p:nvPr/>
        </p:nvSpPr>
        <p:spPr>
          <a:xfrm>
            <a:off x="5334120" y="2178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李汉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9217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9218" descr="22"/>
          <p:cNvPicPr/>
          <p:nvPr/>
        </p:nvPicPr>
        <p:blipFill>
          <a:blip r:embed="rId2"/>
          <a:stretch/>
        </p:blipFill>
        <p:spPr>
          <a:xfrm>
            <a:off x="900000" y="1413000"/>
            <a:ext cx="7620120" cy="480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10241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10242" descr="14"/>
          <p:cNvPicPr/>
          <p:nvPr/>
        </p:nvPicPr>
        <p:blipFill>
          <a:blip r:embed="rId1"/>
          <a:stretch/>
        </p:blipFill>
        <p:spPr>
          <a:xfrm>
            <a:off x="684360" y="1341360"/>
            <a:ext cx="6473520" cy="485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11265"/>
          <p:cNvSpPr/>
          <p:nvPr/>
        </p:nvSpPr>
        <p:spPr>
          <a:xfrm>
            <a:off x="179280" y="260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11266" descr="15"/>
          <p:cNvPicPr/>
          <p:nvPr/>
        </p:nvPicPr>
        <p:blipFill>
          <a:blip r:embed="rId2"/>
          <a:stretch/>
        </p:blipFill>
        <p:spPr>
          <a:xfrm>
            <a:off x="395280" y="3429000"/>
            <a:ext cx="4025880" cy="301932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1267" descr="23"/>
          <p:cNvPicPr/>
          <p:nvPr/>
        </p:nvPicPr>
        <p:blipFill>
          <a:blip r:embed="rId3"/>
          <a:stretch/>
        </p:blipFill>
        <p:spPr>
          <a:xfrm>
            <a:off x="4643280" y="765000"/>
            <a:ext cx="4133880" cy="310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12289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图片 12290" descr="蚂蚁"/>
          <p:cNvPicPr/>
          <p:nvPr/>
        </p:nvPicPr>
        <p:blipFill>
          <a:blip r:embed="rId2"/>
          <a:stretch/>
        </p:blipFill>
        <p:spPr>
          <a:xfrm>
            <a:off x="1258920" y="1989000"/>
            <a:ext cx="64324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20481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20482" descr="18"/>
          <p:cNvPicPr/>
          <p:nvPr/>
        </p:nvPicPr>
        <p:blipFill>
          <a:blip r:embed="rId2"/>
          <a:stretch/>
        </p:blipFill>
        <p:spPr>
          <a:xfrm>
            <a:off x="685800" y="1981080"/>
            <a:ext cx="6551640" cy="4572000"/>
          </a:xfrm>
          <a:prstGeom prst="rect">
            <a:avLst/>
          </a:prstGeom>
          <a:ln w="0">
            <a:noFill/>
          </a:ln>
        </p:spPr>
      </p:pic>
      <p:sp>
        <p:nvSpPr>
          <p:cNvPr id="492" name="矩形 20485"/>
          <p:cNvSpPr/>
          <p:nvPr/>
        </p:nvSpPr>
        <p:spPr>
          <a:xfrm>
            <a:off x="1447920" y="10666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Arial"/>
                <a:ea typeface="黑体"/>
              </a:rPr>
              <a:t>德高望重的老桥</a:t>
            </a:r>
            <a:r>
              <a:rPr b="1" lang="en-US" sz="3600" spc="-1" strike="noStrike">
                <a:solidFill>
                  <a:srgbClr val="808000"/>
                </a:solidFill>
                <a:latin typeface="Arial"/>
                <a:ea typeface="黑体"/>
              </a:rPr>
              <a:t>—</a:t>
            </a:r>
            <a:r>
              <a:rPr b="1" lang="zh-CN" sz="3600" spc="-1" strike="noStrike">
                <a:solidFill>
                  <a:srgbClr val="808000"/>
                </a:solidFill>
                <a:latin typeface="Arial"/>
                <a:ea typeface="黑体"/>
              </a:rPr>
              <a:t>古老坚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文本框 21505"/>
          <p:cNvSpPr/>
          <p:nvPr/>
        </p:nvSpPr>
        <p:spPr>
          <a:xfrm>
            <a:off x="324000" y="549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21506" descr="11"/>
          <p:cNvPicPr/>
          <p:nvPr/>
        </p:nvPicPr>
        <p:blipFill>
          <a:blip r:embed="rId2"/>
          <a:stretch/>
        </p:blipFill>
        <p:spPr>
          <a:xfrm>
            <a:off x="684360" y="1322280"/>
            <a:ext cx="6696000" cy="50230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1507"/>
          <p:cNvSpPr/>
          <p:nvPr/>
        </p:nvSpPr>
        <p:spPr>
          <a:xfrm>
            <a:off x="7166880" y="1066680"/>
            <a:ext cx="139932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大树知己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—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我成了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22529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22530" descr="20"/>
          <p:cNvPicPr/>
          <p:nvPr/>
        </p:nvPicPr>
        <p:blipFill>
          <a:blip r:embed="rId2"/>
          <a:stretch/>
        </p:blipFill>
        <p:spPr>
          <a:xfrm>
            <a:off x="900000" y="1341360"/>
            <a:ext cx="7697880" cy="494532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22531"/>
          <p:cNvSpPr/>
          <p:nvPr/>
        </p:nvSpPr>
        <p:spPr>
          <a:xfrm>
            <a:off x="3124080" y="40464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华文行楷"/>
              </a:rPr>
              <a:t>小溪妹妹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华文行楷"/>
              </a:rPr>
              <a:t>—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华文行楷"/>
              </a:rPr>
              <a:t>唱和小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3553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23554" descr="21"/>
          <p:cNvPicPr/>
          <p:nvPr/>
        </p:nvPicPr>
        <p:blipFill>
          <a:blip r:embed="rId2"/>
          <a:stretch/>
        </p:blipFill>
        <p:spPr>
          <a:xfrm>
            <a:off x="395280" y="1844640"/>
            <a:ext cx="8280360" cy="4753080"/>
          </a:xfrm>
          <a:prstGeom prst="rect">
            <a:avLst/>
          </a:prstGeom>
          <a:ln w="0">
            <a:noFill/>
          </a:ln>
        </p:spPr>
      </p:pic>
      <p:sp>
        <p:nvSpPr>
          <p:cNvPr id="501" name="文本框 23555"/>
          <p:cNvSpPr/>
          <p:nvPr/>
        </p:nvSpPr>
        <p:spPr>
          <a:xfrm>
            <a:off x="3581280" y="765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琥珀"/>
              </a:rPr>
              <a:t>白云大嫂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华文琥珀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琥珀"/>
              </a:rPr>
              <a:t>好护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24577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24578" descr="07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5040360"/>
          </a:xfrm>
          <a:prstGeom prst="rect">
            <a:avLst/>
          </a:prstGeom>
          <a:ln w="0">
            <a:noFill/>
          </a:ln>
        </p:spPr>
      </p:pic>
      <p:sp>
        <p:nvSpPr>
          <p:cNvPr id="504" name="文本框 24579"/>
          <p:cNvSpPr/>
          <p:nvPr/>
        </p:nvSpPr>
        <p:spPr>
          <a:xfrm>
            <a:off x="3200400" y="40464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瀑布大哥</a:t>
            </a:r>
            <a:r>
              <a:rPr b="0" lang="en-US" sz="4800" spc="-1" strike="noStrike">
                <a:solidFill>
                  <a:srgbClr val="cc3300"/>
                </a:solidFill>
                <a:latin typeface="Arial"/>
                <a:ea typeface="华文行楷"/>
              </a:rPr>
              <a:t>—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行楷"/>
              </a:rPr>
              <a:t>好嗓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25601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25602" descr="22"/>
          <p:cNvPicPr/>
          <p:nvPr/>
        </p:nvPicPr>
        <p:blipFill>
          <a:blip r:embed="rId2"/>
          <a:stretch/>
        </p:blipFill>
        <p:spPr>
          <a:xfrm>
            <a:off x="900000" y="1413000"/>
            <a:ext cx="7620120" cy="4802040"/>
          </a:xfrm>
          <a:prstGeom prst="rect">
            <a:avLst/>
          </a:prstGeom>
          <a:ln w="0">
            <a:noFill/>
          </a:ln>
        </p:spPr>
      </p:pic>
      <p:grpSp>
        <p:nvGrpSpPr>
          <p:cNvPr id="507" name="组合 25605"/>
          <p:cNvGrpSpPr/>
          <p:nvPr/>
        </p:nvGrpSpPr>
        <p:grpSpPr>
          <a:xfrm>
            <a:off x="3276720" y="380880"/>
            <a:ext cx="4952880" cy="762120"/>
            <a:chOff x="3276720" y="380880"/>
            <a:chExt cx="4952880" cy="762120"/>
          </a:xfrm>
        </p:grpSpPr>
        <p:sp>
          <p:nvSpPr>
            <p:cNvPr id="508" name="矩形 25603"/>
            <p:cNvSpPr txBox="1"/>
            <p:nvPr/>
          </p:nvSpPr>
          <p:spPr>
            <a:xfrm>
              <a:off x="3276720" y="380880"/>
              <a:ext cx="257328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悬崖爷爷</a:t>
              </a:r>
              <a:endParaRPr b="1" lang="en-US" sz="5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509" name="矩形 25604"/>
            <p:cNvSpPr/>
            <p:nvPr/>
          </p:nvSpPr>
          <p:spPr>
            <a:xfrm>
              <a:off x="5943600" y="380880"/>
              <a:ext cx="2286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—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有禅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13313" descr="HAC00055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112860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13314"/>
          <p:cNvSpPr/>
          <p:nvPr/>
        </p:nvSpPr>
        <p:spPr>
          <a:xfrm>
            <a:off x="611280" y="126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行楷"/>
              </a:rPr>
              <a:t>阅读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3315"/>
          <p:cNvSpPr/>
          <p:nvPr/>
        </p:nvSpPr>
        <p:spPr>
          <a:xfrm>
            <a:off x="755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作者去山里寻访友人，他都见到了哪些朋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3316"/>
          <p:cNvSpPr/>
          <p:nvPr/>
        </p:nvSpPr>
        <p:spPr>
          <a:xfrm>
            <a:off x="971640" y="2492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3318"/>
          <p:cNvSpPr/>
          <p:nvPr/>
        </p:nvSpPr>
        <p:spPr>
          <a:xfrm>
            <a:off x="900000" y="32846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3319"/>
          <p:cNvSpPr/>
          <p:nvPr/>
        </p:nvSpPr>
        <p:spPr>
          <a:xfrm>
            <a:off x="755640" y="350028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作者为什么把进山看风景说成是“山中访友”？运用了什么修辞手法？表达了作者怎样的感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6625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6626" descr="14"/>
          <p:cNvPicPr/>
          <p:nvPr/>
        </p:nvPicPr>
        <p:blipFill>
          <a:blip r:embed="rId1"/>
          <a:stretch/>
        </p:blipFill>
        <p:spPr>
          <a:xfrm>
            <a:off x="684360" y="1341360"/>
            <a:ext cx="6473520" cy="4856400"/>
          </a:xfrm>
          <a:prstGeom prst="rect">
            <a:avLst/>
          </a:prstGeom>
          <a:ln w="0">
            <a:noFill/>
          </a:ln>
        </p:spPr>
      </p:pic>
      <p:grpSp>
        <p:nvGrpSpPr>
          <p:cNvPr id="512" name="组合 26633"/>
          <p:cNvGrpSpPr/>
          <p:nvPr/>
        </p:nvGrpSpPr>
        <p:grpSpPr>
          <a:xfrm>
            <a:off x="7543440" y="838080"/>
            <a:ext cx="762480" cy="5791320"/>
            <a:chOff x="7543440" y="838080"/>
            <a:chExt cx="762480" cy="5791320"/>
          </a:xfrm>
        </p:grpSpPr>
        <p:sp>
          <p:nvSpPr>
            <p:cNvPr id="513" name="矩形 26627"/>
            <p:cNvSpPr txBox="1"/>
            <p:nvPr/>
          </p:nvSpPr>
          <p:spPr>
            <a:xfrm rot="5400000">
              <a:off x="6552720" y="1828440"/>
              <a:ext cx="2743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云雀弟弟</a:t>
              </a:r>
              <a:endPara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  <p:grpSp>
          <p:nvGrpSpPr>
            <p:cNvPr id="514" name="组合 26632"/>
            <p:cNvGrpSpPr/>
            <p:nvPr/>
          </p:nvGrpSpPr>
          <p:grpSpPr>
            <a:xfrm>
              <a:off x="7620120" y="3733560"/>
              <a:ext cx="685800" cy="2895840"/>
              <a:chOff x="7620120" y="3733560"/>
              <a:chExt cx="685800" cy="2895840"/>
            </a:xfrm>
          </p:grpSpPr>
          <p:sp>
            <p:nvSpPr>
              <p:cNvPr id="515" name="矩形 26630"/>
              <p:cNvSpPr/>
              <p:nvPr/>
            </p:nvSpPr>
            <p:spPr>
              <a:xfrm>
                <a:off x="7620120" y="4419720"/>
                <a:ext cx="685800" cy="22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不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说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是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非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6" name="直接箭头连接符 26631"/>
              <p:cNvCxnSpPr/>
              <p:nvPr/>
            </p:nvCxnSpPr>
            <p:spPr>
              <a:xfrm>
                <a:off x="8000640" y="3733560"/>
                <a:ext cx="1080" cy="68652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round/>
              </a:ln>
            </p:spPr>
          </p:cxnSp>
        </p:grpSp>
      </p:grp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27649"/>
          <p:cNvSpPr/>
          <p:nvPr/>
        </p:nvSpPr>
        <p:spPr>
          <a:xfrm>
            <a:off x="179280" y="260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27650" descr="15"/>
          <p:cNvPicPr/>
          <p:nvPr/>
        </p:nvPicPr>
        <p:blipFill>
          <a:blip r:embed="rId2"/>
          <a:stretch/>
        </p:blipFill>
        <p:spPr>
          <a:xfrm>
            <a:off x="395280" y="3429000"/>
            <a:ext cx="4025880" cy="301932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27651" descr="23"/>
          <p:cNvPicPr/>
          <p:nvPr/>
        </p:nvPicPr>
        <p:blipFill>
          <a:blip r:embed="rId3"/>
          <a:stretch/>
        </p:blipFill>
        <p:spPr>
          <a:xfrm>
            <a:off x="4643280" y="765000"/>
            <a:ext cx="4133880" cy="3102120"/>
          </a:xfrm>
          <a:prstGeom prst="rect">
            <a:avLst/>
          </a:prstGeom>
          <a:ln w="0">
            <a:noFill/>
          </a:ln>
        </p:spPr>
      </p:pic>
      <p:sp>
        <p:nvSpPr>
          <p:cNvPr id="520" name="矩形 27652"/>
          <p:cNvSpPr txBox="1"/>
          <p:nvPr/>
        </p:nvSpPr>
        <p:spPr>
          <a:xfrm>
            <a:off x="1187280" y="2276640"/>
            <a:ext cx="18450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落叶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1" name="矩形 27653"/>
          <p:cNvSpPr txBox="1"/>
          <p:nvPr/>
        </p:nvSpPr>
        <p:spPr>
          <a:xfrm>
            <a:off x="5867280" y="4149720"/>
            <a:ext cx="201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华文新魏"/>
              </a:rPr>
              <a:t>栀子花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28673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28674" descr="蚂蚁"/>
          <p:cNvPicPr/>
          <p:nvPr/>
        </p:nvPicPr>
        <p:blipFill>
          <a:blip r:embed="rId2"/>
          <a:stretch/>
        </p:blipFill>
        <p:spPr>
          <a:xfrm>
            <a:off x="1258920" y="1989000"/>
            <a:ext cx="6432480" cy="435312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28675"/>
          <p:cNvSpPr/>
          <p:nvPr/>
        </p:nvSpPr>
        <p:spPr>
          <a:xfrm>
            <a:off x="1981080" y="105264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蚂蚁小弟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患难兄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30721"/>
          <p:cNvSpPr txBox="1"/>
          <p:nvPr/>
        </p:nvSpPr>
        <p:spPr>
          <a:xfrm>
            <a:off x="1066680" y="533520"/>
            <a:ext cx="327672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体验反思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6" name="文本框 30722"/>
          <p:cNvSpPr/>
          <p:nvPr/>
        </p:nvSpPr>
        <p:spPr>
          <a:xfrm>
            <a:off x="838080" y="2316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访问“山中朋友”，得到些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30723" descr="F:\图片\动画图片\bang1.gif"/>
          <p:cNvPicPr/>
          <p:nvPr/>
        </p:nvPicPr>
        <p:blipFill>
          <a:blip r:embed="rId3"/>
          <a:stretch/>
        </p:blipFill>
        <p:spPr>
          <a:xfrm>
            <a:off x="7010280" y="3049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30724"/>
          <p:cNvSpPr/>
          <p:nvPr/>
        </p:nvSpPr>
        <p:spPr>
          <a:xfrm>
            <a:off x="914400" y="33354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作者从山中的朋友身上得到了这样的启示，做人要有持久不变的坚韧的灵魂；要爱护大自然，保护人类的朋友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鸟类；要淳朴善良，用爱心待人，不搬弄是非；要愉快地投身工作和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6385"/>
          <p:cNvSpPr txBox="1"/>
          <p:nvPr/>
        </p:nvSpPr>
        <p:spPr>
          <a:xfrm>
            <a:off x="250920" y="260280"/>
            <a:ext cx="18669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探索活动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30" name="图片 16386" descr="Jzd00027"/>
          <p:cNvPicPr/>
          <p:nvPr/>
        </p:nvPicPr>
        <p:blipFill>
          <a:blip r:embed="rId3"/>
          <a:stretch/>
        </p:blipFill>
        <p:spPr>
          <a:xfrm>
            <a:off x="0" y="3213000"/>
            <a:ext cx="1835280" cy="36450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6387" descr="12"/>
          <p:cNvPicPr/>
          <p:nvPr/>
        </p:nvPicPr>
        <p:blipFill>
          <a:blip r:embed="rId4"/>
          <a:stretch/>
        </p:blipFill>
        <p:spPr>
          <a:xfrm>
            <a:off x="3598920" y="269892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16388"/>
          <p:cNvSpPr/>
          <p:nvPr/>
        </p:nvSpPr>
        <p:spPr>
          <a:xfrm>
            <a:off x="900000" y="9079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与山川草木对话，与花鸟虫鱼对话，到自然中放飞心灵，你生活中就多了一个朋友。拿起笔，介绍你所看到的这个朋友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图片 16389" descr="13"/>
          <p:cNvPicPr/>
          <p:nvPr/>
        </p:nvPicPr>
        <p:blipFill>
          <a:blip r:embed="rId5"/>
          <a:stretch/>
        </p:blipFill>
        <p:spPr>
          <a:xfrm>
            <a:off x="2592360" y="2492280"/>
            <a:ext cx="6551640" cy="436572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16390" descr="soft163_29268125"/>
          <p:cNvPicPr/>
          <p:nvPr/>
        </p:nvPicPr>
        <p:blipFill>
          <a:blip r:embed="rId6"/>
          <a:stretch/>
        </p:blipFill>
        <p:spPr>
          <a:xfrm>
            <a:off x="2592360" y="2482920"/>
            <a:ext cx="655164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remove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31749" descr="C:\Documents and Settings\lenovowlg\My Documents\My Pictures\44444.jpg"/>
          <p:cNvPicPr/>
          <p:nvPr/>
        </p:nvPicPr>
        <p:blipFill>
          <a:blip r:embed="rId2"/>
          <a:stretch/>
        </p:blipFill>
        <p:spPr>
          <a:xfrm>
            <a:off x="266688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31746"/>
          <p:cNvSpPr/>
          <p:nvPr/>
        </p:nvSpPr>
        <p:spPr>
          <a:xfrm>
            <a:off x="948600" y="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课外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31747"/>
          <p:cNvSpPr/>
          <p:nvPr/>
        </p:nvSpPr>
        <p:spPr>
          <a:xfrm>
            <a:off x="1295280" y="12952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31748"/>
          <p:cNvSpPr/>
          <p:nvPr/>
        </p:nvSpPr>
        <p:spPr>
          <a:xfrm>
            <a:off x="907920" y="1066680"/>
            <a:ext cx="89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你描述一下洪山下阵雨时的情景，字数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左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31750" descr="C:\Documents and Settings\00\My Documents\My Pictures\2.gif"/>
          <p:cNvPicPr/>
          <p:nvPr/>
        </p:nvPicPr>
        <p:blipFill>
          <a:blip r:embed="rId3"/>
          <a:stretch/>
        </p:blipFill>
        <p:spPr>
          <a:xfrm>
            <a:off x="228600" y="41148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29697"/>
          <p:cNvSpPr txBox="1"/>
          <p:nvPr/>
        </p:nvSpPr>
        <p:spPr>
          <a:xfrm>
            <a:off x="3124080" y="4648320"/>
            <a:ext cx="351468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41" name="Never Say Goodbye.mp3" descr=""/>
          <p:cNvPicPr/>
          <p:nvPr/>
        </p:nvPicPr>
        <p:blipFill>
          <a:blip r:embed="rId2"/>
          <a:stretch/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17410"/>
          <p:cNvSpPr txBox="1"/>
          <p:nvPr/>
        </p:nvSpPr>
        <p:spPr>
          <a:xfrm rot="5400000">
            <a:off x="2590200" y="2666880"/>
            <a:ext cx="327672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山中访友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61" name="2-02.wav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9457" descr="HAC00055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1128600"/>
          </a:xfrm>
          <a:prstGeom prst="rect">
            <a:avLst/>
          </a:prstGeom>
          <a:ln w="0">
            <a:noFill/>
          </a:ln>
        </p:spPr>
      </p:pic>
      <p:sp>
        <p:nvSpPr>
          <p:cNvPr id="463" name="文本框 19458"/>
          <p:cNvSpPr/>
          <p:nvPr/>
        </p:nvSpPr>
        <p:spPr>
          <a:xfrm>
            <a:off x="611280" y="126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行楷"/>
              </a:rPr>
              <a:t>阅读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9459"/>
          <p:cNvSpPr/>
          <p:nvPr/>
        </p:nvSpPr>
        <p:spPr>
          <a:xfrm>
            <a:off x="755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作者去山里寻访友人，他都见到了哪些朋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9460"/>
          <p:cNvSpPr/>
          <p:nvPr/>
        </p:nvSpPr>
        <p:spPr>
          <a:xfrm>
            <a:off x="971640" y="2492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9461"/>
          <p:cNvSpPr/>
          <p:nvPr/>
        </p:nvSpPr>
        <p:spPr>
          <a:xfrm>
            <a:off x="762120" y="2590920"/>
            <a:ext cx="769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见到了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古桥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树林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山泉、小溪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白云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瀑布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悬崖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云雀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石头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落叶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小花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阵雨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老柏树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蚂蚁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、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归鸟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9462"/>
          <p:cNvSpPr/>
          <p:nvPr/>
        </p:nvSpPr>
        <p:spPr>
          <a:xfrm>
            <a:off x="900000" y="32846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9463"/>
          <p:cNvSpPr/>
          <p:nvPr/>
        </p:nvSpPr>
        <p:spPr>
          <a:xfrm>
            <a:off x="755640" y="350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作者为什么把进山看风景说成是“山中访友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464"/>
          <p:cNvSpPr/>
          <p:nvPr/>
        </p:nvSpPr>
        <p:spPr>
          <a:xfrm>
            <a:off x="685800" y="4076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作者把进山看风景说成山中访友用的是拟人化的手法。将古桥、树木、山泉小溪等景物看成自己的山中朋友，将进山看景说成是山中访友，是为表达自己对大自然的热爱之情。这样说即使行文生动，又为下文与景物对话作铺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2-02.wav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1" name="矩形 4097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图片 4098" descr="18"/>
          <p:cNvPicPr/>
          <p:nvPr/>
        </p:nvPicPr>
        <p:blipFill>
          <a:blip r:embed="rId3"/>
          <a:stretch/>
        </p:blipFill>
        <p:spPr>
          <a:xfrm>
            <a:off x="1835280" y="1413000"/>
            <a:ext cx="65516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5121"/>
          <p:cNvSpPr/>
          <p:nvPr/>
        </p:nvSpPr>
        <p:spPr>
          <a:xfrm>
            <a:off x="324000" y="549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5122" descr="11"/>
          <p:cNvPicPr/>
          <p:nvPr/>
        </p:nvPicPr>
        <p:blipFill>
          <a:blip r:embed="rId2"/>
          <a:stretch/>
        </p:blipFill>
        <p:spPr>
          <a:xfrm>
            <a:off x="684360" y="132228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6145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6146" descr="20"/>
          <p:cNvPicPr/>
          <p:nvPr/>
        </p:nvPicPr>
        <p:blipFill>
          <a:blip r:embed="rId2"/>
          <a:stretch/>
        </p:blipFill>
        <p:spPr>
          <a:xfrm>
            <a:off x="900000" y="1341360"/>
            <a:ext cx="7697880" cy="4945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7169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图片 7170" descr="21"/>
          <p:cNvPicPr/>
          <p:nvPr/>
        </p:nvPicPr>
        <p:blipFill>
          <a:blip r:embed="rId2"/>
          <a:stretch/>
        </p:blipFill>
        <p:spPr>
          <a:xfrm>
            <a:off x="395280" y="1844640"/>
            <a:ext cx="82803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8193"/>
          <p:cNvSpPr/>
          <p:nvPr/>
        </p:nvSpPr>
        <p:spPr>
          <a:xfrm>
            <a:off x="324000" y="260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8194" descr="07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3:46:00Z</dcterms:created>
  <dc:creator>赵建平</dc:creator>
  <dc:description/>
  <dc:language>en-US</dc:language>
  <cp:lastModifiedBy>admin</cp:lastModifiedBy>
  <dcterms:modified xsi:type="dcterms:W3CDTF">2019-04-01T08:51:59Z</dcterms:modified>
  <cp:revision>37</cp:revision>
  <dc:subject/>
  <dc:title>山 中 访 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