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D608-9B74-4D1A-8FFD-CF13AD59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F7B-FAD2-4177-8484-8F5EF57B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DE7-C34A-4E88-AEE4-14196B0C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3E9-25CC-4A75-A4CD-66B824EF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74AD-1D7B-4261-9E28-340B06D2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4257-E000-4449-8A70-3882FB7F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7436-CDF4-4159-8415-7201CBA6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E8C3-B716-4798-AE3D-936FB074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A710-1421-4EE0-B28B-91016830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222A-7130-4D7D-B0E6-0FABABE8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5BDB-B3D2-43E7-8A84-D682D0D2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733-D9B3-4FE6-90E4-6AF59EAA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32E7-EA7D-461D-A03F-543DDE37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9BC2-E7E8-402B-B70F-1383F0D8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FD3B-DE74-4A8D-9E92-958C8D4A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54E8-4B53-4F33-B6DB-DE6B2EB0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858E-01A8-4E40-BC10-B4D71F25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0BD-1FA7-462F-9096-691A1264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73A-FD25-4538-A25B-D6104182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DAC-38E1-4FE1-A3A5-B56E4BAF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97C-8ECF-4E6A-8B87-F92F2D43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6A9-00B5-43BB-891B-8E9E7666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29E2-CE51-49AA-B958-ABA9772E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AF6-1541-44E3-A35F-63221388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60AF-C245-42D2-B566-C2D1659CC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11BE-6A45-41FB-9A2E-E1259E36F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60,5,&#24187;&#28783;&#29255; 5" TargetMode="External"/><Relationship Id="rId3" Type="http://schemas.openxmlformats.org/officeDocument/2006/relationships/hyperlink" Target="261,6,&#24187;&#28783;&#29255; 6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图片 1" descr=""/>
          <p:cNvPicPr/>
          <p:nvPr/>
        </p:nvPicPr>
        <p:blipFill>
          <a:blip r:embed="rId1"/>
          <a:stretch/>
        </p:blipFill>
        <p:spPr>
          <a:xfrm>
            <a:off x="1746360" y="1484280"/>
            <a:ext cx="5549760" cy="537372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5"/>
          <p:cNvSpPr/>
          <p:nvPr/>
        </p:nvSpPr>
        <p:spPr>
          <a:xfrm>
            <a:off x="1928880" y="10476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守株待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990720" y="15998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想对种田人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守株待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则寓言，我想对种田人说：你要（努力做事  ）才行，对意外的收获不要存有（侥幸心理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守株待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则寓言，我想对种田人说：靠运气是不可能得到自己想的东西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有实实在在地去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才能有收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种田人我想跟你说：你那次捡到一只兔子是偶然的，并不是应该的，世界上没有不劳而获的事，不努力是得不到真正的成果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宋人有耕者，田中有株，兔走触株，折颈而死，因释其耒而守株，冀复得兔，兔不可复得而身为宋国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2ed85c0ed0a70ec0aa6457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WordArt 5"/>
          <p:cNvSpPr txBox="1"/>
          <p:nvPr/>
        </p:nvSpPr>
        <p:spPr>
          <a:xfrm>
            <a:off x="1116000" y="404640"/>
            <a:ext cx="244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会写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9" name="Picture 6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1827000" cy="1871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"/>
          <p:cNvPicPr/>
          <p:nvPr/>
        </p:nvPicPr>
        <p:blipFill>
          <a:blip r:embed="rId3"/>
          <a:stretch/>
        </p:blipFill>
        <p:spPr>
          <a:xfrm>
            <a:off x="3995640" y="2133720"/>
            <a:ext cx="1827360" cy="18716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"/>
          <p:cNvPicPr/>
          <p:nvPr/>
        </p:nvPicPr>
        <p:blipFill>
          <a:blip r:embed="rId4"/>
          <a:stretch/>
        </p:blipFill>
        <p:spPr>
          <a:xfrm>
            <a:off x="5435640" y="4437000"/>
            <a:ext cx="1827000" cy="18716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"/>
          <p:cNvPicPr/>
          <p:nvPr/>
        </p:nvPicPr>
        <p:blipFill>
          <a:blip r:embed="rId5"/>
          <a:stretch/>
        </p:blipFill>
        <p:spPr>
          <a:xfrm>
            <a:off x="2556000" y="4437000"/>
            <a:ext cx="1827000" cy="18716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6"/>
          <a:stretch/>
        </p:blipFill>
        <p:spPr>
          <a:xfrm>
            <a:off x="6659640" y="2133720"/>
            <a:ext cx="1827000" cy="187164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11"/>
          <p:cNvSpPr/>
          <p:nvPr/>
        </p:nvSpPr>
        <p:spPr>
          <a:xfrm>
            <a:off x="1476360" y="2133720"/>
            <a:ext cx="1224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Arial"/>
                <a:ea typeface="楷体_GB2312"/>
              </a:rPr>
              <a:t>守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2"/>
          <p:cNvSpPr/>
          <p:nvPr/>
        </p:nvSpPr>
        <p:spPr>
          <a:xfrm>
            <a:off x="4211640" y="215280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Arial"/>
                <a:ea typeface="楷体_GB2312"/>
              </a:rPr>
              <a:t>丢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3"/>
          <p:cNvSpPr/>
          <p:nvPr/>
        </p:nvSpPr>
        <p:spPr>
          <a:xfrm>
            <a:off x="6804000" y="2133720"/>
            <a:ext cx="1800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Arial"/>
                <a:ea typeface="楷体_GB2312"/>
              </a:rPr>
              <a:t>此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4"/>
          <p:cNvSpPr/>
          <p:nvPr/>
        </p:nvSpPr>
        <p:spPr>
          <a:xfrm>
            <a:off x="2700360" y="445788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Arial"/>
                <a:ea typeface="楷体_GB2312"/>
              </a:rPr>
              <a:t>桩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5"/>
          <p:cNvSpPr/>
          <p:nvPr/>
        </p:nvSpPr>
        <p:spPr>
          <a:xfrm>
            <a:off x="5653080" y="4457880"/>
            <a:ext cx="1511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Arial"/>
                <a:ea typeface="楷体_GB2312"/>
              </a:rPr>
              <a:t>肥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2009380152267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WordArt 5"/>
          <p:cNvSpPr txBox="1"/>
          <p:nvPr/>
        </p:nvSpPr>
        <p:spPr>
          <a:xfrm>
            <a:off x="539640" y="692280"/>
            <a:ext cx="3024360" cy="87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作业练习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468360" y="1989000"/>
            <a:ext cx="820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抄写生字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续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守株待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喜欢的小朋友可以接着往下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天，种田人像往常一样又来到树桩旁边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5"/>
          <p:cNvSpPr/>
          <p:nvPr/>
        </p:nvSpPr>
        <p:spPr>
          <a:xfrm>
            <a:off x="611280" y="1557360"/>
            <a:ext cx="7993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窜出来   树桩   撞死    从此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锄头     庄稼    乐滋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395280" y="98100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cuàn      zhuānɡ  zhuànɡ      c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539640" y="3068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c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4"/>
          <p:cNvSpPr/>
          <p:nvPr/>
        </p:nvSpPr>
        <p:spPr>
          <a:xfrm>
            <a:off x="684360" y="148428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子一天一天过去了，再也没有野兔来过，他的田里已经长满了野草，庄稼全完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8" descr="126859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4"/>
          <p:cNvSpPr/>
          <p:nvPr/>
        </p:nvSpPr>
        <p:spPr>
          <a:xfrm>
            <a:off x="324000" y="11970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从此他丢掉了锄头，整天坐在树桩旁边等着，看有没有野兔再跑来撞死在树桩上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125892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255600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7">
            <a:hlinkClick r:id="" action="ppaction://hlinkshowjump?jump=nextslide"/>
          </p:cNvPr>
          <p:cNvSpPr/>
          <p:nvPr/>
        </p:nvSpPr>
        <p:spPr>
          <a:xfrm>
            <a:off x="7667640" y="6021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4"/>
          <p:cNvSpPr/>
          <p:nvPr/>
        </p:nvSpPr>
        <p:spPr>
          <a:xfrm>
            <a:off x="684360" y="177336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种田人丢下锄头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整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坐在树桩旁边等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种田人丢下锄头，坐在树桩旁边等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WordArt 5"/>
          <p:cNvSpPr txBox="1"/>
          <p:nvPr/>
        </p:nvSpPr>
        <p:spPr>
          <a:xfrm>
            <a:off x="611280" y="476280"/>
            <a:ext cx="252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比较句子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6" name="AutoShape 6"/>
          <p:cNvSpPr/>
          <p:nvPr/>
        </p:nvSpPr>
        <p:spPr>
          <a:xfrm>
            <a:off x="802800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4"/>
          <p:cNvSpPr/>
          <p:nvPr/>
        </p:nvSpPr>
        <p:spPr>
          <a:xfrm>
            <a:off x="684360" y="2060640"/>
            <a:ext cx="774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，他在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，他在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，他还在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WordArt 5"/>
          <p:cNvSpPr txBox="1"/>
          <p:nvPr/>
        </p:nvSpPr>
        <p:spPr>
          <a:xfrm>
            <a:off x="684360" y="692280"/>
            <a:ext cx="2519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想象说话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19" name="AutoShape 6"/>
          <p:cNvSpPr/>
          <p:nvPr/>
        </p:nvSpPr>
        <p:spPr>
          <a:xfrm>
            <a:off x="7812000" y="6165720"/>
            <a:ext cx="432000" cy="28764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10800"/>
                </a:moveTo>
                <a:lnTo>
                  <a:pt x="23220" y="3794"/>
                </a:lnTo>
                <a:lnTo>
                  <a:pt x="23220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4"/>
          <p:cNvSpPr/>
          <p:nvPr/>
        </p:nvSpPr>
        <p:spPr>
          <a:xfrm>
            <a:off x="468360" y="1125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此他丢下了锄头，整天坐在树桩旁等着，看有没有野兔再跑过来撞死在树桩上。日子一天天过去，再也没有野兔来过，他的田里已经长满了野草，庄稼也全完了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1116000" y="620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684360" y="2421000"/>
            <a:ext cx="82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种田人急忙跑过去，没花一点儿力气，白捡了一只又肥又大的野兔。他乐滋滋地走回家去，心里想：“要是每天能捡到一只野兔，那该多好啊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5" descr="126859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4"/>
          <p:cNvSpPr/>
          <p:nvPr/>
        </p:nvSpPr>
        <p:spPr>
          <a:xfrm>
            <a:off x="179280" y="168588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一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三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个星期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个月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5:40:16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7-05-23T06:14:57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79</vt:lpwstr>
  </property>
</Properties>
</file>