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drumroll.wav" ContentType="audio/x-wav"/>
  <Override PartName="/ppt/media/image24.jpeg" ContentType="image/jpeg"/>
  <Override PartName="/ppt/media/image27.png" ContentType="image/png"/>
  <Override PartName="/ppt/media/image2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C859-1458-4231-9F99-4AB5CE9FAD9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2BCC-27CF-4BBB-B844-DAF9DC64C6F4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86AC-12BB-4620-A758-A55A11403317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DDF-1A4A-4F54-8C06-CAB8F07D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EE5-CC58-4073-BE40-0AA3E0FE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CC4-C70E-4FE4-9C86-80ED7F28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9606-921A-401B-9B18-92D6760D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71BD-943E-4074-A96C-881F0F2A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33BA-D8D6-481B-909E-797DC71D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0185-F0EE-4C4D-93BE-426591BB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3AB3-522D-4E9E-9D33-FDD4E633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F889-3985-4931-93B1-18AFD977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7637-AF51-4957-B41A-7B032BEC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BA0F-36DE-4F69-86B7-2D934797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C6E-1EAF-4E83-BEBF-BCA36B38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7D03-363D-46A9-975C-4C29F27F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F0FB-96BF-4B52-BE11-8E0E00BF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577A-8EEA-4D0C-8627-62BEFF9E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C2AC-0504-4017-99EE-163E8B27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A6F7-37B3-43D1-ADB4-2C0BEA05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F2A09-6579-4C73-B7DD-4B248F3D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B1621-4181-4728-8223-CE67D98A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B2A22-E141-4191-BE40-1ACDCA3C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14728-7B32-4EDD-9E0A-A5C3F1CA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F9C09-D5C5-45CF-A20D-BDB3378E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72E-1B1A-4BB7-BC40-389C5D16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2FC53-E5F3-4ED8-94E9-9FA826B6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2F397-9ACF-4819-89CE-193BD83C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E9877-42AA-476C-B42E-5860A8E3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19DCC-5FBE-4AE8-A524-FE26ED34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D61B5-F403-4554-A7F3-6C9DC8C1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7CF3C-A0B0-4197-B114-57644A3C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CF191-70BB-4306-B5CE-C6773087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EBD2-2D2A-410E-B969-C664FB9A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80E-2C1D-49E3-BF5E-B4E20EB6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1461-BC6D-4C5E-90D1-EA7408DD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A5F-2E8F-4CE4-82DF-CEC5822A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A15-4FF8-49C8-950A-7A9EF22D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E780-8381-41CA-A500-5DE1FC38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F465-DE17-4F2B-99D9-6059C264B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2A0F-19CA-4CE3-ACA2-52FF42925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6488-3F98-4180-988F-37FE55EFCB7E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6510.htm" TargetMode="External"/><Relationship Id="rId3" Type="http://schemas.openxmlformats.org/officeDocument/2006/relationships/hyperlink" Target="http://baike.baidu.com/view/5902.htm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8461.htm" TargetMode="External"/><Relationship Id="rId3" Type="http://schemas.openxmlformats.org/officeDocument/2006/relationships/hyperlink" Target="http://baike.baidu.com/view/2161.htm" TargetMode="External"/><Relationship Id="rId4" Type="http://schemas.openxmlformats.org/officeDocument/2006/relationships/hyperlink" Target="http://baike.baidu.com/view/53648.htm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送元二使安西</a:t>
            </a:r>
            <a:endParaRPr b="0" lang="en-US" sz="7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508360" y="3716280"/>
            <a:ext cx="334476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王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76360" y="494136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客舍青青柳色新。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34920" y="4869000"/>
            <a:ext cx="49546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劝君更尽一杯酒，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708000" y="2636640"/>
            <a:ext cx="511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西出阳关无故人。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6"/>
          <p:cNvSpPr/>
          <p:nvPr/>
        </p:nvSpPr>
        <p:spPr>
          <a:xfrm>
            <a:off x="1295280" y="1371600"/>
            <a:ext cx="49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0" y="384480"/>
            <a:ext cx="9220320" cy="764280"/>
          </a:xfrm>
          <a:prstGeom prst="rect">
            <a:avLst/>
          </a:prstGeom>
          <a:noFill/>
          <a:ln w="9360">
            <a:solidFill>
              <a:srgbClr val="0033cc"/>
            </a:solidFill>
            <a:prstDash val="dash"/>
            <a:miter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楷体_GB2312"/>
              </a:rPr>
              <a:t>渭城朝雨浥轻尘，客舍青青柳色新。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1527480"/>
            <a:ext cx="937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20406"/>
                </a:solidFill>
                <a:latin typeface="Arial"/>
                <a:ea typeface="楷体_GB2312"/>
              </a:rPr>
              <a:t>渭城：秦置咸阳县，汉代改称渭城县，唐时属京兆府咸阳县辖区，在今</a:t>
            </a:r>
            <a:r>
              <a:rPr b="0" lang="zh-CN" sz="2400" spc="-1" strike="noStrike" u="sng">
                <a:solidFill>
                  <a:srgbClr val="cc0066"/>
                </a:solidFill>
                <a:uFillTx/>
                <a:latin typeface="Arial"/>
                <a:ea typeface="楷体_GB2312"/>
                <a:hlinkClick r:id="rId2"/>
              </a:rPr>
              <a:t>陕西</a:t>
            </a:r>
            <a:r>
              <a:rPr b="0" lang="zh-CN" sz="2400" spc="-1" strike="noStrike" u="sng">
                <a:solidFill>
                  <a:srgbClr val="cc0066"/>
                </a:solidFill>
                <a:uFillTx/>
                <a:latin typeface="Arial"/>
                <a:ea typeface="楷体_GB2312"/>
                <a:hlinkClick r:id="rId3"/>
              </a:rPr>
              <a:t>咸阳</a:t>
            </a:r>
            <a:r>
              <a:rPr b="1" lang="zh-CN" sz="2400" spc="-1" strike="noStrike">
                <a:solidFill>
                  <a:srgbClr val="020406"/>
                </a:solidFill>
                <a:latin typeface="Arial"/>
                <a:ea typeface="楷体_GB2312"/>
              </a:rPr>
              <a:t>市东北，渭水北岸。</a:t>
            </a:r>
            <a:r>
              <a:rPr b="1" lang="en-US" sz="2400" spc="-1" strike="noStrike">
                <a:solidFill>
                  <a:srgbClr val="020406"/>
                </a:solidFill>
                <a:latin typeface="Arial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20406"/>
                </a:solidFill>
                <a:latin typeface="Arial"/>
                <a:ea typeface="楷体_GB2312"/>
              </a:rPr>
              <a:t>成语：泾渭分明</a:t>
            </a:r>
            <a:r>
              <a:rPr b="1" lang="en-US" sz="2400" spc="-1" strike="noStrike">
                <a:solidFill>
                  <a:srgbClr val="020406"/>
                </a:solidFill>
                <a:latin typeface="Arial"/>
                <a:ea typeface="楷体_GB2312"/>
              </a:rPr>
              <a:t>)</a:t>
            </a:r>
            <a:r>
              <a:rPr b="1" lang="en-US" sz="2400" spc="-1" strike="noStrike">
                <a:solidFill>
                  <a:srgbClr val="02040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09480" y="28184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20406"/>
                </a:solidFill>
                <a:latin typeface="楷体_GB2312"/>
                <a:ea typeface="楷体_GB2312"/>
              </a:rPr>
              <a:t>浥：（</a:t>
            </a:r>
            <a:r>
              <a:rPr b="1" lang="en-US" sz="2400" spc="-1" strike="noStrike">
                <a:solidFill>
                  <a:srgbClr val="020406"/>
                </a:solidFill>
                <a:latin typeface="楷体_GB2312"/>
                <a:ea typeface="楷体_GB2312"/>
              </a:rPr>
              <a:t>y</a:t>
            </a:r>
            <a:r>
              <a:rPr b="1" lang="en-US" sz="2400" spc="-1" strike="noStrike">
                <a:solidFill>
                  <a:srgbClr val="020406"/>
                </a:solidFill>
                <a:latin typeface="Arial"/>
                <a:ea typeface="楷体_GB2312"/>
              </a:rPr>
              <a:t>ì</a:t>
            </a:r>
            <a:r>
              <a:rPr b="1" lang="zh-CN" sz="2400" spc="-1" strike="noStrike">
                <a:solidFill>
                  <a:srgbClr val="020406"/>
                </a:solidFill>
                <a:latin typeface="楷体_GB2312"/>
                <a:ea typeface="楷体_GB2312"/>
              </a:rPr>
              <a:t>）：</a:t>
            </a:r>
            <a:r>
              <a:rPr b="1" lang="zh-CN" sz="2400" spc="-1" strike="noStrike">
                <a:solidFill>
                  <a:srgbClr val="020406"/>
                </a:solidFill>
                <a:latin typeface="Arial"/>
                <a:ea typeface="楷体_GB2312"/>
              </a:rPr>
              <a:t>湿润</a:t>
            </a:r>
            <a:r>
              <a:rPr b="1" lang="zh-CN" sz="1800" spc="-1" strike="noStrike">
                <a:solidFill>
                  <a:srgbClr val="020406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88620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20406"/>
                </a:solidFill>
                <a:latin typeface="Arial"/>
                <a:ea typeface="楷体_GB2312"/>
              </a:rPr>
              <a:t>客舍：旅店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380880" y="335124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cc"/>
                </a:solidFill>
                <a:latin typeface="Arial"/>
                <a:ea typeface="楷体_GB2312"/>
              </a:rPr>
              <a:t>柳色：即指初春嫩柳的颜色。       “柳</a:t>
            </a:r>
            <a:r>
              <a:rPr b="0" lang="zh-CN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99cc"/>
                </a:solidFill>
                <a:latin typeface="Arial"/>
              </a:rPr>
              <a:t>”谐音“留”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cc"/>
                </a:solidFill>
                <a:latin typeface="Arial"/>
              </a:rPr>
              <a:t>杨柳依依，古人有折柳送别的习俗，蕴含依依不舍之意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304920" y="4803480"/>
            <a:ext cx="8381880" cy="703440"/>
          </a:xfrm>
          <a:prstGeom prst="rect">
            <a:avLst/>
          </a:prstGeom>
          <a:noFill/>
          <a:ln cap="rnd" w="9360">
            <a:solidFill>
              <a:srgbClr val="0033cc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渭城清晨一场如酥小雨，湿润了路上的尘埃，旅店旁的棵棵绿柳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被雨水冲洗得翠色欲滴。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533520" y="2286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20406"/>
                </a:solidFill>
                <a:latin typeface="Arial"/>
              </a:rPr>
              <a:t>朝：早上。如“朝辞白帝彩云间”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解答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3840" y="192852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80d02"/>
                </a:solidFill>
                <a:latin typeface="Arial"/>
              </a:rPr>
              <a:t>前两句写离别时的景色，地点是（    ），季节是（     ），从哪里可以看出？“柳”与“</a:t>
            </a:r>
            <a:r>
              <a:rPr b="1" lang="en-US" sz="3600" spc="-1" strike="noStrike">
                <a:solidFill>
                  <a:srgbClr val="780d02"/>
                </a:solidFill>
                <a:latin typeface="Arial"/>
              </a:rPr>
              <a:t>(     )”</a:t>
            </a:r>
            <a:r>
              <a:rPr b="1" lang="zh-CN" sz="3600" spc="-1" strike="noStrike">
                <a:solidFill>
                  <a:srgbClr val="780d02"/>
                </a:solidFill>
                <a:latin typeface="Arial"/>
              </a:rPr>
              <a:t>谐音，暗含（        ）之意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503480" y="2071800"/>
            <a:ext cx="91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城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渭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786040" y="25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春季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787480" y="3071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6579720" y="3143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依依不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7910640" y="762120"/>
            <a:ext cx="5475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596440" y="0"/>
            <a:ext cx="547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4648320" y="9144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渭城朝雨浥轻尘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客舍青青柳色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501440" y="2100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267080" y="289548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这句诗点明了送别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和 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449568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地点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5943600" y="342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时间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7391520" y="342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环境气氛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6" name="Picture 12" descr="photo512"/>
          <p:cNvPicPr/>
          <p:nvPr/>
        </p:nvPicPr>
        <p:blipFill>
          <a:blip r:embed="rId2"/>
          <a:stretch/>
        </p:blipFill>
        <p:spPr>
          <a:xfrm>
            <a:off x="380880" y="380880"/>
            <a:ext cx="3886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0" y="380880"/>
            <a:ext cx="9220320" cy="76428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20406"/>
                </a:solidFill>
                <a:latin typeface="Arial"/>
                <a:ea typeface="楷体_GB2312"/>
              </a:rPr>
              <a:t>劝君更尽一杯酒，西出阳关无故人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623240" y="12186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7d7da9"/>
                </a:solidFill>
                <a:latin typeface="Arial"/>
                <a:ea typeface="楷体_GB2312"/>
              </a:rPr>
              <a:t>君：你，指元二。</a:t>
            </a:r>
            <a:r>
              <a:rPr b="0" lang="zh-CN" sz="2400" spc="-1" strike="noStrike">
                <a:solidFill>
                  <a:srgbClr val="7d7da9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10800" y="4118040"/>
            <a:ext cx="4874760" cy="2104920"/>
          </a:xfrm>
          <a:prstGeom prst="rect">
            <a:avLst/>
          </a:prstGeom>
          <a:noFill/>
          <a:ln cap="rnd" w="9360">
            <a:solidFill>
              <a:srgbClr val="0033cc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07f1"/>
                </a:solidFill>
                <a:latin typeface="Arial"/>
                <a:ea typeface="楷体_GB2312"/>
              </a:rPr>
              <a:t>请你再饮一杯离别的酒吧！因为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07f1"/>
                </a:solidFill>
                <a:latin typeface="Arial"/>
                <a:ea typeface="楷体_GB2312"/>
              </a:rPr>
              <a:t>你西出阳关之后，在那里就见不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07f1"/>
                </a:solidFill>
                <a:latin typeface="Arial"/>
                <a:ea typeface="楷体_GB2312"/>
              </a:rPr>
              <a:t>到老朋友了。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4191120" y="1219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d7da9"/>
                </a:solidFill>
                <a:latin typeface="Arial"/>
                <a:ea typeface="楷体_GB2312"/>
              </a:rPr>
              <a:t>更：再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533520" y="18288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d7da9"/>
                </a:solidFill>
                <a:latin typeface="Arial"/>
                <a:ea typeface="楷体_GB2312"/>
              </a:rPr>
              <a:t>故人：老朋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191120" y="17524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d7da9"/>
                </a:solidFill>
                <a:latin typeface="楷体_GB2312"/>
                <a:ea typeface="楷体_GB2312"/>
              </a:rPr>
              <a:t>更尽：再饮完 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57200" y="2514600"/>
            <a:ext cx="8001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阳关：汉朝设置的边关名，故址在今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Arial"/>
                <a:ea typeface="楷体_GB2312"/>
                <a:hlinkClick r:id="rId2"/>
              </a:rPr>
              <a:t>甘肃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省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Arial"/>
                <a:ea typeface="楷体_GB2312"/>
                <a:hlinkClick r:id="rId3"/>
              </a:rPr>
              <a:t>敦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县西南，古代跟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Arial"/>
                <a:ea typeface="楷体_GB2312"/>
                <a:hlinkClick r:id="rId4"/>
              </a:rPr>
              <a:t>玉门关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同是出塞必经的关口，因在玉门之南，南面为阳，故称阳关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解答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20406"/>
                </a:solidFill>
                <a:latin typeface="Arial"/>
              </a:rPr>
              <a:t>后两句写了什么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20406"/>
                </a:solidFill>
                <a:latin typeface="Arial"/>
              </a:rPr>
              <a:t>你仿佛看到了什么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20406"/>
                </a:solidFill>
                <a:latin typeface="Arial"/>
              </a:rPr>
              <a:t>你能体会到诗人送别友人时怎样的复杂情感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867280" y="1143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抒情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990720" y="28195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两个好朋友难分难舍的场面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3794040" y="467028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066680" y="510552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对朋友的不舍、关心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别董大2"/>
          <p:cNvPicPr/>
          <p:nvPr/>
        </p:nvPicPr>
        <p:blipFill>
          <a:blip r:embed="rId2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5292720" y="260280"/>
            <a:ext cx="344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劝君更进一杯酒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西出阳关无故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6227640" y="4046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黑体"/>
              </a:rPr>
              <a:t>·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5286240" y="2428920"/>
            <a:ext cx="287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这两行诗由写景转入送别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更”字表明酒已劝了多次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敬了多杯，这依依惜别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情虽只字未提，但都见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言表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6227640" y="6093000"/>
            <a:ext cx="267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阳关古城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211280" y="620640"/>
            <a:ext cx="475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王维，字摩诘，祖籍山西祁（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qí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）县，唐朝著名诗人，善画人物、丛竹、山水。今存诗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40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余首。王维诗书画都很有名，多才多艺。苏轼赞他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“诗中有画，画中有诗”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音乐也很精通。他是盛唐山水田园诗派的代表作家，与孟浩然并称“王孟”。其中以五言律诗和五言绝句成就最高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3" name="Picture 7" descr="jiuyuejiuri1"/>
          <p:cNvPicPr/>
          <p:nvPr/>
        </p:nvPicPr>
        <p:blipFill>
          <a:blip r:embed="rId2"/>
          <a:stretch/>
        </p:blipFill>
        <p:spPr>
          <a:xfrm>
            <a:off x="250920" y="260280"/>
            <a:ext cx="3730680" cy="5832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684360" y="6237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王维（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701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—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761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年）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5" name="DefaultOcx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36" name="HTMLHidden1" descr=""/>
          <p:cNvPicPr/>
          <p:nvPr/>
        </p:nvPicPr>
        <p:blipFill>
          <a:blip r:embed="rId4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37" name="HTMLHidden2" descr=""/>
          <p:cNvPicPr/>
          <p:nvPr/>
        </p:nvPicPr>
        <p:blipFill>
          <a:blip r:embed="rId5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6227640" y="6093000"/>
            <a:ext cx="267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阳关古道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6156360" y="6093000"/>
            <a:ext cx="26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安西遗址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457200" y="27432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（伤感的酒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685800" y="2743200"/>
            <a:ext cx="604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春雨挽留不住友人的脚步，朋友终将远走他乡，怎不伤感别离？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33520" y="37339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（祝福的酒）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476360" y="5002200"/>
            <a:ext cx="54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838080" y="3733920"/>
            <a:ext cx="54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出使安西，路途遥远，吉凶难料，还请您干了这一杯，祝福我的朋友一路平安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980280" y="487584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（壮行的酒）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990720" y="487692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祝愿朋友今日出使安西，一定能在边关建功立业，报效国家，来年凯旋而归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457200" y="1523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劝君更尽一杯酒”，是一杯怎样的酒？你感受到了什么？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隶书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WordArt 11"/>
          <p:cNvSpPr txBox="1"/>
          <p:nvPr/>
        </p:nvSpPr>
        <p:spPr>
          <a:xfrm>
            <a:off x="468360" y="260280"/>
            <a:ext cx="22860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入诗境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zoom dir="in"/>
    <p:sndAc>
      <p:stSnd>
        <p:snd r:embed="rId2" name="drumroll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995640" y="333360"/>
            <a:ext cx="4680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214280" y="1785960"/>
            <a:ext cx="642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思想感情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从包含深情的劝酒中，可以体会出朋友间的依依不舍之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179280" y="115920"/>
            <a:ext cx="22860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悟诗情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0" y="404640"/>
            <a:ext cx="860580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交流要点：两首诗的相同和不同点，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                               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相同点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都写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送”别场面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表达对友人的依依不舍、关切与祝 福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诗中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写景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叙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都没有直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抒情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寓情于景 。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                                 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不同点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黄鹤楼送孟浩然之广陵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前两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叙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兼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写景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后两句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写景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送元二使安西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前两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写景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后两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叙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有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送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西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尽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故人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”四个相同的字词，但具体含义不同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送别情景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不同。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前是写孤帆江水景色；后是劝酒祝酒话别情景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）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43640" y="189000"/>
            <a:ext cx="2098800" cy="792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728f8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练习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62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本首诗是作者（            ）在（                 ）送别好友（             ）去（            ），其中好友要途经（      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更”字说明了（                               ），表达了（                                           ）之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矩形 3"/>
          <p:cNvSpPr/>
          <p:nvPr/>
        </p:nvSpPr>
        <p:spPr>
          <a:xfrm>
            <a:off x="4016160" y="46432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诗人对朋友的依依惜别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4200120" y="2000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王维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矩形 5"/>
          <p:cNvSpPr/>
          <p:nvPr/>
        </p:nvSpPr>
        <p:spPr>
          <a:xfrm>
            <a:off x="6914880" y="2000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渭城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矩形 6"/>
          <p:cNvSpPr/>
          <p:nvPr/>
        </p:nvSpPr>
        <p:spPr>
          <a:xfrm>
            <a:off x="3485880" y="2571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元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矩形 7"/>
          <p:cNvSpPr/>
          <p:nvPr/>
        </p:nvSpPr>
        <p:spPr>
          <a:xfrm>
            <a:off x="5913000" y="2643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行楷"/>
              </a:rPr>
              <a:t>安西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矩形 8"/>
          <p:cNvSpPr/>
          <p:nvPr/>
        </p:nvSpPr>
        <p:spPr>
          <a:xfrm>
            <a:off x="3414240" y="3071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阳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981600" y="144720"/>
            <a:ext cx="118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8935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Arial"/>
                <a:ea typeface="Arial"/>
              </a:rPr>
              <a:t>好让对方再多留一刻。</a:t>
            </a:r>
            <a:r>
              <a:rPr b="0" lang="zh-CN" sz="11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5388480" y="4216680"/>
            <a:ext cx="157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8935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好让对方再多留一刻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《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送元二使安西</a:t>
            </a: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》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是关于友情的一首诗，你还知道哪些关于友情的诗句呢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79280" y="5444640"/>
            <a:ext cx="857592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劝君更尽一杯酒，西出阳关无故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唐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王维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送元二使安西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3" name="Picture 7" descr="图片1玄6"/>
          <p:cNvPicPr/>
          <p:nvPr/>
        </p:nvPicPr>
        <p:blipFill>
          <a:blip r:embed="rId2"/>
          <a:stretch/>
        </p:blipFill>
        <p:spPr>
          <a:xfrm>
            <a:off x="108000" y="115920"/>
            <a:ext cx="892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179280" y="544500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桃花潭水深千尺，不及汪伦送我情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唐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李白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赠汪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7" name="Picture 12" descr="564564564"/>
          <p:cNvPicPr/>
          <p:nvPr/>
        </p:nvPicPr>
        <p:blipFill>
          <a:blip r:embed="rId2"/>
          <a:stretch/>
        </p:blipFill>
        <p:spPr>
          <a:xfrm>
            <a:off x="108000" y="115920"/>
            <a:ext cx="8928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537336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莫道前路无知己，天下谁人不识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高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别董大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0" name="Picture 9" descr="图片153432"/>
          <p:cNvPicPr/>
          <p:nvPr/>
        </p:nvPicPr>
        <p:blipFill>
          <a:blip r:embed="rId2"/>
          <a:stretch/>
        </p:blipFill>
        <p:spPr>
          <a:xfrm>
            <a:off x="108000" y="115920"/>
            <a:ext cx="8928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708000" y="1915920"/>
            <a:ext cx="511164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仿宋_GB2312"/>
              </a:rPr>
              <a:t>送元二使安西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7572"/>
                </a:solidFill>
                <a:latin typeface="仿宋_GB2312"/>
                <a:ea typeface="仿宋_GB2312"/>
              </a:rPr>
              <a:t>唐 </a:t>
            </a:r>
            <a:r>
              <a:rPr b="0" lang="zh-CN" sz="3200" spc="-1" strike="noStrike">
                <a:solidFill>
                  <a:srgbClr val="007572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007572"/>
                </a:solidFill>
                <a:latin typeface="仿宋_GB2312"/>
                <a:ea typeface="仿宋_GB2312"/>
              </a:rPr>
              <a:t>王维</a:t>
            </a:r>
            <a:r>
              <a:rPr b="1" lang="zh-CN" sz="4000" spc="-1" strike="noStrike">
                <a:solidFill>
                  <a:srgbClr val="007572"/>
                </a:solidFill>
                <a:latin typeface="仿宋_GB2312"/>
                <a:ea typeface="仿宋_GB2312"/>
              </a:rPr>
              <a:t> </a:t>
            </a:r>
            <a:br>
              <a:rPr sz="4000"/>
            </a:br>
            <a:r>
              <a:rPr b="1" lang="zh-CN" sz="36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渭城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1" lang="zh-CN" sz="36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朝雨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1" lang="zh-CN" sz="36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浥轻尘，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 客舍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1" lang="zh-CN" sz="36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青青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1" lang="zh-CN" sz="36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柳色新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 劝君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1" lang="zh-CN" sz="36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更尽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1" lang="zh-CN" sz="36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一杯酒，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 西出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1" lang="zh-CN" sz="36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阳关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1" lang="zh-CN" sz="36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无故人。</a:t>
            </a: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39" name="Picture 3" descr="11572967384633754"/>
          <p:cNvPicPr/>
          <p:nvPr/>
        </p:nvPicPr>
        <p:blipFill>
          <a:blip r:embed="rId2"/>
          <a:stretch/>
        </p:blipFill>
        <p:spPr>
          <a:xfrm>
            <a:off x="0" y="1484280"/>
            <a:ext cx="37800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3" name="Picture 12" descr="图片15345"/>
          <p:cNvPicPr/>
          <p:nvPr/>
        </p:nvPicPr>
        <p:blipFill>
          <a:blip r:embed="rId2"/>
          <a:stretch/>
        </p:blipFill>
        <p:spPr>
          <a:xfrm>
            <a:off x="108000" y="115920"/>
            <a:ext cx="8928000" cy="65530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3"/>
          <p:cNvSpPr/>
          <p:nvPr/>
        </p:nvSpPr>
        <p:spPr>
          <a:xfrm>
            <a:off x="250920" y="4941720"/>
            <a:ext cx="85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孤帆远影碧空尽，唯见长江天际流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唐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李白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送孟浩然之广陵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560" y="530064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海内存知己，天涯若比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王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送杜少府之任蜀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7" name="Picture 7" descr="图片1特瑞特让他"/>
          <p:cNvPicPr/>
          <p:nvPr/>
        </p:nvPicPr>
        <p:blipFill>
          <a:blip r:embed="rId2"/>
          <a:stretch/>
        </p:blipFill>
        <p:spPr>
          <a:xfrm>
            <a:off x="108000" y="115920"/>
            <a:ext cx="8928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49" name="Picture 7" descr="图片15345退热贴"/>
          <p:cNvPicPr/>
          <p:nvPr/>
        </p:nvPicPr>
        <p:blipFill>
          <a:blip r:embed="rId2"/>
          <a:stretch/>
        </p:blipFill>
        <p:spPr>
          <a:xfrm>
            <a:off x="108000" y="115920"/>
            <a:ext cx="8928000" cy="5257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8"/>
          <p:cNvSpPr/>
          <p:nvPr/>
        </p:nvSpPr>
        <p:spPr>
          <a:xfrm>
            <a:off x="179280" y="544500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洛阳亲友如相问，一片冰心在玉壶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唐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王昌龄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芙蓉楼送辛渐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9280" y="544500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山回路转不见君，雪上空余马行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唐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岑参白雪歌送武判官归京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3" name="Picture 7" descr="图片14234234"/>
          <p:cNvPicPr/>
          <p:nvPr/>
        </p:nvPicPr>
        <p:blipFill>
          <a:blip r:embed="rId2"/>
          <a:stretch/>
        </p:blipFill>
        <p:spPr>
          <a:xfrm>
            <a:off x="108000" y="115920"/>
            <a:ext cx="8856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3303720" y="1869480"/>
            <a:ext cx="4724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sh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宿舍 ）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shě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依依不舍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jūn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君子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192760" y="18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舍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268720" y="4464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君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WordArt 2" descr=""/>
          <p:cNvPicPr/>
          <p:nvPr/>
        </p:nvPicPr>
        <p:blipFill>
          <a:blip r:embed="rId2"/>
          <a:stretch/>
        </p:blipFill>
        <p:spPr>
          <a:xfrm>
            <a:off x="536400" y="291960"/>
            <a:ext cx="3005280" cy="1871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1908000" y="2565360"/>
            <a:ext cx="676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华文行楷"/>
              </a:rPr>
              <a:t>送元二    安西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197080" y="3068640"/>
            <a:ext cx="360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284720" y="2565360"/>
            <a:ext cx="125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华文行楷"/>
              </a:rPr>
              <a:t>使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755640" y="3860640"/>
            <a:ext cx="79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元二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：作者的友人元常，在兄弟中排行老二，故名“元二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826920" y="4797360"/>
            <a:ext cx="559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使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：使：到某地；出使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755640" y="544500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安西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：安西：唐代安西都护府，在今新疆维吾尔自治区库车县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96f8f185636c12a35fa41f2"/>
          <p:cNvPicPr/>
          <p:nvPr/>
        </p:nvPicPr>
        <p:blipFill>
          <a:blip r:embed="rId2"/>
          <a:stretch/>
        </p:blipFill>
        <p:spPr>
          <a:xfrm>
            <a:off x="228600" y="380880"/>
            <a:ext cx="86868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3059280" y="2708280"/>
            <a:ext cx="647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西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708360" y="3573360"/>
            <a:ext cx="647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阳关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300720" y="3860640"/>
            <a:ext cx="647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渭城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 flipH="1" flipV="1">
            <a:off x="4284360" y="3500280"/>
            <a:ext cx="1942920" cy="720720"/>
          </a:xfrm>
          <a:prstGeom prst="line">
            <a:avLst/>
          </a:prstGeom>
          <a:ln w="507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 flipH="1" flipV="1">
            <a:off x="3059280" y="3141720"/>
            <a:ext cx="1225440" cy="287280"/>
          </a:xfrm>
          <a:prstGeom prst="line">
            <a:avLst/>
          </a:prstGeom>
          <a:ln w="507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826920" y="4869000"/>
            <a:ext cx="28083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从渭城到安西有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3000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多公里，古时候没有汽车、火车、飞机，就是用上最快的交通工具骑马去也要用上半年时间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WordArt 2" descr=""/>
          <p:cNvPicPr/>
          <p:nvPr/>
        </p:nvPicPr>
        <p:blipFill>
          <a:blip r:embed="rId2"/>
          <a:stretch/>
        </p:blipFill>
        <p:spPr>
          <a:xfrm>
            <a:off x="317520" y="103320"/>
            <a:ext cx="2492280" cy="1554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1235160" y="2421000"/>
            <a:ext cx="5425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763640" y="1052640"/>
            <a:ext cx="691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渭城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：秦置咸阳县，在今陕西咸阳市东北，渭水北岸。 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浥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yì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：湿润。 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客舍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：旅店。 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柳色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：即指初春嫩柳的颜色。 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君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：指元二。 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：再。 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阳关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：汉朝设置的边关名，故址在今甘肃省敦煌县西南，古代跟玉门关同是出塞必经的关口。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元和郡县志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云，因在玉门之南，故称阳关。 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故人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：老朋友。 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76360" y="5084280"/>
            <a:ext cx="48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渭城朝雨浥轻尘，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19:06:51Z</dcterms:created>
  <dc:creator>微软用户</dc:creator>
  <dc:description/>
  <dc:language>en-US</dc:language>
  <cp:lastModifiedBy>User</cp:lastModifiedBy>
  <dcterms:modified xsi:type="dcterms:W3CDTF">2014-12-03T01:11:48Z</dcterms:modified>
  <cp:revision>20</cp:revision>
  <dc:subject/>
  <dc:title>送元二使安西</dc:title>
</cp:coreProperties>
</file>