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C1C-F26E-4B8E-8443-6B391AFB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80089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6280" y="3910680"/>
            <a:ext cx="80089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90E-7BF8-4C6E-8A73-E18F8DBA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6280" y="391068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0280" y="391068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5A1-5BEA-4D70-8B0E-26C23F58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74200" y="123660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82120" y="123660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66280" y="391068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74200" y="391068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82120" y="391068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CF12-7EA9-4BA6-81AA-F3D615C7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B2B9-A1BE-4034-9776-B7435076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66280" y="1236600"/>
            <a:ext cx="8008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1931-480E-429A-A100-25A5DE86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800892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67EB-45F5-499F-B865-CF44085C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390816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90816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DF14-553F-4FEA-91B1-FE107417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EAB9-94A0-488B-9079-7746D3C8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66640" y="399960"/>
            <a:ext cx="8082000" cy="27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20A3-B019-4230-BA10-C68BCD7D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90816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1068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ABC4-AC0B-474C-9D12-F9E30E5A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66280" y="1236600"/>
            <a:ext cx="8008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FF4-A969-4EA8-92F8-A278B6D5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390816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0280" y="391068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FD6D-AED3-44AF-9046-51FC4967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10680"/>
            <a:ext cx="80089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FBBF-DB73-4EF8-99C2-5D6E28D0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80089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6280" y="3910680"/>
            <a:ext cx="80089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EF69-829B-4B04-9B44-7F4B8513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6280" y="391068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0280" y="391068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C8D8-F6E2-4A01-9A76-BB5ADFB6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74200" y="123660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82120" y="123660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66280" y="391068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74200" y="391068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82120" y="391068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576F-07D8-49B9-8D9B-E7FAF622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E1CA6-DE09-48CE-A400-491BF9A0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66280" y="1236600"/>
            <a:ext cx="8008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BE29E-65A6-4925-AB3F-4971794D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800892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2DC0F-E50E-4820-8D99-50FB2A63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390816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90816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875F9-8A8A-4935-A182-E63FE3AA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715B8-04A8-4387-B547-6C973157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800892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C6D-43B3-4B2E-8708-99F90E30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66640" y="399960"/>
            <a:ext cx="8082000" cy="27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36015-E603-48E1-AD89-20B58410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90816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1068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9DCDC-5DBF-4C3E-997A-B659A74D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390816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0280" y="391068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1E4E6-0A61-49B1-B3B1-7107BB7B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6280" y="3910680"/>
            <a:ext cx="80089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72ABA-F4DB-4DCC-B499-DDBA96EF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80089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66280" y="3910680"/>
            <a:ext cx="80089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B9A3C-3863-4486-A24D-3769E78A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6280" y="391068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0280" y="391068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5E57B-3C60-4C65-A2CB-0826CE9E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74200" y="123660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82120" y="123660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66280" y="391068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74200" y="391068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82120" y="391068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48C07-DD4D-4F20-A69E-2A2A1323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9DB78-AAB6-4E93-A589-9F5869E9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66280" y="1236600"/>
            <a:ext cx="8008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0F74D-BF04-4D48-80E9-606713D2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800892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D376E-715B-44EE-B8CB-F53B1F2A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390816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90816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605E-DEF1-4A99-B74C-7FA92180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390816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90816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D64C3-C0F9-40D4-9773-BE3FCC8F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244AB-9D54-4012-A514-12E7BDD7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66640" y="399960"/>
            <a:ext cx="8082000" cy="27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7E62F-EC2B-4B28-8061-D5201759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90816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6280" y="391068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ED7C0-70EB-4BEE-90EB-BE50CA01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390816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0280" y="391068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15DD3-47B0-41A4-BBE3-DC2018A6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66280" y="3910680"/>
            <a:ext cx="80089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59CF1-D267-487D-A7EA-A428972A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80089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66280" y="3910680"/>
            <a:ext cx="80089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05ABB-D67F-49DC-AD00-28BAE997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66280" y="391068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0280" y="391068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90D9D-015E-4930-AAC2-8DD1E3A5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74200" y="123660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82120" y="123660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66280" y="391068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74200" y="391068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82120" y="3910680"/>
            <a:ext cx="257868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E2A82-4079-4BED-964D-0BFD9970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9BC2-2DCD-47F4-A51A-BA400B75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66640" y="399960"/>
            <a:ext cx="8082000" cy="27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5B01-05E6-49DE-9FB3-499188AE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90816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6280" y="391068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D52-8B84-4F79-B0BB-3ABD5F58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390816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0280" y="391068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2F16-2121-40D8-9FA8-9AF611DD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236600"/>
            <a:ext cx="390816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10680"/>
            <a:ext cx="800892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A4B-AE8B-4C37-8995-FD35317A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290E-9046-4ACC-AECE-AAC0B44EAD2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DOCUME~1\ADMINI~1\APPLIC~1\360se6\USERDA~1\Temp\120859~1.JPG"/>
          <p:cNvPicPr/>
          <p:nvPr/>
        </p:nvPicPr>
        <p:blipFill>
          <a:blip r:embed="rId2"/>
          <a:srcRect l="8874" t="0" r="11591" b="0"/>
          <a:stretch/>
        </p:blipFill>
        <p:spPr>
          <a:xfrm>
            <a:off x="14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6"/>
          <p:cNvSpPr/>
          <p:nvPr/>
        </p:nvSpPr>
        <p:spPr>
          <a:xfrm>
            <a:off x="0" y="714240"/>
            <a:ext cx="9145440" cy="5848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566280" y="1236600"/>
            <a:ext cx="800892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e37621"/>
              </a:buClr>
              <a:buSzPct val="70000"/>
              <a:buFont typeface="Wingdings 2" charset="2"/>
              <a:buChar char="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3762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  <a:p>
            <a:pPr lvl="1" marL="266760" indent="-266760">
              <a:lnSpc>
                <a:spcPct val="90000"/>
              </a:lnSpc>
              <a:spcBef>
                <a:spcPts val="1349"/>
              </a:spcBef>
              <a:buClr>
                <a:srgbClr val="3d3f41"/>
              </a:buClr>
              <a:buFont typeface="Calibri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3762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3762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3762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3762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3d3f41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3762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3d3f41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3762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F739-50FF-421D-A672-8AB5146881CE}" type="slidenum">
              <a:rPr b="0" lang="zh-CN" sz="900" spc="-1" strike="noStrike">
                <a:solidFill>
                  <a:srgbClr val="a6a6a6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0" y="371520"/>
            <a:ext cx="9144000" cy="658800"/>
          </a:xfrm>
          <a:prstGeom prst="rect">
            <a:avLst/>
          </a:prstGeom>
          <a:solidFill>
            <a:srgbClr val="e37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3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5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6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8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03AD-A891-4D6B-B333-E892B6D6FDA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c:\DOCUME~1\ADMINI~1\APPLIC~1\360se6\USERDA~1\Temp\120859~1.JPG"/>
          <p:cNvPicPr/>
          <p:nvPr/>
        </p:nvPicPr>
        <p:blipFill>
          <a:blip r:embed="rId2"/>
          <a:srcRect l="13567" t="8161" r="1292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566280" y="1236600"/>
            <a:ext cx="800892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e37621"/>
              </a:buClr>
              <a:buSzPct val="70000"/>
              <a:buFont typeface="Wingdings 2" charset="2"/>
              <a:buChar char="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3762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  <a:p>
            <a:pPr lvl="1" marL="266760" indent="-266760">
              <a:lnSpc>
                <a:spcPct val="90000"/>
              </a:lnSpc>
              <a:spcBef>
                <a:spcPts val="1349"/>
              </a:spcBef>
              <a:buClr>
                <a:srgbClr val="3d3f41"/>
              </a:buClr>
              <a:buFont typeface="Calibri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3762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3762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3762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3762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3d3f41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3762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3d3f41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e3762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e37621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566640" y="399960"/>
            <a:ext cx="80820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585D-12DA-4224-A582-D01791A9C41F}" type="slidenum">
              <a:rPr b="0" lang="zh-CN" sz="900" spc="-1" strike="noStrike">
                <a:solidFill>
                  <a:srgbClr val="a6a6a6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5657400" y="1295280"/>
            <a:ext cx="31215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66"/>
                </a:solidFill>
                <a:latin typeface="华文新魏"/>
                <a:ea typeface="华文新魏"/>
              </a:rPr>
              <a:t>生物</a:t>
            </a:r>
            <a:r>
              <a:rPr b="0" lang="zh-CN" sz="5400" spc="-1" strike="noStrike">
                <a:solidFill>
                  <a:srgbClr val="000066"/>
                </a:solidFill>
                <a:latin typeface="华文行楷"/>
                <a:ea typeface="华文行楷"/>
              </a:rPr>
              <a:t>入侵者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d3f41"/>
                </a:solidFill>
                <a:latin typeface="华文新魏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梅涛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83" name="Picture 3" descr="nkjcq2005102621-8"/>
          <p:cNvPicPr/>
          <p:nvPr/>
        </p:nvPicPr>
        <p:blipFill>
          <a:blip r:embed="rId2"/>
          <a:stretch/>
        </p:blipFill>
        <p:spPr>
          <a:xfrm>
            <a:off x="108000" y="1052640"/>
            <a:ext cx="6095880" cy="5472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449568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Arial"/>
                <a:ea typeface="楷体_GB2312"/>
              </a:rPr>
              <a:t>火炬树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609480" y="91440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d3f41"/>
                </a:solidFill>
                <a:latin typeface="Arial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总结反思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762120" y="22096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学习本文后，你最想说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_________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，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原因是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_________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609480" y="1295280"/>
            <a:ext cx="799164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000066"/>
                </a:solidFill>
                <a:latin typeface="Arial"/>
                <a:ea typeface="楷体_GB2312"/>
              </a:rPr>
              <a:t>作业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cbf3b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bcbf3b"/>
                </a:solidFill>
                <a:latin typeface="Arial"/>
                <a:ea typeface="楷体_GB2312"/>
              </a:rPr>
              <a:t>课外搜集有关生物入侵者的资料，制作手抄报，以便同学间交流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cbf3b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bcbf3b"/>
                </a:solidFill>
                <a:latin typeface="Arial"/>
                <a:ea typeface="楷体_GB2312"/>
              </a:rPr>
              <a:t>小练笔：生物入侵者和我有关系吗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295280" y="464832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4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科学界的不同见解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97180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给人类带来的危害、破坏作用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5580000" y="2060640"/>
            <a:ext cx="649440" cy="3743280"/>
          </a:xfrm>
          <a:custGeom>
            <a:avLst/>
            <a:gdLst>
              <a:gd name="textAreaLeft" fmla="*/ 0 w 649440"/>
              <a:gd name="textAreaRight" fmla="*/ 234360 w 6494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295280" y="525780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5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各国采取的措施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6300720" y="357336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逻辑顺序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762120" y="30492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整体阅读 感知内容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539640" y="1125360"/>
            <a:ext cx="70200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533520" y="1143000"/>
            <a:ext cx="701964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762120" y="30492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整体阅读 感知内容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762120" y="30492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整体阅读 感知内容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95" name="Group 12"/>
          <p:cNvGrpSpPr/>
          <p:nvPr/>
        </p:nvGrpSpPr>
        <p:grpSpPr>
          <a:xfrm>
            <a:off x="1295280" y="1752480"/>
            <a:ext cx="4716360" cy="2895120"/>
            <a:chOff x="1295280" y="1752480"/>
            <a:chExt cx="4716360" cy="2895120"/>
          </a:xfrm>
        </p:grpSpPr>
        <p:sp>
          <p:nvSpPr>
            <p:cNvPr id="196" name="Text Box 13"/>
            <p:cNvSpPr/>
            <p:nvPr/>
          </p:nvSpPr>
          <p:spPr>
            <a:xfrm>
              <a:off x="1295280" y="4005000"/>
              <a:ext cx="424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  <a:ea typeface="楷体_GB2312"/>
                </a:rPr>
                <a:t>3.</a:t>
              </a:r>
              <a:r>
                <a:rPr b="1" lang="zh-CN" sz="3600" spc="-1" strike="noStrike">
                  <a:solidFill>
                    <a:srgbClr val="000066"/>
                  </a:solidFill>
                  <a:latin typeface="Arial"/>
                  <a:ea typeface="楷体_GB2312"/>
                </a:rPr>
                <a:t>增多的原因和途径</a:t>
              </a:r>
              <a:endParaRPr b="1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7" name="Text Box 14"/>
            <p:cNvSpPr/>
            <p:nvPr/>
          </p:nvSpPr>
          <p:spPr>
            <a:xfrm>
              <a:off x="1331640" y="1752480"/>
              <a:ext cx="46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  <a:ea typeface="楷体_GB2312"/>
                </a:rPr>
                <a:t>1.</a:t>
              </a:r>
              <a:r>
                <a:rPr b="1" lang="zh-CN" sz="3600" spc="-1" strike="noStrike">
                  <a:solidFill>
                    <a:srgbClr val="000066"/>
                  </a:solidFill>
                  <a:latin typeface="Arial"/>
                  <a:ea typeface="楷体_GB2312"/>
                </a:rPr>
                <a:t>引出话题——什么是生物入侵者 </a:t>
              </a:r>
              <a:endParaRPr b="1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755640" y="1341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你知道本文运用了哪些说明方法？说一说它们的好处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187280" y="306864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列数字　举例子　打比方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826920" y="83664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探讨研究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468360" y="2060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１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如何理解在物种迁移过程中的“人为干预”？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68360" y="3645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２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为什么在形成“生物入侵者”的过程中，强调“不受同类的食物竞争”和“不受天敌的伤害”这两个条件？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755640" y="476280"/>
            <a:ext cx="39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拓展延伸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57200" y="137160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下面是一些生物入侵者的图片和文字，看完后说说你的想法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205" name="Picture 4" descr="200311140554_341290"/>
          <p:cNvPicPr/>
          <p:nvPr/>
        </p:nvPicPr>
        <p:blipFill>
          <a:blip r:embed="rId2"/>
          <a:stretch/>
        </p:blipFill>
        <p:spPr>
          <a:xfrm>
            <a:off x="380880" y="2743200"/>
            <a:ext cx="4191120" cy="34225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4572000" y="2708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楷体_GB2312"/>
              </a:rPr>
              <a:t>　　非洲蜗牛，学名褐云玛瑙螺，也就是人们常说和常食用的东风螺、菜螺、花螺、法国螺。非洲大蜗牛是一种繁殖很快的大型陆生贝类，它们危害农作物、蔬菜，危害生态系统，而且还是许多人畜寄生虫和病原菌的中间宿主。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200311140546_341281"/>
          <p:cNvPicPr/>
          <p:nvPr/>
        </p:nvPicPr>
        <p:blipFill>
          <a:blip r:embed="rId2"/>
          <a:stretch/>
        </p:blipFill>
        <p:spPr>
          <a:xfrm>
            <a:off x="539640" y="404640"/>
            <a:ext cx="3672000" cy="2953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25092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食人鱼又名食人鲳，原产于亚马逊河，外表妖艳，性情残暴，能够在短时间内将大于自己体积几倍，甚至几十倍的动物吃掉。专家认为，食人鱼若流入我国江河，会造成一场生态灾难。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209" name="Picture 4" descr="200311140550_341285"/>
          <p:cNvPicPr/>
          <p:nvPr/>
        </p:nvPicPr>
        <p:blipFill>
          <a:blip r:embed="rId3"/>
          <a:stretch/>
        </p:blipFill>
        <p:spPr>
          <a:xfrm>
            <a:off x="4427640" y="476280"/>
            <a:ext cx="4097160" cy="3024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4572000" y="37893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楷体_GB2312"/>
              </a:rPr>
              <a:t>　　小龙虾原名克氏原螯虾，它们的原产地是中、南美洲，目前世界各地都有养殖，并在野外形成数量巨大的种群，在我国长江中下游以及华南分布很广。 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00311140684_341404"/>
          <p:cNvPicPr/>
          <p:nvPr/>
        </p:nvPicPr>
        <p:blipFill>
          <a:blip r:embed="rId2"/>
          <a:stretch/>
        </p:blipFill>
        <p:spPr>
          <a:xfrm>
            <a:off x="826920" y="333360"/>
            <a:ext cx="7201080" cy="3240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611280" y="3789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楷体_GB2312"/>
              </a:rPr>
              <a:t>世纪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楷体_GB2312"/>
              </a:rPr>
              <a:t>80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楷体_GB2312"/>
              </a:rPr>
              <a:t>年代，昆明建成了大观河——滇池——西山的理想水上旅游路线，游客可以从市内乘船游览滇池、西山。但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楷体_GB2312"/>
              </a:rPr>
              <a:t>年代初，大观河和滇池里的水葫芦疯长成灾，覆盖了整个河面和部分滇池的水面，致使这条旅游路线被迫取消，在大观河两岸兴建的配套旅游设施只好废弃或改做其他用途，大观河也改建成地下河。这些只是直接的经济损失，由水葫芦造成的生态损失却很难估量。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200571691647115"/>
          <p:cNvPicPr/>
          <p:nvPr/>
        </p:nvPicPr>
        <p:blipFill>
          <a:blip r:embed="rId2"/>
          <a:stretch/>
        </p:blipFill>
        <p:spPr>
          <a:xfrm>
            <a:off x="395280" y="1125360"/>
            <a:ext cx="3817800" cy="2184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200311140676_341396"/>
          <p:cNvPicPr/>
          <p:nvPr/>
        </p:nvPicPr>
        <p:blipFill>
          <a:blip r:embed="rId3"/>
          <a:stretch/>
        </p:blipFill>
        <p:spPr>
          <a:xfrm>
            <a:off x="4356000" y="404640"/>
            <a:ext cx="4248360" cy="2951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20057169175204"/>
          <p:cNvPicPr/>
          <p:nvPr/>
        </p:nvPicPr>
        <p:blipFill>
          <a:blip r:embed="rId4"/>
          <a:stretch/>
        </p:blipFill>
        <p:spPr>
          <a:xfrm>
            <a:off x="4284720" y="3500280"/>
            <a:ext cx="4465440" cy="3097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200571691922618"/>
          <p:cNvPicPr/>
          <p:nvPr/>
        </p:nvPicPr>
        <p:blipFill>
          <a:blip r:embed="rId5"/>
          <a:stretch/>
        </p:blipFill>
        <p:spPr>
          <a:xfrm>
            <a:off x="324000" y="3500280"/>
            <a:ext cx="3809880" cy="30243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762120" y="-228600"/>
            <a:ext cx="3124080" cy="1752480"/>
          </a:xfrm>
          <a:prstGeom prst="irregularSeal2">
            <a:avLst/>
          </a:prstGeom>
          <a:solidFill>
            <a:srgbClr val="e37621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绿色杀手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200571692046477"/>
          <p:cNvPicPr/>
          <p:nvPr/>
        </p:nvPicPr>
        <p:blipFill>
          <a:blip r:embed="rId2"/>
          <a:stretch/>
        </p:blipFill>
        <p:spPr>
          <a:xfrm>
            <a:off x="457200" y="228600"/>
            <a:ext cx="4105440" cy="2921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200571691550215"/>
          <p:cNvPicPr/>
          <p:nvPr/>
        </p:nvPicPr>
        <p:blipFill>
          <a:blip r:embed="rId3"/>
          <a:stretch/>
        </p:blipFill>
        <p:spPr>
          <a:xfrm>
            <a:off x="380880" y="3276720"/>
            <a:ext cx="4179960" cy="3276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200571691631776"/>
          <p:cNvPicPr/>
          <p:nvPr/>
        </p:nvPicPr>
        <p:blipFill>
          <a:blip r:embed="rId4"/>
          <a:stretch/>
        </p:blipFill>
        <p:spPr>
          <a:xfrm>
            <a:off x="4643280" y="228600"/>
            <a:ext cx="4176720" cy="2895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200571691728701"/>
          <p:cNvPicPr/>
          <p:nvPr/>
        </p:nvPicPr>
        <p:blipFill>
          <a:blip r:embed="rId5"/>
          <a:stretch/>
        </p:blipFill>
        <p:spPr>
          <a:xfrm>
            <a:off x="4724280" y="3200400"/>
            <a:ext cx="4038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BC</cp:lastModifiedBy>
  <dcterms:modified xsi:type="dcterms:W3CDTF">2015-12-23T04:33:18Z</dcterms:modified>
  <cp:revision>1</cp:revision>
  <dc:subject/>
  <dc:title>PowerPoint 演示文稿</dc:title>
</cp:coreProperties>
</file>