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68C-D048-4162-9E96-724AE4A6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64F-4AC8-4BED-95E3-146C3708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A360E-90B1-4292-A3FD-1CA7C945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73CC-C010-477E-97EE-ADE9C601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1C0CF-D070-4B78-B2C1-D1FC51E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AF0E9-7281-4D62-9F86-F2C3E90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E71D-5749-44E0-944F-B9F0454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72D1B-69EC-47EF-AA11-B57BBA2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6C168-FDB7-45B0-8777-06329C4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37B8E-2F06-40C2-A600-6EE389DC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2EA91-3681-4A1E-B393-00CBFDB8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A11C-03C0-410E-B8A8-F09BC5C0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6BF-F4B9-488E-8AF8-842DF48A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3AA4-9D6D-4BAD-B9E5-F7466C6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501AC-BF11-4FAD-A909-1AC6634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54316-EB7A-4640-96E7-84800EA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EDF1E-C364-486B-8A19-20BCFF29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23B03-BE5D-4F6D-8C41-147FB67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ABA12-74FA-4DB6-9CE5-3389E8C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1836-5BE4-4F9E-8D4C-C5E74D8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11B24-7778-4629-80F2-9A6DDE9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F7957-4FD5-46DA-8553-78CB58E2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474EE-3643-4FAE-817F-C685E152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EC9-005E-4E36-BD85-C3113943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7D13D-E83C-442F-9D47-6C82F51F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7E6DF-E0D2-401D-8070-D03F91C2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8E5B-72B0-4CB8-AE61-2B9A6F88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564EC-A176-4235-8AD9-89D58CFC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4AB5-0078-43F8-B79A-DFEA0FA1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0B1C-B31B-49D2-B075-E5DCDD0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5A19E-A6A4-462F-9511-2C71225A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82EA-33FB-44F9-89FD-3637594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23641-F7C8-4E2E-AC47-5C925A4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EDFD1-98B9-4725-8270-84E1A32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E478-DB4A-4A8E-881F-D44BDEC1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85C4-A6BD-4F4D-B536-776B4146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E17C4-2EEC-4732-85D9-6FF3AA3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692BB-1FBF-4F03-A441-D7276524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17A021-CCDB-4AE4-8B33-28BCDBE7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EE88AF-3938-4030-A786-73E4B431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7CBE1D-BA67-4A64-BA31-67703C04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CCBD1-35C3-4BEB-AD6C-0CC8698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C817F7-E2EB-43EC-86EC-C41255C0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97998-9A08-47FB-B26C-6C5B6865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472DA1-D938-4E67-B0D9-6CF5FFE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0789-FCC0-45DC-80EF-190B4FD9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0A9F0A-8BDC-4867-B491-B08740D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24175B-C105-4E5A-8FE4-36162B6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414D24-ED4D-4726-A7A1-1D6AE77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8A51F9-EC7E-4050-8CDA-AC92A7A5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BA9B8-12F8-49EF-B356-6810DFFC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3DB9D-246B-4782-824A-61BC1A0F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ADB54-41EF-41F2-A549-40E09BE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F2380-E68F-4291-9D17-752BF03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8B475B-A8B7-47C2-B8AD-398BFC20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47AF3-9AFD-4DD4-8F09-2F52265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7B32-20DF-43A6-961A-38DA531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81D25-5576-4CD8-9222-3E186C40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DC464-44B6-4CA2-839C-EF3378D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898FA-4F4E-4FDB-AC4B-0CA1881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5D9C6-C06F-48D0-91BE-46CDCFF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7157A-7EB1-4C1A-BD98-E990160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EBBC3-B3D0-457B-AB66-2E13F397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A0D87-1ED1-4EBF-922F-C397A901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0CD48-E908-47E2-89B9-F4E281C0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DA74C-B42E-446D-96F0-8F3C8D92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E31DA-A3FC-44AD-8272-4297671B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447-20FB-41AC-A3A4-A332DD6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261B7-187A-4482-81F1-2ABB9492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87207-F2B5-4F65-9881-2B8C0FFF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7471E-58F1-4E7A-8C9A-922C991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447B0-653A-44DD-93E1-FDD26E7A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31A4E-D92A-4AE6-9CAC-9F95793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95606-E966-4D13-8B85-963EBA62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5B393-CDB2-4C7C-89E7-70C85DE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094FC-DEF4-4F5F-9D3D-25D935D8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AC164-37F0-4764-92E7-5B1F7F7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4F664-80B7-4110-880F-D92EDA97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45BC-74B6-4C3D-B871-7D87661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8A0D4-66D9-45F0-B7D0-930C60BF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55618-86AD-456E-A294-EA3DC789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B0E55-0D6A-4251-B369-AABE5080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CC24A-15D8-4E5D-8C45-0E36A81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06374-2FE9-487F-87BF-19092CD9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B464A-67B9-4A94-9A02-A5BA1D0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56217-AB3F-4E45-9ABB-C8EB0870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FFCD4-BC00-4F25-8C6E-0FFB0CA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E888F-35DE-454B-AA14-97FF0133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AFA38-5549-4A00-9E1C-651E0645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E56-2B76-471B-A927-7E38DFE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18C07-A394-4CB5-ACDD-CDD216C4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DD044-8FAC-4066-8FAE-42427A19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0FE6A-AC66-4BE5-913C-056A11D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B1307-1A55-4A52-8BA5-AFAA350D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366E8-6221-4C8C-B2B6-EE15F979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05C3E-517E-4D6A-862E-9DD6914A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B597E-2986-417D-A4EF-848D2FD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CE3D5-4E54-41CF-8978-DFB35167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A600C-80DF-4A17-B162-D8C2799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40FD7-3E33-4665-AF9F-175204C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3951-D821-4304-BA00-A13EA17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2EDCE-D0E4-45C6-B200-0776ABF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76789-27A2-43EE-97DB-00A40CC3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F12C0-2618-4C10-A98E-A9163527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13D-494D-4B87-BD78-BA660A21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224C-4B23-4105-8750-892E978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228F-3BEE-497E-8BE7-5D6A437C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A49-F6F4-45AD-91A0-3539571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AA6A-53CE-498D-9E0B-C8CB373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3E2-E6CD-426D-A1AF-F83B575C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6FD6-C512-4386-A632-CB54BD88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A7F3-EF23-4880-A039-8289364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9443-1C42-4C84-A977-77EB494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419C-BCB9-418D-A3C8-6360F864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AA84-9D4B-4594-ACFA-9BFB6440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1F0-6E9D-42B1-88DD-E58607E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1769-55F9-489D-80A6-0297278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AD04-BB7A-4089-891F-852B24C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9414-0374-4F71-9C7E-944A68B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1C08-087A-4B49-8999-1D9BBC5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25766-985D-43FB-804B-30B7811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3338-C914-4FE8-B84B-03675E64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3FA0-BDAF-4D03-B7B1-6CBCF58D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50F2-C4CE-4731-B5E0-B75FD2B0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1562-B513-4222-8F55-0D2C82A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2B75-4427-4834-9411-8853D5E2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516-0135-4EFB-B140-8F05820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1806-95CA-4F84-A109-ECA426B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46303-5F48-46BE-B8A3-F8E70193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69FB-C3D1-4904-BFF9-28EE19B4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A1390-6BFE-4AF9-AE02-9B9AF7C0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3CDD-728A-4490-8174-2C85B7A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DB1E-D0E9-4BD5-B28C-094566DA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5AC8-7498-42A4-AC49-953A8D7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D835B-B02F-46B2-95C3-7C961570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33E6-2E0C-4206-8D40-FAE3B0E1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6528-456B-4A14-9546-AA7D2425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4BD-4FB5-4337-9646-15569FC0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E2BD-D31E-4663-BDE7-5FB1840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53D38-D20E-47DE-A4C8-2A14C8F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A108D-67CF-469A-9A87-AF09AFA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B1490-5644-498D-90FF-6058B552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FBD0-5C20-4F0B-8341-BAEC9ACA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22E1D-B80A-4A6A-8EAD-82A000E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D1E1-2723-4B1C-9E1D-BDE1F45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EBF2-41A6-42FD-9E8A-C7A4277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2D500-BC5D-4603-BC48-667ED896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AD3E-E01C-40A3-812F-61D00E4A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44D-662A-4782-968D-DA8EB86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7579-BF9F-4FB6-95CB-019773F4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E4923-7A22-4053-96C6-18A8C85D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D3E13-996E-47C1-AAF8-32606A1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CFDE-8BE4-404A-8491-805975D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2E25F-E608-4ABA-B370-DC7C0A14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DB55-2F7C-4E96-A4D7-9B73663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25CCA-2746-4D94-A905-D04169B6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D38C-C8E1-483B-A55D-205AF385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E14FA-3451-4499-ACF8-C224A39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FD8D0-B937-4CBF-BED1-07832FA4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0F3-96DD-4B05-86E0-8BC1DA6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4C20-AB25-412C-8BFE-DCFE8CF4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D2F44-BE52-4550-A82C-9C2FE219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A614-3043-4DD5-980D-52845A2E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5732-FBE0-4599-8154-17427AA3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86EA8-8F3B-4CB1-A94B-EBF3B10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9A3B9-874A-429F-A022-3896BFD3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FE69-11D1-4EE2-8DDE-DCDE9DF4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6AD0-D6CA-4131-AD0F-DB32106C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72816-E1B2-47AE-98EA-BE8B471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14F7-C8AF-46C6-9150-A8DAA9D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2BC-1255-4250-A573-F860E613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12376-E93B-4A7F-B9B6-0E7B765B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6D32-D86E-4C38-8C10-339FD85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7402-E3F4-4975-9B8A-D6C3E38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C107F-9FC0-4A3B-A9A8-B43EEBB4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B387-0B68-4545-8E80-E5413728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105EC-2EC1-4BC2-BC86-AE96C33D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D31BA-4B28-4677-BD8A-515474C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BF192-B426-4EAF-ACD9-875E8644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AE40D-B9F4-42C2-B6A4-9028EE1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A19C-7925-4CCC-BC63-BBCFF44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A30-D334-47D0-8052-C3230CC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8DD7-B592-4F55-8FD3-E935DC9A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9F3CF-6DE4-45A7-8B6D-E2E25E4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574D-F54F-43AD-8DE9-E82566D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9E03-E268-4700-9089-869C79B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CE8A-C9A4-45BD-9716-60BBFA81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E820-FC64-428B-8763-C1D8CC26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1BF1-CCA8-4553-A550-7B4B3ADF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62D17-2FE2-47E3-B142-B50F051E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EF42D-09C8-4E9F-BA7E-8887BAF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20697-BB57-4F56-B365-4767B08C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5400"/>
                <a:ext cx="1832760" cy="1663200"/>
                <a:chOff x="852840" y="4055400"/>
                <a:chExt cx="1832760" cy="16632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240" y="3944880"/>
                  <a:ext cx="474480" cy="1216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760" y="4973400"/>
                  <a:ext cx="108720" cy="4986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201F-ECD9-4F36-9E94-2370EAF1DD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7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7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7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7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7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7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8378-C360-46B1-8771-476BA9B0B4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757E-65F7-4856-AC36-1A1B0568E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011D-1D5C-4664-A68B-2EAA175CD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90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05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6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7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8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09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0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1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2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3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4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5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6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17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91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19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0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1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2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3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4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5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6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7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8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29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1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2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3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4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5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6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7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8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39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0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1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3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4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5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6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7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8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9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0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1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2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3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5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6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7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8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9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0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1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2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3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4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5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7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8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9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0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1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2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3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4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5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6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7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9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0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1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2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3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4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5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6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7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8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9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1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2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3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4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5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6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7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8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99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0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1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3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4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5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6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7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8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09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0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1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2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3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5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6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7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8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19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0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1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2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3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4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5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7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8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29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0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1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2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3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4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5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6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7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39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0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1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2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3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4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5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6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7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8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49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1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2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3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4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5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6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7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8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59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0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1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3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06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065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6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7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8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69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0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1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2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3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4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5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6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077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3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4C8-CC4C-4F04-901C-15B790BF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3D58-A224-4FFF-94BB-2879C1D04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6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6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6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6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1171" name="Group 18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172" name="Freeform 19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73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174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175" name="Group 22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176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7" name="Freeform 24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8" name="Freeform 25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9" name="Freeform 26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0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18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91E-F510-4EDD-AB7F-8156F276FF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565-B7B3-407C-9996-04413C8365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C159-CF64-46FC-A8DD-5EDE141B9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F4B-F41F-42FC-8CD4-5DAD46A3E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75AC-508F-40E9-9C56-337411C2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15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9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7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8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0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1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3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5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6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7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8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0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1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4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5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6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8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9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0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1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2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3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4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5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6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7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8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99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0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1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2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3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4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5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6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7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8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9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0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1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2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3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4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5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8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9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0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1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2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4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5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6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7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0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1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60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61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5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6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7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8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9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0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1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2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3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74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75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6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7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8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88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89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0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1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2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3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4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5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6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7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8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9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0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1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02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03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4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5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6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7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9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0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1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2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3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4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5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16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17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8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1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2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3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4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5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6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7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9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30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31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2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3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4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5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6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7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8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39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0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1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2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44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45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46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47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8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0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1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2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3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4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5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6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7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8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9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17D3-44D5-4EAE-A913-4A62F6241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1ED-3DFE-41DD-BC89-2D7238D2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266-3997-48D7-A874-F88C94379E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8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5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5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580" name="Group 40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581" name="Group 41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5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583" name="Group 43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584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45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6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7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48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49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51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3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4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5B07-60C2-4E75-938C-25AFFE8390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7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8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8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8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69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9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01" name="Group 17"/>
            <p:cNvGrpSpPr/>
            <p:nvPr/>
          </p:nvGrpSpPr>
          <p:grpSpPr>
            <a:xfrm>
              <a:off x="4138920" y="1037520"/>
              <a:ext cx="1017360" cy="1263240"/>
              <a:chOff x="4138920" y="1037520"/>
              <a:chExt cx="1017360" cy="1263240"/>
            </a:xfrm>
          </p:grpSpPr>
          <p:sp>
            <p:nvSpPr>
              <p:cNvPr id="702" name="Freeform 18"/>
              <p:cNvSpPr/>
              <p:nvPr/>
            </p:nvSpPr>
            <p:spPr>
              <a:xfrm rot="3220200">
                <a:off x="4554720" y="10753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3" name="Freeform 19"/>
              <p:cNvSpPr/>
              <p:nvPr/>
            </p:nvSpPr>
            <p:spPr>
              <a:xfrm rot="3220200">
                <a:off x="4639680" y="1609200"/>
                <a:ext cx="48924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4" name="Freeform 20"/>
              <p:cNvSpPr/>
              <p:nvPr/>
            </p:nvSpPr>
            <p:spPr>
              <a:xfrm rot="3220200">
                <a:off x="4099320" y="19670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706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7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08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1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1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1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714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15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16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1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1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72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72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2446-2084-4826-8F53-ECEFA68C5A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aidu.com/ir?u=http://www.hongen.com/art/twdg/htwxj/img/th1019a.jpg&amp;f=http://www.hongen.com/art/twdg/htwxj/th1019.htm&amp;c=baidu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baidu.com/ir?u=http://suanming.myrice.com/images/Shakespeare.gif&amp;f=http://suanming.myrice.com/English/e_shaname.html&amp;c=baidu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baidu.com/ir?u=http://www.hongen.com/art/gdyy/bmrhc/img/gb201.gif&amp;f=http://www.hongen.com/art/gdyy/bmrhc/gb201.htm&amp;c=baidu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aidu.com/ir?u=http://dili.fsjy.net/beikesucai/wgeopic/beethoven.jpg&amp;f=http://dili.fsjy.net/beikesucai/wgeopic/euro2.htm&amp;c=baidu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1" name="图片 1" descr=""/>
          <p:cNvPicPr/>
          <p:nvPr/>
        </p:nvPicPr>
        <p:blipFill>
          <a:blip r:embed="rId2"/>
          <a:stretch/>
        </p:blipFill>
        <p:spPr>
          <a:xfrm>
            <a:off x="4191120" y="954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1282" name="图片 2" descr=""/>
          <p:cNvPicPr/>
          <p:nvPr/>
        </p:nvPicPr>
        <p:blipFill>
          <a:blip r:embed="rId3"/>
          <a:stretch/>
        </p:blipFill>
        <p:spPr>
          <a:xfrm>
            <a:off x="826920" y="907920"/>
            <a:ext cx="2783160" cy="3227400"/>
          </a:xfrm>
          <a:prstGeom prst="rect">
            <a:avLst/>
          </a:prstGeom>
          <a:ln w="0">
            <a:noFill/>
          </a:ln>
        </p:spPr>
      </p:pic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华文隶书"/>
                <a:ea typeface="华文隶书"/>
              </a:rPr>
              <a:t>事物的正确答案不止一个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1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Text Box 4"/>
          <p:cNvSpPr/>
          <p:nvPr/>
        </p:nvSpPr>
        <p:spPr>
          <a:xfrm>
            <a:off x="1187280" y="1197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cc00"/>
                </a:solidFill>
                <a:latin typeface="华文隶书"/>
                <a:ea typeface="华文隶书"/>
              </a:rPr>
              <a:t>第三环节</a:t>
            </a:r>
            <a:r>
              <a:rPr b="0" lang="en-US" sz="5400" spc="-1" strike="noStrike">
                <a:solidFill>
                  <a:srgbClr val="cccc00"/>
                </a:solidFill>
                <a:latin typeface="华文隶书"/>
                <a:ea typeface="华文隶书"/>
              </a:rPr>
              <a:t>.</a:t>
            </a:r>
            <a:r>
              <a:rPr b="0" lang="zh-CN" sz="5400" spc="-1" strike="noStrike">
                <a:solidFill>
                  <a:srgbClr val="cccc00"/>
                </a:solidFill>
                <a:latin typeface="华文隶书"/>
                <a:ea typeface="华文隶书"/>
              </a:rPr>
              <a:t>创造火花 ： 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4" name="Text Box 5"/>
          <p:cNvSpPr/>
          <p:nvPr/>
        </p:nvSpPr>
        <p:spPr>
          <a:xfrm>
            <a:off x="826920" y="2349360"/>
            <a:ext cx="777744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宋体"/>
              </a:rPr>
              <a:t>材料：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66cc"/>
                </a:solidFill>
                <a:latin typeface="Arial"/>
                <a:ea typeface="宋体"/>
              </a:rPr>
              <a:t>个回形针，一张卡通信纸</a:t>
            </a:r>
            <a:r>
              <a:rPr b="0" lang="zh-CN" sz="4000" spc="-1" strike="noStrike">
                <a:solidFill>
                  <a:srgbClr val="ff66cc"/>
                </a:solidFill>
                <a:latin typeface="Arial"/>
                <a:ea typeface="宋体"/>
              </a:rPr>
              <a:t>。</a:t>
            </a:r>
            <a:r>
              <a:rPr b="0" lang="zh-CN" sz="1800" spc="-1" strike="noStrike">
                <a:solidFill>
                  <a:srgbClr val="ff66c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cc"/>
                </a:solidFill>
                <a:latin typeface="Arial"/>
                <a:ea typeface="宋体"/>
              </a:rPr>
              <a:t>在实践中探索回形针的用途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 Box 4"/>
          <p:cNvSpPr/>
          <p:nvPr/>
        </p:nvSpPr>
        <p:spPr>
          <a:xfrm>
            <a:off x="324000" y="260280"/>
            <a:ext cx="845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Arial"/>
                <a:ea typeface="隶书"/>
              </a:rPr>
              <a:t>关于“推敲”的典故：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传说唐代诗人贾岛骑着驴做诗，得到“鸟宿地边树，僧敲月下门”两句。第二句的“敲”字又想改用“推”字，犹豫不决，就用手做推、敲的样子，无意中碰上了韩愈，向韩愈说明原委。韩愈想了一会儿说：用“敲”字好（见于</a:t>
            </a:r>
            <a:r>
              <a:rPr b="0" lang="en-US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《</a:t>
            </a:r>
            <a:r>
              <a:rPr b="0" lang="zh-CN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刘公嘉话</a:t>
            </a:r>
            <a:r>
              <a:rPr b="0" lang="en-US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》</a:t>
            </a:r>
            <a:r>
              <a:rPr b="0" lang="en-US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)</a:t>
            </a:r>
            <a:r>
              <a:rPr b="0" lang="zh-CN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。</a:t>
            </a: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宋体"/>
              </a:rPr>
              <a:t>后人就用推敲来比喻斟酌字句，反复琢磨。</a:t>
            </a:r>
            <a:br>
              <a:rPr sz="4000"/>
            </a:b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 Box 4"/>
          <p:cNvSpPr/>
          <p:nvPr/>
        </p:nvSpPr>
        <p:spPr>
          <a:xfrm>
            <a:off x="1116000" y="1413000"/>
            <a:ext cx="7201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5050"/>
                </a:solidFill>
                <a:latin typeface="Arial"/>
                <a:ea typeface="华文琥珀"/>
              </a:rPr>
              <a:t>关于“锲而不舍”的出处：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宋体"/>
              </a:rPr>
              <a:t>荀子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宋体"/>
              </a:rPr>
              <a:t>劝学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宋体"/>
              </a:rPr>
              <a:t>：“锲而舍之，朽木不折；锲而不舍，金石可镂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宋体"/>
              </a:rPr>
              <a:t>（锲：雕刻   镂：雕刻）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Text Box 4"/>
          <p:cNvSpPr/>
          <p:nvPr/>
        </p:nvSpPr>
        <p:spPr>
          <a:xfrm>
            <a:off x="971640" y="0"/>
            <a:ext cx="777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Arial"/>
                <a:ea typeface="华文琥珀"/>
              </a:rPr>
              <a:t>第四环节：创作活动</a:t>
            </a: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楷体_GB2312"/>
              </a:rPr>
              <a:t>请同学以创造性思维的必须要素之一为论点，充分运用了事实论据和道理论据以及一些成语、典故，给文章添加一个自然段。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要求是：立意新颖，不流于俗套；紧扣中心，有一定深度；语言简明，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50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字左右</a:t>
            </a: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Text Box 4"/>
          <p:cNvSpPr/>
          <p:nvPr/>
        </p:nvSpPr>
        <p:spPr>
          <a:xfrm>
            <a:off x="900000" y="1197000"/>
            <a:ext cx="7848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cc33"/>
                </a:solidFill>
                <a:latin typeface="Arial"/>
                <a:ea typeface="隶书"/>
              </a:rPr>
              <a:t>第五环节：奇思妙想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幼圆"/>
              </a:rPr>
              <a:t>说一说自己想发明创造什么</a:t>
            </a:r>
            <a:r>
              <a:rPr b="0" lang="en-US" sz="4800" spc="-1" strike="noStrike">
                <a:solidFill>
                  <a:srgbClr val="ff5050"/>
                </a:solidFill>
                <a:latin typeface="Arial"/>
                <a:ea typeface="幼圆"/>
              </a:rPr>
              <a:t>?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4"/>
          <p:cNvSpPr/>
          <p:nvPr/>
        </p:nvSpPr>
        <p:spPr>
          <a:xfrm>
            <a:off x="1187280" y="1844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5" name="Text Box 5"/>
          <p:cNvSpPr/>
          <p:nvPr/>
        </p:nvSpPr>
        <p:spPr>
          <a:xfrm>
            <a:off x="0" y="4941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宋体"/>
              </a:rPr>
              <a:t>生活中：事物的正确答案不止一个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6" name="Text Box 6"/>
          <p:cNvSpPr/>
          <p:nvPr/>
        </p:nvSpPr>
        <p:spPr>
          <a:xfrm>
            <a:off x="4572000" y="3068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7" name="Text Box 11"/>
          <p:cNvSpPr/>
          <p:nvPr/>
        </p:nvSpPr>
        <p:spPr>
          <a:xfrm>
            <a:off x="826920" y="2492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隶书"/>
              </a:rPr>
              <a:t>每一种事物都可以从不同的角度去观察，观察的角度不同，结论也不相同。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 Box 4"/>
          <p:cNvSpPr/>
          <p:nvPr/>
        </p:nvSpPr>
        <p:spPr>
          <a:xfrm>
            <a:off x="268200" y="1258920"/>
            <a:ext cx="8604360" cy="35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  <a:ea typeface="隶书"/>
              </a:rPr>
              <a:t>1.</a:t>
            </a:r>
            <a:r>
              <a:rPr b="0" lang="zh-CN" sz="4800" spc="-1" strike="noStrike">
                <a:solidFill>
                  <a:srgbClr val="ff5050"/>
                </a:solidFill>
                <a:latin typeface="Arial"/>
                <a:ea typeface="隶书"/>
              </a:rPr>
              <a:t>作者提出了哪 几个问题？由此你认为作者的观点是什么？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幼圆"/>
              </a:rPr>
              <a:t> </a:t>
            </a: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隶书"/>
              </a:rPr>
              <a:t>2.“</a:t>
            </a: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隶书"/>
              </a:rPr>
              <a:t>用浪线划出引起你思考的警句，并结合自己谈谈会。”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Arial"/>
                <a:ea typeface="宋体"/>
              </a:rPr>
              <a:t>请组长把小组的共同见解作好记录。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1403280" y="33336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第一环节：整体感知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1476360" y="9079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5" descr="E:\hejun\jsk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2" name="Text Box 4"/>
          <p:cNvSpPr/>
          <p:nvPr/>
        </p:nvSpPr>
        <p:spPr>
          <a:xfrm>
            <a:off x="1258920" y="1628640"/>
            <a:ext cx="669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隶书"/>
                <a:ea typeface="隶书"/>
              </a:rPr>
              <a:t>问题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隶书"/>
                <a:ea typeface="隶书"/>
              </a:rPr>
              <a:t>   </a:t>
            </a:r>
            <a:r>
              <a:rPr b="1" lang="en-US" sz="5400" spc="-1" strike="noStrike">
                <a:solidFill>
                  <a:srgbClr val="9933ff"/>
                </a:solidFill>
                <a:latin typeface="隶书"/>
                <a:ea typeface="隶书"/>
              </a:rPr>
              <a:t>---</a:t>
            </a:r>
            <a:r>
              <a:rPr b="1" lang="zh-CN" sz="5400" spc="-1" strike="noStrike">
                <a:solidFill>
                  <a:srgbClr val="9933ff"/>
                </a:solidFill>
                <a:latin typeface="隶书"/>
                <a:ea typeface="隶书"/>
              </a:rPr>
              <a:t>观点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隶书"/>
                <a:ea typeface="隶书"/>
              </a:rPr>
              <a:t>       </a:t>
            </a:r>
            <a:r>
              <a:rPr b="1" lang="en-US" sz="5400" spc="-1" strike="noStrike">
                <a:solidFill>
                  <a:srgbClr val="9933ff"/>
                </a:solidFill>
                <a:latin typeface="隶书"/>
                <a:ea typeface="隶书"/>
              </a:rPr>
              <a:t>---</a:t>
            </a:r>
            <a:r>
              <a:rPr b="1" lang="zh-CN" sz="5400" spc="-1" strike="noStrike">
                <a:solidFill>
                  <a:srgbClr val="9933ff"/>
                </a:solidFill>
                <a:latin typeface="隶书"/>
                <a:ea typeface="隶书"/>
              </a:rPr>
              <a:t>论证方式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Text Box 4"/>
          <p:cNvSpPr/>
          <p:nvPr/>
        </p:nvSpPr>
        <p:spPr>
          <a:xfrm>
            <a:off x="1258920" y="177336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4" name="Text Box 5"/>
          <p:cNvSpPr/>
          <p:nvPr/>
        </p:nvSpPr>
        <p:spPr>
          <a:xfrm>
            <a:off x="0" y="155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隶书"/>
              </a:rPr>
              <a:t>创造性思维又有哪些必需的要素呢？</a:t>
            </a:r>
            <a:r>
              <a:rPr b="0" lang="zh-CN" sz="4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5" name="Text Box 6"/>
          <p:cNvSpPr/>
          <p:nvPr/>
        </p:nvSpPr>
        <p:spPr>
          <a:xfrm>
            <a:off x="468360" y="2492280"/>
            <a:ext cx="867564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华文隶书"/>
              </a:rPr>
              <a:t>1.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华文隶书"/>
              </a:rPr>
              <a:t>渊博的</a:t>
            </a: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隶书"/>
              </a:rPr>
              <a:t>学识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cc66"/>
                </a:solidFill>
                <a:latin typeface="Arial"/>
              </a:rPr>
              <a:t>有探求新事物、活用知识的态度和意识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  <a:ea typeface="华文中宋"/>
              </a:rPr>
              <a:t>3.</a:t>
            </a: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华文中宋"/>
              </a:rPr>
              <a:t>持之以恒地进行各种尝试的毅力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6" name="Text Box 7"/>
          <p:cNvSpPr/>
          <p:nvPr/>
        </p:nvSpPr>
        <p:spPr>
          <a:xfrm>
            <a:off x="971640" y="26028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7" name="Text Box 8"/>
          <p:cNvSpPr/>
          <p:nvPr/>
        </p:nvSpPr>
        <p:spPr>
          <a:xfrm>
            <a:off x="1258920" y="54936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Arial"/>
                <a:ea typeface="幼圆"/>
              </a:rPr>
              <a:t>第二环节：交流见解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Text Box 4"/>
          <p:cNvSpPr/>
          <p:nvPr/>
        </p:nvSpPr>
        <p:spPr>
          <a:xfrm>
            <a:off x="179280" y="2276640"/>
            <a:ext cx="87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f01"/>
                </a:solidFill>
                <a:latin typeface="Arial"/>
                <a:ea typeface="华文隶书"/>
              </a:rPr>
              <a:t>创造思维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华文隶书"/>
              </a:rPr>
              <a:t>是否</a:t>
            </a:r>
            <a:r>
              <a:rPr b="1" lang="zh-CN" sz="4800" spc="-1" strike="noStrike">
                <a:solidFill>
                  <a:srgbClr val="ffcf01"/>
                </a:solidFill>
                <a:latin typeface="Arial"/>
                <a:ea typeface="华文隶书"/>
              </a:rPr>
              <a:t>任何人都具备呢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隶书"/>
              </a:rPr>
              <a:t>是否</a:t>
            </a:r>
            <a:r>
              <a:rPr b="1" lang="zh-CN" sz="4800" spc="-1" strike="noStrike">
                <a:solidFill>
                  <a:srgbClr val="ffcf01"/>
                </a:solidFill>
                <a:latin typeface="Arial"/>
                <a:ea typeface="华文隶书"/>
              </a:rPr>
              <a:t>存在富有创造力和缺乏创造力的区别呢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9" name="Text Box 7"/>
          <p:cNvSpPr/>
          <p:nvPr/>
        </p:nvSpPr>
        <p:spPr>
          <a:xfrm>
            <a:off x="1476360" y="62064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ff"/>
                </a:solidFill>
                <a:latin typeface="Arial"/>
                <a:ea typeface="华文琥珀"/>
              </a:rPr>
              <a:t>疑惑：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Picture 5" descr="th1019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0"/>
            <a:ext cx="3203640" cy="4537080"/>
          </a:xfrm>
          <a:prstGeom prst="rect">
            <a:avLst/>
          </a:prstGeom>
          <a:ln w="0">
            <a:noFill/>
          </a:ln>
        </p:spPr>
      </p:pic>
      <p:sp>
        <p:nvSpPr>
          <p:cNvPr id="1301" name="Text Box 8"/>
          <p:cNvSpPr/>
          <p:nvPr/>
        </p:nvSpPr>
        <p:spPr>
          <a:xfrm>
            <a:off x="395280" y="5373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宋体"/>
              </a:rPr>
              <a:t>贝多芬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2" name="Text Box 9"/>
          <p:cNvSpPr/>
          <p:nvPr/>
        </p:nvSpPr>
        <p:spPr>
          <a:xfrm>
            <a:off x="6191280" y="5300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宋体"/>
              </a:rPr>
              <a:t>爱因斯坦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3" name="Text Box 10"/>
          <p:cNvSpPr/>
          <p:nvPr/>
        </p:nvSpPr>
        <p:spPr>
          <a:xfrm>
            <a:off x="3348000" y="1197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  <a:ea typeface="宋体"/>
              </a:rPr>
              <a:t>莎士比亚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4" name="Picture 12" descr="Shakespea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681280"/>
            <a:ext cx="2795760" cy="41767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5" descr="gb2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33360"/>
            <a:ext cx="3218040" cy="364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 Box 4"/>
          <p:cNvSpPr/>
          <p:nvPr/>
        </p:nvSpPr>
        <p:spPr>
          <a:xfrm>
            <a:off x="1979640" y="1700280"/>
            <a:ext cx="48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7" name="Text Box 5"/>
          <p:cNvSpPr/>
          <p:nvPr/>
        </p:nvSpPr>
        <p:spPr>
          <a:xfrm>
            <a:off x="9360" y="1413000"/>
            <a:ext cx="9144000" cy="39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隶书"/>
              </a:rPr>
              <a:t>1.</a:t>
            </a: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隶书"/>
              </a:rPr>
              <a:t>经常保持好奇心，不断积累知识；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5050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ff5050"/>
                </a:solidFill>
                <a:latin typeface="隶书"/>
                <a:ea typeface="隶书"/>
              </a:rPr>
              <a:t>不满足于一个答案，而去探求新思  路，去运用所得的知识；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9933ff"/>
                </a:solidFill>
                <a:latin typeface="华文隶书"/>
                <a:ea typeface="华文隶书"/>
              </a:rPr>
              <a:t>3.</a:t>
            </a:r>
            <a:r>
              <a:rPr b="1" lang="zh-CN" sz="4400" spc="-1" strike="noStrike">
                <a:solidFill>
                  <a:srgbClr val="9933ff"/>
                </a:solidFill>
                <a:latin typeface="华文隶书"/>
                <a:ea typeface="华文隶书"/>
              </a:rPr>
              <a:t>一旦产生小的灵感，相信它的价值，并楔而不舍地把它发展下去。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8" name="Text Box 6"/>
          <p:cNvSpPr/>
          <p:nvPr/>
        </p:nvSpPr>
        <p:spPr>
          <a:xfrm>
            <a:off x="1258920" y="47628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ff"/>
                </a:solidFill>
                <a:latin typeface="Arial"/>
                <a:ea typeface="华文琥珀"/>
              </a:rPr>
              <a:t>做一个富有创造性的人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4"/>
          <p:cNvSpPr/>
          <p:nvPr/>
        </p:nvSpPr>
        <p:spPr>
          <a:xfrm>
            <a:off x="539640" y="1989000"/>
            <a:ext cx="8101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宋体"/>
              </a:rPr>
              <a:t>非凡的灵感，往往产生于这样的过程：</a:t>
            </a:r>
            <a:r>
              <a:rPr b="0" lang="zh-CN" sz="4400" spc="-1" strike="noStrike">
                <a:solidFill>
                  <a:srgbClr val="ff5050"/>
                </a:solidFill>
                <a:latin typeface="Arial"/>
                <a:ea typeface="隶书"/>
              </a:rPr>
              <a:t>关注极其普通、甚至一闪念的想法，并对它反复推敲，逐渐充实而形成的。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0" name="Picture 6" descr="beethov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4254480"/>
            <a:ext cx="3203640" cy="2603520"/>
          </a:xfrm>
          <a:prstGeom prst="rect">
            <a:avLst/>
          </a:prstGeom>
          <a:ln w="0">
            <a:noFill/>
          </a:ln>
        </p:spPr>
      </p:pic>
      <p:sp>
        <p:nvSpPr>
          <p:cNvPr id="1311" name="Text Box 8"/>
          <p:cNvSpPr/>
          <p:nvPr/>
        </p:nvSpPr>
        <p:spPr>
          <a:xfrm>
            <a:off x="684360" y="620640"/>
            <a:ext cx="25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  <a:ea typeface="华文琥珀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2" name="Text Box 9"/>
          <p:cNvSpPr/>
          <p:nvPr/>
        </p:nvSpPr>
        <p:spPr>
          <a:xfrm>
            <a:off x="1187280" y="105264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宋体"/>
              </a:rPr>
              <a:t>创造灵感的产生： 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5:02:58Z</dcterms:created>
  <dc:creator/>
  <dc:description>第一PPT模板网-WWW.1PPT.COM
</dc:description>
  <dc:language>en-US</dc:language>
  <cp:lastModifiedBy>Administrator</cp:lastModifiedBy>
  <dcterms:modified xsi:type="dcterms:W3CDTF">2017-08-03T01:57:11Z</dcterms:modified>
  <cp:revision>41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