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chimes.wav" ContentType="audio/x-wav"/>
  <Override PartName="/ppt/media/image6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DFA-55EF-4B07-8BA2-9D8A9236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2C1-2512-4764-A635-3B0BBC3B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048-1C3B-4C1A-97F6-81959983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2CB-2917-4C7C-881E-05AD1FB7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8F53-1849-4203-9A44-4531C951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91DF-7FEA-43D9-8CFA-783E9A0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889B-8DE6-4EAD-A4E9-171E12E8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1C3D-27DB-47B2-A3B5-00CB842C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C695-705F-4668-AB49-A6F2C931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83C-BC60-4A54-8F61-2BA42387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DA04-5224-477A-BEED-54CBB446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1DE-2A31-495D-A99F-667B27F8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AF73-43CC-4E88-BE33-5145B4C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56C2-ED3E-454F-9C63-25859104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1C15-C293-42EA-B46C-9B3432F2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AA93-8B76-4E29-96C5-54F953B5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F313-F859-4AEC-8FF7-128CA685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10202-46FA-4143-AB2F-B0FC00F9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7872-AFAE-4645-83C6-69F3E051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594A-C599-48EB-8864-71F97706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BB92-7295-450B-B438-5FF41C6F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8E76-EC2B-4A91-AE3F-5EDBE1EF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41A-2308-445F-86FD-DA97A555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A299-3919-4470-8E9C-EC7754EC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60BD-1A44-47E2-B013-C2E2376F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456D-A204-4812-A84A-A7C88F49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D078A-106A-49B9-BC34-A56C0CF1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311F-5FDC-47C6-B240-AAD299ED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BB62-A8F3-42A9-B1BE-0FE038E2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DBE7E-D8E7-4843-9502-0F1ABAD9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9F5C9-666C-463E-8491-27B2CEB1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50DE7-EAA6-4CAC-8A02-ECCBE6B3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0D1C82-8A6B-436A-ACE4-85A8ACE7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185-386F-455A-A180-FA053576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B3618-52F0-490A-88A2-DBE7B9B4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9A952-53FE-4176-AB7B-286BE7F1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A59D1-3A75-494F-B961-4BFAC03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70815-4C30-4BE2-ACCE-45695348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96C1C0-2EE5-49CA-BD27-013CF86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09E0B-2E48-4426-848F-77A06CA6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FE188-26F9-4A44-BC2E-AC5FBC2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C57B2-F9A8-4CDF-BD46-913A3B22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19295-CD3D-4EC4-9DDB-A9B013C3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0AE6A-85AD-43A1-93E2-329E533C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A73-BD60-428D-9E2F-8373D02D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CA35A-EB5A-40EA-926B-2004714F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0717F-B454-4886-815B-81A14289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B267B-3E03-4AC8-A68D-2D66778F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2B21-E99D-4417-9F4A-A95FB9AD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EA65E-9AE5-4CF3-BB25-5FAB6DC2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87BA-DB25-4830-B41B-97525FBB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B059-9E7F-499E-916B-7306A5F0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D7A19-C3F1-41E8-9775-A33B4E90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74421-EBEA-4D3C-98FD-7AD89C01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0B9A1-79EF-46BE-B842-72E64950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BDF-D42A-4A31-85B7-AEE48D23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0683-0486-4B47-AB54-17409418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2E8-B806-4597-A55A-36D7F83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CBA-4EFC-4A79-B998-D4ED4F04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EA7-98D2-4D08-B692-5A7E0926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2677-CAE5-40B9-AEBE-45BA306A7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0C34-713F-490B-90C3-C31EC0B5BB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4D54-778C-4DB5-9CDC-F096518E0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224E-3E36-479B-ADA2-D49C75CF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FFA2-923C-431F-82F6-C8AC2F7561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baidu.com/ir?u=http://www.hongen.com/art/gdyy/bmrhc/img/gb201.gif&amp;f=http://www.hongen.com/art/gdyy/bmrhc/gb201.htm&amp;c=baidu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baidu.com/ir?u=http://www.hongen.com/art/twdg/htwxj/img/th1019a.jpg&amp;f=http://www.hongen.com/art/twdg/htwxj/th1019.htm&amp;c=baidu" TargetMode="External"/><Relationship Id="rId5" Type="http://schemas.openxmlformats.org/officeDocument/2006/relationships/image" Target="../media/image11.jpeg"/><Relationship Id="rId6" Type="http://schemas.openxmlformats.org/officeDocument/2006/relationships/hyperlink" Target="http://www.baidu.com/ir?u=http://suanming.myrice.com/images/Shakespeare.gif&amp;f=http://suanming.myrice.com/English/e_shaname.html&amp;c=baidu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天堂鸟.MP3" descr=""/>
          <p:cNvPicPr/>
          <p:nvPr/>
        </p:nvPicPr>
        <p:blipFill>
          <a:blip r:embed="rId2"/>
          <a:stretch/>
        </p:blipFill>
        <p:spPr>
          <a:xfrm>
            <a:off x="7164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684360" y="1557360"/>
            <a:ext cx="77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49320" y="865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66"/>
                </a:solidFill>
                <a:latin typeface="Arial"/>
                <a:ea typeface="方正姚体"/>
              </a:rPr>
              <a:t>事物的正确答案不止一个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528480" y="206064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﹙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美国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罗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费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因格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图片 1" descr=""/>
          <p:cNvPicPr/>
          <p:nvPr/>
        </p:nvPicPr>
        <p:blipFill>
          <a:blip r:embed="rId3"/>
          <a:stretch/>
        </p:blipFill>
        <p:spPr>
          <a:xfrm>
            <a:off x="4921200" y="4289400"/>
            <a:ext cx="3067200" cy="2019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2" descr=""/>
          <p:cNvPicPr/>
          <p:nvPr/>
        </p:nvPicPr>
        <p:blipFill>
          <a:blip r:embed="rId4"/>
          <a:stretch/>
        </p:blipFill>
        <p:spPr>
          <a:xfrm>
            <a:off x="900000" y="2543040"/>
            <a:ext cx="3286080" cy="381024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"/>
          <p:cNvPicPr/>
          <p:nvPr/>
        </p:nvPicPr>
        <p:blipFill>
          <a:blip r:embed="rId5"/>
          <a:stretch/>
        </p:blipFill>
        <p:spPr>
          <a:xfrm>
            <a:off x="4921200" y="2133720"/>
            <a:ext cx="307188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3097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53" presetSubtype="1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txlb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-22716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165240" y="511344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华文行楷"/>
                <a:ea typeface="华文行楷"/>
              </a:rPr>
              <a:t>   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826920" y="309600"/>
            <a:ext cx="7704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自我设计：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假如你是</a:t>
            </a: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1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世纪一名优秀的花园设计师，咱们教学楼前有一块需要绿化的方地，准备种上蔷薇、月季和绿草等其他花草，你能设计出一幅合理、精美的图画吗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1"/>
          <p:cNvSpPr/>
          <p:nvPr/>
        </p:nvSpPr>
        <p:spPr>
          <a:xfrm>
            <a:off x="0" y="40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寒冷的冬天，纽约一繁华大街上，有一个双目失明的乞丐。那乞丐的脖子上挂着一块牌子，上面写着：“自幼失明”。从他身边经过的人都装着没看见似的走开了。有一天，一个诗人走近他身旁，他便向诗人乞讨。诗人说：“我也很穷，不过我给你点别的吧．”说完，他便随手在乞丐的牌子上写了一句话。那一天，乞丐得到很多人的同情和施舍。后来，他又碰到那诗人，很奇怪地问：“你给我写了什么？”那诗人笑笑，念那牌子上他所写的句子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们猜诗人给乞丐写了一句什么样的话？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cc00"/>
                </a:solidFill>
                <a:latin typeface="Arial"/>
              </a:rPr>
              <a:t>寄语：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爱因斯坦说：“全民族创造性思维的自由发挥将决定着国家未来的繁荣昌盛。”相信大家能做一个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华文行楷"/>
              </a:rPr>
              <a:t>21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世纪富有创造性思维的人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7"/>
          <p:cNvSpPr/>
          <p:nvPr/>
        </p:nvSpPr>
        <p:spPr>
          <a:xfrm>
            <a:off x="3419640" y="21798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华文彩云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华文彩云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diannao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WordArt 3"/>
          <p:cNvSpPr txBox="1"/>
          <p:nvPr/>
        </p:nvSpPr>
        <p:spPr>
          <a:xfrm>
            <a:off x="3203640" y="2701800"/>
            <a:ext cx="215568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1+1=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5472000" y="2421000"/>
            <a:ext cx="50508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扫清拦路虎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深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孜不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锲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而不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汲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不言而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é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持之以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恒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aa00"/>
                </a:solidFill>
                <a:latin typeface="Arial"/>
              </a:rPr>
              <a:t>读文章讨论问题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9528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章开头设置了一个有趣的问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者由此引出什么观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确答案只有一个”的思维模式有哪些局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创造性思维有哪些必须的要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了证明这些作者举了哪两个例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是否存在富有创造力和缺乏创造力的区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5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WordArt 7"/>
          <p:cNvSpPr txBox="1"/>
          <p:nvPr/>
        </p:nvSpPr>
        <p:spPr>
          <a:xfrm>
            <a:off x="2590920" y="838080"/>
            <a:ext cx="4174920" cy="17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头脑风暴</a:t>
            </a:r>
            <a:endParaRPr b="0" lang="en-US" sz="48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295280" y="4038480"/>
            <a:ext cx="7620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WordArt 11"/>
          <p:cNvSpPr txBox="1"/>
          <p:nvPr/>
        </p:nvSpPr>
        <p:spPr>
          <a:xfrm>
            <a:off x="0" y="2895480"/>
            <a:ext cx="8915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创造力只属于贝多芬、爱因斯坦、莎士比亚？</a:t>
            </a:r>
            <a:endParaRPr b="0" lang="en-US" sz="18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69" name="WordArt 13"/>
          <p:cNvSpPr txBox="1"/>
          <p:nvPr/>
        </p:nvSpPr>
        <p:spPr>
          <a:xfrm>
            <a:off x="3429000" y="4924440"/>
            <a:ext cx="2286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5257800" y="5105520"/>
            <a:ext cx="990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16" descr="gb2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9360" y="0"/>
            <a:ext cx="2128680" cy="2205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th1019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16720" y="0"/>
            <a:ext cx="1727280" cy="2276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8" descr="Shakespear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305840" y="4724280"/>
            <a:ext cx="18381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348195"/>
          <p:cNvPicPr/>
          <p:nvPr/>
        </p:nvPicPr>
        <p:blipFill>
          <a:blip r:embed="rId1"/>
          <a:stretch/>
        </p:blipFill>
        <p:spPr>
          <a:xfrm>
            <a:off x="0" y="-587520"/>
            <a:ext cx="9144000" cy="80330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1371600" y="838080"/>
            <a:ext cx="6095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304920" y="335268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1" lang="zh-CN" sz="6000" spc="-1" strike="noStrike">
                <a:solidFill>
                  <a:srgbClr val="00ff00"/>
                </a:solidFill>
                <a:latin typeface="Times New Roman"/>
              </a:rPr>
              <a:t>创新是一个民族进步的灵魂，是国家兴旺发达的不竭动力。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80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WordArt 7"/>
          <p:cNvSpPr txBox="1"/>
          <p:nvPr/>
        </p:nvSpPr>
        <p:spPr>
          <a:xfrm>
            <a:off x="2268360" y="549360"/>
            <a:ext cx="453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你有创造力吗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Verdana"/>
              </a:rPr>
              <a:t>想一想</a:t>
            </a:r>
            <a:r>
              <a:rPr b="1" i="1" lang="en-US" sz="72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</a:rPr>
              <a:t>玩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24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</a:rPr>
              <a:t>点扑克牌的游戏：用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5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6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、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</a:rPr>
              <a:t>、四 张牌通过加减乘除的运算得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Verdana"/>
              </a:rPr>
              <a:t>出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24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</a:rPr>
              <a:t>这个结果</a:t>
            </a: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0" lang="zh-CN" sz="3600" spc="-1" strike="noStrike">
                <a:solidFill>
                  <a:srgbClr val="0000ff"/>
                </a:solidFill>
                <a:latin typeface="Verdana"/>
              </a:rPr>
              <a:t>每张牌只能用一次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ff"/>
                </a:solidFill>
                <a:latin typeface="Tahoma"/>
              </a:rPr>
              <a:t>说一说</a:t>
            </a:r>
            <a:r>
              <a:rPr b="1" i="1" lang="en-US" sz="7200" spc="-1" strike="noStrike">
                <a:solidFill>
                  <a:srgbClr val="ff00ff"/>
                </a:solidFill>
                <a:latin typeface="Tahoma"/>
              </a:rPr>
              <a:t>: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755640" y="3429000"/>
            <a:ext cx="1295280" cy="2303640"/>
          </a:xfrm>
          <a:prstGeom prst="triangle">
            <a:avLst>
              <a:gd name="adj" fmla="val 50000"/>
            </a:avLst>
          </a:prstGeom>
          <a:solidFill>
            <a:srgbClr val="009999">
              <a:alpha val="53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2484360" y="2708280"/>
            <a:ext cx="2016360" cy="3024360"/>
          </a:xfrm>
          <a:prstGeom prst="triangle">
            <a:avLst>
              <a:gd name="adj" fmla="val 50000"/>
            </a:avLst>
          </a:prstGeom>
          <a:solidFill>
            <a:srgbClr val="009999">
              <a:alpha val="44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4932360" y="3789360"/>
            <a:ext cx="1511280" cy="1584360"/>
          </a:xfrm>
          <a:prstGeom prst="ellipse">
            <a:avLst/>
          </a:prstGeom>
          <a:solidFill>
            <a:srgbClr val="ff6600">
              <a:alpha val="66000"/>
            </a:srgbClr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6300720" y="2924280"/>
            <a:ext cx="1511280" cy="1225440"/>
          </a:xfrm>
          <a:prstGeom prst="ellipse">
            <a:avLst/>
          </a:prstGeom>
          <a:solidFill>
            <a:srgbClr val="ff6600">
              <a:alpha val="67000"/>
            </a:srgbClr>
          </a:soli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Freeform 8"/>
          <p:cNvSpPr/>
          <p:nvPr/>
        </p:nvSpPr>
        <p:spPr>
          <a:xfrm>
            <a:off x="611280" y="1773360"/>
            <a:ext cx="8208720" cy="682560"/>
          </a:xfrm>
          <a:custGeom>
            <a:avLst/>
            <a:gdLst/>
            <a:ahLst/>
            <a:rect l="l" t="t" r="r" b="b"/>
            <a:pathLst>
              <a:path w="5171" h="430">
                <a:moveTo>
                  <a:pt x="0" y="324"/>
                </a:moveTo>
                <a:cubicBezTo>
                  <a:pt x="242" y="180"/>
                  <a:pt x="484" y="37"/>
                  <a:pt x="680" y="52"/>
                </a:cubicBezTo>
                <a:cubicBezTo>
                  <a:pt x="876" y="67"/>
                  <a:pt x="1005" y="422"/>
                  <a:pt x="1179" y="415"/>
                </a:cubicBezTo>
                <a:cubicBezTo>
                  <a:pt x="1353" y="408"/>
                  <a:pt x="1543" y="14"/>
                  <a:pt x="1724" y="7"/>
                </a:cubicBezTo>
                <a:cubicBezTo>
                  <a:pt x="1905" y="0"/>
                  <a:pt x="2087" y="370"/>
                  <a:pt x="2268" y="370"/>
                </a:cubicBezTo>
                <a:cubicBezTo>
                  <a:pt x="2449" y="370"/>
                  <a:pt x="2638" y="7"/>
                  <a:pt x="2812" y="7"/>
                </a:cubicBezTo>
                <a:cubicBezTo>
                  <a:pt x="2986" y="7"/>
                  <a:pt x="3145" y="370"/>
                  <a:pt x="3311" y="370"/>
                </a:cubicBezTo>
                <a:cubicBezTo>
                  <a:pt x="3477" y="370"/>
                  <a:pt x="3629" y="0"/>
                  <a:pt x="3810" y="7"/>
                </a:cubicBezTo>
                <a:cubicBezTo>
                  <a:pt x="3991" y="14"/>
                  <a:pt x="4173" y="400"/>
                  <a:pt x="4400" y="415"/>
                </a:cubicBezTo>
                <a:cubicBezTo>
                  <a:pt x="4627" y="430"/>
                  <a:pt x="5043" y="151"/>
                  <a:pt x="5171" y="9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7:03:41Z</dcterms:created>
  <dc:creator/>
  <dc:description>第一PPT模板网-WWW.1PPT.COM
</dc:description>
  <dc:language>en-US</dc:language>
  <cp:lastModifiedBy>Administrator</cp:lastModifiedBy>
  <dcterms:modified xsi:type="dcterms:W3CDTF">2017-08-03T01:55:13Z</dcterms:modified>
  <cp:revision>20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