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A56-A51C-466E-8909-0DA47D80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33F-BE30-430C-9240-AEC63F41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3CC-FE1A-430C-9962-547615EB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F63-F675-4C1C-8304-9C14A505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3474-5B26-49E3-B938-586CE752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291-4D50-4C72-AB75-14093451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263-1DAE-46FE-B6C0-6833F4FC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4294-A507-4D5E-AF66-29D15C8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A021-17C9-4F89-8F37-925CF6F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1A25-1BE7-49B8-8356-46F741BC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748-DE70-448B-90A8-F529C9B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040-204E-46CD-BA86-D3205230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ABC0-D452-40E0-AB83-20DCD27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FED7-6EE2-44D5-AF28-AAB80DA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648-C152-48A9-8DB2-C5DABFC2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4DFF-B986-4955-8085-CC9DA67E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A26E-5B47-4DF8-B335-BF7CAAA9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840-265F-41B0-863E-2AFABA45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F02-493F-4B5E-A579-EC29DE9A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B90-A37A-4539-A9C3-5655F883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908-B0B4-474B-999B-F6776295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929-83D8-4471-BC49-5E62CF2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742-71C8-44C5-BB3A-5AA3CA81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546-CEB0-4332-9FD2-011BEC1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12E-054E-49E5-B207-8EE3F5F610A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913-014F-45D1-8DD3-20DCF0AEDD6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baidu.com/i?ct=503316480&amp;z=0&amp;tn=baiduimagedetail&amp;word=%D0&#1208;%A3&amp;in=16330&amp;cl=2&amp;cm=1&amp;sc=0&amp;lm=-1&amp;pn=16&amp;rn=1&amp;di=1007491964&amp;ln=2000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.baidu.com/i?ct=503316480&amp;z=0&amp;tn=baiduimagedetail&amp;word=%BB%A8&amp;in=13356&amp;cl=2&amp;cm=1&amp;sc=0&amp;lm=-1&amp;pn=3&amp;rn=1&amp;di=2164908936&amp;ln=2000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.baidu.com/i?ct=503316480&amp;z=0&amp;tn=baiduimagedetail&amp;word=%BB%A8&amp;in=11572&amp;cl=2&amp;cm=1&amp;sc=0&amp;lm=-1&amp;pn=12&amp;rn=1&amp;di=864486616&amp;ln=2000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.baidu.com/i?ct=503316480&amp;z=0&amp;tn=baiduimagedetail&amp;word=%CC%EC%BF%D5&amp;in=1511&amp;cl=2&amp;cm=1&amp;sc=0&amp;lm=-1&amp;pn=13&amp;rn=1&amp;di=2169870016&amp;ln=2000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.baidu.com/i?ct=503316480&amp;z=0&amp;tn=baiduimagedetail&amp;word=%CA%F7&amp;in=15009&amp;cl=2&amp;cm=1&amp;sc=0&amp;lm=-1&amp;pn=2&amp;rn=1&amp;di=1465820092&amp;ln=200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.baidu.com/i?ct=503316480&amp;z=0&amp;tn=baiduimagedetail&amp;word=%B5%D8%C7%F2&amp;in=25455&amp;cl=2&amp;cm=1&amp;sc=0&amp;lm=-1&amp;pn=0&amp;rn=1&amp;di=1737124580&amp;ln=2000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.baidu.com/i?ct=503316480&amp;z=0&amp;tn=baiduimagedetail&amp;word=&#811;%D1%F4&amp;in=17472&amp;cl=2&amp;cm=1&amp;sc=0&amp;lm=-1&amp;pn=20&amp;rn=1&amp;di=2355880284&amp;ln=2000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.baidu.com/i?ct=503316480&amp;z=0&amp;tn=baiduimagedetail&amp;word=%D4%C2%C1%C1&amp;in=24752&amp;cl=2&amp;cm=1&amp;sc=0&amp;lm=-1&amp;pn=62&amp;rn=1&amp;di=831908441&amp;ln=2000" TargetMode="External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g.yoao.com/cptg/swdt/vojyolqd-9/15083908159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.baidu.com/i?ct=503316480&amp;z=0&amp;tn=baiduimagedetail&amp;word=%B4%F3%C4%D4&amp;in=3959&amp;cl=2&amp;cm=1&amp;sc=0&amp;lm=-1&amp;pn=7&amp;rn=1&amp;di=1979656768&amp;ln=2000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g.yoao.com/cptg/swdt/vojyolqd-9/15083908159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.baidu.com/i?ct=503316480&amp;z=0&amp;tn=baiduimagedetail&amp;word=%B1&#566;%FB%B8&#500;%C4&amp;in=21681&amp;cl=2&amp;cm=1&amp;sc=0&amp;lm=-1&amp;pn=0&amp;rn=1&amp;di=381537700&amp;ln=2000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image.baidu.com/i?ct=503316480&amp;z=0&amp;tn=baiduimagedetail&amp;word=&#235;%D4%F3%B6%AB&amp;in=16840&amp;cl=2&amp;cm=1&amp;sc=0&amp;lm=-1&amp;pn=6&amp;rn=1&amp;di=1804719136&amp;ln=2000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image.baidu.com/i?ct=503316480&amp;z=0&amp;tn=baiduimagedetail&amp;word=%C0%EE%BC&#947;%CF&amp;in=11531&amp;cl=2&amp;cm=1&amp;sc=0&amp;lm=-1&amp;pn=1&amp;rn=1&amp;di=2286476780&amp;ln=2000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image.baidu.com/i?ct=503316480&amp;z=0&amp;tn=baiduimagedetail&amp;word=&#355;%B6%D9&amp;in=24752&amp;cl=2&amp;cm=1&amp;sc=0&amp;lm=-1&amp;pn=5&amp;rn=1&amp;di=1273415161&amp;ln=2000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image.baidu.com/i?ct=503316480&amp;z=0&amp;tn=baiduimagedetail&amp;word=%C2%ED%D4%C6&amp;in=13531&amp;cl=2&amp;cm=1&amp;sc=0&amp;lm=-1&amp;pn=0&amp;rn=1&amp;di=2722095456&amp;ln=2000" TargetMode="External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导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06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80360" y="2060640"/>
            <a:ext cx="13334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076640"/>
            <a:ext cx="1333800" cy="100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24360" y="18900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77080" y="3716280"/>
            <a:ext cx="1000080" cy="1333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995640" y="4437000"/>
            <a:ext cx="1297080" cy="97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3213000"/>
            <a:ext cx="0" cy="4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1197000"/>
            <a:ext cx="0" cy="1440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692000" y="2349360"/>
            <a:ext cx="1150920" cy="4320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195280" y="3213000"/>
            <a:ext cx="863640" cy="936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141720"/>
            <a:ext cx="647640" cy="57456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300720" y="2565000"/>
            <a:ext cx="1008000" cy="1429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0" cy="504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908000" y="549360"/>
            <a:ext cx="133380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084720" y="692280"/>
            <a:ext cx="1324080" cy="99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3131640" y="1844640"/>
            <a:ext cx="863640" cy="720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35640" y="1699920"/>
            <a:ext cx="936720" cy="8650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导图的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理清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知识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脉络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用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大脑易于接受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的图画方式表达出来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减少无用的信息对思维进行干扰，让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思维更集中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头脑更敏捷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对你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思想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进行梳理并使它逐渐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清晰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发散的图式及图形的运用极大激发你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联想力、想象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节省时间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快速理解、快速记忆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容易解决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问题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集中注意力、让学习变得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快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以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良好的成绩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通过考试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把学习变成“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小菜一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看到“全景”，锻炼你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统筹思维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表现出更多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创造力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激发无限的点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让你的知识变成一张网，从而加速达到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融会贯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的境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制订计划，帮助你分清轻重缓急、运筹帷幄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有效与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别人沟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、更清楚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认识自己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让你的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目标更清晰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未来更明朗，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动力更持久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导图的制作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步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纸中心画上中心图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技巧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画中心图可以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简笔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心图视觉效果最好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强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点的，也就是要色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彩鲜艳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图像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夸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64000" y="2565360"/>
            <a:ext cx="167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1832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步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画思维导图中心图分支并写上关键词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小技巧：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心图的分支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由厚到细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就像树枝向上生长变细一样，同时分支要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发散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心图分支布局要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均匀分布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这样整幅图看起来平衡、有美感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分支长度略大于关键词的长度，就好像分支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把文字包起来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样，也可以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框框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把字围起来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52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914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三步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继续发散联想细画分支并写上关键词（注意不同分支采用不同颜色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小技巧：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画分支要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曲线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长略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大于词长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每个分支上写上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个关键词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1413000"/>
            <a:ext cx="4790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四步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关键词旁边画上小图、图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小技巧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图可以用简笔画、漫画等形式。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画小图的过程，就是联想、想象的过程，对记忆帮助很大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5267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40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五步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要强调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顺序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可以在次分支关键词旁写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序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如果关键词很有必要再详细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分析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可以在关键词旁写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引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然后在纸的一个空白地方写上对应的引号和分析的内容。如果想强调各关键词的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关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还可以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箭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直观表示。如果用箭头不方便直观表示各关键词的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关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也可以在有关系的关键词旁分别画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同的图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来表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点击获得大惊喜！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导图软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Mindmanager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键盘的使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空格键、回车键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同层分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Insert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键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下层分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、鼠标的使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改变分支类型及顺序、选色、选字、选图、选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1333440" cy="1076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97128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制作你第一幅思维导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发散联想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5232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-457560"/>
            <a:ext cx="85406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导图归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540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                                                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走直线的奥秘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幼圆"/>
              </a:rPr>
              <a:t>       </a:t>
            </a: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冬天来了。一天，父亲带着</a:t>
            </a:r>
            <a:r>
              <a:rPr b="0" lang="en-US" sz="1800" spc="-1" strike="noStrike">
                <a:solidFill>
                  <a:srgbClr val="3366ff"/>
                </a:solidFill>
                <a:latin typeface="楷体"/>
                <a:ea typeface="楷体"/>
              </a:rPr>
              <a:t>10</a:t>
            </a: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岁的儿子去看梅花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　　前一天雪下得很大，整个大地都白茫茫的一片，美丽而圣洁。父亲看到不远处就是那株盛开着清香梅花的老树，就对儿子说：“咱们来比赛吧，跑到前面那棵梅树，看看谁在雪地上走出的路线最直。”</a:t>
            </a:r>
            <a:br>
              <a:rPr sz="1800"/>
            </a:br>
            <a:r>
              <a:rPr b="0" lang="zh-CN" sz="1800" spc="-1" strike="noStrike">
                <a:solidFill>
                  <a:srgbClr val="3366ff"/>
                </a:solidFill>
                <a:latin typeface="楷体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　   儿子听了很高兴，心想，如果要比谁先跑到那棵树，肯定是父亲赢，但要是比谁走出的路线更直，那可就不一定了。所以他十分小心地走着，一直死死盯着自己的双脚，然后将一只脚慢慢放到另一只脚前面，就这样，好不容易才走到梅树旁。这时，父亲早已经站在树底下了。儿子回头一看，却发现父亲竟然比自己走得要直得多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　　父亲看着儿子吃惊的目光，微笑着对他说：</a:t>
            </a:r>
            <a:r>
              <a:rPr b="0" lang="en-US" sz="1800" spc="-1" strike="noStrike">
                <a:solidFill>
                  <a:srgbClr val="3366ff"/>
                </a:solidFill>
                <a:latin typeface="楷体"/>
                <a:ea typeface="楷体"/>
              </a:rPr>
              <a:t>"</a:t>
            </a: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儿子，其实要走成一条直线，最有效的方法不是盯着脚，而是死死盯住前方的目标。只要眼睛始终不离开梅树，集中精力一点，很容易就走成一条直线了。不信你可以再试一次。</a:t>
            </a:r>
            <a:r>
              <a:rPr b="0" lang="en-US" sz="1800" spc="-1" strike="noStrike">
                <a:solidFill>
                  <a:srgbClr val="3366ff"/>
                </a:solidFill>
                <a:latin typeface="楷体"/>
                <a:ea typeface="楷体"/>
              </a:rPr>
              <a:t>"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　　儿子照着父亲的话又走了一次，这次果然非常笔直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3366ff"/>
                </a:solidFill>
                <a:latin typeface="楷体"/>
                <a:ea typeface="楷体"/>
              </a:rPr>
              <a:t>　   人们的理想和目标就如同一面在风中高高飘扬的旗帜，它指引着我们前进。没有目标，我们就会随波逐流。我们身边有很多人，看起来也很努力，但却始终距离成功还有一大步，原因就是这些人没有人生目标，或者说目标的层次太低，只知道注视着自己的脚，而不是看着远方那棵梅树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神奇的大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神经元之间的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连接可能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比宇宙中所有原子数的数量还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如果开发了全脑，那么可以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轻松读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门博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轻松学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语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看一遍就记住整本红楼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进入查看更详细的神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— 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就是开发全脑的绝棒工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3341880" cy="250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981000"/>
            <a:ext cx="1333440" cy="88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619280" y="551664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维导图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496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导图归纳练习题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离成功只差半英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      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近半个世纪前，有一位美国妇女名叫弗罗伦斯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查德威克，她曾勇敢地挑战英吉利海峡，并成为世界上第一位横渡英吉利海峡的女性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在完成这个壮举之后，她没有丝毫懈怠，而是立即着手向下一个目标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卡塔丽拿海峡挺进了。一旦成功，她就是世界上第一个游过这个海峡的妇女。为此，弗罗伦斯做了大量的准备工作，准备在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95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日的早上开始这次征程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可是那天清晨天气非常糟糕，海面上的雾气很浓，她连护送自己的船只都无法看到，只能一个人在海中孤独地游着。海水也特别冷，冻得她浑身发麻。时间一个小时一个小时过去了，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小时之后，她感到又冷又饿，疲惫极了。她知道自己不能再游了，于是停下来请求教练和随行的母亲把她拉上船。他们鼓励她：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千万不要轻易放弃啊，只要再坚持一下就到了。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但是，由于她看不到加州海岸，觉得希望实在渺茫，毅然决定放弃。这时，她已经游了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小时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5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分钟。她不知道，那时离海岸只有半英里了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后来弗罗伦斯后悔地对人说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:"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如果天气能晴朗一些，如果我能看得到陆地，我就绝对不会放弃。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"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两个月后，她重整旗鼓，再次挑战卡塔丽拿海峡。这回天气好多了，她成功地游过了这个海峡，成为了游过卡塔丽拿海峡的第一个女性，而且比男性的纪录还快了大约两个小时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美国潜能大师博恩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崔西说：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成功就等于目标，其他一切都是这句话的注解！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的确如此，目标是成功的基础，但光有目标还是不够的，这个目标还必须是明确而具体的。只有这样，你才有切实的努力方向，才不会因为梦想的遥遥无期而放弃，才会正确评定自己的付出与已经取得的成绩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81080" y="919080"/>
            <a:ext cx="702000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导图技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右脑技巧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曲线、弯曲文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合适颜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夸张图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分支填充、装饰、选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导图层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8423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在纸上画导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一盘散沙（零碎、词语堆积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一堆石头（有逻辑、层次，系统性不强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一座建筑（逻辑层次性强、有系统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在心里画导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心中无图（养成发散性、系统性、逻辑性、层次性思维习惯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天才思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发散性思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系统性思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层次性思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逻辑性思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左右脑同时开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断探索、创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思维导图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就是总结他们的思维模式基础上发明而来的。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更进一步学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1247760" cy="141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213000"/>
            <a:ext cx="998640" cy="144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860640"/>
            <a:ext cx="962280" cy="1324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32720" y="3357720"/>
            <a:ext cx="923760" cy="1323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211640" y="2492280"/>
            <a:ext cx="1009800" cy="132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451640" y="2060640"/>
            <a:ext cx="95256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8229600" y="907920"/>
            <a:ext cx="914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思维导图的来源</a:t>
            </a:r>
            <a:br>
              <a:rPr sz="4000"/>
            </a:b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发明者：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tony.buza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0440c"/>
                </a:solidFill>
                <a:latin typeface="Arial"/>
              </a:rPr>
              <a:t>在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自然结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模仿天才思维模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动用全脑技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心理学、神经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0440c"/>
                </a:solidFill>
                <a:latin typeface="Arial"/>
              </a:rPr>
              <a:t>的基础上发明出来的一种全脑工具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21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维导图欣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608040" y="-669960"/>
            <a:ext cx="10652040" cy="80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" descr="思维导图绘图规则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0:54:42Z</dcterms:created>
  <dc:creator>微软用户</dc:creator>
  <dc:description/>
  <cp:keywords/>
  <dc:language>en-US</dc:language>
  <cp:lastModifiedBy>deeplm</cp:lastModifiedBy>
  <cp:lastPrinted>1899-12-30T00:00:00Z</cp:lastPrinted>
  <dcterms:modified xsi:type="dcterms:W3CDTF">2013-08-27T21:59:26Z</dcterms:modified>
  <cp:revision>28</cp:revision>
  <dc:subject/>
  <dc:title>思维导图教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