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A44B-7375-4A50-80E0-E8A0758B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434D-67E6-4C14-8D49-FFED3CDD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08D-5492-4315-858C-43C3D9A1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71A2-C628-4CE8-9956-FBAAE3F2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331-2576-4726-A92F-2DC0A4AA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0A0F-4A7D-4750-BE79-5A4ED086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8F0E-00C7-49A2-BC04-E68C1AC1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D629-AD0F-4825-BACD-31852697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83E1-E891-454A-9C90-7B1B4CCA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C580-578A-4217-94BE-821797EC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5611-ADBA-42EF-B66C-397B65D5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F86-7F73-48A7-A498-B4327E27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2143-F114-4E33-BC91-5C8D8EDD94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cc"/>
                </a:solidFill>
                <a:latin typeface="华文行楷"/>
                <a:ea typeface="华文行楷"/>
              </a:rPr>
              <a:t>十五从军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90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行楷"/>
              </a:rPr>
              <a:t>乐府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了解乐府诗的文学常识，理解诗歌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习本文以叙述为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环境描写和动作描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刻画人物的写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领会诗歌抒发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悲凉凄苦之情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深刻体会长期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战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人民带来的灾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中国古典诗歌的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3428640"/>
            <a:ext cx="792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2133720"/>
            <a:ext cx="20163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古体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5013360"/>
            <a:ext cx="1440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近体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052640"/>
            <a:ext cx="5686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四言古诗：出现最早《诗经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1557360"/>
            <a:ext cx="590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五言古诗：成熟于汉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曹操《短歌行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637000"/>
            <a:ext cx="56880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七言古诗：成熟于唐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白居易《琵琶行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3645000"/>
            <a:ext cx="5616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杂言诗：李白《梦游天姥吟留别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00360" y="4437000"/>
            <a:ext cx="9349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绝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5280" y="4076640"/>
            <a:ext cx="5184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五言绝句：王之涣《登鹳雀楼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5661000"/>
            <a:ext cx="1008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律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5280" y="4797360"/>
            <a:ext cx="4753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七言绝句：杜牧《泊秦淮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71640" y="2565360"/>
            <a:ext cx="287280" cy="28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00" y="1413000"/>
            <a:ext cx="215640" cy="2520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4724280"/>
            <a:ext cx="215640" cy="12258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4365720"/>
            <a:ext cx="144360" cy="792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5300640"/>
            <a:ext cx="5280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五言律诗：杜甫《春望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5280" y="6021360"/>
            <a:ext cx="5737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七言律诗：白居易《钱塘湖春行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5589720"/>
            <a:ext cx="144360" cy="792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乐府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乐府，本是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汉武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时掌管音乐的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官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名称，后来成为诗体的名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汉、魏、南北朝乐府官署采集和创作的乐歌，简称为乐府。魏晋和唐代及其以后诗人拟乐府写的诗歌虽不入乐，也称为乐府或拟乐府。课文就是一首乐府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自学指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听录音，听准字音和节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找出易读错的字和难理解的字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利用注释和工具书，初步理解诗歌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自学检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正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十五从军征，八十始得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道逢乡里人，“家里中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阿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谁？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遥看是君家，松柏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冢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累累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兔从狗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窦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入，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从梁上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庭生旅谷，井上生旅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葵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舂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谷持作饭，采葵持作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羹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羹饭一时熟，不知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贻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阿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出门东向看，泪落沾我衣。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1981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zhǒ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dò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z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kú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41911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gē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y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chō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解字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十五从军征，八十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始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得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 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道逢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乡里人，“家中有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阿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谁？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“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遥看是君家，松柏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冢累累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。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兔从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狗窦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入，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雉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从梁上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 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中庭生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旅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谷，井上生旅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葵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舂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谷持作饭，采葵持作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羹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 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羹饭一时熟，不知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贻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阿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 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出门东向看，泪落沾我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914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始：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676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道逢：在路上遇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1523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阿：语气词，无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19810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冢：坟墓   累累：连续不断的样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2590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狗窦：狗洞   雉：野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3124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旅：野生   葵：葵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羹：糊状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572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贻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送，赠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4114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舂：放在石舂里把谷类的壳捣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小组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讨论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探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944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诗中哪一句极言从军之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主人公年迈力衰归来，看到的家乡是什么样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主人公此时是怎样的心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诗的写作特色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68580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3048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十五从军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838080"/>
            <a:ext cx="304560" cy="5257800"/>
          </a:xfrm>
          <a:custGeom>
            <a:avLst/>
            <a:gdLst>
              <a:gd name="textAreaLeft" fmla="*/ 194760 w 304560"/>
              <a:gd name="textAreaRight" fmla="*/ 304920 w 30456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533520"/>
            <a:ext cx="3048120" cy="63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从军之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回乡所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行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回乡心情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1219320"/>
            <a:ext cx="152280" cy="2286000"/>
          </a:xfrm>
          <a:custGeom>
            <a:avLst/>
            <a:gdLst>
              <a:gd name="textAreaLeft" fmla="*/ 97200 w 152280"/>
              <a:gd name="textAreaRight" fmla="*/ 152640 w 1522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10666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远望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近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2209680"/>
            <a:ext cx="304560" cy="243864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1905120"/>
            <a:ext cx="19051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狗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梁上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中庭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井上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5335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十五从军征，八十始得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9907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松柏冢累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1752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兔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2666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雉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34290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生旅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42670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生旅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4952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舂谷、作饭、采葵、作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5867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泪沾我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53280" y="914400"/>
            <a:ext cx="152640" cy="5562720"/>
          </a:xfrm>
          <a:custGeom>
            <a:avLst/>
            <a:gdLst>
              <a:gd name="textAreaLeft" fmla="*/ 0 w 152640"/>
              <a:gd name="textAreaRight" fmla="*/ 55080 w 152640"/>
              <a:gd name="textAreaTop" fmla="*/ 145080 h 5562720"/>
              <a:gd name="textAreaBottom" fmla="*/ 5417640 h 556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83280" y="1143000"/>
            <a:ext cx="10335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兵役给人民带来的沉重灾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s</cp:lastModifiedBy>
  <dcterms:modified xsi:type="dcterms:W3CDTF">2007-04-13T14:27:07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