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D19-4DDB-477C-8300-9701C555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1F1B-30B6-4E0A-8817-37B3B5EC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560-F424-4E03-9B4F-956E0CCE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118-646F-4314-901C-079ECF2F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51C-51ED-4184-9AD9-C90AD73C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D97-7255-4D78-A02C-93DDCCB9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478-5BA2-4793-834C-C3FA2024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C1C-FAB8-49C0-B491-F69F6E8A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613D-8FA9-414D-9846-A50466E7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3060-4B3E-46FF-BF1D-561B5026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A19-0249-4C75-8927-D04F824E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FA1B-C03D-4E65-A8C6-3AC69BC7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B325-13A6-4576-B615-099C3C4984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&#30707;&#22836;&#22478;.r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9280" y="1989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隶书"/>
              </a:rPr>
              <a:t>近体诗六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867280" y="4869000"/>
            <a:ext cx="327672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381880" y="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10920" y="1773360"/>
            <a:ext cx="77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越王勾践破吴归，战士还家尽锦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宫女如花满春殿，只今惟有鹧鸪飞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1880" y="1413000"/>
            <a:ext cx="762120" cy="14126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1880" y="2781360"/>
            <a:ext cx="762120" cy="14126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1880" y="414972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1880" y="544500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62064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越中览古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357336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昔日之繁盛——今日之凄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443640" y="5280120"/>
            <a:ext cx="1806480" cy="1577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381880" y="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63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隶书"/>
              </a:rPr>
              <a:t>性情刘禹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隶书"/>
              </a:rPr>
              <a:t>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隶书"/>
              </a:rPr>
              <a:t>其他诗作赏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1880" y="1413000"/>
            <a:ext cx="762120" cy="14126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1880" y="2781360"/>
            <a:ext cx="762120" cy="14126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1880" y="414972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1880" y="544500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3645000"/>
            <a:ext cx="2590560" cy="2862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1880" y="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竹枝词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其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杨柳青青江水平，闻郎江上唱歌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东边日出西边雨，道是无晴却有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1880" y="1413000"/>
            <a:ext cx="762120" cy="14126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1880" y="2781360"/>
            <a:ext cx="762120" cy="14126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1880" y="414972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1880" y="544500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859280" y="5219640"/>
            <a:ext cx="3457800" cy="1638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4360" y="3284640"/>
            <a:ext cx="67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热烈而忐忑的少女情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381880" y="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1880" y="1413000"/>
            <a:ext cx="762120" cy="14126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1880" y="2781360"/>
            <a:ext cx="762120" cy="14126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414972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1880" y="544500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4941720"/>
            <a:ext cx="3457440" cy="1638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692360" y="549360"/>
            <a:ext cx="3240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秋风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何处秋风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萧萧送雁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朝来入庭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孤客最先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95640" y="4797360"/>
            <a:ext cx="410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羁旅之情，思归之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0000" y="1125360"/>
            <a:ext cx="727236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酬乐天扬州初逢席上见赠</a:t>
            </a:r>
            <a:br>
              <a:rPr sz="36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巴山蜀水凄凉地，二十三年弃置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怀旧空吟闻笛赋，到乡翻似烂柯人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沉舟侧畔千帆过，病树前头万木春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今日闻君歌一曲，暂凭杯酒长精神。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1880" y="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1880" y="134136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1880" y="270828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414972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544500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486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惆怅——达观——坚忍不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932360" y="5219640"/>
            <a:ext cx="3457440" cy="1638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95280" y="137160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 u="sng">
                <a:solidFill>
                  <a:srgbClr val="663300"/>
                </a:solidFill>
                <a:uFillTx/>
                <a:latin typeface="Times New Roman"/>
                <a:ea typeface="隶书"/>
              </a:rPr>
              <a:t>石头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429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华文行楷"/>
              </a:rPr>
              <a:t>刘禹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396880" cy="338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03280" y="0"/>
            <a:ext cx="594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刘禹锡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72—84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中唐诗人，洛阳人。字梦得，晚年任太子宾客，世称“刘宾客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诗歌创作主要成就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乐府诗（《竹枝词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怀古诗（《金陵五题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刘白”、“诗豪”、“刘柳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92720" y="530064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86560" y="4869000"/>
            <a:ext cx="3457440" cy="163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587700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1557360"/>
            <a:ext cx="4105080" cy="27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/>
              </a:rPr>
              <a:t>石头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2997360"/>
            <a:ext cx="431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山围故国周遭在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潮打空城寂寞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淮水东边旧时月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夜深还过女墙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1880" y="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0920" y="2133720"/>
            <a:ext cx="76438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凭借古迹咏史抒怀之诗被称为怀古诗。就古迹，怀古人，咏故事，抒写对前人优劣得失的褒贬，对天下治乱兴亡的见解，有的还寄托着自己的身世怀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844640"/>
            <a:ext cx="4038480" cy="66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81880" y="1413000"/>
            <a:ext cx="762120" cy="14126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1880" y="2781360"/>
            <a:ext cx="762120" cy="14126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1880" y="414972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1880" y="544500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69228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怀古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5877000"/>
            <a:ext cx="27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5280" y="4941720"/>
            <a:ext cx="1806480" cy="1578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1880" y="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51b43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51b43"/>
                </a:solidFill>
                <a:latin typeface="楷体_GB2312"/>
                <a:ea typeface="楷体_GB2312"/>
              </a:rPr>
              <a:t>常见内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慨历史，刻画人物，描绘景象，发表议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51b43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51b43"/>
                </a:solidFill>
                <a:latin typeface="楷体_GB2312"/>
                <a:ea typeface="楷体_GB2312"/>
              </a:rPr>
              <a:t>常用手法</a:t>
            </a:r>
            <a:r>
              <a:rPr b="1" lang="zh-CN" sz="2800" spc="-1" strike="noStrike">
                <a:solidFill>
                  <a:srgbClr val="b51b43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小见大、寓虚于实、今昔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51b43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51b43"/>
                </a:solidFill>
                <a:latin typeface="楷体_GB2312"/>
                <a:ea typeface="楷体_GB2312"/>
              </a:rPr>
              <a:t>鉴赏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握一定的历史文化典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抓住所咏史事与现实的联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16720" y="5280120"/>
            <a:ext cx="1806480" cy="1577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381880" y="1413000"/>
            <a:ext cx="762120" cy="14126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1880" y="2781360"/>
            <a:ext cx="762120" cy="14126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1880" y="414972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544500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20080" y="47628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怀古诗的鉴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556000" y="1484280"/>
            <a:ext cx="4038480" cy="66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1880" y="0"/>
            <a:ext cx="762120" cy="243828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1880" y="1066680"/>
            <a:ext cx="762120" cy="24386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1880" y="2133720"/>
            <a:ext cx="762120" cy="243828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1880" y="4419720"/>
            <a:ext cx="762120" cy="243828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81880" y="4419720"/>
            <a:ext cx="762120" cy="129528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1880" y="3352680"/>
            <a:ext cx="762120" cy="24386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1880" y="4419720"/>
            <a:ext cx="762120" cy="243828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1880" y="5486400"/>
            <a:ext cx="762120" cy="13716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609480"/>
            <a:ext cx="916200" cy="358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3657600"/>
            <a:ext cx="6714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620640"/>
            <a:ext cx="45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意象——意境赏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78136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楷体_GB2312"/>
              </a:rPr>
              <a:t>石头城——故国——空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17002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首诗借写石头城的萧条景象，寄托国运衰微的感慨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860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沉寂的群山，冰凉的潮水，凄清的月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335772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昔日繁华富贵，而今没落荒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4038840" cy="66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516720" y="5280120"/>
            <a:ext cx="1806480" cy="1577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4869000"/>
            <a:ext cx="712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山水明月依旧，而昔日的繁华不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436572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楷体_GB2312"/>
              </a:rPr>
              <a:t>在——回——还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950080"/>
            <a:ext cx="633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白居易：“我知后之诗人无复措词矣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81880" y="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-360" y="1557000"/>
            <a:ext cx="8101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六朝旧事随流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1880" y="1413000"/>
            <a:ext cx="762120" cy="14126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1880" y="2781360"/>
            <a:ext cx="762120" cy="14126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1880" y="414972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1880" y="544500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2997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其他怀古诗赏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43640" y="5280120"/>
            <a:ext cx="1806480" cy="1577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1880" y="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1880" y="1413000"/>
            <a:ext cx="762120" cy="14126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1880" y="2781360"/>
            <a:ext cx="762120" cy="14126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1880" y="414972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1880" y="5445000"/>
            <a:ext cx="762120" cy="14130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981000"/>
            <a:ext cx="73454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西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金陵怀古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周邦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丽地，南朝盛事谁记？山围故国绕清江，髻鬟对起，怒涛寂寞打孤城，风樯遥度天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断崖树，犹倒倚；莫愁艇子曾系。空余旧迹郁苍苍，雾沉半垒。夜深月过女墙来，伤心东望淮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旗戏鼓甚处市？想依稀、王谢邻里。燕子不知何世，入寻常巷陌人家，相对如说兴亡，斜阳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16720" y="5280120"/>
            <a:ext cx="1806480" cy="1577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6:19:38Z</dcterms:created>
  <dc:creator>ly</dc:creator>
  <dc:description/>
  <dc:language>en-US</dc:language>
  <cp:lastModifiedBy>user</cp:lastModifiedBy>
  <dcterms:modified xsi:type="dcterms:W3CDTF">2006-09-08T11:58:50Z</dcterms:modified>
  <cp:revision>36</cp:revision>
  <dc:subject/>
  <dc:title>幻灯片 1</dc:title>
</cp:coreProperties>
</file>