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.gif" ContentType="image/gif"/>
  <Override PartName="/ppt/media/image30.png" ContentType="image/png"/>
  <Override PartName="/ppt/media/image3.png" ContentType="image/png"/>
  <Override PartName="/ppt/media/image4.jpeg" ContentType="image/jpeg"/>
  <Override PartName="/ppt/media/image9.gif" ContentType="image/gif"/>
  <Override PartName="/ppt/media/laser.wav" ContentType="audio/x-wav"/>
  <Override PartName="/ppt/media/image8.gif" ContentType="image/gif"/>
  <Override PartName="/ppt/media/image28.png" ContentType="image/png"/>
  <Override PartName="/ppt/media/image5.gif" ContentType="image/gif"/>
  <Override PartName="/ppt/media/image10.gif" ContentType="image/gif"/>
  <Override PartName="/ppt/media/image29.jpeg" ContentType="image/jpeg"/>
  <Override PartName="/ppt/media/image7.gif" ContentType="image/gif"/>
  <Override PartName="/ppt/media/image12.gif" ContentType="image/gif"/>
  <Override PartName="/ppt/media/image1.jpeg" ContentType="image/jpeg"/>
  <Override PartName="/ppt/media/image27.gif" ContentType="image/gif"/>
  <Override PartName="/ppt/media/image13.gif" ContentType="image/gif"/>
  <Override PartName="/ppt/media/image16.png" ContentType="image/png"/>
  <Override PartName="/ppt/media/image14.gif" ContentType="image/gif"/>
  <Override PartName="/ppt/media/image17.png" ContentType="image/png"/>
  <Override PartName="/ppt/media/image15.jpeg" ContentType="image/jpeg"/>
  <Override PartName="/ppt/media/image25.gif" ContentType="image/gif"/>
  <Override PartName="/ppt/media/image6.jpeg" ContentType="image/jpeg"/>
  <Override PartName="/ppt/media/image18.png" ContentType="image/png"/>
  <Override PartName="/ppt/media/image20.gif" ContentType="image/gif"/>
  <Override PartName="/ppt/media/image23.png" ContentType="image/png"/>
  <Override PartName="/ppt/media/chimes.wav" ContentType="audio/x-wav"/>
  <Override PartName="/ppt/media/image21.jpeg" ContentType="image/jpeg"/>
  <Override PartName="/ppt/media/image22.png" ContentType="image/png"/>
  <Override PartName="/ppt/media/image24.png" ContentType="image/png"/>
  <Override PartName="/ppt/media/image11.jpeg" ContentType="image/jpeg"/>
  <Override PartName="/ppt/media/image31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7A02-EA71-4CA9-99E1-C0FD8B04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2776-45F7-411D-801F-A51BAE22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0434-4FE9-4DB8-8242-A582ACA18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业布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CCB9-E5C2-45A4-AAB4-3D60B2476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822B-9DFC-47C6-A8CF-BAD09EA48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导学达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7B5-C478-40D5-A93D-D3120D5C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438-A322-46DA-BCC5-5CB043C8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ED9-A704-4A67-84F4-488B81AE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BC6-46D1-4217-9F65-EACD6E5C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801-C11F-443D-A3A8-1C9DE837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308-F480-4409-B820-989C7C2F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F81-F03D-45C3-B6FC-F3C046C2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11E-1C70-4A4E-95E9-22C5299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7E0-B577-42CB-93CA-673EA686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FF7-7D81-4C9C-A02A-ECEC2759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C86-B535-47EE-9945-C0A5315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00F-B635-4BB7-A6CF-9478841C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CBAC-01E6-4196-B571-7A342EF8C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slide" Target="slide3.xml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00200" y="990720"/>
            <a:ext cx="73152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世说新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笔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说集。南朝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1" action="ppaction://hlinksldjump"/>
              </a:rPr>
              <a:t>刘义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撰。全书按内容分类记事，共分德行、言语、政事、文学等三十六门，主要记载汉末至东晋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士族阶层人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遗闻轶事，比较全面地反映了当时士族的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说新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中国小说中自成一体，后代仿作很多。书中存在不少消极因素，但也有不少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批判黑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讽刺奢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表彰善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记述。全书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语言精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善于通过一言一行刻画人物肖像、精神面貌，意味隽永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-986400" y="990720"/>
            <a:ext cx="2618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99"/>
                </a:solidFill>
                <a:latin typeface="Times New Roman"/>
                <a:ea typeface="隶书"/>
              </a:rPr>
              <a:t>作品简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09480" y="2133720"/>
            <a:ext cx="7543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1" i="1" lang="zh-CN" sz="7200" spc="-1" strike="noStrike">
                <a:solidFill>
                  <a:srgbClr val="ff3300"/>
                </a:solidFill>
                <a:latin typeface="隶书"/>
                <a:ea typeface="隶书"/>
              </a:rPr>
              <a:t>、积累写雪的诗句或写雪的成语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2b2b2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14" name="Group 4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15" name="Rectangle 5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7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13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业布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6" descr="gif007"/>
          <p:cNvPicPr/>
          <p:nvPr/>
        </p:nvPicPr>
        <p:blipFill>
          <a:blip r:embed="rId1"/>
          <a:stretch/>
        </p:blipFill>
        <p:spPr>
          <a:xfrm>
            <a:off x="4114800" y="5105520"/>
            <a:ext cx="1108080" cy="119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gif005"/>
          <p:cNvPicPr/>
          <p:nvPr/>
        </p:nvPicPr>
        <p:blipFill>
          <a:blip r:embed="rId2"/>
          <a:stretch/>
        </p:blipFill>
        <p:spPr>
          <a:xfrm>
            <a:off x="7086600" y="3049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gif003"/>
          <p:cNvPicPr/>
          <p:nvPr/>
        </p:nvPicPr>
        <p:blipFill>
          <a:blip r:embed="rId3"/>
          <a:stretch/>
        </p:blipFill>
        <p:spPr>
          <a:xfrm>
            <a:off x="1371600" y="4572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gif003"/>
          <p:cNvPicPr/>
          <p:nvPr/>
        </p:nvPicPr>
        <p:blipFill>
          <a:blip r:embed="rId4"/>
          <a:stretch/>
        </p:blipFill>
        <p:spPr>
          <a:xfrm>
            <a:off x="7391520" y="3962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gif003"/>
          <p:cNvPicPr/>
          <p:nvPr/>
        </p:nvPicPr>
        <p:blipFill>
          <a:blip r:embed="rId5"/>
          <a:stretch/>
        </p:blipFill>
        <p:spPr>
          <a:xfrm>
            <a:off x="4495680" y="1143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FR_038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990720" y="1676520"/>
            <a:ext cx="7162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钱强在放学回家的路上与同学打架，钱强的好朋友李辉看到后立即上去帮各式各样钱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刘丰在体育课上扭伤了脚，林健送刘丰去医务室治疗，又回教室将老师布置的语文作业题抄下来，给刘丰送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郑伟有道题不会做，想拿马捷的作业本抄袭。马捷不同意，而是给他讲解做题的方法，要他自己去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ic004"/>
          <p:cNvPicPr/>
          <p:nvPr/>
        </p:nvPicPr>
        <p:blipFill>
          <a:blip r:embed="rId2"/>
          <a:stretch/>
        </p:blipFill>
        <p:spPr>
          <a:xfrm>
            <a:off x="769608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915520" y="1905120"/>
            <a:ext cx="109476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14400" y="1920960"/>
            <a:ext cx="822816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白雪却嫌春色晚，故穿庭树作飞花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韩愈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春雪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忽如一夜春风来，千树万树梨花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岑参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白雪歌送武判官归京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燕山雪花大如席，片片吹落轩辕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北风行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六出飞花入户时，坐看青竹变琼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高群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对雪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solidFill>
            <a:srgbClr val="31e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相信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36" name="Group 4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37" name="Rectangle 5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6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7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40" name="Rectangle 8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9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Rectangle 10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13"/>
          <p:cNvSpPr/>
          <p:nvPr/>
        </p:nvSpPr>
        <p:spPr>
          <a:xfrm>
            <a:off x="533520" y="1981080"/>
            <a:ext cx="8305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123"/>
          <p:cNvPicPr/>
          <p:nvPr/>
        </p:nvPicPr>
        <p:blipFill>
          <a:blip r:embed="rId1"/>
          <a:stretch/>
        </p:blipFill>
        <p:spPr>
          <a:xfrm>
            <a:off x="7451640" y="5661000"/>
            <a:ext cx="1121040" cy="1197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5"/>
          <p:cNvSpPr/>
          <p:nvPr/>
        </p:nvSpPr>
        <p:spPr>
          <a:xfrm>
            <a:off x="-1143000" y="1600200"/>
            <a:ext cx="17922960" cy="4177800"/>
          </a:xfrm>
          <a:prstGeom prst="rect">
            <a:avLst/>
          </a:prstGeom>
          <a:solidFill>
            <a:srgbClr val="31e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英语中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母，请你从除下面例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以外的剩下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大写字母中任选两个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发挥想象，仿写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句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一座金字塔，是进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两个联结的心，是友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未满的月牙儿，是缺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fd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152280"/>
            <a:ext cx="384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66"/>
                </a:solidFill>
                <a:latin typeface="Times New Roman"/>
                <a:ea typeface="隶书"/>
              </a:rPr>
              <a:t>作业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259092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一、背诵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咏雪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二、研讨与练习  一（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），二（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三、预习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陈太丘与友期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199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5970600"/>
            <a:ext cx="10508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3"/>
          <p:cNvPicPr/>
          <p:nvPr/>
        </p:nvPicPr>
        <p:blipFill>
          <a:blip r:embed="rId1"/>
          <a:stretch/>
        </p:blipFill>
        <p:spPr>
          <a:xfrm>
            <a:off x="228600" y="378000"/>
            <a:ext cx="8686800" cy="6100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143000" y="1600200"/>
            <a:ext cx="6705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Arial"/>
              </a:rPr>
              <a:t>陈太丘与友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</a:rPr>
              <a:t>世说新语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3"/>
          <p:cNvPicPr/>
          <p:nvPr/>
        </p:nvPicPr>
        <p:blipFill>
          <a:blip r:embed="rId1"/>
          <a:stretch/>
        </p:blipFill>
        <p:spPr>
          <a:xfrm>
            <a:off x="0" y="228600"/>
            <a:ext cx="8686800" cy="6100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2272320" y="100800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隶书"/>
              </a:rPr>
              <a:t>小组合作学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295280" y="2286000"/>
            <a:ext cx="5562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划出重点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补上句中省略的人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762120" y="3657600"/>
            <a:ext cx="838080" cy="838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3657600" y="1676520"/>
            <a:ext cx="1219320" cy="7617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4952880" y="1600200"/>
            <a:ext cx="18288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181480" y="3809880"/>
            <a:ext cx="762120" cy="762120"/>
          </a:xfrm>
          <a:prstGeom prst="flowChartConnector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440" y="58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17524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7339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4191120"/>
            <a:ext cx="98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800" y="4952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838080" y="685800"/>
            <a:ext cx="800100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黑体"/>
              </a:rPr>
              <a:t>圈点勾画示例</a:t>
            </a:r>
            <a:r>
              <a:rPr b="1" lang="en-US" sz="4800" spc="-1" strike="noStrike">
                <a:solidFill>
                  <a:srgbClr val="cc00cc"/>
                </a:solidFill>
                <a:latin typeface="Times New Roman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陈太丘与友期行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期日中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过中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至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太丘舍去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去后 乃 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2" descr="按钮6"/>
          <p:cNvPicPr/>
          <p:nvPr/>
        </p:nvPicPr>
        <p:blipFill>
          <a:blip r:embed="rId1"/>
          <a:stretch/>
        </p:blipFill>
        <p:spPr>
          <a:xfrm>
            <a:off x="685800" y="914400"/>
            <a:ext cx="250920" cy="250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未命名"/>
          <p:cNvPicPr/>
          <p:nvPr/>
        </p:nvPicPr>
        <p:blipFill>
          <a:blip r:embed="rId2"/>
          <a:stretch/>
        </p:blipFill>
        <p:spPr>
          <a:xfrm>
            <a:off x="6019920" y="5410080"/>
            <a:ext cx="1447560" cy="99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按钮6"/>
          <p:cNvPicPr/>
          <p:nvPr/>
        </p:nvPicPr>
        <p:blipFill>
          <a:blip r:embed="rId3"/>
          <a:stretch/>
        </p:blipFill>
        <p:spPr>
          <a:xfrm>
            <a:off x="685800" y="54864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5"/>
          <p:cNvSpPr/>
          <p:nvPr/>
        </p:nvSpPr>
        <p:spPr>
          <a:xfrm>
            <a:off x="914400" y="51814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黑体"/>
              </a:rPr>
              <a:t>增添符号示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2"/>
          <p:cNvPicPr/>
          <p:nvPr/>
        </p:nvPicPr>
        <p:blipFill>
          <a:blip r:embed="rId1"/>
          <a:stretch/>
        </p:blipFill>
        <p:spPr>
          <a:xfrm>
            <a:off x="-457200" y="-304920"/>
            <a:ext cx="9982080" cy="7620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1440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陈太丘与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期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期日中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中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太丘舍去，去后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人哉！与人期行，相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 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友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下车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。元方入门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cc00ff"/>
                </a:solidFill>
                <a:uFillTx/>
                <a:latin typeface="Times New Roman"/>
              </a:rPr>
              <a:t>补上句中省略的人物：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陈太丘与友期行，期日中，（    ）过中不至，太丘舍（     ）去，（          ）去后（    ）乃至。元方时年七岁，门外戏。客问元方：“尊君在不？”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答曰：“（        ）待君久不至，已去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cc00ff"/>
                </a:solidFill>
                <a:uFillTx/>
                <a:latin typeface="Times New Roman"/>
              </a:rPr>
              <a:t>补上句中省略的人物：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陈太丘与友期行，期日中，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友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过中不至，太丘舍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友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去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陈太丘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去后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友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乃至。元方时年七岁，门外戏。客问元方：“尊君在不？”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元方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答曰：“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家君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待君久不至，已去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473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380880" y="150804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  <a:ea typeface="隶书"/>
              </a:rPr>
              <a:t>《</a:t>
            </a:r>
            <a:r>
              <a:rPr b="0" lang="zh-CN" sz="8000" spc="-1" strike="noStrike">
                <a:solidFill>
                  <a:srgbClr val="000099"/>
                </a:solidFill>
                <a:latin typeface="Times New Roman"/>
                <a:ea typeface="隶书"/>
              </a:rPr>
              <a:t>世说新语</a:t>
            </a:r>
            <a:r>
              <a:rPr b="0" lang="en-US" sz="8000" spc="-1" strike="noStrike">
                <a:solidFill>
                  <a:srgbClr val="000099"/>
                </a:solidFill>
                <a:latin typeface="Times New Roman"/>
                <a:ea typeface="隶书"/>
              </a:rPr>
              <a:t>》</a:t>
            </a:r>
            <a:r>
              <a:rPr b="0" lang="zh-CN" sz="8000" spc="-1" strike="noStrike">
                <a:solidFill>
                  <a:srgbClr val="000099"/>
                </a:solidFill>
                <a:latin typeface="Times New Roman"/>
                <a:ea typeface="隶书"/>
              </a:rPr>
              <a:t>两则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172200" y="36576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刘义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4159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咏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6212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陈太丘与友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小雪花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426708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小雪花"/>
          <p:cNvPicPr/>
          <p:nvPr/>
        </p:nvPicPr>
        <p:blipFill>
          <a:blip r:embed="rId4"/>
          <a:stretch/>
        </p:blipFill>
        <p:spPr>
          <a:xfrm>
            <a:off x="304920" y="502920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ff"/>
                </a:solidFill>
                <a:uFillTx/>
                <a:latin typeface="Times New Roman"/>
                <a:ea typeface="华文彩云"/>
              </a:rPr>
              <a:t>小延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哪些是敬辞，哪些是谦辞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君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尊君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家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敝人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卑职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陛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令尊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寡人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足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令郎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老朽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犬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边框"/>
          <p:cNvPicPr/>
          <p:nvPr/>
        </p:nvPicPr>
        <p:blipFill>
          <a:blip r:embed="rId1"/>
          <a:stretch/>
        </p:blipFill>
        <p:spPr>
          <a:xfrm>
            <a:off x="457200" y="730080"/>
            <a:ext cx="8534520" cy="6108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762120" y="1066680"/>
            <a:ext cx="2286000" cy="6858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问题思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bang1"/>
          <p:cNvPicPr/>
          <p:nvPr/>
        </p:nvPicPr>
        <p:blipFill>
          <a:blip r:embed="rId2"/>
          <a:stretch/>
        </p:blipFill>
        <p:spPr>
          <a:xfrm>
            <a:off x="7238880" y="7621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1295280" y="1995480"/>
            <a:ext cx="55627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分析文中的人物，他们分别是怎样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219320" y="5576760"/>
            <a:ext cx="647676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元方入门不顾是否失礼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38080" y="3962520"/>
            <a:ext cx="2362320" cy="6858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课内延 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1" name="Rectangle 3"/>
            <p:cNvSpPr/>
            <p:nvPr/>
          </p:nvSpPr>
          <p:spPr>
            <a:xfrm>
              <a:off x="0" y="3141720"/>
              <a:ext cx="9144000" cy="371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7ff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0" y="0"/>
              <a:ext cx="9144000" cy="2852640"/>
            </a:xfrm>
            <a:prstGeom prst="rect">
              <a:avLst/>
            </a:prstGeom>
            <a:gradFill rotWithShape="0">
              <a:gsLst>
                <a:gs pos="0">
                  <a:srgbClr val="afb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Object 5"/>
            <p:cNvGraphicFramePr/>
            <p:nvPr/>
          </p:nvGraphicFramePr>
          <p:xfrm>
            <a:off x="1187280" y="3068640"/>
            <a:ext cx="2089440" cy="251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3068640"/>
                      <a:ext cx="208944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6"/>
            <p:cNvGraphicFramePr/>
            <p:nvPr/>
          </p:nvGraphicFramePr>
          <p:xfrm>
            <a:off x="0" y="4581360"/>
            <a:ext cx="2089080" cy="227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581360"/>
                      <a:ext cx="2089080" cy="22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7"/>
            <p:cNvGraphicFramePr/>
            <p:nvPr/>
          </p:nvGraphicFramePr>
          <p:xfrm>
            <a:off x="2700360" y="3357720"/>
            <a:ext cx="2089080" cy="287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00360" y="3357720"/>
                      <a:ext cx="2089080" cy="287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9" name="Rectangle 8"/>
          <p:cNvSpPr/>
          <p:nvPr/>
        </p:nvSpPr>
        <p:spPr>
          <a:xfrm>
            <a:off x="609480" y="22096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请你发挥想象，依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陈太丘与友期行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情节，假设一个对话情境，猜想友人遇见陈太丘后，两人分别会说什么呢？</a:t>
            </a:r>
            <a:r>
              <a:rPr b="1" lang="zh-CN" sz="4800" spc="-1" strike="noStrike" u="sng">
                <a:solidFill>
                  <a:srgbClr val="0000cc"/>
                </a:solidFill>
                <a:uFillTx/>
                <a:latin typeface="隶书"/>
                <a:ea typeface="隶书"/>
                <a:hlinkClick r:id="rId7" action="ppaction://hlinksldjump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45720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创新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1905120" y="3962520"/>
            <a:ext cx="4108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1" descr="Flash"/>
          <p:cNvPicPr/>
          <p:nvPr/>
        </p:nvPicPr>
        <p:blipFill>
          <a:blip r:embed="rId8"/>
          <a:stretch/>
        </p:blipFill>
        <p:spPr>
          <a:xfrm>
            <a:off x="6877080" y="260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Flash"/>
          <p:cNvPicPr/>
          <p:nvPr/>
        </p:nvPicPr>
        <p:blipFill>
          <a:blip r:embed="rId9"/>
          <a:stretch/>
        </p:blipFill>
        <p:spPr>
          <a:xfrm>
            <a:off x="810108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Flash"/>
          <p:cNvPicPr/>
          <p:nvPr/>
        </p:nvPicPr>
        <p:blipFill>
          <a:blip r:embed="rId10"/>
          <a:stretch/>
        </p:blipFill>
        <p:spPr>
          <a:xfrm>
            <a:off x="4356000" y="189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STAR2"/>
          <p:cNvPicPr/>
          <p:nvPr/>
        </p:nvPicPr>
        <p:blipFill>
          <a:blip r:embed="rId11"/>
          <a:stretch/>
        </p:blipFill>
        <p:spPr>
          <a:xfrm>
            <a:off x="5943600" y="1523880"/>
            <a:ext cx="538200" cy="53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STAR1"/>
          <p:cNvPicPr/>
          <p:nvPr/>
        </p:nvPicPr>
        <p:blipFill>
          <a:blip r:embed="rId12"/>
          <a:stretch/>
        </p:blipFill>
        <p:spPr>
          <a:xfrm>
            <a:off x="2590920" y="1066680"/>
            <a:ext cx="274680" cy="351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Flash"/>
          <p:cNvPicPr/>
          <p:nvPr/>
        </p:nvPicPr>
        <p:blipFill>
          <a:blip r:embed="rId13"/>
          <a:stretch/>
        </p:blipFill>
        <p:spPr>
          <a:xfrm>
            <a:off x="7740720" y="476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Flash"/>
          <p:cNvPicPr/>
          <p:nvPr/>
        </p:nvPicPr>
        <p:blipFill>
          <a:blip r:embed="rId14"/>
          <a:stretch/>
        </p:blipFill>
        <p:spPr>
          <a:xfrm>
            <a:off x="5724360" y="76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STAR1"/>
          <p:cNvPicPr/>
          <p:nvPr/>
        </p:nvPicPr>
        <p:blipFill>
          <a:blip r:embed="rId15"/>
          <a:stretch/>
        </p:blipFill>
        <p:spPr>
          <a:xfrm>
            <a:off x="7451640" y="1125360"/>
            <a:ext cx="274680" cy="351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花3"/>
          <p:cNvPicPr/>
          <p:nvPr/>
        </p:nvPicPr>
        <p:blipFill>
          <a:blip r:embed="rId1"/>
          <a:stretch/>
        </p:blipFill>
        <p:spPr>
          <a:xfrm>
            <a:off x="457200" y="743040"/>
            <a:ext cx="8686800" cy="6127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边框3"/>
          <p:cNvPicPr/>
          <p:nvPr/>
        </p:nvPicPr>
        <p:blipFill>
          <a:blip r:embed="rId2"/>
          <a:stretch/>
        </p:blipFill>
        <p:spPr>
          <a:xfrm>
            <a:off x="5892840" y="3441600"/>
            <a:ext cx="3251160" cy="34164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4"/>
          <p:cNvSpPr txBox="1"/>
          <p:nvPr/>
        </p:nvSpPr>
        <p:spPr>
          <a:xfrm>
            <a:off x="685800" y="9144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延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143000" y="2514600"/>
            <a:ext cx="6629400" cy="990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看一组图片然后思考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2"/>
          <p:cNvPicPr/>
          <p:nvPr/>
        </p:nvPicPr>
        <p:blipFill>
          <a:blip r:embed="rId4"/>
          <a:stretch/>
        </p:blipFill>
        <p:spPr>
          <a:xfrm>
            <a:off x="1066680" y="4038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砍倒父亲最心爱的樱桃树仍敢于承认的勇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十指被插入竹签后仍不出卖同志的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春天播下的种子秋天里结出丰硕的果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推倒了墙变成桥，是人与人之间真切的情感纽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诚信是祖国对我们的殷切期望，是我们担起历史的重任时对祖国母亲自信的一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诚信是什麽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edf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-698400" y="1295280"/>
            <a:ext cx="237492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Times New Roman"/>
                <a:ea typeface="隶书"/>
              </a:rPr>
              <a:t>作者简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905120" y="1066680"/>
            <a:ext cx="66294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刘义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元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3--44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北朝刘宋王朝宗室，彭城（今江苏徐州市）人，袭封临川王，曾任南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yǎn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州刺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秉性简素，爱好文学，喜欢招聚文学之士，除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说新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，还编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函明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，但已散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firstslide"/>
          </p:cNvPr>
          <p:cNvSpPr/>
          <p:nvPr/>
        </p:nvSpPr>
        <p:spPr>
          <a:xfrm>
            <a:off x="7924680" y="6019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5"/>
          <p:cNvSpPr/>
          <p:nvPr/>
        </p:nvSpPr>
        <p:spPr>
          <a:xfrm>
            <a:off x="533520" y="457200"/>
            <a:ext cx="6248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注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 （           ）             雪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（           ）             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（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解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谢太傅寒雪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内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与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儿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讲论文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俄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雪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欣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撒盐空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差可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未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柳絮因风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001000" y="0"/>
            <a:ext cx="1143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基础知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193840" y="914400"/>
            <a:ext cx="3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153160" y="14778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209680" y="19810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í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045040" y="91440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471640" y="1477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800600" y="3124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家庭聚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79246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800600" y="3672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儿女、侄子、侄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800600" y="4191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不一会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800600" y="4738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高兴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4800600" y="5272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差不多可以相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4800600" y="5867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比不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47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394640" y="609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朗读课文，讲述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990720" y="1371600"/>
            <a:ext cx="25905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时间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地点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人物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t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事情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经过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505320" y="1371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寒雪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雪人与雪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5943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609480" y="1371600"/>
            <a:ext cx="609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505320" y="19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505320" y="26049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谢太傅、儿女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505320" y="3290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咏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371600" y="4572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起因                               发展                              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1447920" y="5029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↓                                   ↓    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38088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白雪纷纷何所似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925080" y="54100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撒盐空中差可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35053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未若柳絮因风起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9343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公大笑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7238880" y="0"/>
            <a:ext cx="19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咏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990720" y="1066680"/>
            <a:ext cx="7467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探讨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课文营造了怎样的一种家庭气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“公大笑乐”，在笑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课文最后一句话有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8820000" cy="7247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：寒冷的雪天；地点：谢太傅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物：谢太傅和他的侄子、侄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谈论诗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庭温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乐一家的气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谢太傅对两人的答案未做评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是“大笑乐”而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十分耐人寻味。作者也没有表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却在最后补充了道韫的身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个有力的暗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明他赞赏道韫的才气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未若柳絮因风起”更好，这个比喻不仅形似且神似，雪的飘飞与柳絮的飘飞接近，并写出雪的颜色和数量，拥有前者所没有的美感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laser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47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3809880" y="2438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兄子胡儿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谢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581280" y="48769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兄女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谢道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057400" y="457200"/>
            <a:ext cx="19051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99"/>
                </a:solidFill>
                <a:latin typeface="Times New Roman"/>
                <a:ea typeface="隶书"/>
              </a:rPr>
              <a:t>人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52280" y="353376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谢太傅（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谢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828800" y="2909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哥哥的长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828800" y="49528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长兄的女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72200" y="2697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撒盐空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24852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柳絮纷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553080" y="457200"/>
            <a:ext cx="20574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观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大雪花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657760"/>
            <a:ext cx="1108080" cy="1200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7391520" y="3657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7" descr="雪花飞"/>
          <p:cNvPicPr/>
          <p:nvPr/>
        </p:nvPicPr>
        <p:blipFill>
          <a:blip r:embed="rId1"/>
          <a:stretch/>
        </p:blipFill>
        <p:spPr>
          <a:xfrm>
            <a:off x="762120" y="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雪花飞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雪花飞"/>
          <p:cNvPicPr/>
          <p:nvPr/>
        </p:nvPicPr>
        <p:blipFill>
          <a:blip r:embed="rId3"/>
          <a:stretch/>
        </p:blipFill>
        <p:spPr>
          <a:xfrm>
            <a:off x="762120" y="236232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雪花飞"/>
          <p:cNvPicPr/>
          <p:nvPr/>
        </p:nvPicPr>
        <p:blipFill>
          <a:blip r:embed="rId4"/>
          <a:stretch/>
        </p:blipFill>
        <p:spPr>
          <a:xfrm>
            <a:off x="4648320" y="236232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雪花飞"/>
          <p:cNvPicPr/>
          <p:nvPr/>
        </p:nvPicPr>
        <p:blipFill>
          <a:blip r:embed="rId5"/>
          <a:stretch/>
        </p:blipFill>
        <p:spPr>
          <a:xfrm>
            <a:off x="762120" y="4724280"/>
            <a:ext cx="388620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2" descr="雪花飞"/>
          <p:cNvPicPr/>
          <p:nvPr/>
        </p:nvPicPr>
        <p:blipFill>
          <a:blip r:embed="rId6"/>
          <a:stretch/>
        </p:blipFill>
        <p:spPr>
          <a:xfrm>
            <a:off x="4648320" y="472428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06:41Z</dcterms:created>
  <dc:creator>301</dc:creator>
  <dc:description/>
  <dc:language>en-US</dc:language>
  <cp:lastModifiedBy>Administrator</cp:lastModifiedBy>
  <dcterms:modified xsi:type="dcterms:W3CDTF">2017-10-21T06:12:26Z</dcterms:modified>
  <cp:revision>31</cp:revision>
  <dc:subject/>
  <dc:title>PowerPoint 演示文稿</dc:title>
</cp:coreProperties>
</file>