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21.png" ContentType="image/png"/>
  <Override PartName="/ppt/media/image16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2.gif" ContentType="image/gif"/>
  <Override PartName="/ppt/media/image2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F01-6E2E-43F8-AF37-F3407D85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68F-908B-447B-AB80-61857B87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BA36A-8765-416F-8517-2A61301E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07C68-F5B2-4B65-B2C5-C988BFE9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2F7BE-60B7-47E8-901A-5A3D5CB0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2F7F0-6A2B-4D10-9D02-8368B416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0BFF7-26BB-4F4B-95C0-712FF4D5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B018D-0143-42C7-AD2B-DA7348F3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BC00B-20F3-4577-B6D0-017B59C2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AA262-895B-42E0-ABA3-5687AE8F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99672-C4CD-4D8E-BC33-FAA70A5A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7F5F2-589E-4915-975A-B64A5203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A5CD-2A2F-432D-B619-53EF0699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13707-A097-473F-BD52-BA0A6F95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637DD-1AE4-4201-8FCE-03D9CF77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6537C-BE31-4C54-8474-09FBCAC2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180CA-4AE2-4B66-9015-DBD45934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914A0-E3BC-4FED-89E6-635F19F7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0D5EB-504A-4990-BB0A-0CFF0ECE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B6BBE-856E-4388-8D69-DF7C8F86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037A0-1784-42AC-9AA2-74BDECBC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EFA10-FD85-4C79-A0F5-2BDFE698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2B1F3-1BEA-4815-9EF1-62C2F696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73D-27D7-437A-81AE-A3DA26CD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0E757-C37B-48DC-B404-1DBC4C10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6F30A-D6E2-4899-B18F-13A95C72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797DC-8F15-44CB-9283-83FBFB9B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6005C-A1D3-4A9E-BFC0-4978019D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1F2C8-C421-4D89-B24F-14CD0580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1D53F-BB44-4453-B194-1361056B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213BD-9458-47FE-A945-F1E132F1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4D82E-AD35-4EB5-8E5A-2EE5692C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9C599-391E-46CC-930F-E48F7907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08F54-F71B-40E9-8E3B-D2D7E425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248C-F534-4AAB-A010-CC910FBA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466C5-986E-4B3F-A19A-50EE1236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110C5-C85E-4D16-B91C-957A0A6D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4FE0C-E60D-4830-8107-9BC28584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E6434-C00B-471F-B918-7534D4F2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DEF6D-7CAD-44A4-9067-F78D4ABC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91380-09F5-4E00-AD01-4E6BDABC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804B1-9531-4A84-BB35-D292A541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C91C1-6925-4226-873C-90647A9B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C06BB-C639-48C2-A346-C183AC01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1E146-609E-4851-8FD5-4E3FF222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E163-A058-4655-AC1B-965FFF4D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2DA1F-7961-45D8-976A-722D741D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80079-57F0-44B4-9824-1B88B323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DE3A7-2E2D-4D7D-A5B0-91FAD489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D7CEA-CEFA-43FD-BF89-F6819BA9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CC42F-6B0F-4C39-9AF2-16A4EA01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281C4-9042-4317-94BF-BD64015F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8005B-E1FA-4339-B75E-CD7CD70F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544F5-BB81-4A59-B98D-115B07EC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5A64C-28D8-475E-862F-48848470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9F28D-1C95-464D-B18D-66478D8D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CAD8-5A4E-48F3-86DD-BE0357AE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B7B70-6821-4B7A-B9C3-5697F073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9B810-1723-4451-988F-9D6E088D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F3890-41D0-4148-A53D-07DB5706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15DDF-E3C0-4880-84F6-0F0CDCD1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64C91-6DB6-4257-AEF4-2FAAF775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DA31D-AF13-41E7-9C1B-B8A44A22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26B18-90AA-47B1-B94C-8BC0A458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0149-E058-4A86-A30D-EAF24B47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EC1A-46EA-4850-A4BA-DCB41070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6469-2802-41F9-8588-800C0FCF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0266-F441-43AB-BFB6-9048ACAA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F72-5B1E-4BB1-A74D-229E154E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FAE4-4868-40DA-9BAA-BBF25247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CBB4-20DD-4B57-BBCB-30057D13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4CD3-649E-4DB1-BDA0-0EF750B9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77C6-8637-4EAD-B31B-84CDCE48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478C-A5E4-4309-A80B-E1ABA1FD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85964-690B-491F-8EA9-02D3E1CA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64976-2AD5-4308-8030-5B55A876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50EC3-D006-480D-82C5-D2007B8C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0D1B-23D4-4FCD-AD7F-A991776C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972DC-4D55-4FA5-AE47-5BFFFF06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ABE-1857-497F-88AA-D89A26B2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ABEF1-3D44-48DF-9F6A-EBFB76FD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691D-8315-4338-B834-404CD458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D8CF3-3BCA-4D21-90C5-96C737CE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ADE05-15DC-4080-8C48-2F1B3582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63205-22F7-46A3-B733-9895438D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ECF1-1F9F-4091-A69E-2101EC2F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8C80C-0BC2-47B7-8BE3-58FEB143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23660-B3C5-47B3-AD7F-F9CC4051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F59E1-D3E9-4300-AF6F-BF69AD00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CA78C-79AF-4874-A0DB-26D9005E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5E8-C184-45CE-A744-6D52CB97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AC9E6-0577-4069-B25F-BD3D4396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45748-C0F2-4B1C-953C-3F3C19EC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5B208-413F-4F06-982E-E851251D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A4359-62D9-4AE5-9386-EC6E58E3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6A4ED-6660-4527-96D3-8DA59016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46EEE-4629-47C9-8AE7-016E8950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D7445-868F-47C7-803C-B9776E90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72194-EC6C-4D53-9736-CD124AC8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66642-6BFB-426B-96B0-CB87C824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45387-11C2-4870-B1AC-4AB5E7B1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1ACB-D9DE-4503-A599-8C844854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BFBF9-D10C-4AE2-8F5F-52B330A9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170C3-4C10-4519-B99A-30F5D412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F23F9-A732-4633-821D-34629324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F27EF-F222-4F49-B195-89C5347D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CE629-B76D-48DA-BD30-709A2FF9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6A2CD-D427-4CC3-AF44-5472A910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39E43-0C5C-43AF-90FA-CDD51FC5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1AD7B-466B-4CB9-BC90-D8C0A728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CE8C1-57CB-4E6F-AB33-173F0C55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FCA57-EE27-4AF8-9D3D-D58B6FBE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CEF-2AA7-4486-A103-BE6042B1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A664A-1910-4971-8858-ACE2E033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3B529-F64A-490E-9345-A3AB1463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F463B-17F6-48B6-8DFF-0B8BDCD3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6D35D-C1DE-40BB-9F25-5606CFCA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5144F-1D7D-4A6C-B487-C237AF19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D26C7-4DA9-481A-B995-2783C1F2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BA936-16AE-4FCC-AE71-BAC91EA1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4B9B5-EE59-4FF5-BA69-11A41326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FF998-787E-480E-BA5F-CBD64F72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606F6-8E11-4A24-98CB-B3AC140C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2FB-1805-44F4-916A-EEC90444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18C33-5CD1-483B-B295-6328BB71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60C34-8DEC-4B2F-A6B7-7A31C402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8EC56-D311-4D01-9C74-7402BB23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C06A9-16B6-44E2-ADAD-A699CDF5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1C998-B975-40D9-AC45-6D3C92A3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7C6C6-D800-4923-AED1-822AA42A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0625A-4EE9-41E1-B054-0C1C66F6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A471A-F0C6-4BD4-BE5C-FC124298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0397F-1665-4C4F-9808-800E2E97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6F6FE-068B-499F-B7B3-6591A902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AA3-CAAA-40B0-917E-6696A626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5919E-9F47-42F1-BD5A-7501D30D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F52FE-1F23-486E-B6F4-6ECE3A9A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6F56B-4935-40BB-BE37-8F410A97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0F579-DE9B-4756-BB42-E01B7E77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B78D2-DD7A-4F31-895D-CF994322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4076F-B496-4140-BA44-9149CE41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47BF5-0FC1-43F8-B23C-4FBBFC8F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47FAD-AFA9-47F6-BFBA-3179BFAC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EB8F7-8DEE-42F7-93CD-DF5760E8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740EC-3D8F-41A2-A000-8015C43A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E26-B53E-4D36-9675-2F455AC1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41566-69D8-43C8-A0C9-ED5A1399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3C745-FD18-4F6C-93EF-D05E4752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AA62A-CAB9-4E83-BFD1-6AA90CDB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728D1-567C-4BED-8C31-4DD6825A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B64EB-2899-4C9C-A4C0-D616038C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7E36B-F246-4282-A5CD-9184B6A8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0A52F-B5CB-4AD2-817E-58CB2907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46D35-7668-42C3-AD80-69289708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72F78-EA9D-46B0-BE20-B1BF927E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AF7B9-283A-4FB7-80A4-22BEE889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1921-3C0D-4312-84C9-72172F232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614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628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28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2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F916-7214-40A5-82F7-46C1B9CD0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778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55A6-4921-44AF-BFE4-A98188CF8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3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3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1C1E-43CD-49F2-AED7-EB7CA6C3D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0CB5-72B6-41B8-8562-C125F2D08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CE8D-2A83-46D2-85C1-A93A259E3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E778-94B7-4A1B-93BD-4F2B08CF3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A540-7FB5-4482-9E02-A0BB8EA2B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CC21-D210-4C4D-90EE-E5D66EC53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6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7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8BC5-9838-4A34-8E44-A7B268B86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9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20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21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98A0-3D8E-4620-814B-C372CFA38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95E3-6580-4CE4-AC0F-A31BABC55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326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472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86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500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514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528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542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6934320" y="-4680"/>
            <a:ext cx="2317680" cy="2060280"/>
            <a:chOff x="6934320" y="-4680"/>
            <a:chExt cx="2317680" cy="2060280"/>
          </a:xfrm>
        </p:grpSpPr>
        <p:sp>
          <p:nvSpPr>
            <p:cNvPr id="556" name="未知"/>
            <p:cNvSpPr/>
            <p:nvPr/>
          </p:nvSpPr>
          <p:spPr>
            <a:xfrm>
              <a:off x="7041600" y="-4680"/>
              <a:ext cx="2102760" cy="19105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6934320" y="1800"/>
              <a:ext cx="2317680" cy="2053800"/>
              <a:chOff x="6934320" y="1800"/>
              <a:chExt cx="2317680" cy="2053800"/>
            </a:xfrm>
          </p:grpSpPr>
          <p:sp>
            <p:nvSpPr>
              <p:cNvPr id="558" name="未知"/>
              <p:cNvSpPr/>
              <p:nvPr/>
            </p:nvSpPr>
            <p:spPr>
              <a:xfrm>
                <a:off x="7045200" y="180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未知"/>
              <p:cNvSpPr/>
              <p:nvPr/>
            </p:nvSpPr>
            <p:spPr>
              <a:xfrm>
                <a:off x="6934320" y="1800"/>
                <a:ext cx="2317680" cy="20538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未知"/>
              <p:cNvSpPr/>
              <p:nvPr/>
            </p:nvSpPr>
            <p:spPr>
              <a:xfrm>
                <a:off x="7485120" y="96732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未知"/>
              <p:cNvSpPr/>
              <p:nvPr/>
            </p:nvSpPr>
            <p:spPr>
              <a:xfrm>
                <a:off x="7314120" y="1055520"/>
                <a:ext cx="162720" cy="28836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未知"/>
              <p:cNvSpPr/>
              <p:nvPr/>
            </p:nvSpPr>
            <p:spPr>
              <a:xfrm>
                <a:off x="7211520" y="47880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未知"/>
              <p:cNvSpPr/>
              <p:nvPr/>
            </p:nvSpPr>
            <p:spPr>
              <a:xfrm>
                <a:off x="7818120" y="1163880"/>
                <a:ext cx="383760" cy="39168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未知"/>
              <p:cNvSpPr/>
              <p:nvPr/>
            </p:nvSpPr>
            <p:spPr>
              <a:xfrm>
                <a:off x="8701200" y="7671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未知"/>
              <p:cNvSpPr/>
              <p:nvPr/>
            </p:nvSpPr>
            <p:spPr>
              <a:xfrm>
                <a:off x="8831880" y="752040"/>
                <a:ext cx="301680" cy="18000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未知"/>
              <p:cNvSpPr/>
              <p:nvPr/>
            </p:nvSpPr>
            <p:spPr>
              <a:xfrm>
                <a:off x="8820360" y="90180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未知"/>
              <p:cNvSpPr/>
              <p:nvPr/>
            </p:nvSpPr>
            <p:spPr>
              <a:xfrm>
                <a:off x="8566200" y="103644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未知"/>
              <p:cNvSpPr/>
              <p:nvPr/>
            </p:nvSpPr>
            <p:spPr>
              <a:xfrm>
                <a:off x="8625960" y="115992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未知"/>
              <p:cNvSpPr/>
              <p:nvPr/>
            </p:nvSpPr>
            <p:spPr>
              <a:xfrm>
                <a:off x="859860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未知"/>
              <p:cNvSpPr/>
              <p:nvPr/>
            </p:nvSpPr>
            <p:spPr>
              <a:xfrm>
                <a:off x="8895600" y="1101960"/>
                <a:ext cx="257400" cy="64980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5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6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27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991F-09AB-4673-B702-8DA69CDDA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3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2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9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2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  <a:ea typeface="华文行楷"/>
              </a:rPr>
              <a:t>《</a:t>
            </a:r>
            <a:r>
              <a:rPr b="1" lang="zh-CN" sz="8800" spc="-1" strike="noStrike">
                <a:solidFill>
                  <a:srgbClr val="333399"/>
                </a:solidFill>
                <a:latin typeface="Arial"/>
                <a:ea typeface="华文行楷"/>
              </a:rPr>
              <a:t>世说新语</a:t>
            </a:r>
            <a:r>
              <a:rPr b="1" lang="en-US" sz="8800" spc="-1" strike="noStrike">
                <a:solidFill>
                  <a:srgbClr val="333399"/>
                </a:solidFill>
                <a:latin typeface="Arial"/>
                <a:ea typeface="华文行楷"/>
              </a:rPr>
              <a:t>》</a:t>
            </a:r>
            <a:r>
              <a:rPr b="1" lang="zh-CN" sz="8800" spc="-1" strike="noStrike">
                <a:solidFill>
                  <a:srgbClr val="333399"/>
                </a:solidFill>
                <a:latin typeface="Arial"/>
                <a:ea typeface="华文行楷"/>
              </a:rPr>
              <a:t>两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076640"/>
            <a:ext cx="47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隶书"/>
              </a:rPr>
              <a:t>刘 义 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0" y="155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谢太傅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寒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内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儿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讲论文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47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俄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雪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公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欣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曰：“白雪纷纷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似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08000" y="2492280"/>
            <a:ext cx="9144000" cy="3812400"/>
            <a:chOff x="108000" y="2492280"/>
            <a:chExt cx="9144000" cy="3812400"/>
          </a:xfrm>
        </p:grpSpPr>
        <p:sp>
          <p:nvSpPr>
            <p:cNvPr id="989" name=""/>
            <p:cNvSpPr/>
            <p:nvPr/>
          </p:nvSpPr>
          <p:spPr>
            <a:xfrm>
              <a:off x="108000" y="24922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82900"/>
                  </a:solidFill>
                  <a:latin typeface="Times New Roman"/>
                </a:rPr>
                <a:t>在一个寒冷的雪天，谢太傅把家人聚会在一起，跟子侄辈们谈诗论文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08000" y="5844960"/>
              <a:ext cx="883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82900"/>
                  </a:solidFill>
                  <a:latin typeface="Times New Roman"/>
                </a:rPr>
                <a:t>忽然间雪下得紧了，太傅高兴地说：“这纷纷扬扬的大雪像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什么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呢</a:t>
              </a:r>
              <a:r>
                <a:rPr b="1" lang="zh-CN" sz="2400" spc="-1" strike="noStrike">
                  <a:solidFill>
                    <a:srgbClr val="d82900"/>
                  </a:solidFill>
                  <a:latin typeface="Times New Roman"/>
                </a:rPr>
                <a:t>？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286000" y="3049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咏      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0" y="762120"/>
            <a:ext cx="2666880" cy="914400"/>
            <a:chOff x="0" y="762120"/>
            <a:chExt cx="2666880" cy="914400"/>
          </a:xfrm>
        </p:grpSpPr>
        <p:sp>
          <p:nvSpPr>
            <p:cNvPr id="993" name=""/>
            <p:cNvSpPr/>
            <p:nvPr/>
          </p:nvSpPr>
          <p:spPr>
            <a:xfrm>
              <a:off x="1600200" y="13716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0" y="762120"/>
              <a:ext cx="266688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寒冷的，下雪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4038480" y="990720"/>
            <a:ext cx="1981080" cy="761400"/>
            <a:chOff x="4038480" y="990720"/>
            <a:chExt cx="1981080" cy="761400"/>
          </a:xfrm>
        </p:grpSpPr>
        <p:sp>
          <p:nvSpPr>
            <p:cNvPr id="996" name=""/>
            <p:cNvSpPr/>
            <p:nvPr/>
          </p:nvSpPr>
          <p:spPr>
            <a:xfrm>
              <a:off x="4952880" y="1447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38480" y="990720"/>
              <a:ext cx="1981080" cy="456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家庭聚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0" y="3657600"/>
            <a:ext cx="1828800" cy="1143000"/>
            <a:chOff x="0" y="3657600"/>
            <a:chExt cx="1828800" cy="1143000"/>
          </a:xfrm>
        </p:grpSpPr>
        <p:sp>
          <p:nvSpPr>
            <p:cNvPr id="999" name=""/>
            <p:cNvSpPr/>
            <p:nvPr/>
          </p:nvSpPr>
          <p:spPr>
            <a:xfrm flipH="1">
              <a:off x="304920" y="449568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0" y="3657600"/>
              <a:ext cx="1828800" cy="7621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不久，一会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1981080" y="3809880"/>
            <a:ext cx="914400" cy="990720"/>
            <a:chOff x="1981080" y="3809880"/>
            <a:chExt cx="914400" cy="990720"/>
          </a:xfrm>
        </p:grpSpPr>
        <p:sp>
          <p:nvSpPr>
            <p:cNvPr id="1002" name=""/>
            <p:cNvSpPr/>
            <p:nvPr/>
          </p:nvSpPr>
          <p:spPr>
            <a:xfrm flipH="1">
              <a:off x="1981080" y="441936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209680" y="3809880"/>
              <a:ext cx="68580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048120" y="3962520"/>
            <a:ext cx="1600200" cy="914400"/>
            <a:chOff x="3048120" y="3962520"/>
            <a:chExt cx="1600200" cy="914400"/>
          </a:xfrm>
        </p:grpSpPr>
        <p:sp>
          <p:nvSpPr>
            <p:cNvPr id="1005" name=""/>
            <p:cNvSpPr/>
            <p:nvPr/>
          </p:nvSpPr>
          <p:spPr>
            <a:xfrm>
              <a:off x="3581640" y="4496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048120" y="3962520"/>
              <a:ext cx="16002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高兴的样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6588000" y="907920"/>
            <a:ext cx="208944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家中的子侄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6804000" y="1412640"/>
            <a:ext cx="576360" cy="215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5148360" y="3933720"/>
            <a:ext cx="2666880" cy="914400"/>
            <a:chOff x="5148360" y="3933720"/>
            <a:chExt cx="2666880" cy="914400"/>
          </a:xfrm>
        </p:grpSpPr>
        <p:sp>
          <p:nvSpPr>
            <p:cNvPr id="1010" name=""/>
            <p:cNvSpPr/>
            <p:nvPr/>
          </p:nvSpPr>
          <p:spPr>
            <a:xfrm>
              <a:off x="6748560" y="45432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148360" y="3933720"/>
              <a:ext cx="266688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什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0" y="144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兄子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胡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：“撒盐空中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可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0" y="4114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兄女曰：  “未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柳絮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风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0" y="2438280"/>
            <a:ext cx="9144000" cy="2974320"/>
            <a:chOff x="0" y="2438280"/>
            <a:chExt cx="9144000" cy="2974320"/>
          </a:xfrm>
        </p:grpSpPr>
        <p:sp>
          <p:nvSpPr>
            <p:cNvPr id="1015" name=""/>
            <p:cNvSpPr/>
            <p:nvPr/>
          </p:nvSpPr>
          <p:spPr>
            <a:xfrm>
              <a:off x="0" y="24382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他哥哥的长子胡儿说：“跟把盐撒在空中差不多。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49528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他（另一个）哥哥的女儿道韫说；“不如比做风把柳絮吹得满天飞舞。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914400" y="304920"/>
            <a:ext cx="2438280" cy="1295280"/>
            <a:chOff x="914400" y="304920"/>
            <a:chExt cx="2438280" cy="1295280"/>
          </a:xfrm>
        </p:grpSpPr>
        <p:sp>
          <p:nvSpPr>
            <p:cNvPr id="1018" name=""/>
            <p:cNvSpPr/>
            <p:nvPr/>
          </p:nvSpPr>
          <p:spPr>
            <a:xfrm>
              <a:off x="1981080" y="1219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914400" y="304920"/>
              <a:ext cx="243828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谢安哥哥的长子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即谢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4343400" y="762120"/>
            <a:ext cx="1981080" cy="761400"/>
            <a:chOff x="4343400" y="762120"/>
            <a:chExt cx="1981080" cy="761400"/>
          </a:xfrm>
        </p:grpSpPr>
        <p:sp>
          <p:nvSpPr>
            <p:cNvPr id="1021" name=""/>
            <p:cNvSpPr/>
            <p:nvPr/>
          </p:nvSpPr>
          <p:spPr>
            <a:xfrm>
              <a:off x="5486400" y="1218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343400" y="762120"/>
              <a:ext cx="1981080" cy="4568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大致，差不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6552720" y="762120"/>
            <a:ext cx="1067040" cy="761400"/>
            <a:chOff x="6552720" y="762120"/>
            <a:chExt cx="1067040" cy="761400"/>
          </a:xfrm>
        </p:grpSpPr>
        <p:sp>
          <p:nvSpPr>
            <p:cNvPr id="1024" name=""/>
            <p:cNvSpPr/>
            <p:nvPr/>
          </p:nvSpPr>
          <p:spPr>
            <a:xfrm flipH="1">
              <a:off x="6552720" y="1295280"/>
              <a:ext cx="228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29400" y="762120"/>
              <a:ext cx="990360" cy="533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比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4343400" y="3200400"/>
            <a:ext cx="762120" cy="914400"/>
            <a:chOff x="4343400" y="3200400"/>
            <a:chExt cx="762120" cy="914400"/>
          </a:xfrm>
        </p:grpSpPr>
        <p:sp>
          <p:nvSpPr>
            <p:cNvPr id="1027" name=""/>
            <p:cNvSpPr/>
            <p:nvPr/>
          </p:nvSpPr>
          <p:spPr>
            <a:xfrm>
              <a:off x="4572000" y="3733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43400" y="3200400"/>
              <a:ext cx="76212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6227640" y="3213000"/>
            <a:ext cx="1296720" cy="1066680"/>
            <a:chOff x="6227640" y="3213000"/>
            <a:chExt cx="1296720" cy="1066680"/>
          </a:xfrm>
        </p:grpSpPr>
        <p:sp>
          <p:nvSpPr>
            <p:cNvPr id="1030" name=""/>
            <p:cNvSpPr/>
            <p:nvPr/>
          </p:nvSpPr>
          <p:spPr>
            <a:xfrm>
              <a:off x="6690600" y="3822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227640" y="3213000"/>
              <a:ext cx="1296720" cy="685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飘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5219640" y="3573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凭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5796000" y="4005000"/>
            <a:ext cx="0" cy="144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0" y="1828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大笑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大兄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无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28954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441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左将军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王凝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妻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0" y="2666880"/>
            <a:ext cx="9144000" cy="2822040"/>
            <a:chOff x="0" y="2666880"/>
            <a:chExt cx="9144000" cy="2822040"/>
          </a:xfrm>
        </p:grpSpPr>
        <p:sp>
          <p:nvSpPr>
            <p:cNvPr id="1038" name=""/>
            <p:cNvSpPr/>
            <p:nvPr/>
          </p:nvSpPr>
          <p:spPr>
            <a:xfrm>
              <a:off x="0" y="26668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82900"/>
                  </a:solidFill>
                  <a:latin typeface="Times New Roman"/>
                </a:rPr>
                <a:t>谢安高兴地笑了起来。（道韫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就是</a:t>
              </a:r>
              <a:r>
                <a:rPr b="1" lang="zh-CN" sz="2400" spc="-1" strike="noStrike">
                  <a:solidFill>
                    <a:srgbClr val="d82900"/>
                  </a:solidFill>
                  <a:latin typeface="Times New Roman"/>
                </a:rPr>
                <a:t>太傅大哥谢无弈的女儿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0" y="50292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82900"/>
                  </a:solidFill>
                  <a:latin typeface="Times New Roman"/>
                </a:rPr>
                <a:t>左将军王凝之的妻子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971640" y="981000"/>
            <a:ext cx="1368000" cy="909360"/>
            <a:chOff x="971640" y="981000"/>
            <a:chExt cx="1368000" cy="909360"/>
          </a:xfrm>
        </p:grpSpPr>
        <p:sp>
          <p:nvSpPr>
            <p:cNvPr id="1041" name=""/>
            <p:cNvSpPr/>
            <p:nvPr/>
          </p:nvSpPr>
          <p:spPr>
            <a:xfrm>
              <a:off x="1570320" y="1477080"/>
              <a:ext cx="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71640" y="981000"/>
              <a:ext cx="1368000" cy="496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高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5562720" y="609480"/>
            <a:ext cx="2743200" cy="1219320"/>
            <a:chOff x="5562720" y="609480"/>
            <a:chExt cx="2743200" cy="1219320"/>
          </a:xfrm>
        </p:grpSpPr>
        <p:sp>
          <p:nvSpPr>
            <p:cNvPr id="1044" name=""/>
            <p:cNvSpPr/>
            <p:nvPr/>
          </p:nvSpPr>
          <p:spPr>
            <a:xfrm>
              <a:off x="6858000" y="1447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562720" y="609480"/>
              <a:ext cx="274320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谢道韫，东晋有名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才女，聪明有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1143000" y="3276720"/>
            <a:ext cx="2819520" cy="1218600"/>
            <a:chOff x="1143000" y="3276720"/>
            <a:chExt cx="2819520" cy="1218600"/>
          </a:xfrm>
        </p:grpSpPr>
        <p:sp>
          <p:nvSpPr>
            <p:cNvPr id="1047" name=""/>
            <p:cNvSpPr/>
            <p:nvPr/>
          </p:nvSpPr>
          <p:spPr>
            <a:xfrm>
              <a:off x="1981080" y="41144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143000" y="3276720"/>
              <a:ext cx="2819520" cy="837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字叔平，大书法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王羲之是第二个儿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"/>
          <p:cNvSpPr/>
          <p:nvPr/>
        </p:nvSpPr>
        <p:spPr>
          <a:xfrm>
            <a:off x="4067280" y="4508640"/>
            <a:ext cx="1873080" cy="5205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表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492360" y="465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3995640" y="981000"/>
            <a:ext cx="1368000" cy="909360"/>
            <a:chOff x="3995640" y="981000"/>
            <a:chExt cx="1368000" cy="909360"/>
          </a:xfrm>
        </p:grpSpPr>
        <p:sp>
          <p:nvSpPr>
            <p:cNvPr id="1052" name=""/>
            <p:cNvSpPr/>
            <p:nvPr/>
          </p:nvSpPr>
          <p:spPr>
            <a:xfrm>
              <a:off x="4594320" y="1477080"/>
              <a:ext cx="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995640" y="981000"/>
              <a:ext cx="1368000" cy="496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就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0" y="692280"/>
            <a:ext cx="93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找出本文的古今异义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5" name=""/>
          <p:cNvGraphicFramePr/>
          <p:nvPr/>
        </p:nvGraphicFramePr>
        <p:xfrm>
          <a:off x="468360" y="1700280"/>
          <a:ext cx="8351640" cy="4078080"/>
        </p:xfrm>
        <a:graphic>
          <a:graphicData uri="http://schemas.openxmlformats.org/drawingml/2006/table">
            <a:tbl>
              <a:tblPr/>
              <a:tblGrid>
                <a:gridCol w="2087280"/>
                <a:gridCol w="2089080"/>
                <a:gridCol w="2087640"/>
                <a:gridCol w="2087640"/>
              </a:tblGrid>
              <a:tr h="13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词语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古义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今义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6" name=""/>
          <p:cNvSpPr/>
          <p:nvPr/>
        </p:nvSpPr>
        <p:spPr>
          <a:xfrm>
            <a:off x="3708360" y="4762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627280" y="1916280"/>
            <a:ext cx="1943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儿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643280" y="191628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文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948360" y="206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风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484360" y="3141720"/>
            <a:ext cx="216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家中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子侄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556000" y="472428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子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716360" y="342900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诗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716360" y="443700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文章意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588000" y="342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凭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659640" y="4797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因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华文彩云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华文彩云"/>
              </a:rPr>
              <a:t>、下列人物叫什么名字？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979280" y="1916280"/>
            <a:ext cx="327492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谢太傅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胡儿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兄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左将军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359240" y="1922400"/>
            <a:ext cx="424512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谢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谢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谢道韫（</a:t>
            </a:r>
            <a:r>
              <a:rPr b="0" lang="en-US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yùn</a:t>
            </a:r>
            <a:r>
              <a:rPr b="0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王凝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684360" y="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新魏"/>
              </a:rPr>
              <a:t>三、问题研究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、文章开头第一句：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谢太傅寒雪日内集，与儿女讲论文义。”</a:t>
            </a:r>
            <a:br>
              <a:rPr sz="3200"/>
            </a:b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短短十五字，交代了哪些内容？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120" y="2204640"/>
            <a:ext cx="8153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交代了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时间、地点、人物、事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东晋的谢氏家族是个赫赫有名的诗礼簪缨之家，为首的是谢太傅。在这样的家族里，遇到雪天无法外出，才有“讲论文义”的雅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0" y="765000"/>
            <a:ext cx="939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．“寒雪”“内集”“欣然”“大笑”’等词语营造了一种怎样的家庭氛围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．文章结尾交待了谢道韫的身份，有什么用意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2360" y="206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家庭氛围：融洽、欢乐、轻松、温馨且文化气息浓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81080" y="472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表示一种赞扬和敬佩，暗示谢太傅更赞赏谢道韫的才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252360" y="11239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１、撒盐空中、柳絮因风起两个比喻，哪一个更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252360" y="44280"/>
            <a:ext cx="381636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新魏"/>
              </a:rPr>
              <a:t>四、深入理解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77" name=""/>
          <p:cNvSpPr/>
          <p:nvPr/>
        </p:nvSpPr>
        <p:spPr>
          <a:xfrm>
            <a:off x="684360" y="2205000"/>
            <a:ext cx="7848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参考：前者写的好，因为雪的颜色和形态跟盐相似（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形似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后者写的好，因为雪的飘飞和柳絮的飘飞接近（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神似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英国诗人雪莱说“冬天到了，春天还会远吗？”，所以后者有给人以春天即将到来的感觉，有深刻的意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539640" y="2666880"/>
            <a:ext cx="29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柳絮因风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732720" y="1413000"/>
            <a:ext cx="7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659640" y="27082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924360" y="3933720"/>
            <a:ext cx="27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文化内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995640" y="1413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飞扬之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962520" y="2666880"/>
            <a:ext cx="26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轻盈之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505320" y="1628640"/>
            <a:ext cx="203040" cy="2808360"/>
          </a:xfrm>
          <a:custGeom>
            <a:avLst/>
            <a:gdLst>
              <a:gd name="textAreaLeft" fmla="*/ 129600 w 203040"/>
              <a:gd name="textAreaRight" fmla="*/ 203400 w 2030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659640" y="39337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对文中“公大笑乐”你怎么理解？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cc6600"/>
                </a:solidFill>
                <a:latin typeface="Arial"/>
              </a:rPr>
              <a:t>对两个答案都表示满意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Arial"/>
              </a:rPr>
              <a:t>2.“</a:t>
            </a:r>
            <a:r>
              <a:rPr b="1" lang="zh-CN" sz="4400" spc="-1" strike="noStrike">
                <a:solidFill>
                  <a:srgbClr val="cc6600"/>
                </a:solidFill>
                <a:latin typeface="Arial"/>
              </a:rPr>
              <a:t>笑”前喻，“乐”后喻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cc6600"/>
                </a:solidFill>
                <a:latin typeface="Arial"/>
              </a:rPr>
              <a:t>为“柳絮”一喻而“笑乐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作者简介</a:t>
            </a: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刘义庆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元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3--444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南北朝刘宋王朝宗室，彭城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江苏苏州市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袭封临川王，曾任南兖川刺史、加开府仪同三司。他秉性简素，爱好文史，喜欢招聚文学之士，所著除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世说新语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外，还有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幽明录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验记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小说和文集，但已散佚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0" y="1484280"/>
            <a:ext cx="914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白雪歌送武判官归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·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cén)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北风卷地白草折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shé)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胡天八月即飞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忽如一夜春风来，千树万树梨花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50920" y="5300640"/>
            <a:ext cx="8893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提示：以“梨花”喻雪，妙哉，雅哉，不愧为千古写雪之名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387960" y="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说说还可以用哪些事物来比喻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春     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韩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年都未有芳华，二月初惊见草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白雪却嫌春色晚，故穿庭树作飞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0" y="2133720"/>
            <a:ext cx="88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提示：这首诗诗人赋情于雪，仿佛白雪也嫌春光来迟，像落花一样飘飞，来装点春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0" y="299736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夜     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白居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已讶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jīn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枕冷，复见窗户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夜深知雪重，时闻折竹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50920" y="5373720"/>
            <a:ext cx="88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提示：这首诗采用侧面烘托陪衬的手法，从感觉、视觉、听觉入手写雪，尽现雪之寒、大、重。短短四句诗，把夜雪描写得曲折、细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6" name=""/>
          <p:cNvSpPr/>
          <p:nvPr/>
        </p:nvSpPr>
        <p:spPr>
          <a:xfrm>
            <a:off x="15843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1905120" y="3200400"/>
            <a:ext cx="6696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忽如一夜春风来</a:t>
            </a:r>
            <a:endParaRPr b="1" lang="en-US" sz="7200" spc="-1" strike="noStrike">
              <a:ln w="0">
                <a:noFill/>
              </a:ln>
              <a:solidFill>
                <a:srgbClr val="00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千树万树梨花开</a:t>
            </a:r>
            <a:endParaRPr b="1" lang="en-US" sz="7200" spc="-1" strike="noStrike">
              <a:ln w="0">
                <a:noFill/>
              </a:ln>
              <a:solidFill>
                <a:srgbClr val="00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98" name=""/>
          <p:cNvSpPr/>
          <p:nvPr/>
        </p:nvSpPr>
        <p:spPr>
          <a:xfrm>
            <a:off x="4022640" y="5613480"/>
            <a:ext cx="451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隶书"/>
                <a:ea typeface="隶书"/>
              </a:rPr>
              <a:t>——  </a:t>
            </a:r>
            <a:r>
              <a:rPr b="1" lang="zh-CN" sz="4800" spc="-1" strike="noStrike">
                <a:solidFill>
                  <a:srgbClr val="99cc00"/>
                </a:solidFill>
                <a:latin typeface="隶书"/>
                <a:ea typeface="隶书"/>
              </a:rPr>
              <a:t>岑  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7162920" y="762120"/>
            <a:ext cx="1098360" cy="91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841320" y="-1252440"/>
            <a:ext cx="2374920" cy="9358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隶书"/>
                <a:ea typeface="隶书"/>
              </a:rPr>
              <a:t>燕山雪花大如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隶书"/>
                <a:ea typeface="隶书"/>
              </a:rPr>
              <a:t>纷纷吹落轩辕台</a:t>
            </a:r>
            <a:r>
              <a:rPr b="1" lang="zh-CN" sz="7200" spc="-1" strike="noStrike">
                <a:solidFill>
                  <a:srgbClr val="00ff00"/>
                </a:solidFill>
                <a:latin typeface="隶书"/>
                <a:ea typeface="隶书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-667080" y="4343400"/>
            <a:ext cx="1521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隶书"/>
                <a:ea typeface="隶书"/>
              </a:rPr>
              <a:t>--</a:t>
            </a:r>
            <a:r>
              <a:rPr b="1" lang="zh-CN" sz="4400" spc="-1" strike="noStrike">
                <a:solidFill>
                  <a:srgbClr val="99cc00"/>
                </a:solidFill>
                <a:latin typeface="隶书"/>
                <a:ea typeface="隶书"/>
              </a:rPr>
              <a:t>李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1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296280" cy="682776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 txBox="1"/>
          <p:nvPr/>
        </p:nvSpPr>
        <p:spPr>
          <a:xfrm>
            <a:off x="685800" y="2895480"/>
            <a:ext cx="73915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窗含西岭千秋雪</a:t>
            </a:r>
            <a:endParaRPr b="1" lang="en-US" sz="7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门泊东吴万里船 </a:t>
            </a:r>
            <a:endParaRPr b="1" lang="en-US" sz="7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105" name=""/>
          <p:cNvSpPr/>
          <p:nvPr/>
        </p:nvSpPr>
        <p:spPr>
          <a:xfrm>
            <a:off x="5851440" y="3602160"/>
            <a:ext cx="18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257800" y="57913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隶书"/>
              </a:rPr>
              <a:t>   </a:t>
            </a:r>
            <a:r>
              <a:rPr b="1" lang="en-US" sz="4800" spc="-1" strike="noStrike">
                <a:solidFill>
                  <a:srgbClr val="00ffff"/>
                </a:solidFill>
                <a:latin typeface="Times New Roman"/>
                <a:ea typeface="隶书"/>
              </a:rPr>
              <a:t>——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隶书"/>
              </a:rPr>
              <a:t>杜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1840"/>
          </a:xfrm>
          <a:prstGeom prst="rect">
            <a:avLst/>
          </a:prstGeom>
          <a:ln w="0">
            <a:noFill/>
          </a:ln>
        </p:spPr>
      </p:pic>
      <p:grpSp>
        <p:nvGrpSpPr>
          <p:cNvPr id="1108" name=""/>
          <p:cNvGrpSpPr/>
          <p:nvPr/>
        </p:nvGrpSpPr>
        <p:grpSpPr>
          <a:xfrm>
            <a:off x="1908720" y="375480"/>
            <a:ext cx="6230520" cy="5151240"/>
            <a:chOff x="1908720" y="375480"/>
            <a:chExt cx="6230520" cy="5151240"/>
          </a:xfrm>
        </p:grpSpPr>
        <p:sp>
          <p:nvSpPr>
            <p:cNvPr id="1109" name=""/>
            <p:cNvSpPr/>
            <p:nvPr/>
          </p:nvSpPr>
          <p:spPr>
            <a:xfrm>
              <a:off x="6861600" y="375480"/>
              <a:ext cx="1277640" cy="50749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北国风光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423320" y="451800"/>
              <a:ext cx="1277640" cy="50749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千里冰封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08720" y="451800"/>
              <a:ext cx="1277640" cy="50749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万里雪飘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3657600" y="51814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隶书"/>
                <a:ea typeface="隶书"/>
              </a:rPr>
              <a:t>—— </a:t>
            </a:r>
            <a:r>
              <a:rPr b="1" lang="zh-CN" sz="4400" spc="-1" strike="noStrike">
                <a:solidFill>
                  <a:srgbClr val="00ffff"/>
                </a:solidFill>
                <a:latin typeface="隶书"/>
                <a:ea typeface="隶书"/>
              </a:rPr>
              <a:t>毛  泽  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2652480" y="40428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0000"/>
                </a:solidFill>
                <a:latin typeface="Arial"/>
                <a:ea typeface="华文行楷"/>
              </a:rPr>
              <a:t>课后作业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943280" y="170028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、每人搜集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几首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自己喜欢的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咏雪诗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，并背诵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5"/>
          <a:stretch/>
        </p:blipFill>
        <p:spPr>
          <a:xfrm>
            <a:off x="1676520" y="838080"/>
            <a:ext cx="7315200" cy="5334120"/>
          </a:xfrm>
          <a:prstGeom prst="rect">
            <a:avLst/>
          </a:prstGeom>
          <a:ln w="0">
            <a:noFill/>
          </a:ln>
        </p:spPr>
      </p:pic>
      <p:sp>
        <p:nvSpPr>
          <p:cNvPr id="1119" name=""/>
          <p:cNvSpPr/>
          <p:nvPr/>
        </p:nvSpPr>
        <p:spPr>
          <a:xfrm>
            <a:off x="-269640" y="1249200"/>
            <a:ext cx="16426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陈太丘与友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395280" y="31374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陈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8-1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字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元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以道德知名于世。兄弟友爱，孝养父亲，家中和睦亲善，其家风成为人们学习的榜样。陈纪也曾遭到党锢，他在家发奋著作，写成《陈子》一书。党禁解除后，朝廷虽然多次征召，他都拒绝出仕。中平六年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灵帝去世，少帝即位，大将军何进再次谋除宦官，辟召智谋之士二十余人，陈纪被举为五官中郎将。但当陈纪应召到达京都洛阳时，形势已发生了大逆转，何进在与宦官的斗争中被杀，长期盘踞宫廷的宦官也被消除殆尽，但政权却落入了奉召领兵入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539640" y="119700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凉州军阀董卓手中。董卓大量选用党人名士以便获得支持，陈纪被任为侍中，又考虑进一步任其为司徒、尚书令。当时董卓意欲挟持新立的献帝徙都长安，陈纪劝谏董卓应谦远朝政，专精外任，不可擅意徙都。董卓很不高兴，但敬畏陈纪的名望，也无可奈何。陈纪见天下已乱，乃请出为平原相，并且立即赴任。建安初，拜为大鸿胪。四年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去世，年七十一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3810240" cy="2705400"/>
          </a:xfrm>
          <a:prstGeom prst="rect">
            <a:avLst/>
          </a:prstGeom>
          <a:ln w="0">
            <a:noFill/>
          </a:ln>
        </p:spPr>
      </p:pic>
      <p:grpSp>
        <p:nvGrpSpPr>
          <p:cNvPr id="955" name=""/>
          <p:cNvGrpSpPr/>
          <p:nvPr/>
        </p:nvGrpSpPr>
        <p:grpSpPr>
          <a:xfrm>
            <a:off x="250920" y="765000"/>
            <a:ext cx="8892720" cy="3030840"/>
            <a:chOff x="250920" y="765000"/>
            <a:chExt cx="8892720" cy="3030840"/>
          </a:xfrm>
        </p:grpSpPr>
        <p:sp>
          <p:nvSpPr>
            <p:cNvPr id="956" name=""/>
            <p:cNvSpPr/>
            <p:nvPr/>
          </p:nvSpPr>
          <p:spPr>
            <a:xfrm>
              <a:off x="4251240" y="765000"/>
              <a:ext cx="489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世说新语》，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南朝宋刘义庆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编著，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主要描写从东汉到刘宋时期的一些著名人士的传闻、轶事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以短篇为主。全书共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卷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50920" y="3214440"/>
              <a:ext cx="889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德行、言语、政事、文学、方正、夙慧等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6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门。《咏雪》选自“言语”一门，《陈太丘与友期》选自“方正”一门。这部书不仅保留了许多珍贵的史料，也因为其语言凝炼、人物形象鲜明成为古典小说的源头之一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 txBox="1"/>
          <p:nvPr/>
        </p:nvSpPr>
        <p:spPr>
          <a:xfrm>
            <a:off x="971640" y="0"/>
            <a:ext cx="7488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有感情的朗读课文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755640" y="10526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陈太丘与友期行，期日中，过中不至，太丘舍去，去后乃至。元方时年七岁，门外戏。客问元方：“尊君在不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答曰：“待君久不至，已去。”友人便怒：“非人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人期行，相委而去。”元方曰：“君与家君期日中。日中不至，则是无信；对子骂父，则是无礼。”友人惭，下车引之，元方入门不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0" y="1600200"/>
            <a:ext cx="9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陈太丘与友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期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期日中，过中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太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286000" y="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陈太丘与友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0" y="4572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去后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至。   元方时年七岁，门外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戏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。客问元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0" y="2362320"/>
            <a:ext cx="9144000" cy="3354840"/>
            <a:chOff x="0" y="2362320"/>
            <a:chExt cx="9144000" cy="3354840"/>
          </a:xfrm>
        </p:grpSpPr>
        <p:sp>
          <p:nvSpPr>
            <p:cNvPr id="1129" name=""/>
            <p:cNvSpPr/>
            <p:nvPr/>
          </p:nvSpPr>
          <p:spPr>
            <a:xfrm>
              <a:off x="0" y="236232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陈太丘跟一位朋友约好同行，约好正午（见面），正午过了那个朋友还没有到，陈太丘就不再等候离开了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0" y="525744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陈太丘走后那人才到达。元方当时才七岁，在门外嬉戏，那人问元方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838080" y="914400"/>
            <a:ext cx="2743200" cy="762120"/>
            <a:chOff x="838080" y="914400"/>
            <a:chExt cx="2743200" cy="762120"/>
          </a:xfrm>
        </p:grpSpPr>
        <p:sp>
          <p:nvSpPr>
            <p:cNvPr id="1132" name=""/>
            <p:cNvSpPr/>
            <p:nvPr/>
          </p:nvSpPr>
          <p:spPr>
            <a:xfrm>
              <a:off x="2590560" y="1371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38080" y="914400"/>
              <a:ext cx="27432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相约而行。期，约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6019920" y="609480"/>
            <a:ext cx="838080" cy="914400"/>
            <a:chOff x="6019920" y="609480"/>
            <a:chExt cx="838080" cy="914400"/>
          </a:xfrm>
        </p:grpSpPr>
        <p:sp>
          <p:nvSpPr>
            <p:cNvPr id="1135" name=""/>
            <p:cNvSpPr/>
            <p:nvPr/>
          </p:nvSpPr>
          <p:spPr>
            <a:xfrm>
              <a:off x="6400800" y="1218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019920" y="609480"/>
              <a:ext cx="83808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到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838080" y="3886200"/>
            <a:ext cx="914400" cy="838080"/>
            <a:chOff x="838080" y="3886200"/>
            <a:chExt cx="914400" cy="838080"/>
          </a:xfrm>
        </p:grpSpPr>
        <p:sp>
          <p:nvSpPr>
            <p:cNvPr id="1138" name=""/>
            <p:cNvSpPr/>
            <p:nvPr/>
          </p:nvSpPr>
          <p:spPr>
            <a:xfrm>
              <a:off x="1218960" y="4343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38080" y="3886200"/>
              <a:ext cx="9144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943600" y="3809880"/>
            <a:ext cx="990720" cy="6098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嬉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7596360" y="765000"/>
            <a:ext cx="838080" cy="914400"/>
            <a:chOff x="7596360" y="765000"/>
            <a:chExt cx="838080" cy="914400"/>
          </a:xfrm>
        </p:grpSpPr>
        <p:sp>
          <p:nvSpPr>
            <p:cNvPr id="1143" name=""/>
            <p:cNvSpPr/>
            <p:nvPr/>
          </p:nvSpPr>
          <p:spPr>
            <a:xfrm>
              <a:off x="7977240" y="1374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596360" y="765000"/>
              <a:ext cx="83808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Arial"/>
                </a:rPr>
                <a:t>放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8305920" y="907920"/>
            <a:ext cx="838080" cy="914400"/>
            <a:chOff x="8305920" y="907920"/>
            <a:chExt cx="838080" cy="914400"/>
          </a:xfrm>
        </p:grpSpPr>
        <p:sp>
          <p:nvSpPr>
            <p:cNvPr id="1146" name=""/>
            <p:cNvSpPr/>
            <p:nvPr/>
          </p:nvSpPr>
          <p:spPr>
            <a:xfrm>
              <a:off x="8686800" y="1517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305920" y="907920"/>
              <a:ext cx="83808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Arial"/>
                </a:rPr>
                <a:t>离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尊 君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在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？”答曰：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待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君久不至，已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3276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友人便怒：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非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人哉！与人期行，相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而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0" y="1752480"/>
            <a:ext cx="9144000" cy="2669400"/>
            <a:chOff x="0" y="1752480"/>
            <a:chExt cx="9144000" cy="2669400"/>
          </a:xfrm>
        </p:grpSpPr>
        <p:sp>
          <p:nvSpPr>
            <p:cNvPr id="1151" name=""/>
            <p:cNvSpPr/>
            <p:nvPr/>
          </p:nvSpPr>
          <p:spPr>
            <a:xfrm>
              <a:off x="0" y="17524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你父亲在吗？”元方答道：“等了你好久你不来，他已经离开了。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0" y="3962160"/>
              <a:ext cx="883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那人便生气的说：“（你父亲）真不是人，和别人约好一起走，却把人丢下自己走了。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34920" y="189000"/>
            <a:ext cx="2590920" cy="990000"/>
            <a:chOff x="34920" y="189000"/>
            <a:chExt cx="2590920" cy="990000"/>
          </a:xfrm>
        </p:grpSpPr>
        <p:sp>
          <p:nvSpPr>
            <p:cNvPr id="1154" name=""/>
            <p:cNvSpPr/>
            <p:nvPr/>
          </p:nvSpPr>
          <p:spPr>
            <a:xfrm>
              <a:off x="797040" y="79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920" y="189000"/>
              <a:ext cx="25909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对别人父亲的尊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2437920" y="304920"/>
            <a:ext cx="1676880" cy="838080"/>
            <a:chOff x="2437920" y="304920"/>
            <a:chExt cx="1676880" cy="838080"/>
          </a:xfrm>
        </p:grpSpPr>
        <p:sp>
          <p:nvSpPr>
            <p:cNvPr id="1157" name=""/>
            <p:cNvSpPr/>
            <p:nvPr/>
          </p:nvSpPr>
          <p:spPr>
            <a:xfrm flipH="1">
              <a:off x="2437920" y="76212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819160" y="304920"/>
              <a:ext cx="129564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通“否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858920" y="333360"/>
            <a:ext cx="1371960" cy="762120"/>
            <a:chOff x="4858920" y="333360"/>
            <a:chExt cx="1371960" cy="762120"/>
          </a:xfrm>
        </p:grpSpPr>
        <p:sp>
          <p:nvSpPr>
            <p:cNvPr id="1160" name=""/>
            <p:cNvSpPr/>
            <p:nvPr/>
          </p:nvSpPr>
          <p:spPr>
            <a:xfrm flipH="1">
              <a:off x="4858920" y="7905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59280" y="333360"/>
              <a:ext cx="137160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等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2124000" y="2565360"/>
            <a:ext cx="1295280" cy="762120"/>
            <a:chOff x="2124000" y="2565360"/>
            <a:chExt cx="1295280" cy="762120"/>
          </a:xfrm>
        </p:grpSpPr>
        <p:sp>
          <p:nvSpPr>
            <p:cNvPr id="1163" name=""/>
            <p:cNvSpPr/>
            <p:nvPr/>
          </p:nvSpPr>
          <p:spPr>
            <a:xfrm>
              <a:off x="2609640" y="3098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124000" y="2565360"/>
              <a:ext cx="129528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不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791320" y="2514600"/>
            <a:ext cx="2020680" cy="533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丢下，舍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0" y="1143000"/>
            <a:ext cx="99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方曰：“君与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家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期日中。日中不至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0" y="3352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子骂父，则是无礼。”         友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下车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0" y="522936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方入门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0" y="1981080"/>
            <a:ext cx="9144000" cy="4269600"/>
            <a:chOff x="0" y="1981080"/>
            <a:chExt cx="9144000" cy="4269600"/>
          </a:xfrm>
        </p:grpSpPr>
        <p:sp>
          <p:nvSpPr>
            <p:cNvPr id="1171" name=""/>
            <p:cNvSpPr/>
            <p:nvPr/>
          </p:nvSpPr>
          <p:spPr>
            <a:xfrm>
              <a:off x="0" y="19810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元方说；     “你跟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我爸爸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约好正午。你正午不到， 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就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是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不讲信用。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0" y="396216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对着人家的儿子骂他，就是没有礼貌。”那人感到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惭愧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，便下车想拉元方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0" y="5790960"/>
              <a:ext cx="72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元方头也不回地走进自己家的大门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80010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236000" y="2565360"/>
            <a:ext cx="13554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3623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752480" y="4648320"/>
            <a:ext cx="12956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回头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8305920" y="189000"/>
            <a:ext cx="838080" cy="914400"/>
            <a:chOff x="8305920" y="189000"/>
            <a:chExt cx="838080" cy="914400"/>
          </a:xfrm>
        </p:grpSpPr>
        <p:sp>
          <p:nvSpPr>
            <p:cNvPr id="1179" name=""/>
            <p:cNvSpPr/>
            <p:nvPr/>
          </p:nvSpPr>
          <p:spPr>
            <a:xfrm>
              <a:off x="8686800" y="79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305920" y="189000"/>
              <a:ext cx="83808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Arial"/>
                </a:rPr>
                <a:t>信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7093080" y="333360"/>
            <a:ext cx="838080" cy="914400"/>
            <a:chOff x="7093080" y="333360"/>
            <a:chExt cx="838080" cy="914400"/>
          </a:xfrm>
        </p:grpSpPr>
        <p:sp>
          <p:nvSpPr>
            <p:cNvPr id="1182" name=""/>
            <p:cNvSpPr/>
            <p:nvPr/>
          </p:nvSpPr>
          <p:spPr>
            <a:xfrm>
              <a:off x="7473960" y="9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093080" y="333360"/>
              <a:ext cx="83808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Arial"/>
                </a:rPr>
                <a:t>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2843280" y="260280"/>
            <a:ext cx="838080" cy="914400"/>
            <a:chOff x="2843280" y="260280"/>
            <a:chExt cx="838080" cy="914400"/>
          </a:xfrm>
        </p:grpSpPr>
        <p:sp>
          <p:nvSpPr>
            <p:cNvPr id="1185" name=""/>
            <p:cNvSpPr/>
            <p:nvPr/>
          </p:nvSpPr>
          <p:spPr>
            <a:xfrm>
              <a:off x="3224160" y="869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843280" y="260280"/>
              <a:ext cx="83808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Arial"/>
                </a:rPr>
                <a:t>我爸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5940360" y="2492280"/>
            <a:ext cx="838080" cy="914400"/>
            <a:chOff x="5940360" y="2492280"/>
            <a:chExt cx="838080" cy="914400"/>
          </a:xfrm>
        </p:grpSpPr>
        <p:sp>
          <p:nvSpPr>
            <p:cNvPr id="1188" name=""/>
            <p:cNvSpPr/>
            <p:nvPr/>
          </p:nvSpPr>
          <p:spPr>
            <a:xfrm>
              <a:off x="6321240" y="3101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940360" y="2492280"/>
              <a:ext cx="83808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Arial"/>
                </a:rPr>
                <a:t>惭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/>
          <p:nvPr/>
        </p:nvSpPr>
        <p:spPr>
          <a:xfrm>
            <a:off x="609480" y="54936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陈太丘和（一位）朋友相约而行，约定的时间是中午，中午过了（朋友）（却）没有到，陈太丘不再等候就离开了。（太丘）走后，（他的朋友）才到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陈太丘的儿子陈元方当时年仅七岁，正在门外玩。客人问元方：“你的父亲在家吗？”元方答道：“等你好久都没来，（他）已经离开了。”客人便发怒道：“（真）不是人啊！和人家约好出行，（却）丢下人家而离去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方说：“您与我父亲约定在中午（一同出发），中午（到了）（您）（却）没有到，（这）就是没有信用；对着人家儿子骂他的父亲，（这）便是没有礼貌。” 客人感到惭愧，便从车里下来想拉元方，元方径直走入家门根本不回头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79280" y="0"/>
            <a:ext cx="18716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译文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179280" y="1052640"/>
            <a:ext cx="478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考考你</a:t>
            </a:r>
            <a:r>
              <a:rPr b="0" lang="en-US" sz="5400" spc="-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:</a:t>
            </a:r>
            <a:endParaRPr b="0" lang="en-US" sz="5400" spc="-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1547640" y="2852640"/>
            <a:ext cx="4572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补出课文中的省略部分。</a:t>
            </a:r>
            <a:endParaRPr b="0" lang="en-US" sz="1800" spc="-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4" name=""/>
          <p:cNvSpPr/>
          <p:nvPr/>
        </p:nvSpPr>
        <p:spPr>
          <a:xfrm>
            <a:off x="1332000" y="4221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如：期日中，过中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不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250920" y="1710000"/>
            <a:ext cx="864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　　陈太丘与友期行，期日中，过中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不至，太丘舍去，去后（　）乃至。元方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年七岁，（　）门外戏。客问元方：“尊君在不？”（　　）答曰：“（　　）待君久（　）不至，（　　）已去。”友人便怒：“非人哉！与人期行，相委（　）而去。”元方曰：“君与家君期日中。（　）日中不至，则是无信；（　）对子骂父，则是无礼。”友人惭，下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引之，元方入门不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164360" y="907920"/>
            <a:ext cx="647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716360" y="17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835280" y="2205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　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692360" y="27082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元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716360" y="2708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家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596360" y="270828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314172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家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492360" y="3645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132000" y="4149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84360" y="4581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539640" y="476280"/>
            <a:ext cx="38721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0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思考问题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207" name=""/>
          <p:cNvSpPr/>
          <p:nvPr/>
        </p:nvSpPr>
        <p:spPr>
          <a:xfrm>
            <a:off x="468360" y="2349360"/>
            <a:ext cx="80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文中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家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尊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的称谓有什么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35000" y="-23760"/>
            <a:ext cx="8540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问题研究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1532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君”“尊君”“家君”的称谓有什么不同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864800" y="1802520"/>
            <a:ext cx="471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君”是有礼貌地称呼对方，犹今之“您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尊君”是对别人父亲的一种尊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家君”是对人称自己的父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95280" y="3429000"/>
            <a:ext cx="698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其他敬称和谦称，参考词语手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1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197080" y="4148640"/>
            <a:ext cx="520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辨别下列词语哪些属于敬词，哪些属于谦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敝人　②卑职　③陛下　④令尊　⑤寡人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足下　⑦令郎　⑧老朽　⑨麾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872000" y="5846040"/>
            <a:ext cx="32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敬词有③④⑥⑦⑨　谦词有①②⑤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539640" y="1557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《世说新语》是一部以汉末、魏、晋士人生活为题材的小说，是我国魏晋南北朝时期“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志人小说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”的代表作。编撰者是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刘义庆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南朝宋彭城（江苏徐州）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       “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志”是记的意思。“志人小说”主要是记述人物言行事迹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5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16" name=""/>
          <p:cNvSpPr/>
          <p:nvPr/>
        </p:nvSpPr>
        <p:spPr>
          <a:xfrm>
            <a:off x="380880" y="9907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“期日中，过中不至”说明陈太丘的朋友是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971640" y="22050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个不守信用，没有时间观念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95280" y="357336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中不至，则是无信；对子骂父，则是无礼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09480" y="2971800"/>
            <a:ext cx="770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元方指出了父亲友人的哪两个错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85800" y="42670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陈元方是一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755640" y="486900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聪明、勇敢、明理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或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懂礼识仪，机智聪明，刚正不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39640" y="83664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元方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入门不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是否失礼？说说你的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2"/>
          <a:stretch/>
        </p:blipFill>
        <p:spPr>
          <a:xfrm>
            <a:off x="8467560" y="5805360"/>
            <a:ext cx="676440" cy="676440"/>
          </a:xfrm>
          <a:prstGeom prst="rect">
            <a:avLst/>
          </a:prstGeom>
          <a:ln w="0">
            <a:noFill/>
          </a:ln>
        </p:spPr>
      </p:pic>
      <p:sp>
        <p:nvSpPr>
          <p:cNvPr id="1224" name=""/>
          <p:cNvSpPr/>
          <p:nvPr/>
        </p:nvSpPr>
        <p:spPr>
          <a:xfrm>
            <a:off x="468360" y="2205000"/>
            <a:ext cx="8209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实例一：元方确实有失礼仪。天下谁人无过？知错能改仍不失为有识之人，怎么能因人的一时之错便彻底否定一个人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539640" y="836640"/>
            <a:ext cx="7991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" descr=""/>
          <p:cNvPicPr/>
          <p:nvPr/>
        </p:nvPicPr>
        <p:blipFill>
          <a:blip r:embed="rId2"/>
          <a:stretch/>
        </p:blipFill>
        <p:spPr>
          <a:xfrm>
            <a:off x="8467560" y="5805360"/>
            <a:ext cx="676440" cy="676440"/>
          </a:xfrm>
          <a:prstGeom prst="rect">
            <a:avLst/>
          </a:prstGeom>
          <a:ln w="0">
            <a:noFill/>
          </a:ln>
        </p:spPr>
      </p:pic>
      <p:sp>
        <p:nvSpPr>
          <p:cNvPr id="1227" name=""/>
          <p:cNvSpPr/>
          <p:nvPr/>
        </p:nvSpPr>
        <p:spPr>
          <a:xfrm>
            <a:off x="396720" y="1628640"/>
            <a:ext cx="820908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实例二：元方并非“无礼”。元方以客“无信”、“无礼”进行责备，可见他识义懂礼，而对粗俗的客人“入门不顾”又体现了他正直不阿的性格。一个失信于人、不知自责且当子骂父的人，其品行低劣可见一斑，对这样的人就应该断然拒之于千里之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0000"/>
                </a:solidFill>
                <a:latin typeface="Arial"/>
                <a:ea typeface="华文彩云"/>
              </a:rPr>
              <a:t>作者写此文，意图是什么？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72452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借元方责客之语，说明“信”和“礼”的重要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也赞扬元方的聪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0" dur="500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500"/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 txBox="1"/>
          <p:nvPr/>
        </p:nvSpPr>
        <p:spPr>
          <a:xfrm>
            <a:off x="3429000" y="228600"/>
            <a:ext cx="327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32" name=""/>
          <p:cNvSpPr/>
          <p:nvPr/>
        </p:nvSpPr>
        <p:spPr>
          <a:xfrm>
            <a:off x="3808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你从《陈太丘与友期》中得到什么启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09480" y="22096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做人要讲信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04920" y="2971800"/>
            <a:ext cx="84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755640" y="37314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全文以寥寥数笔，就将当时的环境和一个生动的人物形象展现在我们面前。作者能做到这一点，关键在于他使用一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非常形象地比喻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凝练生动的语言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，点出了人物与环境的特点，使之跃然纸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24000" y="260280"/>
            <a:ext cx="2663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楷体_GB2312"/>
              </a:rPr>
              <a:t>小结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2195640" y="0"/>
            <a:ext cx="7345080" cy="65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6666"/>
                </a:solidFill>
                <a:latin typeface="Arial"/>
                <a:ea typeface="华文行楷"/>
              </a:rPr>
              <a:t>作业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１、将文中重点字词的翻译总结到笔记本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２、熟读基础上背诵两篇短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78920" y="-14760"/>
            <a:ext cx="85410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课后作业：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79280" y="90936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雪骤，公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欣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俄”，又常与“而”“顷”诸字连用，皆片刻义。“欣然”，高兴地。然，语助，无义；或作“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的样子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撒盐空中差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拟”，比、比拟。这是古义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唐以后才有准备、打算义，如“比拟好心来送喜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唐代民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“也拟泛轻舟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李清照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武陵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未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柳絮因风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    “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未若”，比不上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太丘舍去，去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   “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乃”，这里是“才”的意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，相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期”，约会、约定。“委”，舍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1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1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500"/>
                                        <p:tgtEl>
                                          <p:spTgt spid="1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1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533520" y="0"/>
            <a:ext cx="5184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隶书"/>
              </a:rPr>
              <a:t>看谁的记忆力好：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3" name=""/>
          <p:cNvSpPr/>
          <p:nvPr/>
        </p:nvSpPr>
        <p:spPr>
          <a:xfrm>
            <a:off x="1079640" y="2286000"/>
            <a:ext cx="83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《世说新语》是（      ）（朝代）的（        ）组织一批文人编写的。是六朝（       ）的代表作，古代小说所记大多是传闻、轶事，以短篇为主，在写法上一般都是（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227640" y="227664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南朝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348000" y="285264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刘义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716360" y="35020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志人小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692360" y="53737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直叙其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191280" y="907920"/>
            <a:ext cx="24130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回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0" y="457200"/>
            <a:ext cx="93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方正粗倩_GBK"/>
                <a:ea typeface="方正粗倩_GBK"/>
              </a:rPr>
              <a:t>     </a:t>
            </a:r>
            <a:r>
              <a:rPr b="0" lang="zh-CN" sz="4400" spc="-1" strike="noStrike">
                <a:solidFill>
                  <a:srgbClr val="003300"/>
                </a:solidFill>
                <a:latin typeface="方正粗倩_GBK"/>
                <a:ea typeface="方正粗倩_GBK"/>
              </a:rPr>
              <a:t>找出本文的</a:t>
            </a:r>
            <a:r>
              <a:rPr b="0" lang="zh-CN" sz="4400" spc="-1" strike="noStrike">
                <a:solidFill>
                  <a:srgbClr val="800000"/>
                </a:solidFill>
                <a:latin typeface="方正粗倩_GBK"/>
                <a:ea typeface="方正粗倩_GBK"/>
              </a:rPr>
              <a:t>古今异义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304920" y="2057400"/>
            <a:ext cx="8610120" cy="3733560"/>
            <a:chOff x="304920" y="2057400"/>
            <a:chExt cx="8610120" cy="3733560"/>
          </a:xfrm>
        </p:grpSpPr>
        <p:sp>
          <p:nvSpPr>
            <p:cNvPr id="1251" name=""/>
            <p:cNvSpPr/>
            <p:nvPr/>
          </p:nvSpPr>
          <p:spPr>
            <a:xfrm>
              <a:off x="304920" y="2057400"/>
              <a:ext cx="861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04920" y="3264840"/>
              <a:ext cx="861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04920" y="5790960"/>
              <a:ext cx="861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04920" y="4473360"/>
              <a:ext cx="861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04920" y="20574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096440" y="20574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360400" y="20574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624000" y="20574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809120" y="20574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915040" y="20574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753640" y="20574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489680" y="20574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380880" y="3581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80880" y="4800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476360" y="2349360"/>
            <a:ext cx="76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细黑"/>
                <a:ea typeface="华文细黑"/>
              </a:rPr>
              <a:t>儿女 </a:t>
            </a:r>
            <a:r>
              <a:rPr b="1" lang="zh-TW" sz="3600" spc="-1" strike="noStrike">
                <a:solidFill>
                  <a:srgbClr val="800000"/>
                </a:solidFill>
                <a:latin typeface="华文细黑"/>
                <a:ea typeface="PMingLiU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华文细黑"/>
              </a:rPr>
              <a:t>   </a:t>
            </a:r>
            <a:r>
              <a:rPr b="1" lang="zh-CN" sz="3600" spc="-1" strike="noStrike">
                <a:solidFill>
                  <a:srgbClr val="800000"/>
                </a:solidFill>
                <a:latin typeface="华文细黑"/>
                <a:ea typeface="华文细黑"/>
              </a:rPr>
              <a:t>文义     因       去      委    </a:t>
            </a:r>
            <a:r>
              <a:rPr b="1" lang="zh-TW" sz="3600" spc="-1" strike="noStrike">
                <a:solidFill>
                  <a:srgbClr val="800000"/>
                </a:solidFill>
                <a:latin typeface="华文细黑"/>
                <a:ea typeface="PMingLiU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华文细黑"/>
                <a:ea typeface="华文细黑"/>
              </a:rPr>
              <a:t>不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447920" y="3505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家中子侄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447920" y="48006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隶书"/>
              </a:rPr>
              <a:t>子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895480" y="3505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隶书"/>
              </a:rPr>
              <a:t>诗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666880" y="48769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文章意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343400" y="3505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隶书"/>
              </a:rPr>
              <a:t>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267080" y="4876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486400" y="3505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隶书"/>
              </a:rPr>
              <a:t>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10080" y="472428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到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隶书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732720" y="321300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隶书"/>
              </a:rPr>
              <a:t>丢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隶书"/>
              </a:rPr>
              <a:t>舍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705720" y="4876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隶书"/>
              </a:rPr>
              <a:t>委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772400" y="3581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不回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696080" y="4876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不理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2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10666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宋体"/>
                <a:ea typeface="楷体_GB2312"/>
              </a:rPr>
              <a:t>柳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  <a:ea typeface="楷体_GB2312"/>
              </a:rPr>
              <a:t>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828800" y="1066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x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191120" y="1066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y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620120" y="11430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fǒ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514600" y="2286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yù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9480" y="228600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谢道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971800" y="10666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无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334120" y="1143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尊君在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019920" y="2286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fù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2286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谢太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858000" y="3352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zhòu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486400" y="33526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雪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590920" y="33526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chà   nǐ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09480" y="33526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差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可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200400" y="44197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shě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09480" y="44197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太丘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舍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9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609480" y="1981080"/>
            <a:ext cx="7543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翻译</a:t>
            </a:r>
            <a:r>
              <a:rPr b="0" lang="en-US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-</a:t>
            </a: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大挑战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281" name=""/>
          <p:cNvSpPr/>
          <p:nvPr/>
        </p:nvSpPr>
        <p:spPr>
          <a:xfrm>
            <a:off x="838080" y="11430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二回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84" name=""/>
          <p:cNvSpPr/>
          <p:nvPr/>
        </p:nvSpPr>
        <p:spPr>
          <a:xfrm>
            <a:off x="380880" y="10666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、俄而雪骤，公欣然曰：“白雪纷纷何所似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80880" y="16765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一会儿，雪下得紧了，太傅高兴地说： “这纷纷扬扬的大雪像什么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80880" y="2743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、撒盐空中差可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85800" y="3429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跟把盐撒在空中差不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80880" y="41148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未若柳絮因风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80880" y="4724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如比作柳絮随风飘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1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92" name=""/>
          <p:cNvSpPr/>
          <p:nvPr/>
        </p:nvSpPr>
        <p:spPr>
          <a:xfrm>
            <a:off x="304920" y="9144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、陈太丘与友期行，期日中，过中不至，太丘舍去，去后乃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8088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陈太丘跟一位朋友约定一同出门，约好正午时碰头。正午已过，不见朋友来，太丘不再等候就走了。太丘走后，那人才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36576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</a:rPr>
              <a:t>5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</a:rPr>
              <a:t>、与人期行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</a:rPr>
              <a:t>相委而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80880" y="4343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别人约好了一起走，却丢下别人自己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7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98" name=""/>
          <p:cNvSpPr/>
          <p:nvPr/>
        </p:nvSpPr>
        <p:spPr>
          <a:xfrm>
            <a:off x="304920" y="9907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君与家君期日中。过中不至，则是无信；对子骂父，则是无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57200" y="20574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和我父亲约好了正午时候一同出发。您正午不到，就是不讲信用，对儿子骂他的父亲，就是失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04920" y="3733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、友人惭，下车引之，元方入门不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33520" y="44956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那人感到惭愧，便从车里下来，想跟元方握手，元方连头也不回地走进了自家的大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304920" y="53352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三回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1692360" y="2205000"/>
            <a:ext cx="460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抢答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05" name=""/>
          <p:cNvSpPr/>
          <p:nvPr/>
        </p:nvSpPr>
        <p:spPr>
          <a:xfrm>
            <a:off x="3124080" y="50292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内容理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308" name=""/>
          <p:cNvSpPr/>
          <p:nvPr/>
        </p:nvSpPr>
        <p:spPr>
          <a:xfrm>
            <a:off x="304920" y="914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、《咏雪》中“寒雪”“内集”“欣然”“大笑乐”等词语营造了一种怎样的家庭气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838080" y="1828800"/>
            <a:ext cx="64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融洽、欢乐、轻松且文化气息浓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295280" y="3200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古指家中的年青一代，今指子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09480" y="4724280"/>
            <a:ext cx="46483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君：有礼貌的称呼对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家君：对人称自己的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尊君：对别人父亲的尊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57200" y="2362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、联系上下文，儿女的含义与今天相比有什么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57200" y="38098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、《陈太丘与友期》中“君”“尊君”“家君”的称谓有什么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316" name=""/>
          <p:cNvSpPr/>
          <p:nvPr/>
        </p:nvSpPr>
        <p:spPr>
          <a:xfrm>
            <a:off x="380880" y="9907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“期日中，过中不至”说明陈太丘的朋友是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914400" y="22096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个不守信用，没有时间观念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80880" y="3581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中不至，则是无信；对子骂父，则是无礼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09480" y="2971800"/>
            <a:ext cx="770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元方指出了父亲友人的哪两个错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85800" y="42670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陈元方是一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762120" y="5029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聪明、勇敢、明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2590920"/>
            <a:ext cx="80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指出下列红色的称谓各指代的是何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33520" y="32767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公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大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809880" y="32767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谢太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533520" y="38862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尊君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在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733920" y="38862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你的父亲，指陈太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33520" y="4572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君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久不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33920" y="4495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你，指陈太丘的友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33520" y="51814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君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家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657600" y="51814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的父亲，指陈太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1371600" y="609480"/>
            <a:ext cx="60958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看看你都掌握了吗？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5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336" name=""/>
          <p:cNvSpPr/>
          <p:nvPr/>
        </p:nvSpPr>
        <p:spPr>
          <a:xfrm>
            <a:off x="304920" y="9907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、解释下列红色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57200" y="1600200"/>
            <a:ext cx="18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俄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16002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不久，一会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495680" y="1600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未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791320" y="1600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不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80880" y="2209680"/>
            <a:ext cx="27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去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59092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962520" y="220968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下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引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01992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80880" y="2895480"/>
            <a:ext cx="32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柳絮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因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风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743200" y="28954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凭借，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57200" y="3581280"/>
            <a:ext cx="26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相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委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而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4382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丢下，舍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648320" y="289548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入门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顾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70572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回头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952880" y="358128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内集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24852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家庭聚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0880" y="419112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公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欣然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514600" y="4191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高兴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380880" y="480060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太丘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舍去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438280" y="4876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不再等候就走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57200" y="54864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讲论文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666880" y="5486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讲解诗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029200" y="4267080"/>
            <a:ext cx="19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差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可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781680" y="4267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差不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2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990720"/>
            <a:ext cx="7696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节奏划分不正确的一项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待君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久不至 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俄而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雪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与儿女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讲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论文义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元方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入门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不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629400" y="9144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33520" y="327672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翻译下列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未若柳絮因风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46483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不如比作柳絮随风飘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5"/>
          <a:stretch/>
        </p:blipFill>
        <p:spPr>
          <a:xfrm>
            <a:off x="1676520" y="762120"/>
            <a:ext cx="7238880" cy="541008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-941760" y="1173240"/>
            <a:ext cx="26182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咏   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369" name=""/>
          <p:cNvSpPr/>
          <p:nvPr/>
        </p:nvSpPr>
        <p:spPr>
          <a:xfrm>
            <a:off x="380880" y="10666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与人相约，相委而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200" y="19051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与别人约好了一起走，却丢下别人自己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80880" y="29718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君与家君期日中。过中不至，则是无信；对子骂父，则是无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33520" y="42670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您和我父亲约好了正午时候一同出发。您正午不到，就是不讲信用，对儿子骂他的父亲，就是失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4" name=""/>
          <p:cNvSpPr txBox="1"/>
          <p:nvPr/>
        </p:nvSpPr>
        <p:spPr>
          <a:xfrm>
            <a:off x="3276720" y="76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375" name=""/>
          <p:cNvSpPr/>
          <p:nvPr/>
        </p:nvSpPr>
        <p:spPr>
          <a:xfrm>
            <a:off x="304920" y="3200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君与家君期日中，过中不至，则是无信；对子骂父，则是无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80880" y="45720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您跟我父亲约好正午一同出发。您正午不到，就是不讲信用，对儿子骂他的父亲，这就是失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28600" y="12193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与人期行，相委而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57200" y="2057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与别人约好了一起走，却丢下别人自己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0" name=""/>
          <p:cNvSpPr txBox="1"/>
          <p:nvPr/>
        </p:nvSpPr>
        <p:spPr>
          <a:xfrm>
            <a:off x="3429000" y="228600"/>
            <a:ext cx="327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381" name=""/>
          <p:cNvSpPr/>
          <p:nvPr/>
        </p:nvSpPr>
        <p:spPr>
          <a:xfrm>
            <a:off x="228600" y="762120"/>
            <a:ext cx="65530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、选出红色词意义相同的一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元方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年七岁，门外戏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故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有物外之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谢太傅寒雪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内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余忆童稚时，能张目对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未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若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柳絮因风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星汉灿烂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若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出其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日中不至，则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无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知之为知之，不知为不知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知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5715000" y="6094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800600" y="1371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当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581280" y="2057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经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033440" y="2666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952880" y="3352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太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505320" y="3962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比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1148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好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588000" y="5445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这，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3" name=""/>
          <p:cNvSpPr txBox="1"/>
          <p:nvPr/>
        </p:nvSpPr>
        <p:spPr>
          <a:xfrm>
            <a:off x="3429000" y="228600"/>
            <a:ext cx="327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《世说新语》两则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394" name=""/>
          <p:cNvSpPr/>
          <p:nvPr/>
        </p:nvSpPr>
        <p:spPr>
          <a:xfrm>
            <a:off x="304920" y="99072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“谢太傅寒雪日内集，与儿女讲论文义”这一句总述了谢太傅家人咏雪的背景，极精练地交待了时间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地点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人物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                   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事件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等要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971800" y="2666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寒雪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6324480" y="2666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内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914400" y="3124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谢太傅与儿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5029200" y="3124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讲论文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1187280" y="692280"/>
            <a:ext cx="359892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行楷"/>
              </a:rPr>
              <a:t>一读</a:t>
            </a:r>
            <a:endParaRPr b="0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83" name=""/>
          <p:cNvSpPr/>
          <p:nvPr/>
        </p:nvSpPr>
        <p:spPr>
          <a:xfrm>
            <a:off x="755640" y="234936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读准字音，正确停顿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324000" y="762120"/>
            <a:ext cx="842472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　　  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谢太傅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寒雪日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内集，与儿女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讲论文义。俄而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雪骤，公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欣然曰：“白雪纷纷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何所似？”兄子胡儿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曰：“撒盐空中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差可拟。”兄女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曰：“未若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柳絮因风起。”公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大笑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乐。即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公大兄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无奕女，左将军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王凝之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\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妻也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　　　　　　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                                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— </a:t>
            </a:r>
            <a:r>
              <a:rPr b="0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《世说新语》</a:t>
            </a:r>
            <a:r>
              <a:rPr b="0" lang="en-US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 txBox="1"/>
          <p:nvPr/>
        </p:nvSpPr>
        <p:spPr>
          <a:xfrm>
            <a:off x="1476360" y="1268280"/>
            <a:ext cx="5256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行楷"/>
              </a:rPr>
              <a:t>二译</a:t>
            </a:r>
            <a:endParaRPr b="0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04:16Z</dcterms:created>
  <dc:creator>jetpanda</dc:creator>
  <dc:description/>
  <dc:language>en-US</dc:language>
  <cp:lastModifiedBy>微软用户</cp:lastModifiedBy>
  <cp:lastPrinted>1899-12-30T00:00:00Z</cp:lastPrinted>
  <dcterms:modified xsi:type="dcterms:W3CDTF">2013-09-11T13:51:37Z</dcterms:modified>
  <cp:revision>1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