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9.png" ContentType="image/png"/>
  <Override PartName="/ppt/media/image65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gif" ContentType="image/gif"/>
  <Override PartName="/ppt/media/image58.png" ContentType="image/png"/>
  <Override PartName="/ppt/media/whoosh.wav" ContentType="audio/x-wav"/>
  <Override PartName="/ppt/media/image7.png" ContentType="image/png"/>
  <Override PartName="/ppt/media/image4.gif" ContentType="image/gif"/>
  <Override PartName="/ppt/media/image45.jpeg" ContentType="image/jpeg"/>
  <Override PartName="/ppt/media/image44.jpeg" ContentType="image/jpeg"/>
  <Override PartName="/ppt/media/image42.wmf" ContentType="image/x-wmf"/>
  <Override PartName="/ppt/media/image8.png" ContentType="image/png"/>
  <Override PartName="/ppt/media/voltage.wav" ContentType="audio/x-wav"/>
  <Override PartName="/ppt/media/image37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3.jpeg" ContentType="image/jpeg"/>
  <Override PartName="/ppt/media/image15.jpeg" ContentType="image/jpeg"/>
  <Override PartName="/ppt/media/laser.wav" ContentType="audio/x-wav"/>
  <Override PartName="/ppt/media/hammer.wav" ContentType="audio/x-wav"/>
  <Override PartName="/ppt/media/image16.jpeg" ContentType="image/jpeg"/>
  <Override PartName="/ppt/media/image6.jpeg" ContentType="image/jpeg"/>
  <Override PartName="/ppt/media/image63.jpeg" ContentType="image/jpeg"/>
  <Override PartName="/ppt/media/type.wav" ContentType="audio/x-wav"/>
  <Override PartName="/ppt/media/image20.jpeg" ContentType="image/jpeg"/>
  <Override PartName="/ppt/media/image18.png" ContentType="image/png"/>
  <Override PartName="/ppt/media/camera.wav" ContentType="audio/x-wav"/>
  <Override PartName="/ppt/media/image21.jpeg" ContentType="image/jpeg"/>
  <Override PartName="/ppt/media/image22.png" ContentType="image/png"/>
  <Override PartName="/ppt/media/image24.jpeg" ContentType="image/jpeg"/>
  <Override PartName="/ppt/media/projctor.wav" ContentType="audio/x-wav"/>
  <Override PartName="/ppt/media/image64.gif" ContentType="image/gif"/>
  <Override PartName="/ppt/media/image36.jpeg" ContentType="image/jpeg"/>
  <Override PartName="/ppt/media/image62.png" ContentType="image/png"/>
  <Override PartName="/ppt/media/image61.jpeg" ContentType="image/jpeg"/>
  <Override PartName="/ppt/media/image60.jpeg" ContentType="image/jpeg"/>
  <Override PartName="/ppt/media/image19.jpeg" ContentType="image/jpeg"/>
  <Override PartName="/ppt/media/image57.jpeg" ContentType="image/jpeg"/>
  <Override PartName="/ppt/media/image9.jpeg" ContentType="image/jpeg"/>
  <Override PartName="/ppt/media/image59.png" ContentType="image/png"/>
  <Override PartName="/ppt/media/image66.jpeg" ContentType="image/jpeg"/>
  <Override PartName="/ppt/media/image56.gif" ContentType="image/gif"/>
  <Override PartName="/ppt/media/image54.png" ContentType="image/png"/>
  <Override PartName="/ppt/media/image14.jpeg" ContentType="image/jpeg"/>
  <Override PartName="/ppt/media/image41.jpeg" ContentType="image/jpeg"/>
  <Override PartName="/ppt/media/image32.jpeg" ContentType="image/jpeg"/>
  <Override PartName="/ppt/media/image26.jpeg" ContentType="image/jpeg"/>
  <Override PartName="/ppt/media/image51.png" ContentType="image/png"/>
  <Override PartName="/ppt/media/image52.jpeg" ContentType="image/jpeg"/>
  <Override PartName="/ppt/media/image1.png" ContentType="image/png"/>
  <Override PartName="/ppt/media/image29.wmf" ContentType="image/x-wmf"/>
  <Override PartName="/ppt/media/image25.jpeg" ContentType="image/jpeg"/>
  <Override PartName="/ppt/media/image2.png" ContentType="image/png"/>
  <Override PartName="/ppt/media/image3.png" ContentType="image/png"/>
  <Override PartName="/ppt/media/image30.gif" ContentType="image/gif"/>
  <Override PartName="/ppt/media/image33.png" ContentType="image/png"/>
  <Override PartName="/ppt/media/image50.jpeg" ContentType="image/jpeg"/>
  <Override PartName="/ppt/media/image11.jpeg" ContentType="image/jpeg"/>
  <Override PartName="/ppt/media/drumroll.wav" ContentType="audio/x-wav"/>
  <Override PartName="/ppt/media/image17.png" ContentType="image/pn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12.jpeg" ContentType="image/jpeg"/>
  <Override PartName="/ppt/media/image31.gif" ContentType="image/gif"/>
  <Override PartName="/ppt/media/image34.png" ContentType="image/png"/>
  <Override PartName="/ppt/media/image43.jpeg" ContentType="image/jpeg"/>
  <Override PartName="/ppt/media/image28.png" ContentType="image/png"/>
  <Override PartName="/ppt/media/image38.jpeg" ContentType="image/jpeg"/>
  <Override PartName="/ppt/media/glass.wav" ContentType="audio/x-wav"/>
  <Override PartName="/ppt/media/carbrake.wav" ContentType="audio/x-wav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E247-B74F-480D-9BF2-19EE6132C0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CA9-5959-4B36-AAA0-76BC63AA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EEA-845D-431B-B9E0-6684539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E43-1167-4F4E-87B2-E8C0EEE6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1D6-C536-406A-84B6-1689759E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CD2A-B0F1-42DE-86AD-ABD2CCA7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CC9C-78E0-4D81-AFD2-64225B6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B3D8-57AD-4A4B-A818-6A19B74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C43-15FA-4B8A-B6F4-08A03D4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86CB-CC8C-40C5-8B7C-87C4176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6F05-56E7-4989-89C4-BC3BBB5B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B3FC-C998-41F6-A454-DC394892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469-443B-4595-8628-035672BB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CA15-CADC-4535-9E00-65F9008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2397-2679-4A57-BDD7-FF8F2AE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4BC1-8ABA-4726-910C-F458FA3D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A4BB-C0F3-46AE-9702-670CD5AA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F7C-1980-4178-991E-8F46BB39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269-896E-4762-852A-8401A7D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697-419F-44EE-BA76-5164621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D2A-AA98-45F6-935F-94EAB456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3FA-F3BC-4ECA-B11E-053CFEB2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272-6116-4932-8F1A-65229813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03D-7319-4074-BDF5-528F52D6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10C-A069-48C3-821A-A0934B8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00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B13-D878-4F01-850D-BF0D8A945E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00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9C91-C1FD-4561-988B-325398386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jstar.net/download/wenxue/katongmanhua/sanguo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audio" Target="../media/drumroll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hammer.wav"/><Relationship Id="rId7" Type="http://schemas.openxmlformats.org/officeDocument/2006/relationships/audio" Target="../media/type.wav"/><Relationship Id="rId8" Type="http://schemas.openxmlformats.org/officeDocument/2006/relationships/audio" Target="../media/voltag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gif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8.png"/><Relationship Id="rId3" Type="http://schemas.openxmlformats.org/officeDocument/2006/relationships/slide" Target="slide8.xml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05120" y="304920"/>
            <a:ext cx="4905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滚滚长江东逝水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浪花淘尽英雄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是非成败转头空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青山依旧在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几度夕阳红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白发渔樵江楮上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惯看秋月春风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一壶浊酒喜相逢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古今多少事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都付笑谈中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9880" y="3049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孙权劝学》选自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资治通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》是司马光主持编纂的一部编年体通史，记载了从战国到五代共１３６２年间的史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353040" cy="6400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81280" y="3276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司马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字君实，陕州夏县人，北宋政治史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76320" y="-76320"/>
            <a:ext cx="4900680" cy="6934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76920" y="393840"/>
            <a:ext cx="41148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司马光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字君实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世称涑水先生。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北宋政治家、史学家，著有《司马文正公集》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《稽古录》等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95280" y="0"/>
            <a:ext cx="656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山西夏县司马光墓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43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司马光墓园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7760" y="4952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墓园的碑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巨碑记载司马光一生的事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3024360" cy="5157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505320" y="555480"/>
            <a:ext cx="5638680" cy="439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371600" y="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诵读课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495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00200" y="765000"/>
            <a:ext cx="700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用两分钟的时间初读课文，注意下列字词的读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6417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吕蒙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当 涂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9528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邪（通假字，“耶”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9528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涉猎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356544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即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2425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30481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é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0481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qī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3048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ā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19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44798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3032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520" y="60948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  <a:ea typeface="黑体"/>
              </a:rPr>
              <a:t>理解文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1736640"/>
            <a:ext cx="4191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参考注释，疏通课文，作出批注，划出读不懂的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质疑，共同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疏通文意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初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，权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谓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吕蒙        曰：“卿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当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掌      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，不可不学！”蒙辞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军中多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权曰：“孤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岂      欲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卿治经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博士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邪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但   当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涉猎，见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往事             耳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。卿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言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多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孰 若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孤？孤常读书，自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以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大有所益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720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5560" y="1295280"/>
            <a:ext cx="13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……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85200" y="1295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3780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648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4212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3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8080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5160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92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8192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2640" y="342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句末语气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56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7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752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860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5844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8080" y="556272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……相比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60160" y="5562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（之）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疏通文意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838080"/>
            <a:ext cx="84978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初，权谓吕蒙        曰：“卿今当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当初，孙权对吕蒙说：“你现在当权管事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掌      事，不可不学！”蒙辞以军中多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能不学习！”吕蒙以军中事多来推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权曰：“孤岂      欲卿治经为博士邪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孙权说：“我难道想要你钻研经书成为博士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但   当涉猎，见往事             耳。卿言多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只应当粗略地阅读，了解以往的事情罢了。 你说事务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孰 若孤？孤常读书，自以为大有所益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谁比得上我事务多呢？我经常读书，自以为大有益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" y="-1143000"/>
            <a:ext cx="9124920" cy="739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830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蒙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乃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就学。及鲁肃过寻阳，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蒙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论       议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大            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曰：“卿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今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才略，非复吴下阿蒙！”蒙曰：“士别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日，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即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更刮目相待，大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何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见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晚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乎！”肃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遂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拜蒙母，结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080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23000" y="53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13720" y="53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74680" y="525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492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17524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议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0840" y="1752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，十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2832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380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13400" y="3505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7480" y="3505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41720" y="3505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实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268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61080" y="487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0400" y="487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53400" y="480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顺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882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蒙乃     始就学。及鲁肃过寻阳，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吕蒙于是开始学习。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到了鲁肃到寻阳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蒙论       议，大              惊曰：“卿今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鲁肃和吕蒙议论天下大事，十分惊奇地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才略，非复吴下阿蒙！”蒙曰：“士别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以你现在的才干、谋略来看，你不再是原来那个吴下阿蒙了！”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吕蒙说：“士别三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，即更刮目相待，大兄何见事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就要重新另眼看待，长兄知道这件事太晚了啊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晚乎！”肃遂      拜蒙母，结友而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鲁肃于是叩拜吕蒙的母亲，与吕蒙结为朋友然后分别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080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0"/>
            <a:ext cx="5181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文注释补充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981080"/>
            <a:ext cx="6477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谓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曰：对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说。             掌事：掌管国家大事。             但：只不过。                             多务：事务繁多。                     孰若：与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相比如何。          遂：于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ab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重点词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辞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涉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孰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益：                                      就：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：                                          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今者：                     非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：                        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33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……说；告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990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代君对臣或朋友之间的爱称，相当于“你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时王侯的自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吗，表示反问语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8954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粗略地阅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380988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罢了，表示限止语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2670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何如，比 …… 怎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收效，好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72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257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了……的 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5638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再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6095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啊，表示感叹语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181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5105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3434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66680" y="23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蒙辞以军中多务。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728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意下列句子中出现的倒装现象和句子成分省略现象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07656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应理解为：“蒙以军中多务辞，以：拿，用，介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5561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②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孰若孤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522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哪一个比得上我（处理的事务多）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780000" y="3808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文言翻译五字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 rot="252000">
            <a:off x="328320" y="248760"/>
            <a:ext cx="33274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友情提示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1600200"/>
            <a:ext cx="82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留：国号、年号、地名、人名、官   名、书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8036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替：用现代汉语词替换古代文言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657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调：调整句子次序，使之符合现代汉语的说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952880"/>
            <a:ext cx="7085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补：补充出句中省略的内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715000"/>
            <a:ext cx="75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删：删去没有实在意义的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127080" y="-533520"/>
            <a:ext cx="9271080" cy="11125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838080" y="1600200"/>
            <a:ext cx="7391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品析文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0040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孙权劝学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2004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吕蒙就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95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鲁肃赞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9810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8862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9920" y="1562040"/>
            <a:ext cx="304560" cy="3733920"/>
          </a:xfrm>
          <a:custGeom>
            <a:avLst/>
            <a:gdLst>
              <a:gd name="textAreaLeft" fmla="*/ 0 w 304560"/>
              <a:gd name="textAreaRight" fmla="*/ 109800 w 30456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28796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2514600" cy="2238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28600" y="4581360"/>
            <a:ext cx="2438280" cy="2114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066680" y="2286000"/>
            <a:ext cx="2227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96720" y="404640"/>
            <a:ext cx="604692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《孙权劝学》是一个著名的劝学故事。题目中最关键的词是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劝”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。请找出孙权“劝”吕蒙学习的语句。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76360" y="26028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找一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1590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卿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当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掌事，不可不学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590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岂欲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治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博士邪？但当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涉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往事耳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0840" y="51069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常读书，自以为大有所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828800" y="0"/>
            <a:ext cx="5105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孙权劝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3" name=""/>
          <p:cNvSpPr/>
          <p:nvPr/>
        </p:nvSpPr>
        <p:spPr>
          <a:xfrm>
            <a:off x="1380240" y="3887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卿言多务，孰若孤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34040" y="2033640"/>
            <a:ext cx="30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揭示学习的必要性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32560" y="341460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学习的目的、方法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90680" y="4414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委婉的批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6040" y="58626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现身说法，读书的益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404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04000" y="0"/>
            <a:ext cx="3240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2894040" cy="3540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3500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曹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6156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孙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350028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刘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276720" y="457200"/>
            <a:ext cx="640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卿今者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才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非复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吴下阿蒙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844040" y="43671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语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13480" y="47480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遂拜蒙母，结友而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77840" y="614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（行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02160" y="1125360"/>
            <a:ext cx="55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今天的才干和谋略，已不再是过去在吴县时的那个吕蒙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2815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是拜见了吕蒙的母亲，和吕蒙结为好友，然后分别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72440" y="22860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士别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三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，即更刮目相待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大兄何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见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之晚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89640" y="3429000"/>
            <a:ext cx="31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读书人分别多日，就要重新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眼相待，长兄你为什么看清事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么迟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2280" y="380880"/>
            <a:ext cx="29718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鲁肃赞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邓岂欲卿治经为博士邪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2480" y="83808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语重心长，谆谆告诫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38880" y="1981080"/>
            <a:ext cx="48135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强调并不是要吕蒙研究儒家经典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3610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否定吕蒙辞以多务的理由。要重读强调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4440" y="5281560"/>
            <a:ext cx="403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54200" y="617220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指责中带有自豪的语气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92000" y="126288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本文注重以对话表现人物。对话言简意丰，生动传神，富于情味。仅寥寥数语，就使人感受到人物各自说话时的口吻、神态和心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54840" y="5229000"/>
            <a:ext cx="497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鲁肃之所以主动与吕蒙“结友”，是因为鲁肃为吕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的才略所折服而愿与之深交，表明鲁肃敬才、爱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二人情投意合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06560" y="38577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因为情况是在不断变化，人也在不断变化，不能拿老 眼光看待人。要用发展的眼光看待人和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15800" y="263628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孤常读书，自以为大有所益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0120" y="763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本文是怎样表现人物性格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7400" y="2103480"/>
            <a:ext cx="45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孙权如何以现身说法，劝吕蒙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06120" y="3141720"/>
            <a:ext cx="44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为什么“士别三日，即更刮目相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30640" y="4724280"/>
            <a:ext cx="37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鲁肃为什么与吕蒙“结友”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55640" y="620640"/>
            <a:ext cx="7632360" cy="1579680"/>
            <a:chOff x="755640" y="620640"/>
            <a:chExt cx="7632360" cy="157968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755640" y="620640"/>
              <a:ext cx="7632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94840" y="105084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小组讨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280" y="228600"/>
            <a:ext cx="889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权谓吕蒙曰：“卿今当涂掌事，不可不学！”“卿言多务，孰若孤？孤常读书，自以为大有所益。”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这话表现孙权对吕蒙的什么态度？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76560" y="39621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亲近、关心，有长者之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438280" y="3573360"/>
            <a:ext cx="4114800" cy="3284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68360" y="2708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亲近、关心，有长者之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972440" y="549360"/>
            <a:ext cx="4874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提问：吕蒙读后发生了什么样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变化？通过谁的所见所语来写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2362320"/>
            <a:ext cx="835344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卿今者才略，非复吴下阿蒙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通过鲁肃所见所语来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（侧面描写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283440" y="3429000"/>
            <a:ext cx="286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蒙曰：“士别三日，即更刮目相待，大兄何见事之晚乎！”</a:t>
            </a:r>
            <a:br>
              <a:rPr sz="3600"/>
            </a:b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猜一猜吕蒙说这话时，是什么语气和心情？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3429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侃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指责中带有自豪的语气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己的长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440" y="68724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提问：为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"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士别三日，即更刮目相待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"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573280"/>
            <a:ext cx="81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因为情况是在不断变化，人也在不断变化，不能拿老眼光看待人。要用发展的眼光看待人和事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440" y="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提问：请解释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刮目相待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并造句。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13200" y="1600200"/>
            <a:ext cx="50209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刮目相待”意思是用新的眼光来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待。表示不要用老眼光看待别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要估计到别人的进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01760" y="4238640"/>
            <a:ext cx="52038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（例句）听了少管所的“现身说法”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告后，小明像变了一个人似的，你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他可要刮目相待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提问：请解释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吴下阿蒙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并造句。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07680" y="1552680"/>
            <a:ext cx="48441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吴下阿蒙”原指三国时期吴国大将吕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意思是说</a:t>
            </a:r>
            <a:r>
              <a:rPr b="1" lang="zh-CN" sz="3600" spc="-1" strike="noStrike">
                <a:solidFill>
                  <a:srgbClr val="9c004e"/>
                </a:solidFill>
                <a:latin typeface="宋体"/>
              </a:rPr>
              <a:t>人没有学问的意思。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现在多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在他人有了转变方面，凡学识大进，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地位从低下而攀高了，以及穷困而至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有了，都可以用此语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360" y="5105520"/>
            <a:ext cx="511848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（例句）你还不知道吗？小黄已贵为总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理，可不再是吴下阿蒙了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下列加红色的词表示什么语气？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邪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但当涉猎，见往事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大兄何见事之晚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514600"/>
            <a:ext cx="72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  <a:ea typeface="楷体_GB2312"/>
              </a:rPr>
              <a:t>反问语气，可译为“吗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  <a:ea typeface="楷体_GB2312"/>
              </a:rPr>
              <a:t>限制语气，可译为“罢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  <a:ea typeface="楷体_GB2312"/>
              </a:rPr>
              <a:t>感叹语气，可译为“啊”或“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3443400"/>
            <a:ext cx="6019920" cy="14346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宋体"/>
                <a:ea typeface="华文新魏"/>
              </a:rPr>
              <a:t>孙权劝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24000" y="260280"/>
            <a:ext cx="861048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5576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1219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孙权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685800"/>
            <a:ext cx="381240" cy="1828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57840" y="53352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力陈必要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67080" y="533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当涂掌事，不可不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32720" y="1249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提出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1295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涉猎见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55040" y="2087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现身说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84800" y="2057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多务熟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7640" y="3473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吕蒙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0880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64960" y="399240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28200" y="284940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辞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军中多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81840" y="403848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学有小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9200" y="510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鲁肃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赞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22600" y="508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今日才略，非吴下阿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2895480"/>
            <a:ext cx="381240" cy="1828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8600" y="7632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板书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56" name=""/>
          <p:cNvSpPr/>
          <p:nvPr/>
        </p:nvSpPr>
        <p:spPr>
          <a:xfrm>
            <a:off x="1157400" y="20858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恳切、关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63280" y="420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法推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05120" y="5896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叹、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9720" y="5904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得、自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projctor.wav"/>
      </p:stSnd>
    </p:sndAc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总结全文：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2058840"/>
            <a:ext cx="8463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本文通过孙权劝告吕蒙读书，吕蒙读书后大有长进的故事，告诉我们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"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开卷有益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"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的道理。本文以对话为主，用不多几句话，就使人受到人物说话时的口吻、神态和心理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-76320" y="15228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分角色朗读课文，体会人物形象 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295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孙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：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不可不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00200" y="23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孤岂欲卿治经为博士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092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卿言多务，孰若孤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孤常读书，自以为大有所益。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1601640" cy="2297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800600" y="3519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语重心长，言辞恳切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263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语气坚决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、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严厉中又可见关心、厚望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86600" y="23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不悦、责备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46483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卿今者才略，非复吴下阿蒙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5500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吃惊，赞叹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648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大兄何见事之晚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248520" y="5500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深感自豪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（孙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228600" y="5867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（鲁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（吕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ff"/>
                </a:solidFill>
                <a:uFillTx/>
                <a:latin typeface="Times New Roman"/>
              </a:rPr>
              <a:t>练习</a:t>
            </a:r>
            <a:r>
              <a:rPr b="1" i="1" lang="zh-CN" sz="4800" spc="-1" strike="noStrike" u="sng">
                <a:solidFill>
                  <a:srgbClr val="ff00ff"/>
                </a:solidFill>
                <a:uFillTx/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8380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文章主要采用什么描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2133720"/>
            <a:ext cx="5105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97800" y="76500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对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84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孙权与吕蒙对话的主要内容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03640" y="2460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3276720"/>
            <a:ext cx="931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孙权给吕蒙提的读书目标是：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1280" y="3809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涉猎，见往事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4648320"/>
            <a:ext cx="8686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表现孙权对下属吕蒙爱护、器重和希望的一句话是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8534520" y="5791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406520" cy="835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566120" y="4876920"/>
            <a:ext cx="15778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400800" y="53341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卿今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61563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ff"/>
                </a:solidFill>
                <a:uFillTx/>
                <a:latin typeface="Tahoma"/>
              </a:rPr>
              <a:t>涂掌事，不可不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5" dur="3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0" dur="3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09480" y="13096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吴下阿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3644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两个成浯的含义：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3809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用新的眼光来看待。也作“刮目相看”。刮，擦、摩；刮目，擦眼；待，相看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刮目相待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4032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三国时吴国名将吕蒙，特指原来不好读书的吕蒙，后泛指缺少学识的人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掌握下列加点的词语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但当涉猎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见往事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乃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吴下阿蒙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刮目相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418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86400" y="497196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93880" y="2295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63560" y="308772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83920" y="380700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  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46360" y="4527720"/>
            <a:ext cx="153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  ·  ·  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2960" y="531972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  ·  ·  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2360" y="1989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259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16360" y="270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3429000"/>
            <a:ext cx="178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理解下列句子的含义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蒙辞以军中多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孤岂欲卿治经为博士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蒙乃始就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大兄何见事之晚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86064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吕蒙用军中事务多推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4495680"/>
            <a:ext cx="92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我难道想要你研究儒家经典当学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164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吕蒙于是开始去学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581184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长兄认清这件事太晚了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52280" y="2286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“卿今者才略，非复吴下阿蒙！”一句可见鲁肃当时怎样的神情和心理？说明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2209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十分惊奇的神态，吕蒙的变化判若两人，使鲁肃即吃惊，又情不自禁的发出赞叹。这句话从侧面反映吕蒙因“学”而使才略有了令人难以置信的长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43434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大兄何见事之晚乎！”表现了吕蒙当时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791320"/>
            <a:ext cx="838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5562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并非对鲁肃不满，而是表现出吕蒙对自己才略长进后感到很自豪、自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“刮目相待”后，鲁肃有何举动？说明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144792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14479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与吕蒙结友，说明鲁肃对吕蒙的赏识、认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447920" y="3209760"/>
            <a:ext cx="5638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3520" y="12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、孙权是为什么要劝说吕蒙学习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怎样劝说吕蒙学习的？结果怎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00000" y="12193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孙权劝学     当涂掌事，不可不学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                         ——</a:t>
            </a:r>
            <a:r>
              <a:rPr b="1" lang="zh-CN" sz="3600" spc="-1" strike="noStrike">
                <a:solidFill>
                  <a:srgbClr val="9c004e"/>
                </a:solidFill>
                <a:latin typeface="Tahoma"/>
              </a:rPr>
              <a:t>必要性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306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23880" y="22096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但当涉猎，见往事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要求不高</a:t>
            </a:r>
            <a:r>
              <a:rPr b="1" lang="zh-CN" sz="3600" spc="-1" strike="noStrike">
                <a:solidFill>
                  <a:srgbClr val="9c004e"/>
                </a:solidFill>
                <a:latin typeface="Tahoma"/>
              </a:rPr>
              <a:t>可行</a:t>
            </a:r>
            <a:r>
              <a:rPr b="0" lang="zh-CN" sz="36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82284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卿言多务，孰若孤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孤常读书，自以为大有所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            ——</a:t>
            </a:r>
            <a:r>
              <a:rPr b="1" lang="zh-CN" sz="3600" spc="-1" strike="noStrike">
                <a:solidFill>
                  <a:srgbClr val="9c004e"/>
                </a:solidFill>
                <a:latin typeface="Tahoma"/>
              </a:rPr>
              <a:t>以身说法更可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33600" y="5759280"/>
            <a:ext cx="240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结果   蒙乃始就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4760" y="46483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ahoma"/>
              </a:rPr>
              <a:t>语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2880" y="2198520"/>
            <a:ext cx="51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    题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200" y="2209680"/>
            <a:ext cx="8769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孙权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隶书"/>
              </a:rPr>
              <a:t>，字仲谋，三国时吴国的国君。本文写的是孙权劝说吕蒙（三国时吴国的名将）要浏览群书，广泛学习的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800440"/>
            <a:ext cx="822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287800" y="593640"/>
            <a:ext cx="449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、吕蒙读书后发生了怎样的变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通过谁的所见所语来写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0600" y="243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鲁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97760" y="44337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</a:rPr>
              <a:t>卿今者才略，非复吴下阿蒙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22400" y="243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赞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1911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方仲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376360"/>
            <a:ext cx="17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吕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70200" y="21938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当涂掌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乃始就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5120" y="411480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五岁能诗、文理皆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可观、贤于材人远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59640" y="21938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年长乃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学有所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114800"/>
            <a:ext cx="2438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" action="ppaction://hlinksldjump"/>
              </a:rPr>
              <a:t>少年不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2" action="ppaction://hlinksldjump"/>
              </a:rPr>
              <a:t>一事无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3650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006600"/>
                </a:solidFill>
                <a:latin typeface="Tahoma"/>
              </a:rPr>
              <a:t>、与方仲永的变化相比，吕蒙的变化对你有什么样的启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0880" y="3049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孤岂欲卿治经为博士邪？”表达了怎样的心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1828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-----“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邪”表反问语气。可见孙权对吕蒙不听劝告的不悦神情和责备的意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78920" y="3809880"/>
            <a:ext cx="53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卿言多务，孰若孤？孤常读书，自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大有所益。”这样说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5181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现身说法，鼓励吕蒙求学，可谓语重心长，言辞恳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28600" y="6759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90440" y="1523880"/>
            <a:ext cx="8763120" cy="4543560"/>
            <a:chOff x="190440" y="1523880"/>
            <a:chExt cx="8763120" cy="4543560"/>
          </a:xfrm>
        </p:grpSpPr>
        <p:sp>
          <p:nvSpPr>
            <p:cNvPr id="458" name=""/>
            <p:cNvSpPr/>
            <p:nvPr/>
          </p:nvSpPr>
          <p:spPr>
            <a:xfrm>
              <a:off x="5295960" y="4190760"/>
              <a:ext cx="380880" cy="17524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0440" y="1523880"/>
              <a:ext cx="8763120" cy="4543560"/>
              <a:chOff x="190440" y="1523880"/>
              <a:chExt cx="8763120" cy="4543560"/>
            </a:xfrm>
          </p:grpSpPr>
          <p:sp>
            <p:nvSpPr>
              <p:cNvPr id="460" name=""/>
              <p:cNvSpPr/>
              <p:nvPr/>
            </p:nvSpPr>
            <p:spPr>
              <a:xfrm>
                <a:off x="1833480" y="2819160"/>
                <a:ext cx="188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自以为大有所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219640" y="1523880"/>
                <a:ext cx="304920" cy="220968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57600 h 2209680"/>
                  <a:gd name="textAreaBottom" fmla="*/ 2152080 h 22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30640" y="152388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见往事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49600" y="2163600"/>
                <a:ext cx="179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路转溪头忽见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53160" y="2895480"/>
                <a:ext cx="320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大兄何见事之晚乎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0440" y="213336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以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751400" y="1599840"/>
                <a:ext cx="1643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辞以军中多务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52560" y="1599840"/>
                <a:ext cx="152280" cy="167652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40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75520" y="21333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6760" y="464796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181160" y="4190760"/>
                <a:ext cx="152280" cy="167652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40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80000" y="4114440"/>
                <a:ext cx="1643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卿今当涂掌事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15840" y="54860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但当涉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04120" y="45716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乃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88680" y="4144680"/>
                <a:ext cx="14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乃不知有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088680" y="5410080"/>
                <a:ext cx="14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蒙乃始就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289548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、一词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914400"/>
            <a:ext cx="30481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250920" y="26028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延伸拓展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184464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学了这篇文章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文中孙权劝学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吕蒙就学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鲁肃赞学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对你有什么启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508720" y="4478400"/>
            <a:ext cx="23763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179280" y="0"/>
            <a:ext cx="3686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赠言：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492360" y="2205000"/>
            <a:ext cx="34005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读书好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 </a:t>
            </a: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好读书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  </a:t>
            </a: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读好书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9" dur="1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886200" y="15228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295280"/>
            <a:ext cx="4496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、背诵全文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、以今天的课堂发言为例，写一篇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200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字左右的读后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143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孙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99072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字仲谋，自称为春秋时大军事家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孙武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之后，曾与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刘备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联合大破曹军，获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赤壁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之捷。三国时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吴国的创建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295280" y="83059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43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762120"/>
            <a:ext cx="83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孙        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7000" y="4038480"/>
            <a:ext cx="1399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鲁    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52680" y="3809880"/>
            <a:ext cx="1399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吕     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0320" y="152280"/>
            <a:ext cx="506736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吕蒙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国时吴国的名将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604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15228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《资治通鉴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司马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主持编纂的一部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编年体通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记载了从战国到五代共一千三百六十二年的史事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书名“资治”，说明本书编撰的</a:t>
            </a:r>
            <a:r>
              <a:rPr b="1" i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目的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为统治者治国提供历史经验和教训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i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宋神宗认为此书“鉴于往事，有资于治道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9:49:41Z</dcterms:created>
  <dc:creator>legend</dc:creator>
  <dc:description/>
  <dc:language>en-US</dc:language>
  <cp:lastModifiedBy>微软用户</cp:lastModifiedBy>
  <dcterms:modified xsi:type="dcterms:W3CDTF">2010-04-13T00:57:53Z</dcterms:modified>
  <cp:revision>55</cp:revision>
  <dc:subject/>
  <dc:title>PowerPoint 演示文稿</dc:title>
</cp:coreProperties>
</file>