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type.wav" ContentType="audio/x-wav"/>
  <Override PartName="/ppt/media/image14.jpeg" ContentType="image/jpeg"/>
  <Override PartName="/ppt/media/image13.jpeg" ContentType="image/jpeg"/>
  <Override PartName="/ppt/media/image12.jpeg" ContentType="image/jpeg"/>
  <Override PartName="/ppt/media/camera.wav" ContentType="audio/x-wav"/>
  <Override PartName="/ppt/media/image7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chimes.wav" ContentType="audio/x-wav"/>
  <Override PartName="/ppt/media/image6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140F-4B28-4FFA-9B2C-071E4EE52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F3AA-39EF-4BC4-BE42-89ECC30D7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2559-3059-4B0A-9E62-C21868EF1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3D44-5FCE-4E0B-B6CB-DE90343EB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C2AEE-8BDA-44B6-850E-C92676891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7F764-336C-4FDF-95F4-489C2CF21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63595-C5A8-4340-B796-5202A88B9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72EFA-DE69-4033-B20A-1635CAE93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BF266-D9D0-4F3F-BE89-375523125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0799C-D14C-444B-A75C-C12BFF4EE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6439E-F70E-4D60-AEB4-47E9B7FE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A67D-E511-4482-A875-BEF7A9DE0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15B5E-2F34-49E6-9D69-F22CEAE0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833AE-C502-4AF2-A379-A6FB2C16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F6848-19AC-4DCD-A57B-B139E993A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1EE6E-FA2D-4B42-9B50-8A6278BE3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6938D-51F4-4217-9A04-5DB02FEC1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D899-5C50-4A5B-9047-C6B2EC165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027E-7C13-44AC-9D6A-BAEBDA84B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0F4D-CED9-4F9C-AC13-60732E096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9128-5AE3-4220-8011-85FB032F2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51CC-B6FD-4B64-898E-A8E85BB9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BA84-EACD-424F-8B99-4D1EC606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7E18-110D-4444-83D7-D70FAD9A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1C5C6-5279-4F13-B16F-953395339D4E}" type="slidenum"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8C282-06EA-4125-898F-A566CF5AF511}" type="slidenum"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audio" Target="../media/chimes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0" y="4419720"/>
            <a:ext cx="3657600" cy="228600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3657600" y="0"/>
            <a:ext cx="5486400" cy="312408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228600" y="4419720"/>
            <a:ext cx="3276720" cy="21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兴，百姓苦！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亡，百姓苦！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2286000"/>
            <a:ext cx="4572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望西都，意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踌蹰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伤心秦汉经行处，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宫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阙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万间都做了土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52280" y="0"/>
            <a:ext cx="4572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峰峦如聚，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波涛如怒，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山河表里潼关路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3"/>
          <a:stretch/>
        </p:blipFill>
        <p:spPr>
          <a:xfrm>
            <a:off x="3733920" y="3352680"/>
            <a:ext cx="54100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0000"/>
                </a:solidFill>
                <a:uFillTx/>
                <a:latin typeface="Times New Roman"/>
              </a:rPr>
              <a:t>    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Times New Roman"/>
              </a:rPr>
              <a:t>峰峦如聚，波涛如怒，山河表里潼关路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作者从东方走来，纵目四望，看到了潼关的形胜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zh-CN" sz="3200" spc="-1" strike="noStrike" u="sng">
                <a:solidFill>
                  <a:srgbClr val="cc3300"/>
                </a:solidFill>
                <a:uFillTx/>
                <a:latin typeface="Times New Roman"/>
              </a:rPr>
              <a:t>“</a:t>
            </a:r>
            <a:r>
              <a:rPr b="1" lang="zh-CN" sz="3200" spc="-1" strike="noStrike" u="sng">
                <a:solidFill>
                  <a:srgbClr val="cc3300"/>
                </a:solidFill>
                <a:uFillTx/>
                <a:latin typeface="Times New Roman"/>
              </a:rPr>
              <a:t>峰峦如聚”</a:t>
            </a:r>
            <a:r>
              <a:rPr b="1" lang="zh-CN" sz="3200" spc="-1" strike="noStrike" u="sng">
                <a:solidFill>
                  <a:srgbClr val="003366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第一句写山，一个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“聚”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字，不仅写出“峰峦”的众多，而且赋予众多的峰峦以生命和意志，从而表现出它们向潼关聚集的动势。那许多峰峦，仿佛为了同一目的，从不同的方向奔来，拱卫潼关。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3366"/>
                </a:solidFill>
                <a:uFillTx/>
                <a:latin typeface="Times New Roman"/>
              </a:rPr>
              <a:t>  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</a:rPr>
              <a:t>“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</a:rPr>
              <a:t>波涛如怒”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第二句写河，一个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“怒”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字，不仅概括了黄河波翻浪涌、奔腾咆哮的气势，而且赋予它以生命和感情。它为什么发“怒”呢？这就给读者打开了驰骋想象的广阔天地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</a:rPr>
              <a:t>“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</a:rPr>
              <a:t>山河表里潼关路”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总括山、河，归到“潼关”。一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“路”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字，表明诗人此时正行进在“潼关路”上，那“峰峦如聚”、“波涛如怒”、“山河表里”的景象，都是他亲眼看见的，因而都涂上了他的感情色彩。他在“潼关路”上行进，其目的地，就是用潼关作东方屏障的“西都”。因此，在看清了眼前的潼关形胜之后，自然要遥望“西都”了，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“潼关路”三字，既收束上文，又为向“望西都”过渡架好了桥梁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1508040" y="1544760"/>
            <a:ext cx="618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066680" y="1523880"/>
            <a:ext cx="7239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38080" y="22096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3.“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望西都，意踌躇”描写了怎样的情景？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143000" y="1828800"/>
            <a:ext cx="618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974880" y="3352680"/>
            <a:ext cx="816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却是一片荒凉，顿生悲哀伤感之情。 写作者远望长安，往日辉煌的西都，如今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  </a:t>
            </a:r>
            <a:r>
              <a:rPr b="1" lang="zh-CN" sz="2800" spc="-1" strike="noStrike" u="sng">
                <a:solidFill>
                  <a:srgbClr val="cc0000"/>
                </a:solidFill>
                <a:uFillTx/>
                <a:latin typeface="Times New Roman"/>
              </a:rPr>
              <a:t>望西都，意踌躇。伤心秦汉经行处，宫阙万间都做了土。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cc0000"/>
                </a:solidFill>
                <a:uFillTx/>
                <a:latin typeface="Times New Roman"/>
              </a:rPr>
              <a:t>     “</a:t>
            </a:r>
            <a:r>
              <a:rPr b="1" i="1" lang="zh-CN" sz="2800" spc="-1" strike="noStrike" u="sng">
                <a:solidFill>
                  <a:srgbClr val="cc0000"/>
                </a:solidFill>
                <a:uFillTx/>
                <a:latin typeface="Times New Roman"/>
              </a:rPr>
              <a:t>望西都”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潼关内有高山，外有大河，形势险要，为兵家所必争，关系着在关中建都的那些封建王朝的兴亡。因此。当诗人在“潼关路”上“望西都”的时候，自然就想到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历代的兴亡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了。关中，曾经有西周、秦、西汉、前赵、前秦、后秦、西魏、北周、隋、唐等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个王朝在那里建都，历时达千年之久。那些都城，可以统称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“西都”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。当他“望西都”之时，由于想到了那许多王朝的兴亡带给老百姓的苦难，心情很沉重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……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2846520" y="3048120"/>
            <a:ext cx="46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怎样理解“宫阙万间都做了土”？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32080" y="3373560"/>
            <a:ext cx="504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828800" y="4343400"/>
            <a:ext cx="618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这是国家由盛到衰的真实写照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Times New Roman"/>
              </a:rPr>
              <a:t>“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Times New Roman"/>
              </a:rPr>
              <a:t>意踌蹰”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踌蹰，本指犹豫不决，徘徊不前。这里在前面加一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“意”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字，形象地表现了心潮起伏，思想上找不到出路的苦闷。“意踌蹰”一顿，下面所写，就是“意踌蹰”的原因和内容。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Times New Roman"/>
              </a:rPr>
              <a:t>“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Times New Roman"/>
              </a:rPr>
              <a:t>伤心秦汉经行处”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上承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“望西都”，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下启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“宫阙万间都做了土”。所谓“处”，指的正是“西都”。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Times New Roman"/>
              </a:rPr>
              <a:t>“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Times New Roman"/>
              </a:rPr>
              <a:t>宫阙万间都做了土”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点出无限伤感的原因。“ “宫阙万间都作了土”，便是这由盛到衰的过程的真实写照，是何等令人“伤心”啊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!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这一层看起来只是回顾历史，而没有直接提到战争，然而历代改朝换代的战争的惨烈图景读者很容易想象。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2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20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974880" y="116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355760" y="1849320"/>
            <a:ext cx="359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990720" y="32767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为什么说“兴，百姓苦；亡，百姓苦”？请展开讨论。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584360" y="3297240"/>
            <a:ext cx="557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990720" y="457200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代王朝兴起，必大兴土木，建筑宫殿，劳民伤财的是百姓——苦；一代王朝灭亡，首当其冲，深受其害的还是百姓——苦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</a:rPr>
              <a:t>“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</a:rPr>
              <a:t>亡，百姓苦”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王朝灭亡之际战乱频仍，民不聊生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</a:rPr>
              <a:t>“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</a:rPr>
              <a:t>兴”，怎么也“百姓苦”呢？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王朝之“兴”必大兴土木，搜刮民脂民膏，百姓不堪其苦。像秦王朝兴起时，筑长城，开驰道，造官室，劳役繁重，百姓受尽了苦。“兴，百姓苦”一句，发人所未发，深刻而警策。兴则大兴土木，亡则兵祸连结，不论“兴”、“亡”受苦的都是百姓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0000"/>
                </a:solidFill>
                <a:uFillTx/>
                <a:latin typeface="Times New Roman"/>
              </a:rPr>
              <a:t>   “</a:t>
            </a:r>
            <a:r>
              <a:rPr b="1" lang="zh-CN" sz="2800" spc="-1" strike="noStrike" u="sng">
                <a:solidFill>
                  <a:srgbClr val="cc0000"/>
                </a:solidFill>
                <a:uFillTx/>
                <a:latin typeface="Times New Roman"/>
              </a:rPr>
              <a:t>兴，百姓苦；亡，百姓苦！”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诗人从“望西都”所激起的情感波涛中理出了这样的思路，并循着这样的思路，倾吐出惊心动魄的诗句：“兴，百姓苦；亡，百姓苦！ ”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    “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兴，百姓苦；亡，百姓苦。”是全曲之眼，是全曲主题的开拓和深化。正因为最后两句就使得这首曲的境界大大高出同题材的其它作品。这首曲可贵之处在于它有深切的人文关怀，有对老百姓疾苦深切同情与关怀。 </a:t>
            </a:r>
            <a:br>
              <a:rPr sz="2800"/>
            </a:b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诗人一针见血地指出了封建统治阶级与劳动人民的根本对立，敢于为百姓的苦难大声疾呼，这是难能可贵的。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290520" y="620640"/>
            <a:ext cx="860256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Arial"/>
              </a:rPr>
              <a:t>　　继唐朝诗、宋词之后蔚为一文学之盛的元曲有着它独特的魅力：一方面，元曲继承了诗词的清丽婉转；一方面，元代社会使读书人位于“八娼九儒十丐”的地位，政治专权，社会黑暗，因而使元曲放射出极为夺目的战斗的光采，透出反抗的情绪；锋芒直指社会弊端，直斥“不读书最高，不识字最好，不晓事倒有人夸俏”的社会，直指“人皆嫌命窘，谁不见钱亲”的世风。元曲中描写爱情的作品也比历代诗词来得泼辣，大胆。这些均足以使元曲永葆其艺术魅力。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Arial"/>
              </a:rPr>
              <a:t>　　但相形之下，元曲的流传绝不及唐诗宋词之广，这是人们对元曲的体式感到陌生缘故，我们在此对其予以简略介绍。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元曲有杂剧、散曲之分。散曲又有套数，小令带过曲之别</a:t>
            </a:r>
            <a:r>
              <a:rPr b="1" lang="zh-CN" sz="2000" spc="-1" strike="noStrike">
                <a:solidFill>
                  <a:srgbClr val="003366"/>
                </a:solidFill>
                <a:latin typeface="Arial"/>
              </a:rPr>
              <a:t>。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Arial"/>
              </a:rPr>
              <a:t>　　我国古代音乐把调节器式叫保重宫调。曲的宫调出于隋唐燕乐，以琵琶四弦定为宫、商、角、羽四声，每弦上构成七调，宫声的七调叫“宫”，其他的都调，共得二十八宫调。但在元曲中常用的，只有仙吕宫、南吕宫、黄钟宫、正宫、大石调、小石调、般涉调、商调、商角调、双调、越调十二种。每一种宫调均有其音律风格，故对于调子的选择，往往有一定的习惯。如王骥德在《曲律》中说：“用宫调须称事之悲欢苦乐，如游赏则用仙吕、双调等类；哀怨则有商调、越调等类。以调合情，容易感人。”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Arial"/>
              </a:rPr>
              <a:t>　　每一宫调都有不同曲牌。套数则由两支以上周一宫调的不同曲牌联缀而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348000" y="0"/>
            <a:ext cx="2852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元曲简介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归纳总结：这首小令语言精练，形象鲜明且富有人民性，是整个元散曲中的优秀作品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"/>
          <p:cNvGrpSpPr/>
          <p:nvPr/>
        </p:nvGrpSpPr>
        <p:grpSpPr>
          <a:xfrm>
            <a:off x="3581280" y="1523880"/>
            <a:ext cx="5181840" cy="4567320"/>
            <a:chOff x="3581280" y="1523880"/>
            <a:chExt cx="5181840" cy="4567320"/>
          </a:xfrm>
        </p:grpSpPr>
        <p:sp>
          <p:nvSpPr>
            <p:cNvPr id="345" name=""/>
            <p:cNvSpPr/>
            <p:nvPr/>
          </p:nvSpPr>
          <p:spPr>
            <a:xfrm>
              <a:off x="3581280" y="1523880"/>
              <a:ext cx="5181840" cy="456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581280" y="1523880"/>
              <a:ext cx="5181840" cy="456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a5416"/>
                  </a:solidFill>
                  <a:latin typeface="华文中宋"/>
                  <a:ea typeface="华文中宋"/>
                </a:rPr>
                <a:t>小令，以深邃的历史眼光揭示出一条颠扑不破的真理：「</a:t>
              </a:r>
              <a:r>
                <a:rPr b="0" lang="zh-CN" sz="2400" spc="-1" strike="noStrike">
                  <a:solidFill>
                    <a:srgbClr val="ff3300"/>
                  </a:solidFill>
                  <a:latin typeface="华文中宋"/>
                  <a:ea typeface="华文中宋"/>
                </a:rPr>
                <a:t>兴，百姓苦；亡，百姓苦！</a:t>
              </a:r>
              <a:r>
                <a:rPr b="0" lang="zh-CN" sz="2400" spc="-1" strike="noStrike">
                  <a:solidFill>
                    <a:srgbClr val="0a5416"/>
                  </a:solidFill>
                  <a:latin typeface="华文中宋"/>
                  <a:ea typeface="华文中宋"/>
                </a:rPr>
                <a:t>」即不管封建王朝如何更迭，在他们的争城夺地的战争中蒙受灾难的，还是那些无辜的老百姓。它像一支高烧的红烛，照亮了人们的眼睛，使之认识到象征封建政权的宫阙，它的兴建是无数老百姓的白骨垒起来的；它的倒塌也有无数老百姓的白骨做了它的殉葬品。表达了诗人</a:t>
              </a:r>
              <a:r>
                <a:rPr b="0" lang="zh-CN" sz="2400" spc="-1" strike="noStrike">
                  <a:solidFill>
                    <a:srgbClr val="ff3300"/>
                  </a:solidFill>
                  <a:latin typeface="华文中宋"/>
                  <a:ea typeface="华文中宋"/>
                </a:rPr>
                <a:t>对劳动人民深切的同情</a:t>
              </a:r>
              <a:r>
                <a:rPr b="0" lang="zh-CN" sz="2400" spc="-1" strike="noStrike">
                  <a:solidFill>
                    <a:srgbClr val="0a5416"/>
                  </a:solidFill>
                  <a:latin typeface="华文中宋"/>
                  <a:ea typeface="华文中宋"/>
                </a:rPr>
                <a:t>。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4898160" y="68580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20cdc"/>
                </a:solidFill>
                <a:latin typeface="Times New Roman"/>
                <a:ea typeface="华文彩云"/>
              </a:rPr>
              <a:t>内　容　评　析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35640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3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3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1584360" y="2459160"/>
            <a:ext cx="184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作业：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23880" y="3505320"/>
            <a:ext cx="725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完成课后练习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认真准备综合性学习——古诗苑漫步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"/>
          <p:cNvGrpSpPr/>
          <p:nvPr/>
        </p:nvGrpSpPr>
        <p:grpSpPr>
          <a:xfrm>
            <a:off x="3780000" y="476280"/>
            <a:ext cx="4679640" cy="5257440"/>
            <a:chOff x="3780000" y="476280"/>
            <a:chExt cx="4679640" cy="5257440"/>
          </a:xfrm>
        </p:grpSpPr>
        <p:sp>
          <p:nvSpPr>
            <p:cNvPr id="299" name=""/>
            <p:cNvSpPr/>
            <p:nvPr/>
          </p:nvSpPr>
          <p:spPr>
            <a:xfrm>
              <a:off x="3780000" y="476280"/>
              <a:ext cx="4679640" cy="525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780000" y="476280"/>
              <a:ext cx="4679640" cy="525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400"/>
              </a:br>
              <a:r>
                <a:rPr b="1" lang="zh-CN" sz="2400" spc="-1" strike="noStrike">
                  <a:solidFill>
                    <a:srgbClr val="003366"/>
                  </a:solidFill>
                  <a:latin typeface="Times New Roman"/>
                </a:rPr>
                <a:t>张养浩</a:t>
              </a:r>
              <a:r>
                <a:rPr b="1" lang="zh-CN" sz="2400" spc="-1" strike="noStrike">
                  <a:solidFill>
                    <a:srgbClr val="055957"/>
                  </a:solidFill>
                  <a:latin typeface="新宋体"/>
                  <a:ea typeface="新宋体"/>
                </a:rPr>
                <a:t>（</a:t>
              </a:r>
              <a:r>
                <a:rPr b="1" lang="en-US" sz="2400" spc="-1" strike="noStrike">
                  <a:solidFill>
                    <a:srgbClr val="055957"/>
                  </a:solidFill>
                  <a:latin typeface="新宋体"/>
                  <a:ea typeface="新宋体"/>
                </a:rPr>
                <a:t>1270--1329</a:t>
              </a:r>
              <a:r>
                <a:rPr b="1" lang="zh-CN" sz="2400" spc="-1" strike="noStrike">
                  <a:solidFill>
                    <a:srgbClr val="055957"/>
                  </a:solidFill>
                  <a:latin typeface="新宋体"/>
                  <a:ea typeface="新宋体"/>
                </a:rPr>
                <a:t>） </a:t>
              </a:r>
              <a:r>
                <a:rPr b="1" lang="zh-CN" sz="2400" spc="-1" strike="noStrike">
                  <a:solidFill>
                    <a:srgbClr val="ff0000"/>
                  </a:solidFill>
                  <a:latin typeface="新宋体"/>
                  <a:ea typeface="新宋体"/>
                </a:rPr>
                <a:t>元散曲家</a:t>
              </a:r>
              <a:r>
                <a:rPr b="1" lang="zh-CN" sz="2400" spc="-1" strike="noStrike">
                  <a:solidFill>
                    <a:srgbClr val="055957"/>
                  </a:solidFill>
                  <a:latin typeface="新宋体"/>
                  <a:ea typeface="新宋体"/>
                </a:rPr>
                <a:t>。字希孟，</a:t>
              </a:r>
              <a:r>
                <a:rPr b="1" lang="zh-CN" sz="2400" spc="-1" strike="noStrike">
                  <a:solidFill>
                    <a:srgbClr val="ff0000"/>
                  </a:solidFill>
                  <a:latin typeface="新宋体"/>
                  <a:ea typeface="新宋体"/>
                </a:rPr>
                <a:t>号云庄</a:t>
              </a:r>
              <a:r>
                <a:rPr b="1" lang="zh-CN" sz="2400" spc="-1" strike="noStrike">
                  <a:solidFill>
                    <a:srgbClr val="055957"/>
                  </a:solidFill>
                  <a:latin typeface="新宋体"/>
                  <a:ea typeface="新宋体"/>
                </a:rPr>
                <a:t>，济南（今属山东）人。曾 任监察御史，以批评时政为权贵所忌，免官。后复官至礼部尚书，参议中书省事。辞职归隐，屡召不赴。天历二年关中大旱，出任陕西行台中丞，办理赈灾，以</a:t>
              </a:r>
              <a:r>
                <a:rPr b="1" lang="zh-CN" sz="2400" spc="-1" strike="noStrike">
                  <a:solidFill>
                    <a:srgbClr val="9900cc"/>
                  </a:solidFill>
                  <a:latin typeface="新宋体"/>
                  <a:ea typeface="新宋体"/>
                </a:rPr>
                <a:t>积劳病卒</a:t>
              </a:r>
              <a:r>
                <a:rPr b="1" lang="zh-CN" sz="2400" spc="-1" strike="noStrike">
                  <a:solidFill>
                    <a:srgbClr val="055957"/>
                  </a:solidFill>
                  <a:latin typeface="新宋体"/>
                  <a:ea typeface="新宋体"/>
                </a:rPr>
                <a:t>。其散曲多描写</a:t>
              </a:r>
              <a:r>
                <a:rPr b="1" lang="zh-CN" sz="2400" spc="-1" strike="noStrike">
                  <a:solidFill>
                    <a:srgbClr val="cc0099"/>
                  </a:solidFill>
                  <a:latin typeface="新宋体"/>
                  <a:ea typeface="新宋体"/>
                </a:rPr>
                <a:t>弃官后田园隐逸生活</a:t>
              </a:r>
              <a:r>
                <a:rPr b="1" lang="zh-CN" sz="2400" spc="-1" strike="noStrike">
                  <a:solidFill>
                    <a:srgbClr val="055957"/>
                  </a:solidFill>
                  <a:latin typeface="新宋体"/>
                  <a:ea typeface="新宋体"/>
                </a:rPr>
                <a:t>，对</a:t>
              </a:r>
              <a:r>
                <a:rPr b="1" lang="zh-CN" sz="2400" spc="-1" strike="noStrike">
                  <a:solidFill>
                    <a:srgbClr val="ff0000"/>
                  </a:solidFill>
                  <a:latin typeface="新宋体"/>
                  <a:ea typeface="新宋体"/>
                </a:rPr>
                <a:t>官场黑暗时流露不满</a:t>
              </a:r>
              <a:r>
                <a:rPr b="1" lang="zh-CN" sz="2400" spc="-1" strike="noStrike">
                  <a:solidFill>
                    <a:srgbClr val="055957"/>
                  </a:solidFill>
                  <a:latin typeface="新宋体"/>
                  <a:ea typeface="新宋体"/>
                </a:rPr>
                <a:t>。又能诗，有</a:t>
              </a:r>
              <a:r>
                <a:rPr b="1" lang="en-US" sz="2400" spc="-1" strike="noStrike">
                  <a:solidFill>
                    <a:srgbClr val="055957"/>
                  </a:solidFill>
                  <a:latin typeface="新宋体"/>
                  <a:ea typeface="新宋体"/>
                </a:rPr>
                <a:t>《</a:t>
              </a:r>
              <a:r>
                <a:rPr b="1" lang="zh-CN" sz="2400" spc="-1" strike="noStrike">
                  <a:solidFill>
                    <a:srgbClr val="055957"/>
                  </a:solidFill>
                  <a:latin typeface="新宋体"/>
                  <a:ea typeface="新宋体"/>
                </a:rPr>
                <a:t>云庄休居自适小乐府</a:t>
              </a:r>
              <a:r>
                <a:rPr b="1" lang="en-US" sz="2400" spc="-1" strike="noStrike">
                  <a:solidFill>
                    <a:srgbClr val="055957"/>
                  </a:solidFill>
                  <a:latin typeface="新宋体"/>
                  <a:ea typeface="新宋体"/>
                </a:rPr>
                <a:t>》</a:t>
              </a:r>
              <a:r>
                <a:rPr b="1" lang="zh-CN" sz="2400" spc="-1" strike="noStrike">
                  <a:solidFill>
                    <a:srgbClr val="055957"/>
                  </a:solidFill>
                  <a:latin typeface="新宋体"/>
                  <a:ea typeface="新宋体"/>
                </a:rPr>
                <a:t>、</a:t>
              </a:r>
              <a:r>
                <a:rPr b="1" lang="en-US" sz="2400" spc="-1" strike="noStrike">
                  <a:solidFill>
                    <a:srgbClr val="055957"/>
                  </a:solidFill>
                  <a:latin typeface="新宋体"/>
                  <a:ea typeface="新宋体"/>
                </a:rPr>
                <a:t>《</a:t>
              </a:r>
              <a:r>
                <a:rPr b="1" lang="zh-CN" sz="2400" spc="-1" strike="noStrike">
                  <a:solidFill>
                    <a:srgbClr val="055957"/>
                  </a:solidFill>
                  <a:latin typeface="新宋体"/>
                  <a:ea typeface="新宋体"/>
                </a:rPr>
                <a:t>云庄类稿</a:t>
              </a:r>
              <a:r>
                <a:rPr b="1" lang="en-US" sz="2400" spc="-1" strike="noStrike">
                  <a:solidFill>
                    <a:srgbClr val="055957"/>
                  </a:solidFill>
                  <a:latin typeface="新宋体"/>
                  <a:ea typeface="新宋体"/>
                </a:rPr>
                <a:t>》</a:t>
              </a:r>
              <a:r>
                <a:rPr b="1" lang="zh-CN" sz="2400" spc="-1" strike="noStrike">
                  <a:solidFill>
                    <a:srgbClr val="055957"/>
                  </a:solidFill>
                  <a:latin typeface="新宋体"/>
                  <a:ea typeface="新宋体"/>
                </a:rPr>
                <a:t>。他的作品题材广泛，</a:t>
              </a:r>
              <a:r>
                <a:rPr b="1" lang="zh-CN" sz="2400" spc="-1" strike="noStrike">
                  <a:solidFill>
                    <a:srgbClr val="ff0000"/>
                  </a:solidFill>
                  <a:latin typeface="新宋体"/>
                  <a:ea typeface="新宋体"/>
                </a:rPr>
                <a:t>风格清逸而豪放。 </a:t>
              </a:r>
              <a:br>
                <a:rPr sz="2400"/>
              </a:b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293364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这首小令是作者路过潼关时写的。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元史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·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张养浩传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说：“天历二年，关中大旱，饥民相食，特拜（张养浩）为陕西行台中丞。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……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登车就道，遇饥者则赈之，死者则葬之。”并说他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“到官四月，忧劳以死”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。就他的作品和有关史料看，他对元朝的黑暗统治深感不满，对人民的疾苦相当关心。他在“关中大旱，饥民相食”之时写的这首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山坡羊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，尽管题为“怀古”，实际上重在“伤今”，其揭露、批判的锋芒，既指向历史上历朝累代的统治者，更指向当时的元朝统治者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潼关怀古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中对历史的概括，显指元代现实生活：怀古实乃伤今，沉重实乃责任。这种复杂的感情要结合作家的生平经历才能理解。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张养浩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自幼才学过人，因评时政，得罪当权者被罢官，为避祸不得不隐姓埋名；后被召起，官至礼部尚书。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50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岁时辞官归隐于济南云庄，关中旱灾时被重新任命，赶赴陕西救赈灾民。多年的宦海沉浮，让他把功名富贵都参破，不再在意统治者对自己的评判；济南云庄的归隐生活，不仅让他欣赏礼赞自然的风光，更让他体察民生只艰辛；尊奉孟子民本之思想，让他深深懂得民生之重要；刚正不阿、仗义执言的性格，让他有勇气面对现实说出心中真实的想法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元代百姓生活之苦被作家以怀古的形式表现出来。这种忧民之心使他“到官四月，倾囊以赈灾民，每抚膺痛哭，遂得病不起。”这是一个有良知的读书人真实的本性和真实的生活，也是当时社会所难得一见的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1371600" y="1371600"/>
            <a:ext cx="723888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6600ff"/>
                </a:solidFill>
                <a:latin typeface="Times New Roman"/>
              </a:rPr>
              <a:t>山坡羊   潼关怀古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                        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                         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张养浩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峰峦如聚，波涛如怒，山河表里潼关路。望西都，意踌躇。伤心秦汉经行处，宫阙万间都做了土。兴，百姓苦；亡，百姓苦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1508040" y="1544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46280" y="1087560"/>
            <a:ext cx="710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给这首曲划分层次，概括大意。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98560" y="2230560"/>
            <a:ext cx="6416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98560" y="2154240"/>
            <a:ext cx="70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第一层，前三句，写潼关的雄伟气势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974880" y="3068640"/>
            <a:ext cx="740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第二层，中间四句，写作者途径潼关时的所见所感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893760" y="4292640"/>
            <a:ext cx="57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第三层，后两句，总写作者的感慨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1219320" y="236232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.“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如聚”“如怒”描写了怎样的形象？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617840" y="3581280"/>
            <a:ext cx="75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如聚”形容潼关在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重重山峦的包围之中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47920" y="48006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如怒”形容黄河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之水汹涌澎湃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eplm</cp:lastModifiedBy>
  <dcterms:modified xsi:type="dcterms:W3CDTF">2014-03-03T13:02:03Z</dcterms:modified>
  <cp:revision>34</cp:revision>
  <dc:subject/>
  <dc:title>PowerPoint Presentation</dc:title>
</cp:coreProperties>
</file>