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image10.jpeg" ContentType="image/jpeg"/>
  <Override PartName="/ppt/media/image8.jpeg" ContentType="image/jpeg"/>
  <Override PartName="/ppt/media/image5.png" ContentType="image/png"/>
  <Override PartName="/ppt/media/camera.wav" ContentType="audio/x-wav"/>
  <Override PartName="/ppt/media/image7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3.jpeg" ContentType="image/jpeg"/>
  <Override PartName="/ppt/media/image12.jpeg" ContentType="image/jpeg"/>
  <Override PartName="/ppt/media/image1.jpeg" ContentType="image/jpeg"/>
  <Override PartName="/ppt/media/image9.jpeg" ContentType="image/jpeg"/>
  <Override PartName="/ppt/media/image11.jpeg" ContentType="image/jpeg"/>
  <Override PartName="/ppt/media/chimes.wav" ContentType="audio/x-wav"/>
  <Override PartName="/ppt/media/image6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356-A2B5-4C52-814B-7FB4C12E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6867-82AA-41E7-B5CE-B5220CA5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2FF-0714-4C17-BFAC-F686837C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75E-FDB7-414D-A1FF-4C357A09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EBC-33D2-436E-BCAE-16B75D78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EA4-B5AF-46AC-AA63-9344EDE5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EED8-56A0-4F05-886C-53E870E2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29E-65FE-48DA-83D0-B618B5A5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7E43-2169-493A-BD10-6004E140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F9BC-0BA7-4D94-92A2-1B26A62E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C85-3C51-4223-9063-5E238DF3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B2E0-7727-4962-9B76-49FB6DB2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12BE-CD61-4A79-ABAE-60CD68D1B8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file:///tmp/home/.config/libreoffice/4/user/gallery/camera.wav" TargetMode="External"/><Relationship Id="rId4" Type="http://schemas.microsoft.com/office/2007/relationships/media" Target="file:///tmp/home/.config/libreoffice/4/user/gallery/camera.wav" TargetMode="External"/><Relationship Id="rId5" Type="http://schemas.openxmlformats.org/officeDocument/2006/relationships/image" Target="../media/image3.png"/><Relationship Id="rId6" Type="http://schemas.openxmlformats.org/officeDocument/2006/relationships/audio" Target="file:///tmp/home/.config/libreoffice/4/user/gallery/type.wav" TargetMode="External"/><Relationship Id="rId7" Type="http://schemas.microsoft.com/office/2007/relationships/media" Target="file:///tmp/home/.config/libreoffice/4/user/gallery/type.wav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baike.baidu.com/view/2764942.htm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淡雅ppt背景（扒土梦幻馆搜集） (21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-379440"/>
            <a:ext cx="5184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ff"/>
                </a:solidFill>
                <a:latin typeface="Arial"/>
              </a:rPr>
              <a:t>杜集中心学校小组自主六环节导学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-249120" y="-168120"/>
            <a:ext cx="1030320" cy="930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2280" y="873000"/>
            <a:ext cx="32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温馨提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00080" y="1533600"/>
            <a:ext cx="76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、课前，你准备好了本节课所用的课本、资料书及学习用具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、快要上课了，你将心情平静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、要上课了，请你带着你的自信和微笑走进我们的课堂，和老师一起享受语文吧，相信你会是最棒的，语文课会因你而精彩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2280" y="3860640"/>
            <a:ext cx="6978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教师寄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播种行为，收获习惯；播种习惯，收获性格；播种性格，收获人生。精彩人生，从点滴做起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04360" y="6453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028000" y="64263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00360" y="57340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设计者：杜集中心学校  任文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0782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  <p:seq>
              <p:cTn id="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13818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8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7120" y="504360"/>
            <a:ext cx="779148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d20cdc"/>
                </a:solidFill>
                <a:latin typeface="Franklin Gothic Medium"/>
                <a:ea typeface="华文行楷"/>
              </a:rPr>
              <a:t>作者小传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5168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55957"/>
                </a:solidFill>
                <a:latin typeface="Arial"/>
              </a:rPr>
              <a:t>          </a:t>
            </a:r>
            <a:r>
              <a:rPr b="1" lang="zh-CN" sz="3000" spc="-1" strike="noStrike">
                <a:solidFill>
                  <a:srgbClr val="055957"/>
                </a:solidFill>
                <a:latin typeface="Arial"/>
              </a:rPr>
              <a:t>张养浩（</a:t>
            </a:r>
            <a:r>
              <a:rPr b="1" lang="zh-CN" sz="3000" spc="-1" strike="noStrike">
                <a:solidFill>
                  <a:srgbClr val="055957"/>
                </a:solidFill>
                <a:latin typeface="Arial"/>
              </a:rPr>
              <a:t>1270--1329</a:t>
            </a:r>
            <a:r>
              <a:rPr b="1" lang="zh-CN" sz="3000" spc="-1" strike="noStrike">
                <a:solidFill>
                  <a:srgbClr val="055957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55957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元散曲家</a:t>
            </a:r>
            <a:r>
              <a:rPr b="1" lang="zh-CN" sz="3200" spc="-1" strike="noStrike">
                <a:solidFill>
                  <a:srgbClr val="055957"/>
                </a:solidFill>
                <a:latin typeface="Arial"/>
              </a:rPr>
              <a:t>。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希孟</a:t>
            </a:r>
            <a:r>
              <a:rPr b="1" lang="zh-CN" sz="3200" spc="-1" strike="noStrike">
                <a:solidFill>
                  <a:srgbClr val="055957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云庄</a:t>
            </a:r>
            <a:r>
              <a:rPr b="1" lang="zh-CN" sz="3200" spc="-1" strike="noStrike">
                <a:solidFill>
                  <a:srgbClr val="055957"/>
                </a:solidFill>
                <a:latin typeface="Arial"/>
              </a:rPr>
              <a:t>，济南（今属山东）人。曾 任监察御史，以批评时政为权贵所忌，免官。后复官至礼部尚书，参议中书省事。辞职归隐，屡召不赴。天历二年关中大旱，出任陕西行台中丞，办理赈灾，以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积劳病卒</a:t>
            </a:r>
            <a:r>
              <a:rPr b="1" lang="zh-CN" sz="3200" spc="-1" strike="noStrike">
                <a:solidFill>
                  <a:srgbClr val="055957"/>
                </a:solidFill>
                <a:latin typeface="Arial"/>
              </a:rPr>
              <a:t>。其散曲多描写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弃官后田园隐逸生活</a:t>
            </a:r>
            <a:r>
              <a:rPr b="1" lang="zh-CN" sz="3200" spc="-1" strike="noStrike">
                <a:solidFill>
                  <a:srgbClr val="055957"/>
                </a:solidFill>
                <a:latin typeface="Arial"/>
              </a:rPr>
              <a:t>，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官场黑暗时流露不满</a:t>
            </a:r>
            <a:r>
              <a:rPr b="1" lang="zh-CN" sz="3200" spc="-1" strike="noStrike">
                <a:solidFill>
                  <a:srgbClr val="055957"/>
                </a:solidFill>
                <a:latin typeface="Arial"/>
              </a:rPr>
              <a:t>。又能诗，有《云庄休居自适小乐府》、《云庄类稿》。他的作品题材广泛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风格清逸而豪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1440000" cy="990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6920" y="0"/>
            <a:ext cx="468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杜集中心学校小组自主六环节导学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写作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57243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当时关中大旱，饥民相食，灾情十分严峻。经历过宦海浮沉的张养浩本已厌倦官场生活，弃官归养；但得知关中百姓外境危困，毅然受命，出任陕西行台中丞，振济灾民，因此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途经潼关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后因积劳成疾，客死任所。张养浩对百姓充满深切的同情，有着强烈的忧患意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该姓" descr=""/>
          <p:cNvPicPr/>
          <p:nvPr/>
        </p:nvPicPr>
        <p:blipFill>
          <a:blip r:embed="rId2"/>
          <a:stretch/>
        </p:blipFill>
        <p:spPr>
          <a:xfrm>
            <a:off x="5580000" y="1773360"/>
            <a:ext cx="3564000" cy="5084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-252360" y="-171360"/>
            <a:ext cx="1584360" cy="1090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4360" y="-171360"/>
            <a:ext cx="532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杜集中心学校小组自主六环节导学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55640" y="-171360"/>
            <a:ext cx="568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杜集中心学校小组自主六环节导学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1440000" cy="990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24360" y="549360"/>
            <a:ext cx="5219640" cy="3095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924360" y="3645000"/>
            <a:ext cx="5219640" cy="3213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4000" y="1052640"/>
            <a:ext cx="33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765000"/>
            <a:ext cx="3744720" cy="9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峰峦如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波涛如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河表里潼关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望西都，意踌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伤心秦汉经行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宫阙万间都做了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兴，百姓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亡，百姓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8244000" y="6121440"/>
            <a:ext cx="7365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0718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疏通文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05672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组内交流自主探究中不理解的字、词、句，仍然解决不了提交班上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1440000" cy="990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55640" y="0"/>
            <a:ext cx="568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杜集中心学校小组自主六环节导学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08040" y="15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2205000"/>
            <a:ext cx="71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给这首曲划分层次，概括大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692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</a:rPr>
              <a:t>精彩展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3141720"/>
            <a:ext cx="70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层，前三句，写潼关的雄伟气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3933720"/>
            <a:ext cx="74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层，中间四句，写作者途经潼关时的所见所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38120" y="522936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层，后两句，总写作者的感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252360" y="0"/>
            <a:ext cx="1439640" cy="990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0"/>
            <a:ext cx="568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杜集中心学校小组自主六环节导学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70836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24360" y="2205000"/>
            <a:ext cx="52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聚”“如怒”描写了怎样的形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51280" y="378936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聚”形容潼关在重重山峦的包围之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2360" y="530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怒”形容黄河之水汹涌澎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3708360" cy="2737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03280" y="692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</a:rPr>
              <a:t>精彩展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0"/>
            <a:ext cx="568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杜集中心学校小组自主六环节导学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-252360" y="0"/>
            <a:ext cx="14396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4140360" cy="5084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08040" y="15447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52388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2276640"/>
            <a:ext cx="50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望西都，意踌躇”描写了怎样的情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67280" y="4149720"/>
            <a:ext cx="50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作者远望长安，往日辉煌的西都，如今却是一片荒凉，顿生悲哀伤感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03280" y="83664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</a:rPr>
              <a:t>精彩展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-181080" y="0"/>
            <a:ext cx="1440000" cy="99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55640" y="0"/>
            <a:ext cx="568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杜集中心学校小组自主六环节导学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7488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55760" y="1849320"/>
            <a:ext cx="359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1916280"/>
            <a:ext cx="48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什么说“兴，      百姓苦；亡，百姓苦”？请展开讨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836640"/>
            <a:ext cx="557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精彩展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3716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代王朝兴起，必卷土重来，建筑宫殿，劳民伤财的是百姓——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0505160920471" descr=""/>
          <p:cNvPicPr/>
          <p:nvPr/>
        </p:nvPicPr>
        <p:blipFill>
          <a:blip r:embed="rId1"/>
          <a:stretch/>
        </p:blipFill>
        <p:spPr>
          <a:xfrm>
            <a:off x="5076720" y="4437000"/>
            <a:ext cx="4067280" cy="2592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-181080" y="0"/>
            <a:ext cx="1440000" cy="990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1280" y="0"/>
            <a:ext cx="568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杜集中心学校小组自主六环节导学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51577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代王朝灭亡，首当其冲，深受其害的还是百姓——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111640" y="1773360"/>
            <a:ext cx="403236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3564000" y="1268280"/>
            <a:ext cx="5181480" cy="4998960"/>
            <a:chOff x="3564000" y="1268280"/>
            <a:chExt cx="5181480" cy="4998960"/>
          </a:xfrm>
        </p:grpSpPr>
        <p:sp>
          <p:nvSpPr>
            <p:cNvPr id="151" name=""/>
            <p:cNvSpPr/>
            <p:nvPr/>
          </p:nvSpPr>
          <p:spPr>
            <a:xfrm>
              <a:off x="3564000" y="1268280"/>
              <a:ext cx="5181480" cy="499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64000" y="1268280"/>
              <a:ext cx="5181480" cy="499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a5416"/>
                  </a:solidFill>
                  <a:latin typeface="华文中宋"/>
                  <a:ea typeface="华文中宋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小令，以深邃的历史眼光揭示出一条颠扑不破的真理：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「兴，百姓苦；亡，百姓苦！」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即不管封建王朝如何更迭，在他们的争城夺地的战争中蒙受灾难的，还是那些无辜的老百姓。它像一支高烧的红烛，照亮了人们的眼睛，使之认识到象征封建政权的宫阙，它的兴建是无数老百姓的白骨垒起来的；它的倒塌也有无数老百姓的白骨做了它的殉葬品。表达了诗人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对劳动人民深切的同情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3564000" cy="5084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42920" y="69228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点拨归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115920"/>
            <a:ext cx="1440000" cy="990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55640" y="0"/>
            <a:ext cx="568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杜集中心学校小组自主六环节导学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轻松演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8640" y="1844280"/>
            <a:ext cx="8955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请用原文语句回答问题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这首散曲的主旨句是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抒写作者心情的句子是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曲中从视觉和听觉两个方面写潼关雄伟气势的句子是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怎样理解“宫阙万间都做了土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《山坡羊  潼关怀古》中“兴，百姓苦；亡，百姓苦”一句写出了作者怎样的情感？怎样理解这句话的意义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115920"/>
            <a:ext cx="1440000" cy="990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55640" y="0"/>
            <a:ext cx="568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杜集中心学校小组自主六环节导学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2349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兴，百姓苦；亡，百姓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48360" y="2781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望西都，意踌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357336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峰峦如聚，波涛如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4653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这是国家由盛到衰的真实写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潼关１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92360" y="2349360"/>
            <a:ext cx="547344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山坡羊  潼关怀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张养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1440000" cy="1297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55640" y="0"/>
            <a:ext cx="518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ff"/>
                </a:solidFill>
                <a:latin typeface="Arial"/>
              </a:rPr>
              <a:t>杜集中心学校小组自主六环节导学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67694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句话表现了作者忧虑国计民生的思想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3068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王朝灭亡之际战乱频繁，民不聊生。王朝之“兴”，必大兴土木，搜刮民脂民膏，百姓不堪其苦。兴则大兴土木，亡则兵祸连连，不论“兴”、“亡”，受苦的都是百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115920"/>
            <a:ext cx="1440000" cy="990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68360" y="0"/>
            <a:ext cx="6481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ff"/>
                </a:solidFill>
                <a:latin typeface="Arial"/>
              </a:rPr>
              <a:t>杜集中心学校小组自主六环节导学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谈谈自己的收获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115920"/>
            <a:ext cx="1440000" cy="990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26920" y="0"/>
            <a:ext cx="640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杜集中心学校小组自主六环节导学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55640" y="162864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下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2565360"/>
            <a:ext cx="725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成课后练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背诵默写此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下完成相关资料的练习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115920"/>
            <a:ext cx="1440000" cy="990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39640" y="0"/>
            <a:ext cx="640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ff"/>
                </a:solidFill>
                <a:latin typeface="Arial"/>
              </a:rPr>
              <a:t>杜集中心学校小组自主六环节导学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332000" y="1989000"/>
            <a:ext cx="6264360" cy="25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休息一下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064360" y="577836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332800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647280"/>
            <a:ext cx="796284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了解元曲这种文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熟读并背诵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理解课文内容，体会作者的思想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252360" y="0"/>
            <a:ext cx="1439640" cy="990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55640" y="-171360"/>
            <a:ext cx="568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杜集中心学校小组自主六环节导学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360" y="476280"/>
            <a:ext cx="518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ff"/>
                </a:solidFill>
                <a:latin typeface="Arial"/>
              </a:rPr>
              <a:t>杜集中心学校小组自主六环节导学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177840" y="404640"/>
            <a:ext cx="1030320" cy="93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38120" y="1271520"/>
            <a:ext cx="8526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快乐自学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（充分的自学是成功的前提，相信聪明的你会做的很好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查阅资料了解作者生平及写作背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朗读诗歌，做到字正腔圆，停顿正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快乐自学</a:t>
            </a: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6000" y="17730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学指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查阅资料，了解元曲有关的文学常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了解作者，用笔圈画出你认为重要的信息，并快速识记；查阅有关资料，了解本文的写作背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自读课文，并努力读通顺，力争做到停顿恰当、声音洪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结合课下注释及工具书疏通文意，把不理解的字、词、句圈画出来，小组内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115920"/>
            <a:ext cx="1440000" cy="99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5640" y="0"/>
            <a:ext cx="568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杜集中心学校小组自主六环节导学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朗读指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109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速度适中（一般稍慢），边读边体味，使作品中的形象在脑中浮现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</a:t>
            </a:r>
            <a:r>
              <a:rPr b="0" lang="zh-CN" sz="45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要有节奏，韵脚读出延长音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</a:t>
            </a:r>
            <a:r>
              <a:rPr b="0" lang="zh-CN" sz="45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恰当停顿、注意重音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1584360" cy="1090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0"/>
            <a:ext cx="532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杜集中心学校小组自主六环节导学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79614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学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893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《山坡羊  潼关怀古》选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作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给黑体字注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）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宫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阙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）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踌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）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252360" y="0"/>
            <a:ext cx="1439640" cy="990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0"/>
            <a:ext cx="568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杜集中心学校小组自主六环节导学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20606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《全元散曲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2492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张养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3640" y="249228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希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2492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云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88000" y="256536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04000" y="2565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散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84360" y="3716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u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48360" y="3716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4292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qu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8360" y="4292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hó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4292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40360" y="5445000"/>
            <a:ext cx="271476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试牛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0" y="476280"/>
            <a:ext cx="518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cc"/>
                </a:solidFill>
                <a:latin typeface="Arial"/>
              </a:rPr>
              <a:t>杜集中心学校小组自主六环节导学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177840" y="404640"/>
            <a:ext cx="103032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38120" y="1271520"/>
            <a:ext cx="852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239840"/>
            <a:ext cx="83516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精彩展示：</a:t>
            </a:r>
            <a:r>
              <a:rPr b="0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（我的风采秀出来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选择你喜欢的方式展示你的预习成果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常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元曲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写作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诗歌朗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156360" y="5086440"/>
            <a:ext cx="27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大显身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3603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28078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981000"/>
            <a:ext cx="86025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曲是盛行于元代的一种文艺形式，包括杂剧和散曲，有时专指杂剧。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杂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宋代以滑稽调笑为特点的一种表演形式。元代发展成戏曲形式，每本一四折为主，有时在开头或折间另加楔子。每折用同宫调同韵的北曲套曲和宾白（宾白为古代戏曲剧本中的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说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中国戏曲艺术以唱为主，所以把说白叫做宾白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组成。如关汉卿的《窦娥冤》等。流行于大都（今北京）一带。明清两代也有杂剧，但每本不限四折。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散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盛行于元、明、清三代的没有宾白的曲子形式。内容以抒情为主，有小令和散套两种。散套由若干曲子组成，小令以一支曲子独立单位。小令以一支为限，如果两三支合为一个单位，叫做带过曲。《天净沙》《山坡羊》都是标有题目的小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419640" y="476280"/>
            <a:ext cx="2852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元曲简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-252360" y="-171360"/>
            <a:ext cx="1439640" cy="990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4360" y="-243000"/>
            <a:ext cx="467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杜集中心学校小组自主六环节导学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0:23:44Z</dcterms:created>
  <dc:creator>纪秀梅</dc:creator>
  <dc:description/>
  <dc:language>en-US</dc:language>
  <cp:lastModifiedBy>zmj</cp:lastModifiedBy>
  <dcterms:modified xsi:type="dcterms:W3CDTF">2013-05-02T06:37:16Z</dcterms:modified>
  <cp:revision>12</cp:revision>
  <dc:subject/>
  <dc:title>幻灯片 1</dc:title>
</cp:coreProperties>
</file>