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0" y="1009800"/>
            <a:ext cx="9144000" cy="34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084720" y="6237360"/>
            <a:ext cx="476280" cy="4096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6659640" y="6237360"/>
            <a:ext cx="1368360" cy="36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"/>
          <p:cNvPicPr/>
          <p:nvPr/>
        </p:nvPicPr>
        <p:blipFill>
          <a:blip r:embed="rId3"/>
          <a:stretch/>
        </p:blipFill>
        <p:spPr>
          <a:xfrm>
            <a:off x="0" y="1009800"/>
            <a:ext cx="9144000" cy="34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256,2,&#24187;&#28783;&#29255; 2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file:///tmp/home/.config/libreoffice/4/user/gallery/type.wav" TargetMode="External"/><Relationship Id="rId6" Type="http://schemas.microsoft.com/office/2007/relationships/media" Target="file:///tmp/home/.config/libreoffice/4/user/gallery/type.wav" TargetMode="Externa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6560" y="-2088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6560" y="6922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仿宋_GB2312"/>
              </a:rPr>
              <a:t>唐诗——宋词——元曲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仿宋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仿宋_GB2312"/>
              </a:rPr>
              <a:t>曲大致分为两种：一种是戏曲，另一种是散曲。散曲没有动作、说白，便于清唱，包括套曲和小令。套曲由若干曲子组成，小令以一支曲子为独立单位。小令以一支为限，如果两三支合为一个单位，叫做带过曲。《山坡羊》是小令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1440" y="148608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伤心秦汉经行处，宫阙万间都做了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点出无限伤感的原因。“宫阙万间都作了土”，由盛到衰是何等令人“伤心”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历代改朝换代的战争的惨烈图景读者很容易想象。秦汉的一宫一阙都凝聚了天下无数百姓的血和汗，王朝的兴替固然令人伤感，但作者最伤心的却是百姓之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0" t="0" r="32344" b="0"/>
          <a:stretch/>
        </p:blipFill>
        <p:spPr>
          <a:xfrm>
            <a:off x="5715000" y="457200"/>
            <a:ext cx="3429000" cy="6248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107240" y="380880"/>
            <a:ext cx="15634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兴，　百姓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亡，　百姓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rcRect l="0" t="0" r="25202" b="0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8720" y="11970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兴，百姓苦，亡，百姓苦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 写作者沉痛的感慨：历史上无论哪一个朝代，它们兴盛也罢，败亡也罢，老百姓总是遭殃受苦。（一个朝代兴起了，必定大兴土木，修建豪华的宫殿，从而给人民带来巨大的灾难；一个朝代灭亡了，在战争中遭殃的也是人民。他指出历代王朝的或兴或亡，带给百姓的都是灾祸和苦难。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宋体"/>
              </a:rPr>
              <a:t>表达了诗人对劳动人民深切的同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511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隶书"/>
              </a:rPr>
              <a:t>山坡羊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隶书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隶书"/>
              </a:rPr>
              <a:t>潼关怀古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42920" y="2060280"/>
            <a:ext cx="208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张养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780000" y="476280"/>
            <a:ext cx="4679640" cy="5257440"/>
            <a:chOff x="3780000" y="476280"/>
            <a:chExt cx="4679640" cy="5257440"/>
          </a:xfrm>
        </p:grpSpPr>
        <p:sp>
          <p:nvSpPr>
            <p:cNvPr id="87" name=""/>
            <p:cNvSpPr/>
            <p:nvPr/>
          </p:nvSpPr>
          <p:spPr>
            <a:xfrm>
              <a:off x="3780000" y="476280"/>
              <a:ext cx="4679640" cy="52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80000" y="476280"/>
              <a:ext cx="4679640" cy="52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张养浩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（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1270--1329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） 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元散曲家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字希孟，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号云庄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，济南（今属山东）人。曾 任监察御史，以批评时政为权贵所忌，免官。后复官至礼部尚书，参议中书省事。辞职归隐，屡召不赴。天历二年关中大旱，出任陕西行台中丞，办理赈灾，以</a:t>
              </a:r>
              <a:r>
                <a:rPr b="1" lang="zh-CN" sz="2400" spc="-1" strike="noStrike">
                  <a:solidFill>
                    <a:srgbClr val="9900cc"/>
                  </a:solidFill>
                  <a:latin typeface="新宋体"/>
                  <a:ea typeface="新宋体"/>
                </a:rPr>
                <a:t>积劳病卒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其散曲多描写</a:t>
              </a:r>
              <a:r>
                <a:rPr b="1" lang="zh-CN" sz="2400" spc="-1" strike="noStrike">
                  <a:solidFill>
                    <a:srgbClr val="cc0099"/>
                  </a:solidFill>
                  <a:latin typeface="新宋体"/>
                  <a:ea typeface="新宋体"/>
                </a:rPr>
                <a:t>弃官后田园隐逸生活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，对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官场黑暗时流露不满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又能诗，有《云庄休居自适小乐府》、《云庄类稿》。他的作品题材广泛，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风格清逸而豪放。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933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9689" t="0" r="0" b="0"/>
          <a:stretch/>
        </p:blipFill>
        <p:spPr>
          <a:xfrm>
            <a:off x="4600440" y="85680"/>
            <a:ext cx="4543560" cy="6620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52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幼圆"/>
              </a:rPr>
              <a:t>当时关中大旱，饥民相食，灾情十分严峻。经历过宦海浮沉的张养浩本已厌倦官场生活，弃官归养；但得知关中百姓外境危困，毅然受命，出任陕西行台中丞，振济灾民，因此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  <a:hlinkClick r:id="rId3"/>
              </a:rPr>
              <a:t>途经潼关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幼圆"/>
              </a:rPr>
              <a:t>。后因积劳成疾，客死任所。张养浩对百姓充满深切的同情，有着强烈的忧患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 rot="10800000">
            <a:off x="8528040" y="6302160"/>
            <a:ext cx="6159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548640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4419720"/>
            <a:ext cx="32767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兴，百姓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亡，百姓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6000"/>
            <a:ext cx="45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望西都，意踌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伤心秦汉经行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宫阙万间都做了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峰峦如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波涛如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山河表里潼关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733920" y="3200400"/>
            <a:ext cx="5410080" cy="3505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0718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第一层：写潼关雄伟险要的形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峰峦如聚：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形容重岩叠嶂，群山密集，绵亘不断，潼关在重重山峦包围之中，一“聚”字让读者眼前呈现出华山飞奔而来之势、因地势险要，为古来兵家必争之地。山本是静止的，“如聚”化静为动，一个“聚”字表现了峰峦的众多和动感峰峦如聚：形容重岩叠嶂，群山密集，绵亘不断。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96720" y="83664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波涛如怒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写怒涛汹涌的黄河，潼关外黄河之水奔腾澎湃，一“怒”字让读者耳边回响千古不绝的滔滔水声。黄河水是无生命的，而“如怒”则赋予河水以人的情感和意志，一个“怒”字，写出了波涛的汹涌澎湃。“怒”字还把河水人格化，“怒”字注入了诗人吊古伤今而产生的满腔悲愤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341360"/>
            <a:ext cx="72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山河表里潼关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言潼关外有黄河，内有华山，形势十分险要。如此险要之地，暗示潼关的险峻，乃为历代兵家必争之地，也由此引发了下文的感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5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望西都，意踌躇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点出作者遥望古都长安，凭吊古迹，思绪万千，激愤难平。作家身处潼关，西望旧朝故都长安，西都”即长安，长安不仅是秦汉都城，魏、晋、隋、唐都建都长安。作为六朝古都，当年是何等的繁华、昌盛。现在，昔日的奢华早已灰飞烟灭不复存，只剩下一片残垣断壁的衰败景象，怎能不令诗人踌蹰伤心呢？想到今番前去的任务，他不禁感慨万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7:24:32Z</dcterms:created>
  <dc:creator>huangn</dc:creator>
  <dc:description/>
  <dc:language>en-US</dc:language>
  <cp:lastModifiedBy>huangn</cp:lastModifiedBy>
  <dcterms:modified xsi:type="dcterms:W3CDTF">2014-04-11T04:14:46Z</dcterms:modified>
  <cp:revision>2</cp:revision>
  <dc:subject/>
  <dc:title>山坡羊·潼关怀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