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434-3C5A-4816-87D8-269DE876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AAD5-3629-4C68-B02D-BF0995F5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AD8-33B6-4359-A902-02D034C9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146-A43F-40B1-9690-52A8AE64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8014-2A80-438A-BC54-B26FAF191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5CB3-9B76-4843-A573-542AC7D4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EBA1-EE1F-4861-A66B-7910B5F8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3282-2C73-4BD9-AE85-CD2715DB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DEB4-1EC8-42DA-8402-00BF319F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407-A2A8-4FA6-9A17-23D071D1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7EAB-136F-475A-B482-EEA57B6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3321-362F-4822-882D-915A8466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7C35-6B0D-4708-AA57-85193EA0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1EAE-57A3-435D-A7D5-84FC89C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69CA-A7B5-4EFD-91B3-D2729372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19D74-C995-42BD-A4BE-E289439D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FC8B-C9AC-48F1-B774-6B17F74A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D12D-FA0C-4F8F-9E64-012C4577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3B89-D965-4F97-8A8E-1F298CD8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2CF-2D1C-45C2-BA0C-3214654C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65F-EF53-4219-AFD7-6B778AEB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5694-4E25-4C94-8170-F3677F0F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005-EADE-40C9-9A1B-2166F3B8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FFA-B843-47FE-B724-BB9658BE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1CB-BB7F-46FA-9E38-36F7C1D24B81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5DE6-72D8-4E71-966B-BE903FD56DD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" Target="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24000" y="62028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43245a"/>
                </a:solidFill>
                <a:uFillTx/>
                <a:latin typeface="隶书"/>
                <a:ea typeface="隶书"/>
              </a:rPr>
              <a:t>整幅画面清新自然，从容淡雅</a:t>
            </a:r>
            <a:r>
              <a:rPr b="1" lang="zh-CN" sz="4000" spc="-1" strike="noStrike">
                <a:solidFill>
                  <a:srgbClr val="43245a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五月盛夏的汴京早晨，消暑用的沉香散发出淡淡的香味。（</a:t>
            </a:r>
            <a:r>
              <a:rPr b="1" lang="zh-CN" sz="3600" spc="-1" strike="noStrike" u="sng">
                <a:solidFill>
                  <a:srgbClr val="43245a"/>
                </a:solidFill>
                <a:uFillTx/>
                <a:latin typeface="隶书"/>
                <a:ea typeface="隶书"/>
              </a:rPr>
              <a:t>嗅觉</a:t>
            </a: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昨夜刚下完雨，天放晴了，鸟儿在屋檐下欢快地叫着，吱吱喳喳，异常可爱（</a:t>
            </a:r>
            <a:r>
              <a:rPr b="1" lang="zh-CN" sz="3600" spc="-1" strike="noStrike" u="sng">
                <a:solidFill>
                  <a:srgbClr val="43245a"/>
                </a:solidFill>
                <a:uFillTx/>
                <a:latin typeface="隶书"/>
                <a:ea typeface="隶书"/>
              </a:rPr>
              <a:t>听觉</a:t>
            </a: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）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初升的太阳照着屋外茂盛的荷花，荷叶上的雨珠渐蒸干。清平的水面上挺立着一枝枝荷花在风中摇摆（</a:t>
            </a:r>
            <a:r>
              <a:rPr b="1" lang="zh-CN" sz="3600" spc="-1" strike="noStrike" u="sng">
                <a:solidFill>
                  <a:srgbClr val="43245a"/>
                </a:solidFill>
                <a:uFillTx/>
                <a:latin typeface="隶书"/>
                <a:ea typeface="隶书"/>
              </a:rPr>
              <a:t>视觉</a:t>
            </a: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）</a:t>
            </a:r>
            <a:r>
              <a:rPr b="0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43245a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plit dir="out" orient="vert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1989000"/>
            <a:ext cx="727236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　　每一句都带有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动作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或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视觉性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，几乎句句都可构成一个或几个画面，构成角度不同的镜头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……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01320" y="685440"/>
            <a:ext cx="8543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245a"/>
                </a:solidFill>
                <a:latin typeface="Arial"/>
              </a:rPr>
              <a:t>讨论、探究：词的下片诗人抒发了他的思乡之情，那么他抒发情感的方式有什么特别的地方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245a"/>
                </a:solidFill>
                <a:latin typeface="Arial"/>
              </a:rPr>
              <a:t>从故乡的朋友</a:t>
            </a:r>
            <a:r>
              <a:rPr b="1" lang="en-US" sz="4800" spc="-1" strike="noStrike">
                <a:solidFill>
                  <a:srgbClr val="43245a"/>
                </a:solidFill>
                <a:latin typeface="Arial"/>
              </a:rPr>
              <a:t>(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渔郎</a:t>
            </a:r>
            <a:r>
              <a:rPr b="1" lang="en-US" sz="4800" spc="-1" strike="noStrike">
                <a:solidFill>
                  <a:srgbClr val="0d0b3d"/>
                </a:solidFill>
                <a:latin typeface="Arial"/>
              </a:rPr>
              <a:t>)</a:t>
            </a:r>
            <a:r>
              <a:rPr b="1" lang="zh-CN" sz="4800" spc="-1" strike="noStrike">
                <a:solidFill>
                  <a:srgbClr val="43245a"/>
                </a:solidFill>
                <a:latin typeface="Arial"/>
              </a:rPr>
              <a:t>对自己的想念来写思乡之情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荷花动态" descr=""/>
          <p:cNvPicPr/>
          <p:nvPr/>
        </p:nvPicPr>
        <p:blipFill>
          <a:blip r:embed="rId2"/>
          <a:stretch/>
        </p:blipFill>
        <p:spPr>
          <a:xfrm>
            <a:off x="3780000" y="4365720"/>
            <a:ext cx="6481440" cy="1896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  <p:sndAc>
      <p:stSnd>
        <p:snd r:embed="rId3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33336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Arial"/>
                <a:ea typeface="华文新魏"/>
              </a:rPr>
              <a:t>月夜　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  <a:ea typeface="华文新魏"/>
              </a:rPr>
              <a:t>杜甫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628640"/>
            <a:ext cx="818028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今夜鄜州月， 闺中只独看。</a:t>
            </a:r>
            <a:br>
              <a:rPr sz="3600"/>
            </a:b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遥怜小儿女， 未解忆长安。</a:t>
            </a:r>
            <a:br>
              <a:rPr sz="3600"/>
            </a:b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香雾云鬟湿， 清辉玉臂寒。</a:t>
            </a:r>
            <a:br>
              <a:rPr sz="3600"/>
            </a:br>
            <a:r>
              <a:rPr b="0" lang="zh-CN" sz="3600" spc="-1" strike="noStrike">
                <a:solidFill>
                  <a:srgbClr val="cc0066"/>
                </a:solidFill>
                <a:latin typeface="隶书"/>
                <a:ea typeface="隶书"/>
              </a:rPr>
              <a:t>何时倚虚幌， 双照泪痕干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——“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公本思家，偏想家人思己，已进一层。念及儿女不能思，又进一层。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1520280"/>
            <a:ext cx="8518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87850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华文新魏"/>
              </a:rPr>
              <a:t>下片直抒胸怀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，语词如话，不加雕饰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己身旅泊“长安”，实即当时汴京。周邦彦本以太学生入都，但却无所作为，不免有乡关之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故乡遥，何日去”点地点时，“家住吴门，久作长安旅”，实为不如归去之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王月渔郎相忆否”，不言自己思家乡友朋，却写渔郎是否思念自己，这是从侧面深一层的写法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小楫轻舟，梦入芙蓉浦”，即梦中划小舟入莲花塘中了，实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  <a:ea typeface="华文新魏"/>
              </a:rPr>
              <a:t>以虚构的梦景作结，虽虚而实，变幻莫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404640"/>
            <a:ext cx="828036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　　这首词写游子的思乡情结，写景写人写情写梦皆语出天然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华文中宋"/>
              </a:rPr>
              <a:t>不加雕饰而风情万种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　　思乡之苦隐藏在清圆的荷叶下，遗忘在五月的江南，渔郎的轻舟上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中宋"/>
              </a:rPr>
              <a:t>…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4064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赏析总结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此词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通过回忆、想象、联想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，以荷花贯穿，既细致传神地写景状物，又颇有诗意地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表现思乡之情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全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词语言自然明丽，淡雅素洁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，别具一格，</a:t>
            </a:r>
            <a:r>
              <a:rPr b="1" lang="zh-CN" sz="4000" spc="-1" strike="noStrike" u="sng">
                <a:solidFill>
                  <a:srgbClr val="0033cc"/>
                </a:solidFill>
                <a:uFillTx/>
                <a:latin typeface="隶书"/>
                <a:ea typeface="隶书"/>
              </a:rPr>
              <a:t>词境清新而爽朗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 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hehua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-455760"/>
            <a:ext cx="9750600" cy="7313760"/>
          </a:xfrm>
          <a:prstGeom prst="rect">
            <a:avLst/>
          </a:prstGeom>
          <a:ln w="0">
            <a:noFill/>
          </a:ln>
        </p:spPr>
      </p:pic>
      <p:pic>
        <p:nvPicPr>
          <p:cNvPr id="129" name="27" descr=""/>
          <p:cNvPicPr/>
          <p:nvPr/>
        </p:nvPicPr>
        <p:blipFill>
          <a:blip r:embed="rId3"/>
          <a:stretch/>
        </p:blipFill>
        <p:spPr>
          <a:xfrm>
            <a:off x="0" y="-4539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-394200" y="476280"/>
            <a:ext cx="8842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3245a"/>
                </a:solidFill>
                <a:latin typeface="Arial"/>
              </a:rPr>
              <a:t>讨论：这首词上片写景，下片抒情，段落极其分明，但是情景之间关联密切，想想两者之间有什么关系，联系两片之间的感情纽带是哪个意象？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4437000"/>
            <a:ext cx="286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隶书"/>
              </a:rPr>
              <a:t>风  荷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edge/>
    <p:sndAc>
      <p:stSnd>
        <p:snd r:embed="rId4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1341360"/>
            <a:ext cx="7272360" cy="2288520"/>
          </a:xfrm>
          <a:prstGeom prst="rect">
            <a:avLst/>
          </a:prstGeom>
          <a:noFill/>
          <a:ln w="9360">
            <a:solidFill>
              <a:srgbClr val="191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                    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苏幕遮</a:t>
            </a:r>
            <a:br>
              <a:rPr sz="3600"/>
            </a:b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　　                                  </a:t>
            </a:r>
            <a:r>
              <a:rPr b="0" lang="en-US" sz="3600" spc="-1" strike="noStrike">
                <a:solidFill>
                  <a:srgbClr val="0066cc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范仲淹</a:t>
            </a:r>
            <a:br>
              <a:rPr sz="3600"/>
            </a:b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　　碧云天，黄叶地，秋色连波，波上寒烟翠。山映斜阳天接水，芳草无情，更在斜阳外。</a:t>
            </a:r>
            <a:br>
              <a:rPr sz="3600"/>
            </a:br>
            <a:r>
              <a:rPr b="0" lang="zh-CN" sz="3600" spc="-1" strike="noStrike">
                <a:solidFill>
                  <a:srgbClr val="0066cc"/>
                </a:solidFill>
                <a:latin typeface="Arial"/>
              </a:rPr>
              <a:t>　　黯乡魂，追旅思，夜夜除非，好梦留人睡。明月楼高休独倚，酒入愁肠，化作相思泪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27" descr=""/>
          <p:cNvPicPr/>
          <p:nvPr/>
        </p:nvPicPr>
        <p:blipFill>
          <a:blip r:embed="rId2"/>
          <a:stretch/>
        </p:blipFill>
        <p:spPr>
          <a:xfrm>
            <a:off x="-301680" y="-225360"/>
            <a:ext cx="9750600" cy="73119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87280" y="126828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33360"/>
            <a:ext cx="5688000" cy="855720"/>
          </a:xfrm>
          <a:prstGeom prst="rect">
            <a:avLst/>
          </a:prstGeom>
          <a:noFill/>
          <a:ln w="9360">
            <a:solidFill>
              <a:srgbClr val="1915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91569"/>
                </a:solidFill>
                <a:latin typeface="Arial"/>
              </a:rPr>
              <a:t>这首词上片写景，下片抒情，风格苍凉悲壮，境界深远。上片描写秋景从大处落笔，由上而下，由近及远，层次分明，景观极其开阔；下片抒情，羇旅之愁，离别之思，无由排遣，辗转难眠，思好梦而难成；明知独倚高楼更添相思之苦，却只有独坐高楼，借酒消愁，知不可为而为之，无奈之情跃然词间。“酒入愁肠，化作相思泪”遂成千古绝唱</a:t>
            </a:r>
            <a:r>
              <a:rPr b="0" lang="zh-CN" sz="1800" spc="-1" strike="noStrike">
                <a:solidFill>
                  <a:srgbClr val="191569"/>
                </a:solidFill>
                <a:latin typeface="Arial"/>
              </a:rPr>
              <a:t>。</a:t>
            </a:r>
            <a:br>
              <a:rPr sz="1800"/>
            </a:b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71640" y="0"/>
            <a:ext cx="731520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荷花16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89440" cy="2060640"/>
          </a:xfrm>
          <a:prstGeom prst="rect">
            <a:avLst/>
          </a:prstGeom>
          <a:ln w="0">
            <a:noFill/>
          </a:ln>
        </p:spPr>
      </p:pic>
      <p:pic>
        <p:nvPicPr>
          <p:cNvPr id="137" name="青莲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4103640" cy="2087640"/>
          </a:xfrm>
          <a:prstGeom prst="rect">
            <a:avLst/>
          </a:prstGeom>
          <a:ln w="0">
            <a:noFill/>
          </a:ln>
        </p:spPr>
      </p:pic>
      <p:pic>
        <p:nvPicPr>
          <p:cNvPr id="138" name="蜻蜓荷花2" descr=""/>
          <p:cNvPicPr/>
          <p:nvPr/>
        </p:nvPicPr>
        <p:blipFill>
          <a:blip r:embed="rId4"/>
          <a:stretch/>
        </p:blipFill>
        <p:spPr>
          <a:xfrm>
            <a:off x="4932360" y="1700280"/>
            <a:ext cx="3816360" cy="2305080"/>
          </a:xfrm>
          <a:prstGeom prst="rect">
            <a:avLst/>
          </a:prstGeom>
          <a:ln w="0">
            <a:noFill/>
          </a:ln>
        </p:spPr>
      </p:pic>
      <p:pic>
        <p:nvPicPr>
          <p:cNvPr id="139" name="莲叶无穷碧" descr=""/>
          <p:cNvPicPr/>
          <p:nvPr/>
        </p:nvPicPr>
        <p:blipFill>
          <a:blip r:embed="rId5"/>
          <a:stretch/>
        </p:blipFill>
        <p:spPr>
          <a:xfrm>
            <a:off x="468360" y="1700280"/>
            <a:ext cx="4103640" cy="2305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6" action="ppaction://hlinksldjump"/>
              </a:rPr>
              <a:t>古代描写荷花的部分诗句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981080"/>
            <a:ext cx="41940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接天莲叶无穷碧， 映日荷花别样红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晓出净慈送林子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】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杨万里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50840" y="1981080"/>
            <a:ext cx="419436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荷才露尖尖角，早有蜻蜓立上头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杨万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15720" y="4232160"/>
            <a:ext cx="435276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予独爱莲之出淤泥而不染，濯清涟而不妖，中通外直，不蔓不枝，可远观而不可亵玩焉 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爱莲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敦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0000" y="4292280"/>
            <a:ext cx="419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碧荷生幽泉，朝日艳且鲜。秋花冒绿水，密叶罗青烟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古风（其二十六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李白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-871560"/>
            <a:ext cx="9753840" cy="86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90600" y="0"/>
            <a:ext cx="476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48000" y="0"/>
            <a:ext cx="42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045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66600"/>
            <a:ext cx="9144000" cy="6924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245a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9360">
            <a:solidFill>
              <a:srgbClr val="19156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周邦彦（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1056—1121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），字美成，号清真居士，钱塘（今浙江杭州）人。少年时落拓不羁，二十四岁时入太学读书，因献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汴都赋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升太学正，后来当过一些地方官和校书郎、宗正少卿等职。徽宗即位后，由于他精通音律、善作词，被提举为大晟府。有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清真集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，又名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片玉集</a:t>
            </a:r>
            <a:r>
              <a:rPr b="1" lang="en-US" sz="2800" spc="-1" strike="noStrike">
                <a:solidFill>
                  <a:srgbClr val="191569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19156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周邦彦作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重感发而重思力</a:t>
            </a:r>
            <a:r>
              <a:rPr b="0" lang="zh-CN" sz="2800" spc="-1" strike="noStrike">
                <a:solidFill>
                  <a:srgbClr val="191569"/>
                </a:solidFill>
                <a:latin typeface="Arial"/>
              </a:rPr>
              <a:t> ，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在艺术形式和技巧极尽能事，是婉约派之大宗。其词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富艳精工</a:t>
            </a:r>
            <a:r>
              <a:rPr b="1" lang="zh-CN" sz="2800" spc="-1" strike="noStrike">
                <a:solidFill>
                  <a:srgbClr val="191569"/>
                </a:solidFill>
                <a:latin typeface="Arial"/>
              </a:rPr>
              <a:t>，但多是些泛咏之作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荷花山水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词的上片写景：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问题一：上片的景中有哪些意象？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3993840"/>
            <a:ext cx="854064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问题二：这些意象构成了一幅怎样的画面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200640" y="2133720"/>
            <a:ext cx="459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981080"/>
            <a:ext cx="8540640" cy="18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意象：沉香、鸟雀、初阳、荷叶、水面、风荷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diamond/>
    <p:sndAc>
      <p:stSnd>
        <p:snd r:embed="rId3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2:42:03Z</dcterms:created>
  <dc:creator>Administrators</dc:creator>
  <dc:description/>
  <dc:language>en-US</dc:language>
  <cp:lastModifiedBy>zmj</cp:lastModifiedBy>
  <cp:lastPrinted>2012-03-11T12:03:29Z</cp:lastPrinted>
  <dcterms:modified xsi:type="dcterms:W3CDTF">2012-04-22T14:13:10Z</dcterms:modified>
  <cp:revision>1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0</vt:lpwstr>
  </property>
</Properties>
</file>