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4.wmf" ContentType="image/x-wmf"/>
  <Override PartName="/ppt/media/image17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5BB8-27E3-4BC1-8C6F-ED2684004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F059-C446-4CB1-B480-EE7C9AE9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C241-39B0-4929-9E53-57B7CC2AE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DA5F-CA6E-4914-97D8-7E241E15E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3E1C-D3C6-4794-B3F4-8349FA2D0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7820E-A80A-409F-9E00-11C3581D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4B87-8D35-4388-B2A5-1F9273F5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0B8C-FF4F-4181-8CCF-4B9947B2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23F3-E816-4CD9-AC72-4CD8A619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2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568B-C060-44F2-9039-EDE4EFCA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5269E-2BF7-46C2-AE88-ACC1F2B5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B843-A226-4A37-96EB-780697FE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714A-7821-4E93-B651-5826E53A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617E-BFDB-4EEA-8629-0D5F7687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0594-942C-4181-B5B5-684C0D14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D4F2-614F-4334-BAB3-002767B35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F53A-9E6F-41E5-BF81-54EFF7606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C94A4-E5EA-4581-B996-4A57A7304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60D81-EDF8-4FE3-BDB9-5CC1DB58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1CB6D-A2C1-46C0-953B-6CF364C4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086E2-D85F-461A-B2C1-010C6DAD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23C82-05E0-4960-BFAB-616C8554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5DC1-8CAA-4656-B317-CC76099E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09480" y="2742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049C7-414E-46B6-8868-72641740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85F95-23EA-4F59-AE9A-1F698691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E1B1A-8BEB-4EAF-92A2-68B4C504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2232E-FCE1-4C37-B3C8-93ACEECC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284BD-5517-463B-AD82-2D49C190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AAE88-DE43-4EFC-BAC7-0EF7885C0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13481-F190-4173-825C-0E4A0A467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0EFE6-B86F-493F-8771-E44EA0591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BDD6A-626F-472D-97AA-4A923CAD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18AED-FB4C-436F-BD4A-6662AEBB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F364-92DA-4D3E-8772-5BB3216D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07379-DC76-4E3C-AD8C-44CA74E3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9AF77-5156-49D7-BEF8-D1400022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609480" y="2742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11065-1313-4DF3-942B-2C17B7CD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1D964-B0E9-44E0-BC8E-E1362F75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CA3A0-7B34-402D-B5C4-C2D03F70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D0A46-04A4-46A3-BC52-94F70A88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EBBBD-06AA-4BEB-B725-A33682C0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0C5ED-CE2E-4670-B254-04757D431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E6AB4-4AC5-42BD-B2DC-63D115F2D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CC2D-FFDA-44AA-A9F3-7191F5DE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2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04E7-848A-426E-8C7D-0532DB7E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E4B6-9AAC-4CFD-AD52-B73DD353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C768-3951-4D6B-A47C-EC06F87A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5409-17D0-43B4-AA6B-57FCB923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www.nordridesign.cn/index.php" TargetMode="External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3440" y="6294240"/>
            <a:ext cx="1600200" cy="563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920" y="106668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713F-6041-488E-9517-FB23AD4FD5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E5EC-DF7E-4A9F-9135-3948395A51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7007-1805-49D8-8CA3-05D00F3A525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3813120" y="253692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402912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4255920" y="253692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454356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475776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503712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526428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547848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4078080" y="3019320"/>
            <a:ext cx="146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中国专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设计交流论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6" descr="logo"/>
          <p:cNvPicPr/>
          <p:nvPr/>
        </p:nvPicPr>
        <p:blipFill>
          <a:blip r:embed="rId2"/>
          <a:stretch/>
        </p:blipFill>
        <p:spPr>
          <a:xfrm>
            <a:off x="3116160" y="2525760"/>
            <a:ext cx="782640" cy="73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7" descr="logo2"/>
          <p:cNvPicPr/>
          <p:nvPr/>
        </p:nvPicPr>
        <p:blipFill>
          <a:blip r:embed="rId3"/>
          <a:stretch/>
        </p:blipFill>
        <p:spPr>
          <a:xfrm>
            <a:off x="2563920" y="2347920"/>
            <a:ext cx="3828960" cy="13255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8">
            <a:hlinkClick r:id="rId4"/>
          </p:cNvPr>
          <p:cNvSpPr/>
          <p:nvPr/>
        </p:nvSpPr>
        <p:spPr>
          <a:xfrm>
            <a:off x="2771640" y="2565360"/>
            <a:ext cx="398808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304920" y="3276720"/>
            <a:ext cx="9153360" cy="352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2286000" y="3657600"/>
            <a:ext cx="4705200" cy="65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2286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1" marL="343080" indent="-343080" algn="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2" marL="343080" indent="-343080" algn="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3" marL="343080" indent="-343080" algn="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4" marL="343080" indent="-343080" algn="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5" marL="343080" indent="-343080" algn="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6" marL="343080" indent="-343080" algn="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EEFD-923D-439F-91D8-5D700A82E3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" Target="slide9.xml"/><Relationship Id="rId5" Type="http://schemas.openxmlformats.org/officeDocument/2006/relationships/image" Target="../media/image16.png"/><Relationship Id="rId6" Type="http://schemas.openxmlformats.org/officeDocument/2006/relationships/slide" Target="slide13.xml"/><Relationship Id="rId7" Type="http://schemas.openxmlformats.org/officeDocument/2006/relationships/image" Target="../media/image17.png"/><Relationship Id="rId8" Type="http://schemas.openxmlformats.org/officeDocument/2006/relationships/slide" Target="slide11.xml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2.xm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563720" y="1447920"/>
            <a:ext cx="2935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b3d"/>
                </a:solidFill>
                <a:latin typeface="Arial"/>
              </a:rPr>
              <a:t>燎沉香，消溽暑。鸟雀呼晴，侵晓窥檐语。叶上初阳干宿雨，水面清圆，一一风荷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b3d"/>
                </a:solidFill>
                <a:latin typeface="Arial"/>
              </a:rPr>
              <a:t>故乡遥，何日去。家住吴门，久作长安旅。五月渔郎相忆否，小楫轻舟，梦入芙蓉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313320" y="1371600"/>
            <a:ext cx="10033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d0b3d"/>
                </a:solidFill>
                <a:latin typeface="Arial"/>
                <a:ea typeface="隶书"/>
              </a:rPr>
              <a:t>整体感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60" y="685800"/>
            <a:ext cx="79930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问题一：从结构看，词的上下片分别侧重写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190512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上片写景，下片抒情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35268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问题二：词的下片抒情，抒发了一种什么情感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62120" y="4876920"/>
            <a:ext cx="28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思乡之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162920" y="1219320"/>
            <a:ext cx="99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 Black"/>
                <a:ea typeface="隶书"/>
              </a:rPr>
              <a:t>深入分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663720" y="2209680"/>
            <a:ext cx="1357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燎沉香，消溽暑。鸟雀呼晴，侵晓窥檐语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叶上初阳乾宿雨，水面清圆，一一风荷举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762120"/>
            <a:ext cx="419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 Black"/>
              </a:rPr>
              <a:t>上片（写景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43000" y="373392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华文新魏"/>
                <a:ea typeface="华文新魏"/>
              </a:rPr>
              <a:t>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华文新魏"/>
                <a:ea typeface="华文新魏"/>
              </a:rPr>
              <a:t>   </a:t>
            </a:r>
            <a:r>
              <a:rPr b="0" lang="zh-CN" sz="3200" spc="-1" strike="noStrike">
                <a:solidFill>
                  <a:srgbClr val="008000"/>
                </a:solidFill>
                <a:latin typeface="华文新魏"/>
                <a:ea typeface="华文新魏"/>
              </a:rPr>
              <a:t>上片的景中有哪些意象？这些意象构成了一幅怎样的画面？从感官上来讲，词人是从哪三个角度来描写这幅画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2"/>
          <p:cNvPicPr/>
          <p:nvPr/>
        </p:nvPicPr>
        <p:blipFill>
          <a:blip r:embed="rId3"/>
          <a:stretch/>
        </p:blipFill>
        <p:spPr>
          <a:xfrm>
            <a:off x="457200" y="5495760"/>
            <a:ext cx="1774800" cy="13622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5889600"/>
            <a:ext cx="3262320" cy="9684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3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199120" y="6046920"/>
            <a:ext cx="2895480" cy="8874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4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657600" y="6132600"/>
            <a:ext cx="2455920" cy="7254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447920" y="1066680"/>
            <a:ext cx="7315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意象：</a:t>
            </a:r>
            <a:r>
              <a:rPr b="1" lang="zh-CN" sz="2400" spc="-1" strike="noStrike">
                <a:solidFill>
                  <a:srgbClr val="333399"/>
                </a:solidFill>
                <a:latin typeface="Arial Black"/>
              </a:rPr>
              <a:t>沉香、鸟雀、初阳、荷叶、水面、荷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画面：整幅画面清新自然，从容淡雅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燎沉香，消溽暑。 </a:t>
            </a:r>
            <a:r>
              <a:rPr b="1" lang="zh-CN" sz="2400" spc="-1" strike="noStrike">
                <a:solidFill>
                  <a:srgbClr val="ff0000"/>
                </a:solidFill>
                <a:latin typeface="Arial Black"/>
              </a:rPr>
              <a:t>（嗅觉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鸟雀呼晴，侵晓窥檐语。 </a:t>
            </a:r>
            <a:r>
              <a:rPr b="1" lang="zh-CN" sz="2400" spc="-1" strike="noStrike">
                <a:solidFill>
                  <a:srgbClr val="ff0000"/>
                </a:solidFill>
                <a:latin typeface="Arial Black"/>
              </a:rPr>
              <a:t>（听觉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叶上初阳乾宿雨，水面清圆，一一风荷举。</a:t>
            </a:r>
            <a:r>
              <a:rPr b="1" lang="zh-CN" sz="2400" spc="-1" strike="noStrike">
                <a:solidFill>
                  <a:srgbClr val="ff0000"/>
                </a:solidFill>
                <a:latin typeface="Arial Black"/>
              </a:rPr>
              <a:t>（视觉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2" descr="2"/>
          <p:cNvPicPr/>
          <p:nvPr/>
        </p:nvPicPr>
        <p:blipFill>
          <a:blip r:embed="rId3"/>
          <a:stretch/>
        </p:blipFill>
        <p:spPr>
          <a:xfrm>
            <a:off x="457200" y="5495760"/>
            <a:ext cx="1774800" cy="13622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1"/>
          <p:cNvPicPr/>
          <p:nvPr/>
        </p:nvPicPr>
        <p:blipFill>
          <a:blip r:embed="rId4"/>
          <a:stretch/>
        </p:blipFill>
        <p:spPr>
          <a:xfrm>
            <a:off x="0" y="5889600"/>
            <a:ext cx="3262320" cy="968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3" descr="3"/>
          <p:cNvPicPr/>
          <p:nvPr/>
        </p:nvPicPr>
        <p:blipFill>
          <a:blip r:embed="rId5"/>
          <a:stretch/>
        </p:blipFill>
        <p:spPr>
          <a:xfrm>
            <a:off x="5199120" y="6046920"/>
            <a:ext cx="2895480" cy="8874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4" descr="4"/>
          <p:cNvPicPr/>
          <p:nvPr/>
        </p:nvPicPr>
        <p:blipFill>
          <a:blip r:embed="rId6"/>
          <a:stretch/>
        </p:blipFill>
        <p:spPr>
          <a:xfrm>
            <a:off x="3886200" y="5943600"/>
            <a:ext cx="2455920" cy="725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752480" y="12952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下片（抒情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33720" y="236232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故乡遥，何日去？ 家住吴门，久作长安旅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五月渔郎相忆否？ 小楫轻舟，梦入芙蓉浦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2133720" y="1828800"/>
            <a:ext cx="6248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思考：哪些句子能够看出作者是表达思乡之情的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故乡遥，何日去？ 家住吴门，久作长安旅。</a:t>
            </a:r>
            <a:r>
              <a:rPr b="0" lang="zh-CN" sz="32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09680" y="3809880"/>
            <a:ext cx="6400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762120" y="838080"/>
            <a:ext cx="64008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思考：作者上片写荷花，下片直接写思乡，你觉得突兀吗？结合课后习题第二题，想想联系上下两片感情纽带的是哪个意象？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风荷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3200" spc="-1" strike="noStrike">
                <a:solidFill>
                  <a:srgbClr val="006600"/>
                </a:solidFill>
                <a:latin typeface="Arial Black"/>
              </a:rPr>
              <a:t>词人的家在南方，可是他长期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羁留京城，旅居他乡</a:t>
            </a:r>
            <a:r>
              <a:rPr b="1" lang="zh-CN" sz="3200" spc="-1" strike="noStrike">
                <a:solidFill>
                  <a:srgbClr val="006600"/>
                </a:solidFill>
                <a:latin typeface="Arial Black"/>
              </a:rPr>
              <a:t>。此时家乡的西子湖畔，必定满是“水面清圆，一一风荷举”的景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 Black"/>
              </a:rPr>
              <a:t>    </a:t>
            </a:r>
            <a:r>
              <a:rPr b="1" lang="zh-CN" sz="3200" spc="-1" strike="noStrike">
                <a:solidFill>
                  <a:srgbClr val="006600"/>
                </a:solidFill>
                <a:latin typeface="Arial Black"/>
              </a:rPr>
              <a:t>词人从眼前的“风荷”想到了家乡，进而发出这样的感叹：故乡是那样遥远，我何时才能回去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80880" y="1143000"/>
            <a:ext cx="74678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Black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  <a:ea typeface="华文新魏"/>
              </a:rPr>
              <a:t>五月渔郎相忆否？小楫轻舟，梦入芙蓉浦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1" lang="zh-CN" sz="3200" spc="-1" strike="noStrike">
                <a:solidFill>
                  <a:srgbClr val="008000"/>
                </a:solidFill>
                <a:latin typeface="Arial Black"/>
              </a:rPr>
              <a:t>如果说前面的都是写实景，那么最后一句就转入了</a:t>
            </a:r>
            <a:r>
              <a:rPr b="1" lang="zh-CN" sz="3200" spc="-1" strike="noStrike" u="sng">
                <a:solidFill>
                  <a:srgbClr val="ff6699"/>
                </a:solidFill>
                <a:uFillTx/>
                <a:latin typeface="Arial Black"/>
              </a:rPr>
              <a:t>虚构的梦境描写</a:t>
            </a:r>
            <a:r>
              <a:rPr b="1" lang="zh-CN" sz="3200" spc="-1" strike="noStrike">
                <a:solidFill>
                  <a:srgbClr val="ff6699"/>
                </a:solidFill>
                <a:latin typeface="Arial Black"/>
              </a:rPr>
              <a:t>。</a:t>
            </a:r>
            <a:r>
              <a:rPr b="1" lang="zh-CN" sz="3200" spc="-1" strike="noStrike">
                <a:solidFill>
                  <a:srgbClr val="008000"/>
                </a:solidFill>
                <a:latin typeface="Arial Black"/>
              </a:rPr>
              <a:t>思乡情切，以致梦中飞渡，恍若回到故乡，与友人一起小楫轻舟畅游芙蓉浦了，全词以</a:t>
            </a:r>
            <a:r>
              <a:rPr b="1" lang="zh-CN" sz="3200" spc="-1" strike="noStrike" u="sng">
                <a:solidFill>
                  <a:srgbClr val="ff6699"/>
                </a:solidFill>
                <a:uFillTx/>
                <a:latin typeface="Arial Black"/>
              </a:rPr>
              <a:t>如梦如幻的乡愁乡梦</a:t>
            </a:r>
            <a:r>
              <a:rPr b="1" lang="zh-CN" sz="3200" spc="-1" strike="noStrike">
                <a:solidFill>
                  <a:srgbClr val="008000"/>
                </a:solidFill>
                <a:latin typeface="Arial Black"/>
              </a:rPr>
              <a:t>结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2514600" y="2590920"/>
            <a:ext cx="495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找出你认为这首词写得最好的句子，细细品味它妙在何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114300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  <a:ea typeface="隶书"/>
              </a:rPr>
              <a:t>佳句赏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9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533520" y="1219320"/>
            <a:ext cx="25146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 Black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华文新魏"/>
              </a:rPr>
              <a:t>水面清圆，一一风荷举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王国维认为这两句词</a:t>
            </a:r>
            <a:r>
              <a:rPr b="1" lang="zh-CN" sz="3200" spc="-1" strike="noStrike">
                <a:solidFill>
                  <a:srgbClr val="0066ff"/>
                </a:solidFill>
                <a:latin typeface="Arial Black"/>
              </a:rPr>
              <a:t>，“真能得荷之神理者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3659040" y="0"/>
            <a:ext cx="548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4" dur="2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762120" y="609480"/>
            <a:ext cx="64767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两句诗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事雕饰，风格简约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而荷之神态、精神跃然纸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先，这句词有一种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简约的构图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水面是平的，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清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的荷叶及荷叶上的雨滴是圆的，而婷婷玉立的荷茎又是垂直的。这种几何图形般的简约造型，让读者过目不忘，似乎王维“大漠孤烟直，长河落日圆”的精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，这两句炼字的功夫了得。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一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把荷叶在水面上错落有致、疏密相间、高低起伏的层次刻画得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惟妙惟肖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简单的一个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字，把微风吹过荷塘，荷叶随风轻轻摇动的姿态不动声色地勾勒出来了。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举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把荷茎修长挺拔、英姿飒爽的精气神表现的淋漓尽致。“风”造成了左右摇摆的力，“举”代表向上的力，荷在风中“举”，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具有动感，尤见精神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五月渔郎相忆否？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1447920"/>
            <a:ext cx="6400800" cy="23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杜甫在《月夜》中表达思念妻子之情，是这样表达的</a:t>
            </a:r>
            <a:r>
              <a:rPr b="0" lang="zh-CN" sz="2400" spc="-1" strike="noStrike">
                <a:solidFill>
                  <a:srgbClr val="0066ff"/>
                </a:solidFill>
                <a:latin typeface="华文新魏"/>
                <a:ea typeface="华文新魏"/>
              </a:rPr>
              <a:t>：“今夜鄜州月，闺中只独看。遥怜小儿女，未解忆长安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ff"/>
                </a:solidFill>
                <a:latin typeface="华文新魏"/>
                <a:ea typeface="华文新魏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明代王嗣奭在《杜臆》中说</a:t>
            </a:r>
            <a:r>
              <a:rPr b="0" lang="zh-CN" sz="2400" spc="-1" strike="noStrike">
                <a:solidFill>
                  <a:srgbClr val="0066ff"/>
                </a:solidFill>
                <a:latin typeface="华文新魏"/>
                <a:ea typeface="华文新魏"/>
              </a:rPr>
              <a:t>：“公本思家，偏想家人思己，已进一层。念及儿女不能思，又进一层。”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周邦彦此词，有异曲同工之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作者思念家乡之人，又不直说，而说渔郎是否记起自己，不仅把自己对家乡对朋友的思念之情表达的更加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细腻真切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而且使得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不落俗套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意境又进一层。王国维赞之曰</a:t>
            </a:r>
            <a:r>
              <a:rPr b="0" lang="zh-CN" sz="2400" spc="-1" strike="noStrike">
                <a:solidFill>
                  <a:srgbClr val="0066ff"/>
                </a:solidFill>
                <a:latin typeface="华文新魏"/>
                <a:ea typeface="华文新魏"/>
              </a:rPr>
              <a:t>：“词中老杜，非先生不可”。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095880" y="5335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幼圆"/>
              </a:rPr>
              <a:t>对写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3200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总结全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艺术特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语言自然、淡雅素洁，</a:t>
            </a: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词境清新爽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主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通过</a:t>
            </a: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回忆想象联想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，以</a:t>
            </a: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荷花贯穿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，既细致传神的</a:t>
            </a: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写景状物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又颇有</a:t>
            </a: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诗意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的表达了</a:t>
            </a: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思乡之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9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6" descr="200507251658494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3"/>
          <p:cNvSpPr/>
          <p:nvPr/>
        </p:nvSpPr>
        <p:spPr>
          <a:xfrm>
            <a:off x="3143160" y="380880"/>
            <a:ext cx="600084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99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词中除了流露出作者强烈的思乡之情外，还寄托了其他什么情感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4920" y="762120"/>
            <a:ext cx="30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 Black"/>
                <a:ea typeface="隶书"/>
              </a:rPr>
              <a:t>深化主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4572000" y="121932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从作者对故乡的强烈思念中，从对小楫轻舟泛游芙蓉浦的自在生活的向往中，也能依稀地感到</a:t>
            </a:r>
            <a:r>
              <a:rPr b="1" lang="zh-CN" sz="3200" spc="-1" strike="noStrike" u="sng">
                <a:solidFill>
                  <a:srgbClr val="0066ff"/>
                </a:solidFill>
                <a:uFillTx/>
                <a:latin typeface="楷体_GB2312"/>
                <a:ea typeface="楷体_GB2312"/>
              </a:rPr>
              <a:t>作者对官场生活的厌倦，对回归自然的宁静生活的向往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03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-554760" y="1197000"/>
            <a:ext cx="211212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上片写景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情因景异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，富于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932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情景关系结构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5400000">
            <a:off x="4570560" y="5301360"/>
            <a:ext cx="504720" cy="360360"/>
          </a:xfrm>
          <a:custGeom>
            <a:avLst/>
            <a:gdLst>
              <a:gd name="textAreaLeft" fmla="*/ 63000 w 504720"/>
              <a:gd name="textAreaRight" fmla="*/ 441720 w 5047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5400000">
            <a:off x="4570560" y="4077360"/>
            <a:ext cx="504720" cy="360360"/>
          </a:xfrm>
          <a:custGeom>
            <a:avLst/>
            <a:gdLst>
              <a:gd name="textAreaLeft" fmla="*/ 63000 w 504720"/>
              <a:gd name="textAreaRight" fmla="*/ 441720 w 5047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5400000">
            <a:off x="4570560" y="2853360"/>
            <a:ext cx="504720" cy="360360"/>
          </a:xfrm>
          <a:custGeom>
            <a:avLst/>
            <a:gdLst>
              <a:gd name="textAreaLeft" fmla="*/ 63000 w 504720"/>
              <a:gd name="textAreaRight" fmla="*/ 441720 w 5047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4570560" y="1629360"/>
            <a:ext cx="504720" cy="360360"/>
          </a:xfrm>
          <a:custGeom>
            <a:avLst/>
            <a:gdLst>
              <a:gd name="textAreaLeft" fmla="*/ 63000 w 504720"/>
              <a:gd name="textAreaRight" fmla="*/ 441720 w 5047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80520" y="1386000"/>
            <a:ext cx="156348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下片抒情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情因景生</a:t>
            </a:r>
            <a:r>
              <a:rPr b="1" lang="zh-CN" sz="3600" spc="-1" strike="noStrike">
                <a:solidFill>
                  <a:srgbClr val="800000"/>
                </a:solidFill>
                <a:latin typeface="Arial"/>
              </a:rPr>
              <a:t>，思乡情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19280" y="1341360"/>
            <a:ext cx="71280" cy="2448000"/>
          </a:xfrm>
          <a:custGeom>
            <a:avLst/>
            <a:gdLst>
              <a:gd name="textAreaLeft" fmla="*/ 45720 w 71280"/>
              <a:gd name="textAreaRight" fmla="*/ 71640 w 7128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92720" y="3716280"/>
            <a:ext cx="1368360" cy="755640"/>
          </a:xfrm>
          <a:prstGeom prst="wedgeRoundRectCallout">
            <a:avLst>
              <a:gd name="adj1" fmla="val -74592"/>
              <a:gd name="adj2" fmla="val 40546"/>
              <a:gd name="adj3" fmla="val 16667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风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55280" y="566640"/>
            <a:ext cx="7273800" cy="62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燎香消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沉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鸟雀呼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欢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风荷摇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欣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伤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羁旅他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怅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梦回荷塘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093080" y="4797360"/>
            <a:ext cx="152280" cy="1562040"/>
          </a:xfrm>
          <a:custGeom>
            <a:avLst/>
            <a:gdLst>
              <a:gd name="textAreaLeft" fmla="*/ 0 w 152280"/>
              <a:gd name="textAreaRight" fmla="*/ 55080 w 152280"/>
              <a:gd name="textAreaTop" fmla="*/ 40680 h 1562040"/>
              <a:gd name="textAreaBottom" fmla="*/ 1521360 h 156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1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1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5,-35,-35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Arial"/>
              </a:rPr>
              <a:t>燎沉香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Arial"/>
              </a:rPr>
              <a:t>，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Arial"/>
              </a:rPr>
              <a:t>消溽暑。      鸟雀呼晴，侵晓窥檐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稍慢　   低沉　            欢快            　声音清脆                                                                                                                                                                                                                            　                              情绪饱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Arial"/>
              </a:rPr>
              <a:t>叶上初阳干宿雨，水面清圆，一一风荷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　　　　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　欣喜  语势连贯　中音中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Arial"/>
              </a:rPr>
              <a:t>故乡遥，何日去。家住吴门，久作长安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　　　　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伤愁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放慢速度　　　　慢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Arial"/>
              </a:rPr>
              <a:t>五月渔郎相忆否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2400" spc="-1" strike="noStrike" u="sng">
                <a:solidFill>
                  <a:srgbClr val="ffffff"/>
                </a:solidFill>
                <a:uFillTx/>
                <a:latin typeface="Arial"/>
              </a:rPr>
              <a:t>小楫轻舟，梦入芙蓉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　怅然　喃喃自语　　　缓慢而深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0" descr="1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5889600"/>
            <a:ext cx="326232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8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9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3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80880" y="838080"/>
            <a:ext cx="6934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泉眼无声细细流，树阴照水爱晴柔。小荷才露尖尖角，早有蜻蜓立上头。——宋 杨万里《小池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荷叶罗裙一色裁，芙蓉向脸两边开。乱入池中看不见，闻歌始觉有人来。—唐 王昌龄《采莲曲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毕竟西湖六月中，风光不与四时同。接天莲叶无穷碧，映日荷花别样红。—— 宋 杨万里《晓出净慈寺送林子方》</a:t>
            </a:r>
            <a:r>
              <a:rPr b="1" lang="zh-CN" sz="24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江南可采莲，莲叶何田田。鱼戏莲叶间，鱼戏莲叶东，鱼戏莲叶西，鱼戏莲叶南，鱼戏莲叶北。——《江南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" dur="2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20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 rot="5400000">
            <a:off x="5638320" y="2286000"/>
            <a:ext cx="4648320" cy="1752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6699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苏幕遮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6699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2286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"/>
          <p:cNvSpPr txBox="1"/>
          <p:nvPr/>
        </p:nvSpPr>
        <p:spPr>
          <a:xfrm rot="5400000">
            <a:off x="5486040" y="4724640"/>
            <a:ext cx="160020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周邦彦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2" descr="2"/>
          <p:cNvPicPr/>
          <p:nvPr/>
        </p:nvPicPr>
        <p:blipFill>
          <a:blip r:embed="rId3"/>
          <a:stretch/>
        </p:blipFill>
        <p:spPr>
          <a:xfrm>
            <a:off x="457200" y="5495760"/>
            <a:ext cx="1774800" cy="13622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1"/>
          <p:cNvPicPr/>
          <p:nvPr/>
        </p:nvPicPr>
        <p:blipFill>
          <a:blip r:embed="rId4"/>
          <a:stretch/>
        </p:blipFill>
        <p:spPr>
          <a:xfrm>
            <a:off x="0" y="5889600"/>
            <a:ext cx="3262320" cy="968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3"/>
          <p:cNvPicPr/>
          <p:nvPr/>
        </p:nvPicPr>
        <p:blipFill>
          <a:blip r:embed="rId5"/>
          <a:stretch/>
        </p:blipFill>
        <p:spPr>
          <a:xfrm>
            <a:off x="5199120" y="6046920"/>
            <a:ext cx="2895480" cy="88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4"/>
          <p:cNvPicPr/>
          <p:nvPr/>
        </p:nvPicPr>
        <p:blipFill>
          <a:blip r:embed="rId6"/>
          <a:stretch/>
        </p:blipFill>
        <p:spPr>
          <a:xfrm>
            <a:off x="3886200" y="5943600"/>
            <a:ext cx="2455920" cy="7254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514600" y="45720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 Black"/>
                <a:ea typeface="隶书"/>
              </a:rPr>
              <a:t>走近作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28800" y="1295280"/>
            <a:ext cx="6781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周邦彦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(1057-1121):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字美成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号清真居士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国北宋词人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妙解音律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善于作词，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羁旅愁思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他词作的重要题材，咏物也是周词的主要题材，周邦彦是继柳永之后北宋最有影响力的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婉约派词人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周词语言富丽精工，音调和谐，讲究格律，被称为“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词中老杜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”，“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词家之冠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”。技法上成为婉约词的集大成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周邦彦的词以富艳精工著称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但这首《苏幕遮》“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清水出芙蓉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天然去雕饰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清新自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1-10-12T00:47:08Z</dcterms:modified>
  <cp:revision>6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