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C9FF-912B-4B3D-B877-952FA84A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29DA-D50A-4334-9987-581C24EE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61B-D6F7-4BDC-9EE3-40F7B9A5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5F4B-94B7-4EE4-A599-22E2B7CD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856-0B56-4C8B-8ED0-8807918C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0C4-0361-4B52-9733-89AC2F8F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157-DC1B-4DF3-8D4D-95C0DCEB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4A1A-8159-4E4F-A0BD-23AD8783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11B1-9E98-40A8-A9EC-E0723964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872D-B2A1-4482-B8C5-EC3AE964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CC9-8B49-47D9-8C6B-8B0B6AC2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781F-6898-48A9-9396-43101E27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CDCA-455B-46CE-802C-4C8F6C7CF0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5%C7&#637;&#1520;%B1%B8&amp;in=21866&amp;cl=2&amp;cm=1&amp;sc=0&amp;lm=-1&amp;pn=6&amp;rn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.baidu.com/i?ct=503316480&amp;z=0&amp;tn=baiduimagedetail&amp;word=%B5%C7&#637;&#1520;%B1%B8&amp;in=9984&amp;cl=2&amp;cm=1&amp;sc=0&amp;lm=-1&amp;pn=5&amp;rn=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.baidu.com/i?ct=503316480&amp;z=0&amp;tn=baiduimagedetail&amp;word=%B5%C7&#637;&#1520;%B1%B8&amp;in=21866&amp;cl=2&amp;cm=1&amp;sc=0&amp;lm=-1&amp;pn=8&amp;rn=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.baidu.com/i?ct=503316480&amp;z=0&amp;tn=baiduimagedetail&amp;word=%B5%C7&#637;&#1520;%B1%B8&amp;in=21866&amp;cl=2&amp;cm=1&amp;sc=0&amp;lm=-1&amp;pn=13&amp;rn=1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image.baidu.com/i?ct=503316480&amp;z=0&amp;tn=baiduimagedetail&amp;word=%B5%C7&#637;%C9%FE&amp;in=9527&amp;cl=2&amp;cm=1&amp;sc=0&amp;lm=-1&amp;pn=8&amp;rn=1" TargetMode="External"/><Relationship Id="rId10" Type="http://schemas.openxmlformats.org/officeDocument/2006/relationships/image" Target="../media/image11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291960"/>
            <a:ext cx="1727280" cy="32083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1727280" cy="3168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987640" y="115920"/>
            <a:ext cx="4753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垂直极限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411280" y="1700280"/>
            <a:ext cx="6553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404640"/>
            <a:ext cx="2592360" cy="2737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3789360"/>
            <a:ext cx="2303640" cy="1935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08720" y="549360"/>
            <a:ext cx="2735280" cy="2305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24360" y="3500280"/>
            <a:ext cx="2376720" cy="2341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348000" y="1989000"/>
            <a:ext cx="2879640" cy="2305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916360" y="5516640"/>
            <a:ext cx="381636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登山必需品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44480" cy="7458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406520" y="1219320"/>
            <a:ext cx="6049800" cy="19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0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41400">
                  <a:solidFill>
                    <a:srgbClr val="ff66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生命之线</a:t>
            </a:r>
            <a:endParaRPr b="1" lang="en-US" sz="1800" spc="1" strike="noStrike">
              <a:ln w="41400">
                <a:solidFill>
                  <a:srgbClr val="ff66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7" name=""/>
          <p:cNvSpPr/>
          <p:nvPr/>
        </p:nvSpPr>
        <p:spPr>
          <a:xfrm>
            <a:off x="4438800" y="3933720"/>
            <a:ext cx="2592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76440" y="407664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ff33"/>
                </a:solidFill>
                <a:latin typeface="黑体"/>
                <a:ea typeface="黑体"/>
              </a:rPr>
              <a:t>乔</a:t>
            </a:r>
            <a:r>
              <a:rPr b="1" lang="zh-CN" sz="4400" spc="-1" strike="noStrike">
                <a:solidFill>
                  <a:srgbClr val="99ff33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99ff33"/>
                </a:solidFill>
                <a:latin typeface="黑体"/>
                <a:ea typeface="黑体"/>
              </a:rPr>
              <a:t>辛普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280" y="549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握文本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141300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章记叙的主要内容是什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565360"/>
            <a:ext cx="59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05080" y="206064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记叙“我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与马尔攀登位于尼泊尔的帕杰尔墨峰的遇险、脱险的经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28720" y="3141720"/>
          <a:ext cx="7704000" cy="212544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38040"/>
                <a:gridCol w="1584360"/>
                <a:gridCol w="122400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次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作伙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待同伴的态度、行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2195640" y="4365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4869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429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遭遇险情，生死考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5080" y="4365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西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5080" y="4869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马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429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砍断绳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486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救助、劝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08720" y="429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栽入冰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08720" y="4797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成功获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4936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决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71640" y="17002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中记叙了两次登山经历，主要记叙哪次？采用了哪种记叙顺序？为何同时记叙两次登山经历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3141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00360" y="31878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插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5640" y="3187800"/>
            <a:ext cx="396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形成对比，突出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马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26920" y="54936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圈划、批注、交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中最能构突出人物形象表现、表现人物情感的描写性语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237024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示：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登山遇到的险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西蒙、“我”、和马尔是怎样面对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抓住“我”的外貌、心理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马尔的语言、动作等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登山环境以及遇险环境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西蒙的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501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刻画了马尔在患难之际能够与同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团结互助、生死与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品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98100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次登山的经历都是那样的难忘，那我们能否用“难忘的登山”来替换题目“生命之线”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87280" y="206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提示：圈划文中写到“生命之线”的语句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2708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命之线”是推进情节发展的线索，同时“生命之线”的具有更为丰富的精神内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383544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质之“线”：联结登山者身体的绳索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2560" y="4508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精神之“线”：登山者生死与共、团结互助的品质，挑战极限、顽强拼搏的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76500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登山运动是这样的危险，为什么我仍旧“无怨无悔”，依然钟情于这“迷人的”登山运动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198900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品读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段——“我无怨无悔，登山运动是这样的迷人。一旦投身其中，不论有多么艰难，多么恐怖，都不会让人轻易从它身边离开。那举世罕见的壮观景色，那常人难以经受的艰难困苦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患难之时来自同伴的无私帮助，能让人感受和经历这世间最美丽的情感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55640" y="404640"/>
            <a:ext cx="78487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以为挫折、磨难是锻炼意志、增强能力的好机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邹韬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生布满了荆棘，我们想的惟一办法是从那些荆棘上迅速跨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伏尔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以勇敢的胸膛面对逆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贺拉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卓越的人一大优点是：在不利与艰难的遭遇里百折不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贝多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上天完全是为了坚强我们的意志，才在我们的道路上设下重重的障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泰戈尔 </a:t>
            </a:r>
            <a:br>
              <a:rPr sz="1800"/>
            </a:b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24080" y="4781520"/>
            <a:ext cx="6127560" cy="15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面对逆境，我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······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16000" y="765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迁移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1557360"/>
            <a:ext cx="68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积累“面对逆境”的名言警句，并根据自己的感受写一句自己的警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我们的生活中还有什么样的东西可以称之为“生命之线”？请举一例进行阐述。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左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06:22:45Z</dcterms:created>
  <dc:creator>wang</dc:creator>
  <dc:description/>
  <dc:language>en-US</dc:language>
  <cp:lastModifiedBy>zmj</cp:lastModifiedBy>
  <dcterms:modified xsi:type="dcterms:W3CDTF">2009-07-16T03:21:48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3000000000001024120</vt:lpwstr>
  </property>
</Properties>
</file>