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B1D-00DF-4247-8B10-9B4C1052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498-E3E1-4B4C-813E-CD6611A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30D-52A8-4D12-B26B-5C53D445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D02-69F4-4D98-88FE-1B8676F8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E0A-806B-410D-B177-3EE7A1A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0945-AE4C-4DC7-A6DC-7F00183E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271-7F9B-4354-8174-F2D8DE47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6C38-A8B7-4D68-ADDE-90E3282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FFB0-85A9-493B-A217-2A68C0D8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B90-8839-4C1E-B58A-165F5FC2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1C3F-3568-4986-8EF2-4F36F4F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02B-E1EC-4B0A-B577-8CDD762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AC62-E9D6-4567-9CF0-95B90AF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2687-91E4-48A6-AB82-57AE70E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2CB-5E0F-480E-AD1E-4591B27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90F7-BCFD-4BA8-9D62-12DF465E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FDF1-BAAB-4D7C-B91B-80A313D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F75-BFDC-467C-8592-276CF3A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326-9031-46AA-86A2-96D6B5E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0B3-192B-42EF-B146-5AEB4D9F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A88-1E38-4427-ADE8-A45F354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B85-7862-4871-B7FB-713565B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E04-2167-4C3F-AC66-562F0C42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7CA-4CD1-448A-B748-A75739E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74D-61F1-46D5-BEE2-B9AF3B603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0706-3E94-4128-A84E-1FA8F1B4E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11280" y="1268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六年级 语文 下册  第四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484360" y="2924280"/>
            <a:ext cx="347184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生命奏鸣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8798550087afc7184352468"/>
          <p:cNvPicPr/>
          <p:nvPr/>
        </p:nvPicPr>
        <p:blipFill>
          <a:blip r:embed="rId2"/>
          <a:stretch/>
        </p:blipFill>
        <p:spPr>
          <a:xfrm>
            <a:off x="755640" y="2349360"/>
            <a:ext cx="3457440" cy="2227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50072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胃肠道在蠕动时也会发出声音，称为蠕动音。当饥饿或腹泻时，肠胃蠕动加快，蠕动音也增强、增多，有时自己也可以听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咕噜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叫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435640" y="4797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咣啷、咣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整体感知"/>
          <p:cNvPicPr/>
          <p:nvPr/>
        </p:nvPicPr>
        <p:blipFill>
          <a:blip r:embed="rId3"/>
          <a:stretch/>
        </p:blipFill>
        <p:spPr>
          <a:xfrm>
            <a:off x="46836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411280" y="2349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还知道人体的哪些声音？能根据自己的了解，说出怎样从声音的变化判断一个人身体是否健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拓展学习"/>
          <p:cNvPicPr/>
          <p:nvPr/>
        </p:nvPicPr>
        <p:blipFill>
          <a:blip r:embed="rId2"/>
          <a:stretch/>
        </p:blipFill>
        <p:spPr>
          <a:xfrm>
            <a:off x="611280" y="1125360"/>
            <a:ext cx="2151000" cy="53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微笑的小女孩"/>
          <p:cNvPicPr/>
          <p:nvPr/>
        </p:nvPicPr>
        <p:blipFill>
          <a:blip r:embed="rId3"/>
          <a:stretch/>
        </p:blipFill>
        <p:spPr>
          <a:xfrm>
            <a:off x="826920" y="2781360"/>
            <a:ext cx="140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3203640" y="3141720"/>
            <a:ext cx="322092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55640" y="2133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有感情朗读课文，掌握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了解人体各器官的作用，从而掌握人体机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确本文主要的说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学习文章语言生动形象的特点，及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总的写作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836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476360" y="357336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蠕 黏 痉 挛 痹 鼾 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读一读"/>
          <p:cNvPicPr/>
          <p:nvPr/>
        </p:nvPicPr>
        <p:blipFill>
          <a:blip r:embed="rId2"/>
          <a:stretch/>
        </p:blipFill>
        <p:spPr>
          <a:xfrm>
            <a:off x="971640" y="981000"/>
            <a:ext cx="1755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3635280" y="1628640"/>
            <a:ext cx="4896000" cy="1800360"/>
          </a:xfrm>
          <a:prstGeom prst="cloudCallout">
            <a:avLst>
              <a:gd name="adj1" fmla="val -47796"/>
              <a:gd name="adj2" fmla="val 68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式阅读课文，看看如何划分段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小女孩"/>
          <p:cNvPicPr/>
          <p:nvPr/>
        </p:nvPicPr>
        <p:blipFill>
          <a:blip r:embed="rId2"/>
          <a:stretch/>
        </p:blipFill>
        <p:spPr>
          <a:xfrm>
            <a:off x="1403280" y="263700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初读感知"/>
          <p:cNvPicPr/>
          <p:nvPr/>
        </p:nvPicPr>
        <p:blipFill>
          <a:blip r:embed="rId3"/>
          <a:stretch/>
        </p:blipFill>
        <p:spPr>
          <a:xfrm>
            <a:off x="539640" y="112536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403280" y="285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总写活着的人各个内脏器官都要发出声音，汇成一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命奏鸣曲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整体感知"/>
          <p:cNvPicPr/>
          <p:nvPr/>
        </p:nvPicPr>
        <p:blipFill>
          <a:blip r:embed="rId2"/>
          <a:stretch/>
        </p:blipFill>
        <p:spPr>
          <a:xfrm>
            <a:off x="53964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826920" y="1916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分别从三个方面说明组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命奏鸣曲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乐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部分分三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第一层（第二自然段）说明心脏发出的声音与人体健康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第二层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说明肺脏发出的声音与人体健康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第三层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说明胃肠道发出的声音与人体健康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整体感知"/>
          <p:cNvPicPr/>
          <p:nvPr/>
        </p:nvPicPr>
        <p:blipFill>
          <a:blip r:embed="rId2"/>
          <a:stretch/>
        </p:blipFill>
        <p:spPr>
          <a:xfrm>
            <a:off x="53964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116000" y="278136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说明人体各种音响组成的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命奏鸣曲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成为人的生命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整体感知"/>
          <p:cNvPicPr/>
          <p:nvPr/>
        </p:nvPicPr>
        <p:blipFill>
          <a:blip r:embed="rId2"/>
          <a:stretch/>
        </p:blipFill>
        <p:spPr>
          <a:xfrm>
            <a:off x="53964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W020070214274136526130"/>
          <p:cNvPicPr/>
          <p:nvPr/>
        </p:nvPicPr>
        <p:blipFill>
          <a:blip r:embed="rId2"/>
          <a:stretch/>
        </p:blipFill>
        <p:spPr>
          <a:xfrm>
            <a:off x="5580000" y="2060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159240" y="46522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勤劳的鼓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26920" y="270828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它以每分钟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0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次的节律发出声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35280" y="4076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、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、特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整体感知"/>
          <p:cNvPicPr/>
          <p:nvPr/>
        </p:nvPicPr>
        <p:blipFill>
          <a:blip r:embed="rId3"/>
          <a:stretch/>
        </p:blipFill>
        <p:spPr>
          <a:xfrm>
            <a:off x="46836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h_body_c3"/>
          <p:cNvPicPr/>
          <p:nvPr/>
        </p:nvPicPr>
        <p:blipFill>
          <a:blip r:embed="rId2"/>
          <a:stretch/>
        </p:blipFill>
        <p:spPr>
          <a:xfrm>
            <a:off x="1258920" y="1989000"/>
            <a:ext cx="210960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838520" y="529992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管乐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780000" y="1989000"/>
            <a:ext cx="471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肺里有树枝一样分叉的气管、支气管、小支气管、毛细支气管，末端连着一个个小泡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肺泡，当气体出入时，就会吹奏出各种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在大的气管、支气管里发出的是音调较高、声音较响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哈”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肺泡里发出的是柔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呼”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整体感知"/>
          <p:cNvPicPr/>
          <p:nvPr/>
        </p:nvPicPr>
        <p:blipFill>
          <a:blip r:embed="rId3"/>
          <a:stretch/>
        </p:blipFill>
        <p:spPr>
          <a:xfrm>
            <a:off x="46836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2-06-06T07:14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