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2-03-28T09:34:02.582000000" idx="1">
    <p:pos x="1625" y="110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969696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4720" y="2082960"/>
            <a:ext cx="77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水龙吟 登健康赏心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4960" y="1704960"/>
            <a:ext cx="2057400" cy="581400"/>
          </a:xfrm>
          <a:prstGeom prst="rect">
            <a:avLst/>
          </a:prstGeom>
          <a:solidFill>
            <a:srgbClr val="fdcfda"/>
          </a:solidFill>
          <a:ln w="1260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0837"/>
                </a:solidFill>
                <a:latin typeface="Arial"/>
                <a:ea typeface="黑体"/>
              </a:rPr>
              <a:t>一石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14720" y="73332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有家难归的乡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4720" y="164160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对金人的激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4720" y="255096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对南宋朝廷无作为之愤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20960" y="1069920"/>
            <a:ext cx="285840" cy="1882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48960 h 1882800"/>
              <a:gd name="textAreaBottom" fmla="*/ 183384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38760" y="3567240"/>
            <a:ext cx="2733840" cy="263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12840"/>
            <a:ext cx="9144000" cy="89388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46080" y="137628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莼鲈之思——不愿归隐之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212840"/>
            <a:ext cx="9144000" cy="89388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20960"/>
            <a:ext cx="9144000" cy="89388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46080" y="137628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莼鲈之思——不愿归隐之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6080" y="300672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求田问舍——不会谋求私利之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12840"/>
            <a:ext cx="9144000" cy="89388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820960"/>
            <a:ext cx="9144000" cy="89388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30880"/>
            <a:ext cx="9144000" cy="893520"/>
          </a:xfrm>
          <a:prstGeom prst="rect">
            <a:avLst/>
          </a:pr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46080" y="137628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莼鲈之思——不愿归隐之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6080" y="300672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求田问舍——不会谋求私利之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6080" y="4638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树犹如此——报国无门、壮志难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0" b="-43"/>
          <a:stretch/>
        </p:blipFill>
        <p:spPr>
          <a:xfrm>
            <a:off x="0" y="330120"/>
            <a:ext cx="9144000" cy="6015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2520" y="195912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成功的词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41720" y="292896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失意的英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8960" y="2644920"/>
            <a:ext cx="28972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91120" y="3635280"/>
            <a:ext cx="28972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-43"/>
          <a:stretch/>
        </p:blipFill>
        <p:spPr>
          <a:xfrm>
            <a:off x="0" y="330120"/>
            <a:ext cx="9144000" cy="6015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62520" y="195912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成功的词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41720" y="292896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华文新魏"/>
              </a:rPr>
              <a:t>失意的英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16560"/>
            <a:ext cx="9144000" cy="981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98960" y="2644920"/>
            <a:ext cx="28972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1120" y="3635280"/>
            <a:ext cx="28972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85960" y="4614840"/>
            <a:ext cx="7638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05320" y="2720880"/>
            <a:ext cx="49352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辛弃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140.5.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207.10.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南宋爱国词人。原字坦夫，改字幼安，中年名所居曰稼轩，因此自号“稼轩居士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-235" b="64"/>
          <a:stretch/>
        </p:blipFill>
        <p:spPr>
          <a:xfrm>
            <a:off x="671400" y="2278080"/>
            <a:ext cx="2301840" cy="2800440"/>
          </a:xfrm>
          <a:prstGeom prst="rect">
            <a:avLst/>
          </a:prstGeom>
          <a:ln w="28440">
            <a:solidFill>
              <a:srgbClr val="fdcfda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963880" y="339840"/>
            <a:ext cx="3171960" cy="958680"/>
          </a:xfrm>
          <a:custGeom>
            <a:avLst/>
            <a:gdLst>
              <a:gd name="textAreaLeft" fmla="*/ 112680 w 3171960"/>
              <a:gd name="textAreaRight" fmla="*/ 3059280 w 3171960"/>
              <a:gd name="textAreaTop" fmla="*/ 112680 h 958680"/>
              <a:gd name="textAreaBottom" fmla="*/ 846000 h 958680"/>
            </a:gdLst>
            <a:ahLst/>
            <a:rect l="textAreaLeft" t="textAreaTop" r="textAreaRight" b="textAreaBottom"/>
            <a:pathLst>
              <a:path w="714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849" y="21600"/>
                </a:lnTo>
                <a:arcTo wR="3600" hR="3600" stAng="10800000" swAng="5400000"/>
                <a:lnTo>
                  <a:pt x="71449" y="3600"/>
                </a:lnTo>
                <a:arcTo wR="3600" hR="3600" stAng="5400000" swAng="5400000"/>
                <a:close/>
              </a:path>
            </a:pathLst>
          </a:cu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7920" y="49068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d072f"/>
                </a:solidFill>
                <a:latin typeface="Arial"/>
                <a:ea typeface="方正黄草_GBK"/>
              </a:rPr>
              <a:t>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1440" y="1841400"/>
            <a:ext cx="804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辛弃疾初来南方，对朝廷的怯懦和畏缩并不了解，加上宋高宗赵构曾赞许过他的英勇行为，不久后即位的宋孝宗也一度表现出想要恢复失地、报仇雪耻的锐气，所以在他南宋任职的前一时期中，曾热情洋溢地写了不少有关抗金北伐的建议，像著名的《美芹十论》、《九议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63880" y="339840"/>
            <a:ext cx="3171960" cy="958680"/>
          </a:xfrm>
          <a:custGeom>
            <a:avLst/>
            <a:gdLst>
              <a:gd name="textAreaLeft" fmla="*/ 112680 w 3171960"/>
              <a:gd name="textAreaRight" fmla="*/ 3059280 w 3171960"/>
              <a:gd name="textAreaTop" fmla="*/ 112680 h 958680"/>
              <a:gd name="textAreaBottom" fmla="*/ 846000 h 958680"/>
            </a:gdLst>
            <a:ahLst/>
            <a:rect l="textAreaLeft" t="textAreaTop" r="textAreaRight" b="textAreaBottom"/>
            <a:pathLst>
              <a:path w="714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849" y="21600"/>
                </a:lnTo>
                <a:arcTo wR="3600" hR="3600" stAng="10800000" swAng="5400000"/>
                <a:lnTo>
                  <a:pt x="71449" y="3600"/>
                </a:lnTo>
                <a:arcTo wR="3600" hR="3600" stAng="5400000" swAng="5400000"/>
                <a:close/>
              </a:path>
            </a:pathLst>
          </a:cu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7920" y="49068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d072f"/>
                </a:solidFill>
                <a:latin typeface="Arial"/>
                <a:ea typeface="方正黄草_GBK"/>
              </a:rPr>
              <a:t>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3040" y="1444680"/>
            <a:ext cx="8196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尽管这些建议书在当时深受人们称赞，广为传诵，但已经不愿意再打仗的朝廷却反映冷淡，只是对辛弃疾在建议书中所表现出的实际才干很感兴趣，于是先后把他派到江西、湖北、湖南等地担任转运使、安抚使一类重要的地方官职，去治理荒政、整顿治安。这显然与辛弃疾的理想大相径庭，虽然他干得很出色，但由于深感岁月流驰、人生短暂而壮志难酬，内心却越来越感到压抑和痛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63880" y="339840"/>
            <a:ext cx="3171960" cy="958680"/>
          </a:xfrm>
          <a:custGeom>
            <a:avLst/>
            <a:gdLst>
              <a:gd name="textAreaLeft" fmla="*/ 112680 w 3171960"/>
              <a:gd name="textAreaRight" fmla="*/ 3059280 w 3171960"/>
              <a:gd name="textAreaTop" fmla="*/ 112680 h 958680"/>
              <a:gd name="textAreaBottom" fmla="*/ 846000 h 958680"/>
            </a:gdLst>
            <a:ahLst/>
            <a:rect l="textAreaLeft" t="textAreaTop" r="textAreaRight" b="textAreaBottom"/>
            <a:pathLst>
              <a:path w="714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849" y="21600"/>
                </a:lnTo>
                <a:arcTo wR="3600" hR="3600" stAng="10800000" swAng="5400000"/>
                <a:lnTo>
                  <a:pt x="71449" y="3600"/>
                </a:lnTo>
                <a:arcTo wR="3600" hR="3600" stAng="5400000" swAng="5400000"/>
                <a:close/>
              </a:path>
            </a:pathLst>
          </a:cu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920" y="49068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d072f"/>
                </a:solidFill>
                <a:latin typeface="Arial"/>
                <a:ea typeface="方正黄草_GBK"/>
              </a:rPr>
              <a:t>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8480" y="1741320"/>
            <a:ext cx="8196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然而现实对辛弃疾是严酷的。他虽有出色的才干，他的豪迈倔强的性格和执着北伐的热情，却使他难以在畏缩而又圆滑、嫉贤妒能的官场上立足。另外，“归正人”的尴尬身份也阻拦了他仕途的发展。使他的官职最高为从四品龙图阁待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3880" y="339840"/>
            <a:ext cx="3171960" cy="958680"/>
          </a:xfrm>
          <a:custGeom>
            <a:avLst/>
            <a:gdLst>
              <a:gd name="textAreaLeft" fmla="*/ 112680 w 3171960"/>
              <a:gd name="textAreaRight" fmla="*/ 3059280 w 3171960"/>
              <a:gd name="textAreaTop" fmla="*/ 112680 h 958680"/>
              <a:gd name="textAreaBottom" fmla="*/ 846000 h 958680"/>
            </a:gdLst>
            <a:ahLst/>
            <a:rect l="textAreaLeft" t="textAreaTop" r="textAreaRight" b="textAreaBottom"/>
            <a:pathLst>
              <a:path w="714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849" y="21600"/>
                </a:lnTo>
                <a:arcTo wR="3600" hR="3600" stAng="10800000" swAng="5400000"/>
                <a:lnTo>
                  <a:pt x="71449" y="3600"/>
                </a:lnTo>
                <a:arcTo wR="3600" hR="3600" stAng="5400000" swAng="5400000"/>
                <a:close/>
              </a:path>
            </a:pathLst>
          </a:cu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7920" y="49068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d072f"/>
                </a:solidFill>
                <a:latin typeface="Arial"/>
                <a:ea typeface="方正黄草_GBK"/>
              </a:rPr>
              <a:t>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1717560"/>
            <a:ext cx="8196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他也意识到自己“刚拙自信，年来不为众人所容”（《论盗贼札子》），所以早已做好了归隐的准备，并在江西上饶的带湖畔修建了园榭，以便离职后定居。果然，淳熙八年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18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冬，辛弃疾四十二岁时，因受到弹劾而被免职，归居上饶。此后二十年间，他除了有两年一度出任福建提点刑狱和福建安抚使外，大部分时间都在乡闲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63880" y="339840"/>
            <a:ext cx="3171960" cy="958680"/>
          </a:xfrm>
          <a:custGeom>
            <a:avLst/>
            <a:gdLst>
              <a:gd name="textAreaLeft" fmla="*/ 112680 w 3171960"/>
              <a:gd name="textAreaRight" fmla="*/ 3059280 w 3171960"/>
              <a:gd name="textAreaTop" fmla="*/ 112680 h 958680"/>
              <a:gd name="textAreaBottom" fmla="*/ 846000 h 958680"/>
            </a:gdLst>
            <a:ahLst/>
            <a:rect l="textAreaLeft" t="textAreaTop" r="textAreaRight" b="textAreaBottom"/>
            <a:pathLst>
              <a:path w="714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849" y="21600"/>
                </a:lnTo>
                <a:arcTo wR="3600" hR="3600" stAng="10800000" swAng="5400000"/>
                <a:lnTo>
                  <a:pt x="71449" y="3600"/>
                </a:lnTo>
                <a:arcTo wR="3600" hR="3600" stAng="5400000" swAng="5400000"/>
                <a:close/>
              </a:path>
            </a:pathLst>
          </a:custGeom>
          <a:solidFill>
            <a:srgbClr val="fdcfda"/>
          </a:solidFill>
          <a:ln w="3816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7920" y="490680"/>
            <a:ext cx="34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d072f"/>
                </a:solidFill>
                <a:latin typeface="Arial"/>
                <a:ea typeface="方正黄草_GBK"/>
              </a:rPr>
              <a:t>人物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1704960"/>
            <a:ext cx="2057400" cy="581400"/>
          </a:xfrm>
          <a:prstGeom prst="rect">
            <a:avLst/>
          </a:prstGeom>
          <a:solidFill>
            <a:srgbClr val="fdcfda"/>
          </a:solidFill>
          <a:ln w="1260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0837"/>
                </a:solidFill>
                <a:latin typeface="Arial"/>
                <a:ea typeface="黑体"/>
              </a:rPr>
              <a:t>一石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38760" y="3567240"/>
            <a:ext cx="2733840" cy="263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4960" y="1704960"/>
            <a:ext cx="2057400" cy="581400"/>
          </a:xfrm>
          <a:prstGeom prst="rect">
            <a:avLst/>
          </a:prstGeom>
          <a:solidFill>
            <a:srgbClr val="fdcfda"/>
          </a:solidFill>
          <a:ln w="1260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0837"/>
                </a:solidFill>
                <a:latin typeface="Arial"/>
                <a:ea typeface="黑体"/>
              </a:rPr>
              <a:t>一石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4720" y="73332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有家难归的乡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0960" y="1069920"/>
            <a:ext cx="285840" cy="1882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48960 h 1882800"/>
              <a:gd name="textAreaBottom" fmla="*/ 183384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38760" y="3567240"/>
            <a:ext cx="2733840" cy="263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4960" y="1704960"/>
            <a:ext cx="2057400" cy="581400"/>
          </a:xfrm>
          <a:prstGeom prst="rect">
            <a:avLst/>
          </a:prstGeom>
          <a:solidFill>
            <a:srgbClr val="fdcfda"/>
          </a:solidFill>
          <a:ln w="12600">
            <a:solidFill>
              <a:srgbClr val="ce0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e0837"/>
                </a:solidFill>
                <a:latin typeface="Arial"/>
                <a:ea typeface="黑体"/>
              </a:rPr>
              <a:t>一石三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4720" y="73332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有家难归的乡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4720" y="164160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对金人的激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20960" y="1069920"/>
            <a:ext cx="285840" cy="1882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48960 h 1882800"/>
              <a:gd name="textAreaBottom" fmla="*/ 183384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8760" y="3567240"/>
            <a:ext cx="2733840" cy="263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3:30:14Z</dcterms:created>
  <dc:creator>www.xkb1.com; liuhong</dc:creator>
  <dc:description>www.xkb1.com</dc:description>
  <cp:keywords>www.xkb1.com</cp:keywords>
  <dc:language>en-US</dc:language>
  <cp:lastModifiedBy>新课标第一网</cp:lastModifiedBy>
  <dcterms:modified xsi:type="dcterms:W3CDTF">2012-03-28T01:34:04Z</dcterms:modified>
  <cp:revision>467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6000000000001023600</vt:lpwstr>
  </property>
</Properties>
</file>