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5F2-1067-40DD-AD43-AF89D49F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883-BDA3-4692-BE2D-4CA5E77B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0D7-B411-48DA-A9C5-26144DDB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7A57-0CCF-405B-887F-ED282AD4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C465-A122-4226-80CB-1EAEEA90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1FE-2407-4BC3-A5A6-903CC3CB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373-FD94-41FD-B15F-A6918870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8A3-C871-427B-8D73-38FE4CF3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E94-FE6D-4895-99BA-A804AF23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D1E-5A0D-4F83-B931-9553C9D8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9C4-9E0D-4BCE-8394-5CC31644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873-EB86-4137-956F-478FEE02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BCFD-6355-4F3B-9F41-B48AE0B71A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29680" y="907920"/>
            <a:ext cx="32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世纪之交的科学随想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05880" y="2205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cc"/>
                </a:solidFill>
                <a:latin typeface="Arial"/>
              </a:rPr>
              <a:t>杨振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19160" y="2421000"/>
            <a:ext cx="73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⒈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了解杨振宁的相关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⒉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了解二百年来，世界科学发展的历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⒊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了解中美教育在鼓励创新上的异同。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70280" y="90792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cc"/>
                </a:solidFill>
                <a:latin typeface="黑体"/>
                <a:ea typeface="黑体"/>
              </a:rPr>
              <a:t>作者简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2421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杨振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美籍华人，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92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出生安徽省，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938—194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在中国西南联合大学物理系读书获硕士学位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94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赴美求学，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94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芝加哥大学哲学博士学位，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95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与另一位华人科学家李政道合作共同提出宇称不守恒理论，因此与李政通共同获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95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诺贝尔物理学奖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97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以来，他多次到中国探亲、访问、讲学。分别受聘为北大、科大等八所大学的名誉教授。在促进中美科技交流和合作中起了重要作用，还努力帮助中国学者在美进行科研和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cc"/>
                </a:solidFill>
                <a:latin typeface="Arial"/>
              </a:rPr>
              <a:t>自读课文，整体感知，理清结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09920" y="1844640"/>
            <a:ext cx="6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光纤、挠头、聘用、弥补、胆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01680" y="2519280"/>
            <a:ext cx="45900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5000" y="2565360"/>
            <a:ext cx="10335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Arial"/>
              </a:rPr>
              <a:t>世纪之交的科学随想</a:t>
            </a:r>
            <a:r>
              <a:rPr b="0" lang="zh-CN" sz="1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3213000"/>
            <a:ext cx="88920" cy="1935360"/>
          </a:xfrm>
          <a:custGeom>
            <a:avLst/>
            <a:gdLst>
              <a:gd name="textAreaLeft" fmla="*/ 56880 w 88920"/>
              <a:gd name="textAreaRight" fmla="*/ 89280 w 88920"/>
              <a:gd name="textAreaTop" fmla="*/ 50400 h 1935360"/>
              <a:gd name="textAreaBottom" fmla="*/ 1884960 h 193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51760" y="2852640"/>
            <a:ext cx="219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第一部分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回顾近两百年出现的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事物并分析其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第二部分（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分析世界现状，指出中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科技、教育差异，鼓励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新个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708280"/>
            <a:ext cx="28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cc"/>
                </a:solidFill>
                <a:latin typeface="Arial"/>
              </a:rPr>
              <a:t>第一层（  ）新发明、新事物层出不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cc"/>
                </a:solidFill>
                <a:latin typeface="Arial"/>
              </a:rPr>
              <a:t>第二层（  ）新发明、新事物出现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4653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cc"/>
                </a:solidFill>
                <a:latin typeface="Arial"/>
              </a:rPr>
              <a:t>第一层（  ）科和技的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cc"/>
                </a:solidFill>
                <a:latin typeface="Arial"/>
              </a:rPr>
              <a:t>第二层（  ）中美教育哲学的异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4292640"/>
            <a:ext cx="88920" cy="1935000"/>
          </a:xfrm>
          <a:custGeom>
            <a:avLst/>
            <a:gdLst>
              <a:gd name="textAreaLeft" fmla="*/ 56880 w 88920"/>
              <a:gd name="textAreaRight" fmla="*/ 89280 w 88920"/>
              <a:gd name="textAreaTop" fmla="*/ 50400 h 1935000"/>
              <a:gd name="textAreaBottom" fmla="*/ 1884600 h 193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2133720"/>
            <a:ext cx="88920" cy="1935000"/>
          </a:xfrm>
          <a:custGeom>
            <a:avLst/>
            <a:gdLst>
              <a:gd name="textAreaLeft" fmla="*/ 56880 w 88920"/>
              <a:gd name="textAreaRight" fmla="*/ 89280 w 88920"/>
              <a:gd name="textAreaTop" fmla="*/ 50400 h 1935000"/>
              <a:gd name="textAreaBottom" fmla="*/ 1884600 h 193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四、课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77336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⒈</a:t>
            </a: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用文中的一句话来回答作者认为两百多年来产生许多新事物的原因。（第</a:t>
            </a: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段中“工业的发展大大促进了人类的生产力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⒉</a:t>
            </a: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第</a:t>
            </a: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段综合运用了哪些说明方法？作用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⒊</a:t>
            </a: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作者对于“科”与“技”的关系持什么看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（明确：二者谁更重要些的问题，没有简单答案，要因地制宜，因人制宜，因国家制宜。）科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↗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经济←</a:t>
            </a: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工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⒋</a:t>
            </a: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文中第</a:t>
            </a: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ffcc"/>
                </a:solidFill>
                <a:latin typeface="Arial"/>
              </a:rPr>
              <a:t>段作者指出，世界是由三个互相关联的环节推动前进的，用“→、←”表示出三者的关系。明确这是一个良性循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62840" y="1187280"/>
            <a:ext cx="170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科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    ↗   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经济←</a:t>
            </a:r>
            <a:r>
              <a:rPr b="0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-</a:t>
            </a:r>
            <a:r>
              <a:rPr b="0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工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826920" y="1073160"/>
            <a:ext cx="741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⒌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阅读课文第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段，完成下列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释词语：按部就班：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本段主要谈什么问题？（明确：分析中美两国的异同及适应对象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中美教育哲学的共同点是什么？（都能鼓励创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④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就适应对象而言，中美教育各适合哪一部分学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⑤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就学习方式而言，中美教育有何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（中国教育的学习方式属按部就班的训练，美国是跳跃式学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766960" y="67932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cc"/>
                </a:solidFill>
                <a:latin typeface="黑体"/>
                <a:ea typeface="黑体"/>
              </a:rPr>
              <a:t>阅读附文，加深认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63640" y="285264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结合你自身素质及学习成绩，你认为自己更适合哪种学习方式，应注意哪些关键能力的培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03:09:39Z</dcterms:created>
  <dc:creator>校长室</dc:creator>
  <dc:description/>
  <dc:language>en-US</dc:language>
  <cp:lastModifiedBy>校长室</cp:lastModifiedBy>
  <dcterms:modified xsi:type="dcterms:W3CDTF">2006-07-10T04:01:21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03000000000001024120</vt:lpwstr>
  </property>
</Properties>
</file>