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camera.wav" ContentType="audio/x-wav"/>
  <Override PartName="/ppt/media/image21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2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155-A24A-4A46-A60A-89100CD5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B37-6BAE-49AD-9EB0-71B21F5F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70C-9CD7-42EC-8B36-2539F017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D79-D2F0-452F-A27B-4796A5A8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914-FE40-4A10-8D33-E1A26227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3CB-1077-4FB6-A286-11862F19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8DA-D891-47A8-9BE7-59B3D128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4C4-F192-46EA-BDF8-F36412AF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542-EE72-4A4F-84E4-795A193A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4AB-FB55-4ED0-BCA6-A07ACF0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960-0214-4A96-ADFC-69E1E8CF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2D7-F3C8-4C60-9417-4AA2BCC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3129-F0CC-4D20-BABE-C7FAEEE7A7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sjt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66680" y="533520"/>
            <a:ext cx="56390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失街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(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  <a:ea typeface="华文中宋"/>
              </a:rPr>
              <a:t>七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3240" y="312408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罗贯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jt4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19320" y="914400"/>
            <a:ext cx="2540520" cy="4495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怎样把握马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的性格特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课文中三次写到马谡的笑，每次笑的对象、原因、含义不同，请按要求回答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3716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第一次笑的对象是谁？笑的原因是什么？笑的含义是什么？人物性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90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诸葛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52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笑他周密部署，分派重兵把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2670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笑他部署不当，过于小心，不如自己准确得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5410080"/>
            <a:ext cx="8076960" cy="1099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隶书"/>
                <a:ea typeface="隶书"/>
              </a:rPr>
              <a:t>狂妄自大  盲目轻敌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二次笑的对象是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笑的原因是什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笑的含义是什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人物性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王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王平劝阻他在山上屯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20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觉得王平见识短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如自己熟读兵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部署得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52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三次笑的对象是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笑的原因是什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笑的含义是什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人物性格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343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司马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876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笑他亲自察看自己的部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准备攻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1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认为自己部署得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司马懿来攻打完全是白白送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743200"/>
            <a:ext cx="434340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死守教条  好大喜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5943600"/>
            <a:ext cx="441972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寡谋少虑  麻痹大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ji1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84" name="sjt8" descr=""/>
          <p:cNvPicPr/>
          <p:nvPr/>
        </p:nvPicPr>
        <p:blipFill>
          <a:blip r:embed="rId2"/>
          <a:stretch/>
        </p:blipFill>
        <p:spPr>
          <a:xfrm>
            <a:off x="3200400" y="0"/>
            <a:ext cx="289548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3526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sjt4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4343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华文中宋"/>
              </a:rPr>
              <a:t>这是一个狂妄自大、死守教条、纸上谈兵、好大喜功、刚愎自用、盲目轻敌、寡谋少虑的败将形象。（练习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80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5157720"/>
            <a:ext cx="882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话题谈论：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你觉得诸葛亮是神吗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75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525780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课文主要从什么地方表现诸葛亮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哪个细节描写最精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64720" cy="482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1768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诸葛亮挥泪斩马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80680" y="595008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赏罚严明、严于自责、体恤部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课文“斩马谡”一节，三次写到孔明的哭，但哭的方式不同，第一次是挥泪，反映出孔明什么思想活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9718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被马谡临逝之言所感动，对马谡即将被处死，从个人感情上深表同情、悲痛，表现孔明极富人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二次哭的表达方式是怎样的？反映出孔明什么思想活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流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96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斩马谡是为了正军法，不得已而为之，实际上自己内心是极不愿意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50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三次哭的表达方式是怎样的？反映出孔明什么思想活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00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大哭不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为自己用人不当，深感有负先帝，深深自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988760" y="685800"/>
            <a:ext cx="1155240" cy="32767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猜猜看，这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gugeliang1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07" name="sji3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sli7" descr=""/>
          <p:cNvPicPr/>
          <p:nvPr/>
        </p:nvPicPr>
        <p:blipFill>
          <a:blip r:embed="rId3"/>
          <a:stretch/>
        </p:blipFill>
        <p:spPr>
          <a:xfrm>
            <a:off x="3124080" y="4038480"/>
            <a:ext cx="289584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sji6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289548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诸葛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685800"/>
            <a:ext cx="5867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深谋远虑、细心周到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勇于自责、光明磊落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大公无私、赏罚分明、极富人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（练习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58920" y="1773360"/>
            <a:ext cx="6481800" cy="4836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6880" y="2565360"/>
            <a:ext cx="9115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ff"/>
                </a:solidFill>
                <a:latin typeface="方正舒体"/>
                <a:ea typeface="方正舒体"/>
              </a:rPr>
              <a:t>马   谡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61040" y="2421000"/>
            <a:ext cx="9115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ff"/>
                </a:solidFill>
                <a:latin typeface="方正舒体"/>
                <a:ea typeface="方正舒体"/>
              </a:rPr>
              <a:t>诸 葛 亮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33336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话题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失街亭，谁之过？</a:t>
            </a:r>
            <a:r>
              <a:rPr b="1" i="1" lang="zh-CN" sz="40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63640" y="2997360"/>
            <a:ext cx="568800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亮失察，谡失谋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4000" y="293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《失街亭》可资借鉴之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33680"/>
            <a:ext cx="821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凡事要从实际出发，不可死搬教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处理事务要善于纳言，不可狂妄自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在矛盾面前要知己知彼，深思熟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出了问题要分析原因，勇于自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赏罚要严明，执法要严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认识事物、选用人才都应尽可能的全面而准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脱离实际、麻痹大意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</a:rPr>
              <a:t>必然会身败名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371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《三国演义》原名《                           》描写了从黄巾起义开始，到（       ）灭亡、（          ）统一为止，前后共九十七年的政治、军事、 外交等方面的斗争。这部小说是在（        ）文学和（        ）资料的基础上，经过作者的（            ）而形成的，它在政治上有明显的尊（    ）贬（     ）的倾向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2193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三国志通俗演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438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两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8128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民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3581280"/>
            <a:ext cx="126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历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114800"/>
            <a:ext cx="19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再创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7242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6483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228600"/>
            <a:ext cx="4952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请做几个练习题：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75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75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7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05720" y="5389560"/>
            <a:ext cx="1881000" cy="1087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1274760"/>
            <a:ext cx="822960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6600ff"/>
                </a:solidFill>
                <a:latin typeface="华文行楷"/>
                <a:ea typeface="华文行楷"/>
              </a:rPr>
              <a:t>给下列加点的字注音正确的一项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A  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马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谡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shù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  曹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叡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ruì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   寨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栅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zhà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B  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偏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裨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    文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几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jǐ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     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咽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喉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yīn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C  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张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郃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hé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   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掎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角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jǐ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     城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垣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yuán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D  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垓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心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gāi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   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长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史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cháng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 </a:t>
            </a:r>
            <a:r>
              <a:rPr b="1" lang="zh-CN" sz="3200" spc="-1" strike="noStrike" u="sng">
                <a:solidFill>
                  <a:srgbClr val="ff33cc"/>
                </a:solidFill>
                <a:uFillTx/>
                <a:latin typeface="华文中宋"/>
                <a:ea typeface="华文中宋"/>
              </a:rPr>
              <a:t> 辎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重（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zī</a:t>
            </a:r>
            <a:r>
              <a:rPr b="1" lang="zh-CN" sz="32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525780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《失街亭》节选自（               ）体长篇（           ）小说《三国演义》。这篇课文写的是（             ）双方交战，但以（      ）方为主，以（          ）的活动为中心，遇有关联之处，才略写（      ）方，不枝不蔓，显得十分清晰。写战争的发展，按（          ）顺序逐步展交代。在人物形象的刻划上，则着重（         ）方面的描写，以此来展示人物的性格特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0492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章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8380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历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16002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13716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蜀、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孔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2666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9625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44197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75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75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75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762120"/>
            <a:ext cx="86104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下列解释有错误的一项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司马懿非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等闲之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平常的人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男亲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哨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探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彼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有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不来围山（有性命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孔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跌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叹（跺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魏延围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垓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战场的中心）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命马岱、姜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断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在后面掩护军队撤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鼓噪呐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击鼓喧哗）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舜帝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鲧思禹之义（杀死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3600" y="762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（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B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00800" y="5581800"/>
            <a:ext cx="17524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解释下列词语中加横线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道而行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手不及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等闲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之     辈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若有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差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画四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八道地形图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阳平关冲要道路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汲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水之道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自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志气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彼若有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命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见事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9568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答案：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加倍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处置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平常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差错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到达的地点、界限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正处在（某处）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打水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灭、毁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运气、命运 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顺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86200" y="8380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，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湖海散人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贯中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</a:rPr>
              <a:t>是他的字，山西太原人。他出生于元代，死于明初，他生平不见史传，据一些片断材料说，他性格孤僻，“与人寡合”，因“遭时多故”，东奔西走，“不知其终”。他在文学上的成就是多方面的，据说小说创作有数十种，曾写过十七史演义，除《三国演义》外，还有《隋唐志传》《残唐五代史演义》《三逐平妖传》等。他写过杂剧，有《赵太祖龙虎风云会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c905" descr=""/>
          <p:cNvPicPr/>
          <p:nvPr/>
        </p:nvPicPr>
        <p:blipFill>
          <a:blip r:embed="rId1"/>
          <a:stretch/>
        </p:blipFill>
        <p:spPr>
          <a:xfrm>
            <a:off x="0" y="0"/>
            <a:ext cx="3871800" cy="7413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1330---1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52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Times New Roman"/>
              </a:rPr>
              <a:t>三国演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7524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《三国演义》原名《三国志通俗演义》，也称    《三国志演义》，是我国第一部章回小说，也是我国最有代表性的长篇历史演义小说。作者以东汉末年及魏、蜀、吴三国历史为题材，在民间传说和民间艺人创作的话本、戏曲基础上，运用陈寿的《三国志》和裴松之注的正史材料，结合自己的生活经验而写成。小说描写了三国时期纷繁的事件和众多的人物，广泛地反映了当时的社会生活。前人用“文不甚深，言不甚俗”来说明它的语言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hxs033a" descr=""/>
          <p:cNvPicPr/>
          <p:nvPr/>
        </p:nvPicPr>
        <p:blipFill>
          <a:blip r:embed="rId1"/>
          <a:stretch/>
        </p:blipFill>
        <p:spPr>
          <a:xfrm>
            <a:off x="3657600" y="0"/>
            <a:ext cx="4773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143000" y="1752480"/>
            <a:ext cx="67816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能自述课文情节吗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与课文相关的情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9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回梗概：马谡立下军令状，自告奋勇去守街亭。司马懿指挥大军把马谡的军营围困在一座土山上，蜀军不战自乱，街亭失守，魏延、王平等各路人也频频失利。司马懿兵到西城，诸葛亮临危不惧，用空城计吓退了司马懿。  第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9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回梗概：马谡自缚前来请罪，为了严明军纪，诸葛亮挥泪斩马谡，然后又上表刘禅，自贬三级。曹休准备进攻吴国，鄱阳太守周鲂到曹营诈降，以自刎、断发 之举骗取了曹休的信任，结果曹休大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533520"/>
            <a:ext cx="7239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分析情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你能给每部分内容取小标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09680"/>
            <a:ext cx="8001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（一）马谡自荐领兵守街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（二）司马懿知己知彼夺街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（三）孔明知失街亭安排退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（四）孔明赏有功并挥泪斩马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失街亭" descr=""/>
          <p:cNvPicPr/>
          <p:nvPr/>
        </p:nvPicPr>
        <p:blipFill>
          <a:blip r:embed="rId1"/>
          <a:stretch/>
        </p:blipFill>
        <p:spPr>
          <a:xfrm>
            <a:off x="0" y="0"/>
            <a:ext cx="3562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sji1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sji3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85480" y="1371600"/>
            <a:ext cx="1399320" cy="26668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隶书"/>
              </a:rPr>
              <a:t>主要人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44" descr=""/>
          <p:cNvPicPr/>
          <p:nvPr/>
        </p:nvPicPr>
        <p:blipFill>
          <a:blip r:embed="rId1"/>
          <a:srcRect l="0" t="0" r="0" b="214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sjt4" descr=""/>
          <p:cNvPicPr/>
          <p:nvPr/>
        </p:nvPicPr>
        <p:blipFill>
          <a:blip r:embed="rId2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13:06:32Z</dcterms:created>
  <dc:creator>北大附中网校</dc:creator>
  <dc:description/>
  <dc:language>en-US</dc:language>
  <cp:lastModifiedBy>Microsoft user</cp:lastModifiedBy>
  <dcterms:modified xsi:type="dcterms:W3CDTF">2006-03-16T12:52:09Z</dcterms:modified>
  <cp:revision>24</cp:revision>
  <dc:subject/>
  <dc:title>PowerPoint 演示文稿</dc:title>
</cp:coreProperties>
</file>