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0AD5-02E3-43F2-8769-95BC43CDD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4D39-B8ED-4A94-8127-9094FB30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428B-693E-44F9-9BCE-9C26076C6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C7F6-558D-4E5E-826C-68D3550A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478D-FED2-480F-AB7A-74B63D9DA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1931-656E-44B4-8771-A0ED7A1C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F838-E38E-4894-802B-F8A566D5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0C6F-A8DC-4617-9006-918F5641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A9B3-5DF9-4462-BC9C-5C22FDFD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66B9-D1F6-44C7-BC8C-1B471222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A351-6B26-4945-85CC-C532E292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2C66-7D11-4236-971B-B29F3990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C110-6B3F-442E-85AE-872ECBCD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FEF22-EEE9-4164-9433-649D989A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345F-098B-425C-8413-3A3BF271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9F07-4F0C-4A87-BD46-147E52BAB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66C9-DCCB-42C7-8F63-359BCCC05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5359-8CBC-4292-A4C4-45F0A8D1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959D-6D2F-4F1F-9E47-1F3BF020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A477-C27A-44CD-B74B-00D28FD3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E3C3-7BE1-4D4F-B830-42FE9E30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73F5-7E00-4F92-AFE4-59D3CE51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1F65-A685-400E-8A92-59F8BB4F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2852-B10B-4E32-A331-E36AF82A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F3E1-7971-4BD8-8F0E-81D8B0614025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6530-5354-4984-B0FB-F28B12907213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99"/>
                </a:solidFill>
                <a:latin typeface="Arial"/>
                <a:ea typeface="华文行楷"/>
              </a:rPr>
              <a:t>近体诗八首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95640" y="3213000"/>
            <a:ext cx="43196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</a:rPr>
              <a:t>之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</a:rPr>
              <a:t>山居秋暝</a:t>
            </a:r>
            <a:r>
              <a:rPr b="0" lang="en-US" sz="4800" spc="-1" strike="noStrike">
                <a:solidFill>
                  <a:srgbClr val="007a77"/>
                </a:solidFill>
                <a:latin typeface="Arial"/>
              </a:rPr>
              <a:t>》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5406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  <a:ea typeface="楷体_GB2312"/>
              </a:rPr>
              <a:t>其他鉴赏内容（讨论）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125000"/>
            <a:ext cx="85406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一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．“竹喧归浣女，莲动下渔舟”一句的词序还可作两种排列：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竹喧浣女归，莲动渔舟下；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浣女归竹喧，渔舟下莲动。与上两种排列相比，诗人的排列有哪些作用 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2852640"/>
            <a:ext cx="813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有五个作用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第一种排列相比，它是为了押韵的需要，“舟”与“秋”“流”“留”押韵，符合近体诗的格律要求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“归”与“下”作使动用，使句子更为活泼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第二种排列相比，它反映了一种生活的真实：因为浣女隐在竹林之中，渔舟被莲叶遮蔽，起初未见，等到听到竹林喧声，看到莲叶纷披，才发现浣女、莲舟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竹喧”“莲动”置前，可以突出山间景物的神奇美妙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样写可以产生“未见其人，先闻其声”的艺术效果，更添情趣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1680" y="404280"/>
            <a:ext cx="8540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二、所谓诗眼，就是一首诗中的关键词句，有了这一个词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这个词可能是一个字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或这一个句子，全诗境界尽出。 这首诗的“诗眼”是哪一句？为什么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234936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答：是“王孙自可留”一句。因为前面三联描写空山、新雨的大环境和月、松、泉、石、竹、莲及浣女、渔舟八种景物，组合成宁静淳美而清新活泼的画面，诗中有画，这些描写都是渲染，都是寄寓，是间接表现诗人的高洁情趣。“随意春芳歇，王孙自可留”一联化用楚辞中“王孙兮归来，山中兮不可久留 ”，反其义而为“可留”，便把诗人流连忘返的情绪和意境和盘托出，深化了主题，增强了艺术感染力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1680" y="404280"/>
            <a:ext cx="85406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三、与多数诗人的“悲秋”作品相比，王维的这首诗语言风格有何特点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2060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答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山居秋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首诗以精确生动的语言，形象地描绘了秋天傍晚新雨后的山村景色。勾勒出一幅幽静清新的美好图画。自古写秋景的诗，多为悲秋之作，而在王维笔下则欢快明丽，充满生机和活力。表现了诗人热爱大自然，陶醉于闲适恬淡生活的情趣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从这首诗可以看出王维山水诗的主要艺术特色：清新、明丽、蕴蓄，饶有情致，富有生气。善于抓住景物的特征，予以刻画，构成优美的意境。同时，作者又善于赋予静态的画面以动态和音响，把画面、声响、动作以及作者的思想感情交织在一起，使画中有诗，诗中有画，达到言有尽而意无穷的效果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  <a:ea typeface="华文行楷"/>
              </a:rPr>
              <a:t>高考对古代诗歌鉴赏评价</a:t>
            </a: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  <a:ea typeface="华文行楷"/>
              </a:rPr>
              <a:t>的考查内容和方式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5406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古代诗歌的考查主要包括</a:t>
            </a:r>
            <a:r>
              <a:rPr b="0" lang="zh-CN" sz="3200" spc="-1" strike="noStrike" u="sng">
                <a:solidFill>
                  <a:srgbClr val="fa2502"/>
                </a:solidFill>
                <a:uFillTx/>
                <a:latin typeface="Arial"/>
              </a:rPr>
              <a:t>对作品的形象、语言和表达技巧进行初步的鉴赏，对作品的思想内容进行评价。</a:t>
            </a:r>
            <a:r>
              <a:rPr b="0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所谓初步鉴赏指的是对作品的形象、语言和表达技巧作概要的赏析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……</a:t>
            </a:r>
            <a:r>
              <a:rPr b="0" lang="zh-CN" sz="3200" spc="-1" strike="noStrike" u="sng">
                <a:solidFill>
                  <a:srgbClr val="007a77"/>
                </a:solidFill>
                <a:uFillTx/>
                <a:latin typeface="Arial"/>
              </a:rPr>
              <a:t>如果诗句用到的典故是我们在课文中学过的，我们应该知道，并能结合所学的知识进行分析。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4869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  <a:ea typeface="华文行楷"/>
              </a:rPr>
              <a:t>本课学习目的当然是从形象、语言、表达技巧、思想内容四方面了解鉴赏评价的有关知识，并在鉴赏评价的活动中积累初步经验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771640" y="602136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欣赏书法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9500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听录音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908000" y="6093000"/>
            <a:ext cx="416160" cy="415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47640" y="260280"/>
            <a:ext cx="66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a77"/>
                </a:solidFill>
                <a:latin typeface="Arial"/>
              </a:rPr>
              <a:t>山居秋暝</a:t>
            </a:r>
            <a:r>
              <a:rPr b="0" lang="zh-CN" sz="60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唐   王维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5406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解剖本诗形式  学习近体诗形式特点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1379520"/>
            <a:ext cx="244800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d6d15"/>
                </a:solidFill>
                <a:latin typeface="Arial"/>
                <a:ea typeface="文鼎粗魏碑简"/>
              </a:rPr>
              <a:t>山居秋暝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王维</a:t>
            </a:r>
            <a:br>
              <a:rPr sz="14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空山新雨后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天气晚来</a:t>
            </a:r>
            <a:r>
              <a:rPr b="0" lang="zh-CN" sz="2800" spc="-1" strike="noStrike">
                <a:solidFill>
                  <a:srgbClr val="bb280b"/>
                </a:solidFill>
                <a:latin typeface="Times New Roman"/>
              </a:rPr>
              <a:t>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明月松间照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清泉石上</a:t>
            </a:r>
            <a:r>
              <a:rPr b="0" lang="zh-CN" sz="2800" spc="-1" strike="noStrike">
                <a:solidFill>
                  <a:srgbClr val="bb280b"/>
                </a:solidFill>
                <a:latin typeface="Times New Roman"/>
              </a:rPr>
              <a:t>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竹喧归涣女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莲动下渔</a:t>
            </a:r>
            <a:r>
              <a:rPr b="0" lang="zh-CN" sz="2800" spc="-1" strike="noStrike">
                <a:solidFill>
                  <a:srgbClr val="bb280b"/>
                </a:solidFill>
                <a:latin typeface="Times New Roman"/>
              </a:rPr>
              <a:t>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随意春芳歇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王孙自可</a:t>
            </a:r>
            <a:r>
              <a:rPr b="0" lang="zh-CN" sz="2800" spc="-1" strike="noStrike">
                <a:solidFill>
                  <a:srgbClr val="bb280b"/>
                </a:solidFill>
                <a:latin typeface="Times New Roman"/>
              </a:rPr>
              <a:t>留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48000" y="1052640"/>
            <a:ext cx="5327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旧体诗歌分“古诗”（古体诗）、“近体诗”、“词曲” 三类，近体诗又有 “律诗” 、“绝句”之分，本诗八句，每句五字，是五言律诗。</a:t>
            </a:r>
            <a:br>
              <a:rPr sz="2400"/>
            </a:b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律诗每首四联，依次称为“首联”、“颔联”、“颈联”、“尾联”。每联的上句叫“出句”，下句叫“对句”。</a:t>
            </a:r>
            <a:br>
              <a:rPr sz="2400"/>
            </a:b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中间两联必须对仗。</a:t>
            </a:r>
            <a:br>
              <a:rPr sz="2400"/>
            </a:b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凡双数句都必须压韵（首句可压可不压）一般压平声韵，一韵到底，不可换韵。如本诗的“秋”、“流”、“舟”、“留”。</a:t>
            </a:r>
            <a:br>
              <a:rPr sz="2400"/>
            </a:b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每句各字的平仄有严格要求，特别是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字的平仄不得随意变更（这一点对中学生不作要求）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2205000"/>
            <a:ext cx="21600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2205000"/>
            <a:ext cx="0" cy="50328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2708280"/>
            <a:ext cx="21600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3284640"/>
            <a:ext cx="14436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3284640"/>
            <a:ext cx="0" cy="50472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3789360"/>
            <a:ext cx="14436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4221000"/>
            <a:ext cx="14436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4292640"/>
            <a:ext cx="0" cy="50472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4797360"/>
            <a:ext cx="14436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5300640"/>
            <a:ext cx="14436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5640" y="5373720"/>
            <a:ext cx="0" cy="50328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5877000"/>
            <a:ext cx="14436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600" y="2060640"/>
            <a:ext cx="4852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首联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544320" y="3213000"/>
            <a:ext cx="127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颔联</a:t>
            </a:r>
            <a:br>
              <a:rPr sz="1800"/>
            </a:br>
            <a:r>
              <a:rPr b="1" lang="zh-CN" sz="1800" spc="-1" strike="noStrike">
                <a:solidFill>
                  <a:srgbClr val="bb280b"/>
                </a:solidFill>
                <a:latin typeface="Arial"/>
              </a:rPr>
              <a:t>对仗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20" y="4221000"/>
            <a:ext cx="729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颈联</a:t>
            </a:r>
            <a:br>
              <a:rPr sz="1800"/>
            </a:br>
            <a:r>
              <a:rPr b="1" lang="zh-CN" sz="1800" spc="-1" strike="noStrike">
                <a:solidFill>
                  <a:srgbClr val="bb280b"/>
                </a:solidFill>
                <a:latin typeface="Arial"/>
              </a:rPr>
              <a:t>对仗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7960" y="5373720"/>
            <a:ext cx="45468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尾联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关于作者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981000"/>
            <a:ext cx="854064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王维，字摩诘，河东人。工书画，与弟缙俱有俊才。开元九年，进士擢第。调太乐丞，坐累为济州司仓参军，历右拾遗、监察御史、左补阙、库部郎中，拜吏部郎中。天宝末，为给事中。安禄山陷两都，维为贼所得。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……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拘于菩提寺。禄山宴凝碧池，维潜赋诗悲悼，闻于行在。贼平，陷贼官三等定罪，特原之。责授太子中允，迁中庶子、中书舍人，复拜给事中，转尚书右丞。维以诗名盛于开元、天宝间。宁薛诸王驸马豪贵之门，无不拂席迎之。得宋之问辋川别墅，山水绝胜，与道友裴迪浮舟往来，弹琴赋诗，啸咏终日。笃于奉佛，晚年长斋禅诵。一日。忽索笔作书数纸，别弟缙及平生亲故。舍笔而卒。赠秘书监。宝应中，代宗问缙：“朕常于诸王坐闻维乐章，今存几何？”缙集诗六卷、文四卷，表上之。敕答云：“卿伯氏位列先朝，名高希代，抗行周雅，长揖楚辞，诗家归美，克成编录，叹息良深。”殷［王番］谓维诗词秀调雅，意新理惬，在泉成珠，著壁成绘。苏轼亦云“维诗中有画，画中有诗”也。今编诗四卷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　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4000" y="260280"/>
            <a:ext cx="53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35280" y="33336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b280b"/>
                </a:solidFill>
                <a:latin typeface="Arial"/>
                <a:ea typeface="楷体_GB2312"/>
              </a:rPr>
              <a:t>读古代史料，把意思说给大家听！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5406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评价本诗的思想内容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267920"/>
            <a:ext cx="8540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华文行楷"/>
              </a:rPr>
              <a:t>学习：一首诗的“思想内容”是什么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2276640"/>
            <a:ext cx="79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213372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b280b"/>
                </a:solidFill>
                <a:latin typeface="Arial"/>
              </a:rPr>
              <a:t>思想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，指的是诗的主旨和作者的思想感情。说得明白一些，就是：作者写这首诗，是为了揭示怎样的现实生活，表达怎样的思想感情（喜欢什么、厌恶什么、希望什么）或说明怎样的道理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4221000"/>
            <a:ext cx="81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b280b"/>
                </a:solidFill>
                <a:latin typeface="Arial"/>
              </a:rPr>
              <a:t>内容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，指的是上述“思想”的载体。也就是：为了表达思想，作者写怎样的景，怎样的物、怎样的事、怎样的人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这个（这些）人有怎样的外貌、语言 、行为、心理。当然，如果直接写出感情和道理，那就既是“思想”，又是“内容”了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5406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  <a:ea typeface="楷体_GB2312"/>
              </a:rPr>
              <a:t>《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  <a:ea typeface="楷体_GB2312"/>
              </a:rPr>
              <a:t>山居秋暝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  <a:ea typeface="楷体_GB2312"/>
              </a:rPr>
              <a:t>》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  <a:ea typeface="楷体_GB2312"/>
              </a:rPr>
              <a:t>的思想内容（一）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196640"/>
            <a:ext cx="304632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山居秋暝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王维</a:t>
            </a:r>
            <a:br>
              <a:rPr sz="24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空山新雨后，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天气晚来秋。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明月松间照，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清泉石上流。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竹喧归涣女，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莲动下渔舟。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随意春芳歇，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王孙自可留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1268280"/>
            <a:ext cx="54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首联：紧扣题意，描绘出秋天雨后山村傍晚的大背景，给人以深远、幽静、清新之感。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48000" y="270828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颔联：是景物写生。明月、松林、清泉、山石几种意象组成色调明洁的图画，具体渲染了山景的清幽 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4076640"/>
            <a:ext cx="52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颈联：在“空山”的背景上，点缀了人物的活动的两幅优美的画面。听到“竹喧”声，知道是“浣女”归来；看到“莲动”，知道是渔舟出去。 一写听觉，一写视觉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5406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  <a:ea typeface="楷体_GB2312"/>
              </a:rPr>
              <a:t>《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  <a:ea typeface="楷体_GB2312"/>
              </a:rPr>
              <a:t>山居秋暝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  <a:ea typeface="楷体_GB2312"/>
              </a:rPr>
              <a:t>》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  <a:ea typeface="楷体_GB2312"/>
              </a:rPr>
              <a:t>的思想内容（二）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302400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山居秋暝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王维</a:t>
            </a:r>
            <a:br>
              <a:rPr sz="24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空山新雨后，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天气晚来秋。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明月松间照，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清泉石上流。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竹喧归涣女，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莲动下渔舟。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随意春芳歇，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王孙自可留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155736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尾联：是面对景物发出的感慨，“任凭春天的芳菲随时令消逝吧，游子在秋色中，自可留连徜徉。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巧妙表达了自己对山中秋色的喜爱和安于隐居生活的心情，深化了主题。</a:t>
            </a: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综上所析，这首诗描绘山中秋日傍晚幽静、淳美而清新活泼的的自然风景，表现出诗人的高洁情怀和对理想境界的追求。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山居秋暝（字面翻译）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华文行楷"/>
                <a:ea typeface="华文行楷"/>
              </a:rPr>
              <a:t>一场新雨过后，青山特别清朗，秋天的傍晚，天气格外的凉爽。明月透过松林撒落斑驳的静影，清泉轻轻地在大石上叮咚流淌。竹林传出归家洗衣女的谈笑声，莲蓬移动了，渔舟正下水撒网。任凭春天的芳菲随时令消逝吧，游子在秋色中，自可留连徜徉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05:48:58Z</dcterms:created>
  <dc:creator>tjz</dc:creator>
  <dc:description/>
  <dc:language>en-US</dc:language>
  <cp:lastModifiedBy>tjz</cp:lastModifiedBy>
  <dcterms:modified xsi:type="dcterms:W3CDTF">2002-11-13T03:25:37Z</dcterms:modified>
  <cp:revision>16</cp:revision>
  <dc:subject/>
  <dc:title>近体诗八首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2</vt:r8>
  </property>
</Properties>
</file>