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17.jpeg" ContentType="image/jpeg"/>
  <Override PartName="/ppt/media/image16.jpeg" ContentType="image/jpeg"/>
  <Override PartName="/ppt/media/image15.png" ContentType="image/png"/>
  <Override PartName="/ppt/media/image7.gif" ContentType="image/gif"/>
  <Override PartName="/ppt/media/image5.jpeg" ContentType="image/jpeg"/>
  <Override PartName="/ppt/media/image14.gif" ContentType="image/gif"/>
  <Override PartName="/ppt/media/image1.jpeg" ContentType="image/jpeg"/>
  <Override PartName="/ppt/media/image2.jpeg" ContentType="image/jpeg"/>
  <Override PartName="/ppt/media/image4.jpeg" ContentType="image/jpeg"/>
  <Override PartName="/ppt/media/image3.gif" ContentType="image/gif"/>
  <Override PartName="/ppt/media/image6.png" ContentType="image/pn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4B8-FDAD-4E0A-9B3C-2E9BB615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7B3-EE58-472B-BB8A-82BF7F47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5789-64B9-4012-B377-83E07293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DB66-05DD-4424-A11A-2A60E685C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B57A-423B-4127-A663-7B2C1A7B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C7B-291F-4ECC-8A95-F1A6E391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AAD4-503A-446C-8044-341E98B9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F2E7-2CE9-4935-A114-60C4FC6D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4049-2989-406E-89F2-05C32B69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BADF-7AA0-428B-81E7-928FE4D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7F98-4766-46B0-B0E2-0B11CA4CE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3E8-DF4E-415E-90B5-93F3F5820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C55E-1CB9-465D-863D-A206C7830E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9162848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3720" y="1219320"/>
            <a:ext cx="438156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09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诗经两首</a:t>
            </a:r>
            <a:endParaRPr b="1" i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37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3048120"/>
            <a:ext cx="3505320" cy="3444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ff"/>
                </a:solidFill>
                <a:latin typeface="Times New Roman"/>
              </a:rPr>
              <a:t> 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</a:rPr>
              <a:t>整体把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99ff"/>
                </a:solidFill>
                <a:uFillTx/>
                <a:latin typeface="宋体"/>
              </a:rPr>
              <a:t>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</a:rPr>
              <a:t>课文导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99ff"/>
                </a:solidFill>
                <a:uFillTx/>
                <a:latin typeface="宋体"/>
              </a:rPr>
              <a:t>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</a:rPr>
              <a:t>重点字词释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99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99ff"/>
                </a:solidFill>
                <a:uFillTx/>
                <a:latin typeface="宋体"/>
              </a:rPr>
              <a:t> </a:t>
            </a: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</a:rPr>
              <a:t>问题探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111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2362320" cy="207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61111111111111111111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grpSp>
        <p:nvGrpSpPr>
          <p:cNvPr id="47" name=""/>
          <p:cNvGrpSpPr/>
          <p:nvPr/>
        </p:nvGrpSpPr>
        <p:grpSpPr>
          <a:xfrm>
            <a:off x="177840" y="1219320"/>
            <a:ext cx="8788320" cy="5637960"/>
            <a:chOff x="177840" y="1219320"/>
            <a:chExt cx="8788320" cy="5637960"/>
          </a:xfrm>
        </p:grpSpPr>
        <p:grpSp>
          <p:nvGrpSpPr>
            <p:cNvPr id="48" name=""/>
            <p:cNvGrpSpPr/>
            <p:nvPr/>
          </p:nvGrpSpPr>
          <p:grpSpPr>
            <a:xfrm>
              <a:off x="182520" y="1229040"/>
              <a:ext cx="8778960" cy="5617800"/>
              <a:chOff x="182520" y="1229040"/>
              <a:chExt cx="8778960" cy="5617800"/>
            </a:xfrm>
          </p:grpSpPr>
          <p:grpSp>
            <p:nvGrpSpPr>
              <p:cNvPr id="49" name=""/>
              <p:cNvGrpSpPr/>
              <p:nvPr/>
            </p:nvGrpSpPr>
            <p:grpSpPr>
              <a:xfrm>
                <a:off x="182520" y="1229040"/>
                <a:ext cx="8778960" cy="5617080"/>
                <a:chOff x="182520" y="1229040"/>
                <a:chExt cx="8778960" cy="5617080"/>
              </a:xfrm>
            </p:grpSpPr>
            <p:sp>
              <p:nvSpPr>
                <p:cNvPr id="50" name=""/>
                <p:cNvSpPr/>
                <p:nvPr/>
              </p:nvSpPr>
              <p:spPr>
                <a:xfrm>
                  <a:off x="182520" y="1229040"/>
                  <a:ext cx="5803920" cy="561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82520" y="1229040"/>
                  <a:ext cx="8778960" cy="5430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3333cc"/>
                      </a:solidFill>
                      <a:latin typeface="宋体"/>
                    </a:rPr>
                    <a:t>《关雎》是“周南”里的第一首诗，也是《诗经》的第一篇。《关雎》写的是一个男子对一个女子的思念、追求过程，写他求之不得的痛苦和求而得之的喜悦。其文、义、声、情俱佳，足为“国风”之始，《诗经》之冠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3333cc"/>
                      </a:solidFill>
                      <a:latin typeface="宋体"/>
                    </a:rPr>
                    <a:t>诗中这位男子在河边听到鸟鸣，顺着鸟声走去，看到沙洲上有成双成对的鸠鸟，因而引起一种美好的联想──淑女是君子的佳偶。因此，诗的第一章说：“关关雎鸠，在河之洲，窈窕淑女，君子好逑。”在他听着鸠鸟和鸣的时候，有一个姑娘在河边采荇菜，她左右采摘荇菜的美好姿态给了他一个难忘的印象，爱慕之情油然而生，并使他醒时梦时都思念着她。“求之不得”以下四句，总括地写出这种强烈激动的感情。但因为追求这个姑娘没有达到目的，所以“寤寐思服”“辗转反侧”。第二章的八句，写这个男子日夜不安的苦闷和焦灼的心情。最后一章，进一步表达了这个男子对采荇菜的姑娘的深切思慕和美好愿望。“琴瑟友之”“钟鼓乐之”，是写他寤寐求其实现的愿望，也就是他想像结婚时的热闹情景。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3333cc"/>
                      </a:solidFill>
                      <a:latin typeface="宋体"/>
                    </a:rPr>
                    <a:t>2</a:t>
                  </a:r>
                  <a:r>
                    <a:rPr b="0" lang="zh-CN" sz="1600" spc="-1" strike="noStrike">
                      <a:solidFill>
                        <a:srgbClr val="3333cc"/>
                      </a:solidFill>
                      <a:latin typeface="宋体"/>
                    </a:rPr>
                    <a:t>．蒹葭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600" spc="-1" strike="noStrike">
                      <a:solidFill>
                        <a:srgbClr val="3333cc"/>
                      </a:solidFill>
                      <a:latin typeface="宋体"/>
                    </a:rPr>
                    <a:t>《蒹葭》是“秦风”中的一首爱情诗。诗分三章，每章八句；首二句写景，后六句抒情。全诗熔写景、抒情于一炉。金秋之季，拂晓之时，露浓霜重，芦苇沾满了晶莹洁白的霜花。“蒹葭苍苍，白露为霜”，展现一幅萧瑟冷落的秋景，给全诗笼罩了一层凄清落寞的情调。这时主人公来到河边，翘首伫立，凝视着河的对岸──那是“伊人”居住的仙乡琼楼，给人以隔雾观花、若隐若现、朦胧缥缈之感。主人公反复去寻求“伊人”，而“伊人”也只在“水中央”“水中坻”“水中”，恍惚迷离，可望不可及。主人公没有因此罢休，决心冲破天堑，追求伊人。一忽儿逆水而上，一忽儿顺水而下，但都无法到达“蓬莱仙境”。咫尺天涯，令人无限惆怅</a:t>
                  </a:r>
                  <a:r>
                    <a:rPr b="0" lang="zh-CN" sz="1600" spc="-1" strike="noStrike">
                      <a:solidFill>
                        <a:srgbClr val="3333cc"/>
                      </a:solidFill>
                      <a:latin typeface="宋体"/>
                    </a:rPr>
                    <a:t>!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" name=""/>
              <p:cNvSpPr/>
              <p:nvPr/>
            </p:nvSpPr>
            <p:spPr>
              <a:xfrm>
                <a:off x="182520" y="1229040"/>
                <a:ext cx="8778960" cy="56178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" name=""/>
            <p:cNvSpPr/>
            <p:nvPr/>
          </p:nvSpPr>
          <p:spPr>
            <a:xfrm>
              <a:off x="177840" y="1219320"/>
              <a:ext cx="8788320" cy="5637960"/>
            </a:xfrm>
            <a:prstGeom prst="rect">
              <a:avLst/>
            </a:prstGeom>
            <a:noFill/>
            <a:ln w="9360">
              <a:solidFill>
                <a:srgbClr val="85c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 txBox="1"/>
          <p:nvPr/>
        </p:nvSpPr>
        <p:spPr>
          <a:xfrm>
            <a:off x="685800" y="457200"/>
            <a:ext cx="1752480" cy="7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整体把握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5" name="16" descr=""/>
          <p:cNvPicPr/>
          <p:nvPr/>
        </p:nvPicPr>
        <p:blipFill>
          <a:blip r:embed="rId4"/>
          <a:stretch/>
        </p:blipFill>
        <p:spPr>
          <a:xfrm>
            <a:off x="6400800" y="5715000"/>
            <a:ext cx="1284120" cy="1020600"/>
          </a:xfrm>
          <a:prstGeom prst="rect">
            <a:avLst/>
          </a:prstGeom>
          <a:ln w="0">
            <a:noFill/>
          </a:ln>
        </p:spPr>
      </p:pic>
      <p:pic>
        <p:nvPicPr>
          <p:cNvPr id="56" name="00_36_46_14_07_24_018" descr=""/>
          <p:cNvPicPr/>
          <p:nvPr/>
        </p:nvPicPr>
        <p:blipFill>
          <a:blip r:embed="rId5"/>
          <a:stretch/>
        </p:blipFill>
        <p:spPr>
          <a:xfrm>
            <a:off x="7162920" y="0"/>
            <a:ext cx="146340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299880"/>
            <a:ext cx="2286000" cy="99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课文导读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1523880"/>
            <a:ext cx="3809880" cy="47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 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 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关关雎鸠，在河之洲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窈窕淑女，君子好逑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参差荇菜，左右流之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窈窕淑女，寤寐求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求之不得，寤寐思服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悠哉悠哉，辗转反侧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参差荇菜，左右采之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窈窕淑女，琴瑟友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参差荇菜，左右芼之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窈窕淑女，钟鼓乐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7menh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1143000"/>
            <a:ext cx="35812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33"/>
                </a:solidFill>
                <a:latin typeface="Times New Roman"/>
                <a:ea typeface="_x000b__x000c_"/>
              </a:rPr>
              <a:t>    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关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关关雎鸠，在河之洲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窈窕淑女，君子好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参差荇菜，左右流之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窈窕淑女，寤寐求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求之不得，寤寐思服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悠哉悠哉，辗转反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参差荇菜，左右采之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窈窕淑女，琴瑟友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参差荇菜，左右芼之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窈窕淑女，钟鼓乐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914400"/>
            <a:ext cx="4572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      </a:t>
            </a: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蒹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蒹葭苍苍，白露为霜。所谓伊人，在水一方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溯洄从之，道阻且长；溯游从之，宛在水中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蒹葭凄凄，白露未晞。所谓伊人，在水之湄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溯洄从之，道阻且跻；溯游从之，宛在水中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蒹葭采采，白露未已，所谓伊人，在水之涘。</a:t>
            </a:r>
            <a:br>
              <a:rPr sz="2400"/>
            </a:br>
            <a:r>
              <a:rPr b="1" lang="zh-CN" sz="2400" spc="-1" strike="noStrike">
                <a:solidFill>
                  <a:srgbClr val="00cc99"/>
                </a:solidFill>
                <a:latin typeface="Times New Roman"/>
                <a:ea typeface="_x000b__x000c_"/>
              </a:rPr>
              <a:t>溯洄从之，道阻且右；溯游从之，宛在水中沚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28600" y="152280"/>
            <a:ext cx="2533680" cy="122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新魏"/>
              </a:rPr>
              <a:t>课文导读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63" name="16" descr=""/>
          <p:cNvPicPr/>
          <p:nvPr/>
        </p:nvPicPr>
        <p:blipFill>
          <a:blip r:embed="rId2"/>
          <a:stretch/>
        </p:blipFill>
        <p:spPr>
          <a:xfrm>
            <a:off x="7086600" y="5715000"/>
            <a:ext cx="1219320" cy="108432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990720"/>
            <a:ext cx="685800" cy="30456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7206" y="1400"/>
                </a:lnTo>
                <a:lnTo>
                  <a:pt x="1400" y="140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7206" y="20200"/>
                </a:lnTo>
                <a:lnTo>
                  <a:pt x="47206" y="140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6" y="202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606" h="21600">
                <a:moveTo>
                  <a:pt x="17297" y="8406"/>
                </a:moveTo>
                <a:lnTo>
                  <a:pt x="21727" y="8406"/>
                </a:lnTo>
                <a:lnTo>
                  <a:pt x="26148" y="3794"/>
                </a:lnTo>
                <a:lnTo>
                  <a:pt x="26148" y="17806"/>
                </a:lnTo>
                <a:lnTo>
                  <a:pt x="21727" y="13194"/>
                </a:lnTo>
                <a:lnTo>
                  <a:pt x="17297" y="13194"/>
                </a:lnTo>
                <a:close/>
              </a:path>
              <a:path fill="darken" w="48606" h="21600">
                <a:moveTo>
                  <a:pt x="27802" y="10800"/>
                </a:moveTo>
                <a:lnTo>
                  <a:pt x="31310" y="10800"/>
                </a:lnTo>
              </a:path>
              <a:path fill="darken" w="48606" h="21600">
                <a:moveTo>
                  <a:pt x="27802" y="8406"/>
                </a:moveTo>
                <a:lnTo>
                  <a:pt x="31310" y="5639"/>
                </a:lnTo>
              </a:path>
              <a:path fill="darken" w="48606" h="21600">
                <a:moveTo>
                  <a:pt x="27802" y="13194"/>
                </a:moveTo>
                <a:lnTo>
                  <a:pt x="31310" y="15961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g_all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1523880"/>
            <a:ext cx="8153280" cy="1937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睢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jū jiū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水鸟                     荇莱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xīng)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一种可食的水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窈窕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yǎo tiǎo)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文静美好的样子      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qiú)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配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寤寐：日日夜夜                                 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(mào):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挑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3962520"/>
            <a:ext cx="7391520" cy="10159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蒹葭：芦苇                                      坻：水中的高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苍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萋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采采：茂盛的样子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水中的小块陆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16" descr=""/>
          <p:cNvPicPr/>
          <p:nvPr/>
        </p:nvPicPr>
        <p:blipFill>
          <a:blip r:embed="rId2"/>
          <a:stretch/>
        </p:blipFill>
        <p:spPr>
          <a:xfrm>
            <a:off x="7315200" y="5562720"/>
            <a:ext cx="1371600" cy="1090440"/>
          </a:xfrm>
          <a:prstGeom prst="rect">
            <a:avLst/>
          </a:prstGeom>
          <a:ln w="0">
            <a:noFill/>
          </a:ln>
        </p:spPr>
      </p:pic>
      <p:pic>
        <p:nvPicPr>
          <p:cNvPr id="69" name="bl" descr=""/>
          <p:cNvPicPr/>
          <p:nvPr/>
        </p:nvPicPr>
        <p:blipFill>
          <a:blip r:embed="rId3"/>
          <a:stretch/>
        </p:blipFill>
        <p:spPr>
          <a:xfrm>
            <a:off x="304920" y="5045040"/>
            <a:ext cx="1739880" cy="1660680"/>
          </a:xfrm>
          <a:prstGeom prst="rect">
            <a:avLst/>
          </a:prstGeom>
          <a:ln w="0">
            <a:noFill/>
          </a:ln>
        </p:spPr>
      </p:pic>
      <p:pic>
        <p:nvPicPr>
          <p:cNvPr id="70" name="yo40" descr=""/>
          <p:cNvPicPr/>
          <p:nvPr/>
        </p:nvPicPr>
        <p:blipFill>
          <a:blip r:embed="rId4"/>
          <a:stretch/>
        </p:blipFill>
        <p:spPr>
          <a:xfrm>
            <a:off x="457200" y="3581280"/>
            <a:ext cx="2182680" cy="422280"/>
          </a:xfrm>
          <a:prstGeom prst="rect">
            <a:avLst/>
          </a:prstGeom>
          <a:ln w="0">
            <a:noFill/>
          </a:ln>
        </p:spPr>
      </p:pic>
      <p:pic>
        <p:nvPicPr>
          <p:cNvPr id="71" name="yo36" descr=""/>
          <p:cNvPicPr/>
          <p:nvPr/>
        </p:nvPicPr>
        <p:blipFill>
          <a:blip r:embed="rId5"/>
          <a:stretch/>
        </p:blipFill>
        <p:spPr>
          <a:xfrm>
            <a:off x="228600" y="1143000"/>
            <a:ext cx="2182680" cy="422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304920" y="228600"/>
            <a:ext cx="33433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 </a:t>
            </a:r>
            <a:r>
              <a:rPr b="1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重点字词探究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77840" y="990720"/>
            <a:ext cx="8788320" cy="2689200"/>
            <a:chOff x="177840" y="990720"/>
            <a:chExt cx="8788320" cy="2689200"/>
          </a:xfrm>
        </p:grpSpPr>
        <p:grpSp>
          <p:nvGrpSpPr>
            <p:cNvPr id="74" name=""/>
            <p:cNvGrpSpPr/>
            <p:nvPr/>
          </p:nvGrpSpPr>
          <p:grpSpPr>
            <a:xfrm>
              <a:off x="182520" y="995400"/>
              <a:ext cx="8778960" cy="2679840"/>
              <a:chOff x="182520" y="995400"/>
              <a:chExt cx="8778960" cy="267984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82520" y="995400"/>
                <a:ext cx="8778960" cy="2679480"/>
                <a:chOff x="182520" y="995400"/>
                <a:chExt cx="8778960" cy="26794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82520" y="995400"/>
                  <a:ext cx="5803920" cy="267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82520" y="995400"/>
                  <a:ext cx="8778960" cy="182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《关雎》与《蒹葭》的艺术特点有什么不同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《关雎》与《蒹葭》都可以看做爱情诗，但是无论从风格上还是从表现手法上都有着很大的差别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《关雎》一诗着重于“叙事”，我们从诗中可以清晰地看到小伙子从爱上“窈窕淑女”到追求她，追求不到又在幻想中得到她这样一条线索。《蒹葭》中却没有明确的故事，第一章就写到主人公隔水远望，苦苦追寻，伊人却若即若离。第二章、第三章是第一章的反复咏叹，突出追寻之路的艰险与漫长，渲染主人公感情的绵长持久，表现出主人公不能够走近“伊人”，又永远点亮希望的情感状态。与《关雎》相比，《蒹葭》的情感韵味更浓郁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在艺术手法上，《蒹葭》比《关雎》“兴”的特点更加突出。“蒹葭”“水”和“伊人”的形象交相辉映，浑然一体，用做起兴的事物与所要描绘的对象形成一个完整的艺术世界。开头写秋天水边芦苇丛生的景象，这正是“托象以明义”，具有“起情”的作用。因为芦苇丛生，又在天光水色的映照之下，必然会呈现出一种迷茫的境界，这就从一个侧面显示了诗的主人公心中的那个“朦胧的爱”的境界。主人公跟“伊人”并无交往，甚至还不知道对方的名字，但只要能够远望，便心满意足。“朦胧”和“距离”正是这首诗的动人之处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182520" y="995400"/>
                <a:ext cx="8778960" cy="26798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>
              <a:off x="177840" y="990720"/>
              <a:ext cx="8788320" cy="2689200"/>
            </a:xfrm>
            <a:prstGeom prst="rect">
              <a:avLst/>
            </a:prstGeom>
            <a:noFill/>
            <a:ln w="9360">
              <a:solidFill>
                <a:srgbClr val="85c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0" name="000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177840" y="1295280"/>
            <a:ext cx="8788320" cy="4647960"/>
            <a:chOff x="177840" y="1295280"/>
            <a:chExt cx="8788320" cy="4647960"/>
          </a:xfrm>
        </p:grpSpPr>
        <p:grpSp>
          <p:nvGrpSpPr>
            <p:cNvPr id="82" name=""/>
            <p:cNvGrpSpPr/>
            <p:nvPr/>
          </p:nvGrpSpPr>
          <p:grpSpPr>
            <a:xfrm>
              <a:off x="182520" y="1303200"/>
              <a:ext cx="8778960" cy="4631400"/>
              <a:chOff x="182520" y="1303200"/>
              <a:chExt cx="8778960" cy="4631400"/>
            </a:xfrm>
          </p:grpSpPr>
          <p:grpSp>
            <p:nvGrpSpPr>
              <p:cNvPr id="83" name=""/>
              <p:cNvGrpSpPr/>
              <p:nvPr/>
            </p:nvGrpSpPr>
            <p:grpSpPr>
              <a:xfrm>
                <a:off x="182520" y="1303200"/>
                <a:ext cx="8778960" cy="4631040"/>
                <a:chOff x="182520" y="1303200"/>
                <a:chExt cx="8778960" cy="46310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182520" y="1303200"/>
                  <a:ext cx="5803920" cy="4631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182520" y="1303200"/>
                  <a:ext cx="8778960" cy="316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《关雎》与《蒹葭》的艺术特点有什么不同？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《关雎》与《蒹葭》都可以看做爱情诗，但是无论从风格上还是从表现手法上都有着很大的差别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《关雎》一诗着重于“叙事”，我们从诗中可以清晰地看到小伙子从爱上“窈窕淑女”到追求她，追求不到又在幻想中得到她这样一条线索。《蒹葭》中却没有明确的故事，第一章就写到主人公隔水远望，苦苦追寻，伊人却若即若离。第二章、第三章是第一章的反复咏叹，突出追寻之路的艰险与漫长，渲染主人公感情的绵长持久，表现出主人公不能够走近“伊人”，又永远点亮希望的情感状态。与《关雎》相比，《蒹葭》的情感韵味更浓郁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800" spc="-1" strike="noStrike">
                      <a:solidFill>
                        <a:srgbClr val="000000"/>
                      </a:solidFill>
                      <a:latin typeface="宋体"/>
                    </a:rPr>
                    <a:t>在艺术手法上，《蒹葭》比《关雎》“兴”的特点更加突出。“蒹葭”“水”和“伊人”的形象交相辉映，浑然一体，用做起兴的事物与所要描绘的对象形成一个完整的艺术世界。开头写秋天水边芦苇丛生的景象，这正是“托象以明义”，具有“起情”的作用。因为芦苇丛生，又在天光水色的映照之下，必然会呈现出一种迷茫的境界，这就从一个侧面显示了诗的主人公心中的那个“朦胧的爱”的境界。主人公跟“伊人”并无交往，甚至还不知道对方的名字，但只要能够远望，便心满意足。“朦胧”和“距离”正是这首诗的动人之处。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" name=""/>
              <p:cNvSpPr/>
              <p:nvPr/>
            </p:nvSpPr>
            <p:spPr>
              <a:xfrm>
                <a:off x="182520" y="1303200"/>
                <a:ext cx="8778960" cy="46314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" name=""/>
            <p:cNvSpPr/>
            <p:nvPr/>
          </p:nvSpPr>
          <p:spPr>
            <a:xfrm>
              <a:off x="177840" y="1295280"/>
              <a:ext cx="8788320" cy="4647960"/>
            </a:xfrm>
            <a:prstGeom prst="rect">
              <a:avLst/>
            </a:prstGeom>
            <a:noFill/>
            <a:ln w="9360">
              <a:solidFill>
                <a:srgbClr val="85c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 txBox="1"/>
          <p:nvPr/>
        </p:nvSpPr>
        <p:spPr>
          <a:xfrm>
            <a:off x="1523880" y="0"/>
            <a:ext cx="2890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新魏"/>
              </a:rPr>
              <a:t>问题探究</a:t>
            </a:r>
            <a:endParaRPr b="0" lang="en-US" sz="40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89" name="b6107" descr=""/>
          <p:cNvPicPr/>
          <p:nvPr/>
        </p:nvPicPr>
        <p:blipFill>
          <a:blip r:embed="rId2"/>
          <a:stretch/>
        </p:blipFill>
        <p:spPr>
          <a:xfrm>
            <a:off x="228600" y="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90" name="16" descr=""/>
          <p:cNvPicPr/>
          <p:nvPr/>
        </p:nvPicPr>
        <p:blipFill>
          <a:blip r:embed="rId3"/>
          <a:stretch/>
        </p:blipFill>
        <p:spPr>
          <a:xfrm>
            <a:off x="6858000" y="5715000"/>
            <a:ext cx="1447920" cy="1035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80880" y="304920"/>
            <a:ext cx="5029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起兴和叠韵手法的学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92" name="bg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80880" y="228600"/>
            <a:ext cx="4800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起兴和叠韵手法的学习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2133720"/>
            <a:ext cx="259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77840" y="1371600"/>
            <a:ext cx="8788320" cy="4800240"/>
            <a:chOff x="177840" y="1371600"/>
            <a:chExt cx="8788320" cy="4800240"/>
          </a:xfrm>
        </p:grpSpPr>
        <p:grpSp>
          <p:nvGrpSpPr>
            <p:cNvPr id="96" name=""/>
            <p:cNvGrpSpPr/>
            <p:nvPr/>
          </p:nvGrpSpPr>
          <p:grpSpPr>
            <a:xfrm>
              <a:off x="182520" y="1379880"/>
              <a:ext cx="8778960" cy="4782960"/>
              <a:chOff x="182520" y="1379880"/>
              <a:chExt cx="8778960" cy="478296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182520" y="1379880"/>
                <a:ext cx="8778960" cy="4782600"/>
                <a:chOff x="182520" y="1379880"/>
                <a:chExt cx="8778960" cy="478260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182520" y="1379880"/>
                  <a:ext cx="5803920" cy="47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182520" y="1379880"/>
                  <a:ext cx="8778960" cy="29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3399ff"/>
                      </a:solidFill>
                      <a:latin typeface="宋体"/>
                    </a:rPr>
                    <a:t>这诗的主要表现手法是兴寄什么是“兴”？”所谓“兴”，即先从别的景物引起所咏之物，以为寄托。这是一种委婉含蓄的表现手法。诗以雎鸠之“挚而有别”，兴淑女应配君子；以荇菜流动无方，兴淑女之难求；又以荇菜既得而“采之”、“之”，兴淑女既得而“友之”、“乐之”等。</a:t>
                  </a:r>
                  <a:r>
                    <a:rPr b="1" lang="zh-CN" sz="2000" spc="-1" strike="noStrike">
                      <a:solidFill>
                        <a:srgbClr val="3333cc"/>
                      </a:solidFill>
                      <a:latin typeface="宋体"/>
                    </a:rPr>
                    <a:t>这种手法的优点在于寄托深远，能产生文已尽而意有余的效果，烘托了人物惆怅的心情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000" spc="-1" strike="noStrike">
                      <a:solidFill>
                        <a:srgbClr val="3399ff"/>
                      </a:solidFill>
                      <a:latin typeface="宋体"/>
                    </a:rPr>
                    <a:t>这首诗还采用了一些双声叠韵的连绵字，以增强诗歌音调的和谐美和描写人物的生动性。如“窈窕”是叠韵；“参差”是双声；“辗转”既是双声又是叠韵。用这类词修饰动作，如“辗转反侧”；摹拟形象，如“窈窕淑女”；描写景物，如“参差荇菜”，无不活泼逼真，声情并茂。此诗虽非句各叶韵，但对双声叠韵连绵字的运用，却保持了古代诗歌淳朴自然的风格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</a:rPr>
                    <a:t>兴的 体现：</a:t>
                  </a: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  <a:ea typeface="_x000b__x000c_"/>
                    </a:rPr>
                    <a:t>关关雎鸠，在河之洲。     蒹葭苍苍，白露为</a:t>
                  </a: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</a:rPr>
                    <a:t>霜 。 。                     </a:t>
                  </a: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  <a:ea typeface="_x000b__x000c_"/>
                    </a:rPr>
                    <a:t>蒹葭凄凄，白露未晞。     蒹葭采采，白露未已  </a:t>
                  </a: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</a:rPr>
                    <a:t>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</a:rPr>
                    <a:t>叠韵的体现：</a:t>
                  </a: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  <a:ea typeface="_x000b__x000c_"/>
                    </a:rPr>
                    <a:t>窈窕淑女，君子好逑</a:t>
                  </a: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</a:rPr>
                    <a:t>。</a:t>
                  </a:r>
                  <a:r>
                    <a:rPr b="0" lang="zh-CN" sz="2400" spc="-1" strike="noStrike">
                      <a:solidFill>
                        <a:srgbClr val="3399ff"/>
                      </a:solidFill>
                      <a:latin typeface="Times New Roman"/>
                      <a:ea typeface="_x000b__x000c_"/>
                    </a:rPr>
                    <a:t>   悠哉悠哉，辗转反侧</a:t>
                  </a:r>
                  <a:r>
                    <a:rPr b="1" lang="zh-CN" sz="2400" spc="-1" strike="noStrike">
                      <a:solidFill>
                        <a:srgbClr val="00cc99"/>
                      </a:solidFill>
                      <a:latin typeface="Times New Roman"/>
                      <a:ea typeface="_x000b__x000c_"/>
                    </a:rPr>
                    <a:t>。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0" name=""/>
              <p:cNvSpPr/>
              <p:nvPr/>
            </p:nvSpPr>
            <p:spPr>
              <a:xfrm>
                <a:off x="182520" y="1379880"/>
                <a:ext cx="8778960" cy="47829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77840" y="1371600"/>
              <a:ext cx="8788320" cy="4800240"/>
            </a:xfrm>
            <a:prstGeom prst="rect">
              <a:avLst/>
            </a:prstGeom>
            <a:noFill/>
            <a:ln w="9360">
              <a:solidFill>
                <a:srgbClr val="85c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小撄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4572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28600"/>
            <a:ext cx="30481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新魏"/>
              </a:rPr>
              <a:t>探究与学习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133720"/>
            <a:ext cx="4343400" cy="9169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ccff"/>
                </a:solidFill>
                <a:latin typeface="Times New Roman"/>
                <a:ea typeface="华文行楷"/>
              </a:rPr>
              <a:t>背诵这两首诗，并为其中一篇写一段赏析文字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2476440" y="1905120"/>
            <a:ext cx="41911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彩云"/>
              </a:rPr>
              <a:t>再见</a:t>
            </a:r>
            <a:endParaRPr b="1" i="1" lang="en-US" sz="5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彩云"/>
              <a:ea typeface="华文彩云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7T21:53:50Z</dcterms:created>
  <dc:creator>Lenovo User</dc:creator>
  <dc:description/>
  <dc:language>en-US</dc:language>
  <cp:lastModifiedBy>Lenovo User</cp:lastModifiedBy>
  <dcterms:modified xsi:type="dcterms:W3CDTF">2006-01-28T03:07:43Z</dcterms:modified>
  <cp:revision>3</cp:revision>
  <dc:subject/>
  <dc:title>PowerPoint 演示文稿</dc:title>
</cp:coreProperties>
</file>