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png" ContentType="image/png"/>
  <Override PartName="/ppt/media/image27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6.png" ContentType="image/png"/>
  <Override PartName="/ppt/media/image11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3.png" ContentType="image/png"/>
  <Override PartName="/ppt/media/image9.jpeg" ContentType="image/jpe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9.gif" ContentType="image/gi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CCC-EBCF-41DB-8C8C-055CBFA1734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^^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DEC-6C2E-4E59-BF73-02A4ECCA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73C-E2BB-403C-BCC9-2B032E4F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8F8-1106-460E-B506-5897C26A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CD4-62C9-4539-8912-876B1101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22F-4DCE-40B2-A07D-36333999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D2C-103C-4762-9C6B-9541529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7DF-8339-432F-890C-3B8F2E93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C65-8FA8-47B6-8A35-9B272FAA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6DF-5E9C-4CD9-B248-FC2FC52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F9DC-3A8C-4D46-80C9-B4041AA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30EE-7F43-441C-B357-2FEFBC3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ADD-11A1-411C-883D-BA7CCDB3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72A8-F84B-46C7-A4C9-8847153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1EB-7F90-4C70-9A1E-46C0417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D16F-9A44-4D82-8F5A-6462B3B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978-414D-45D8-8502-6C256277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EF2-123E-4C04-9308-D65A7C55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D32-7EAD-4CF9-BCA9-B9D653BE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4E1-9E9A-4180-8DFA-8BD4F39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96F-7D09-474D-A440-1761C62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95C-6BC2-41C3-A889-B4F41CE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530-5C66-4BA1-9FF4-91CC7D8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FC6-5E48-4C17-94F4-9060E73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FA3-32B8-4055-9E58-273EAF1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344-6AF4-4CD3-8CCA-A02269415F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2ACD-0CDA-4CCD-B3ED-0FA6AFCF5AD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51cb2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57200" y="685800"/>
            <a:ext cx="8229600" cy="5562360"/>
            <a:chOff x="457200" y="685800"/>
            <a:chExt cx="8229600" cy="5562360"/>
          </a:xfrm>
        </p:grpSpPr>
        <p:pic>
          <p:nvPicPr>
            <p:cNvPr id="105" name="BAN_001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822960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514600" y="3047760"/>
              <a:ext cx="4282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000000"/>
                  </a:solidFill>
                  <a:latin typeface="Times New Roman"/>
                  <a:ea typeface="华文彩云"/>
                </a:rPr>
                <a:t>欢迎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523880" y="3505320"/>
            <a:ext cx="6096240" cy="1068840"/>
            <a:chOff x="1523880" y="3505320"/>
            <a:chExt cx="6096240" cy="1068840"/>
          </a:xfrm>
        </p:grpSpPr>
        <p:sp>
          <p:nvSpPr>
            <p:cNvPr id="108" name=""/>
            <p:cNvSpPr/>
            <p:nvPr/>
          </p:nvSpPr>
          <p:spPr>
            <a:xfrm>
              <a:off x="1523880" y="3505320"/>
              <a:ext cx="914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</a:rPr>
                <a:t>华育学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ahoma"/>
                </a:rPr>
                <a:t>单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752480"/>
            <a:ext cx="8229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山崖裂缝——崩落——旅行——沉积——堆压——新岩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086600" y="54864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28" h="21600">
                <a:moveTo>
                  <a:pt x="16219" y="14281"/>
                </a:moveTo>
                <a:lnTo>
                  <a:pt x="16219" y="12323"/>
                </a:lnTo>
                <a:cubicBezTo>
                  <a:pt x="16219" y="11496"/>
                  <a:pt x="16550" y="10800"/>
                  <a:pt x="17151" y="10800"/>
                </a:cubicBezTo>
                <a:cubicBezTo>
                  <a:pt x="18282" y="10800"/>
                  <a:pt x="19179" y="9434"/>
                  <a:pt x="19179" y="7849"/>
                </a:cubicBezTo>
                <a:cubicBezTo>
                  <a:pt x="19179" y="5534"/>
                  <a:pt x="17325" y="3794"/>
                  <a:pt x="15114" y="3794"/>
                </a:cubicBezTo>
                <a:cubicBezTo>
                  <a:pt x="12903" y="3794"/>
                  <a:pt x="11232" y="5534"/>
                  <a:pt x="11232" y="7849"/>
                </a:cubicBezTo>
                <a:lnTo>
                  <a:pt x="13086" y="7849"/>
                </a:lnTo>
                <a:cubicBezTo>
                  <a:pt x="13086" y="6709"/>
                  <a:pt x="14009" y="5821"/>
                  <a:pt x="15114" y="5821"/>
                </a:cubicBezTo>
                <a:cubicBezTo>
                  <a:pt x="16219" y="5821"/>
                  <a:pt x="17151" y="6709"/>
                  <a:pt x="17151" y="7849"/>
                </a:cubicBezTo>
                <a:cubicBezTo>
                  <a:pt x="17151" y="8589"/>
                  <a:pt x="16681" y="9320"/>
                  <a:pt x="16219" y="9320"/>
                </a:cubicBezTo>
                <a:cubicBezTo>
                  <a:pt x="15114" y="9320"/>
                  <a:pt x="14009" y="10800"/>
                  <a:pt x="14009" y="12323"/>
                </a:cubicBezTo>
                <a:lnTo>
                  <a:pt x="14009" y="14281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bj233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SUN_094" descr=""/>
          <p:cNvPicPr/>
          <p:nvPr/>
        </p:nvPicPr>
        <p:blipFill>
          <a:blip r:embed="rId2"/>
          <a:stretch/>
        </p:blipFill>
        <p:spPr>
          <a:xfrm flipH="1" rot="10800000">
            <a:off x="7010280" y="45684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40" name="QH_008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1164960" cy="1668600"/>
          </a:xfrm>
          <a:prstGeom prst="rect">
            <a:avLst/>
          </a:prstGeom>
          <a:ln w="0">
            <a:noFill/>
          </a:ln>
        </p:spPr>
      </p:pic>
      <p:pic>
        <p:nvPicPr>
          <p:cNvPr id="141" name="QH_016" descr=""/>
          <p:cNvPicPr/>
          <p:nvPr/>
        </p:nvPicPr>
        <p:blipFill>
          <a:blip r:embed="rId4"/>
          <a:stretch/>
        </p:blipFill>
        <p:spPr>
          <a:xfrm>
            <a:off x="1981080" y="228600"/>
            <a:ext cx="1447920" cy="885960"/>
          </a:xfrm>
          <a:prstGeom prst="rect">
            <a:avLst/>
          </a:prstGeom>
          <a:ln w="0">
            <a:noFill/>
          </a:ln>
        </p:spPr>
      </p:pic>
      <p:pic>
        <p:nvPicPr>
          <p:cNvPr id="142" name="ZQ_007" descr=""/>
          <p:cNvPicPr/>
          <p:nvPr/>
        </p:nvPicPr>
        <p:blipFill>
          <a:blip r:embed="rId5"/>
          <a:stretch/>
        </p:blipFill>
        <p:spPr>
          <a:xfrm>
            <a:off x="2971800" y="3200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ZQ_008" descr=""/>
          <p:cNvPicPr/>
          <p:nvPr/>
        </p:nvPicPr>
        <p:blipFill>
          <a:blip r:embed="rId6"/>
          <a:stretch/>
        </p:blipFill>
        <p:spPr>
          <a:xfrm>
            <a:off x="3352680" y="487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TQ_027" descr=""/>
          <p:cNvPicPr/>
          <p:nvPr/>
        </p:nvPicPr>
        <p:blipFill>
          <a:blip r:embed="rId7"/>
          <a:stretch/>
        </p:blipFill>
        <p:spPr>
          <a:xfrm>
            <a:off x="2209680" y="1371600"/>
            <a:ext cx="243864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410080" y="5686560"/>
          <a:ext cx="1219320" cy="117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5686560"/>
                    <a:ext cx="12193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00800" y="4800600"/>
          <a:ext cx="67320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00800" y="4800600"/>
                    <a:ext cx="673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495680" y="5657760"/>
          <a:ext cx="110520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95680" y="5657760"/>
                    <a:ext cx="1105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257800" y="4343400"/>
          <a:ext cx="976320" cy="1324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57800" y="4343400"/>
                    <a:ext cx="976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495680" y="3479760"/>
          <a:ext cx="4343400" cy="337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95680" y="3479760"/>
                    <a:ext cx="434340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3796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１．人类是怎样根据岩石来判断时间的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２．岩石是怎样保存历史痕迹的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３．人类是怎样根据岩石来认识地球的发展历史的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４．人类了解岩石的变化有什么好处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sp>
          <p:nvSpPr>
            <p:cNvPr id="157" name=""/>
            <p:cNvSpPr/>
            <p:nvPr/>
          </p:nvSpPr>
          <p:spPr>
            <a:xfrm>
              <a:off x="6493680" y="5391360"/>
              <a:ext cx="74700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93680" y="4937040"/>
              <a:ext cx="747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5200" y="2342880"/>
              <a:ext cx="91584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原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25200" y="1888920"/>
              <a:ext cx="915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结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7600" y="5391360"/>
              <a:ext cx="98640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列数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85640" y="5391360"/>
              <a:ext cx="150804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6640" y="5391360"/>
              <a:ext cx="288900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生成结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391360"/>
              <a:ext cx="2096640" cy="11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9-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57600" y="493704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举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85640" y="4937040"/>
              <a:ext cx="1508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发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6640" y="493704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生成原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93704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6.17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57600" y="448272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96640" y="448272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48272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57600" y="402876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96640" y="402876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生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402876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7600" y="357444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打比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96640" y="357444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雨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357444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7600" y="312048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85640" y="3120480"/>
              <a:ext cx="133920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具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96640" y="312048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空气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12048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1.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7600" y="2342880"/>
              <a:ext cx="9864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41040" y="2342880"/>
              <a:ext cx="916200" cy="42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85640" y="2342880"/>
              <a:ext cx="13392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概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96640" y="2342880"/>
              <a:ext cx="28890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概括原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2342880"/>
              <a:ext cx="209664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57600" y="1888920"/>
              <a:ext cx="98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41040" y="1888920"/>
              <a:ext cx="916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85640" y="1888920"/>
              <a:ext cx="1339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96640" y="1888920"/>
              <a:ext cx="2889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ahoma"/>
                </a:rPr>
                <a:t>毁灭现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1888920"/>
              <a:ext cx="209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7600" y="534600"/>
              <a:ext cx="9864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41040" y="534600"/>
              <a:ext cx="916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85640" y="534600"/>
              <a:ext cx="22554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6640" y="534600"/>
              <a:ext cx="28890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总领下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岩石现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引起下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34600"/>
              <a:ext cx="20966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7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7600" y="0"/>
              <a:ext cx="9864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方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41040" y="0"/>
              <a:ext cx="9162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结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85640" y="0"/>
              <a:ext cx="22554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顺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96640" y="0"/>
              <a:ext cx="28890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容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20966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自然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5346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18889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23428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120480"/>
              <a:ext cx="63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574440"/>
              <a:ext cx="49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4028760"/>
              <a:ext cx="49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4482720"/>
              <a:ext cx="49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937040"/>
              <a:ext cx="72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391360"/>
              <a:ext cx="72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55308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6640" y="0"/>
              <a:ext cx="0" cy="65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85640" y="0"/>
              <a:ext cx="0" cy="65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1040" y="0"/>
              <a:ext cx="0" cy="65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57600" y="0"/>
              <a:ext cx="0" cy="65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0" y="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34600"/>
              <a:ext cx="0" cy="6018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0" y="534600"/>
              <a:ext cx="0" cy="6018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5200" y="18889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57600" y="312048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7600" y="357444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7600" y="402876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7600" y="448272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57600" y="493704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57600" y="5391360"/>
              <a:ext cx="9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93680" y="4937040"/>
              <a:ext cx="0" cy="16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91160" y="3142440"/>
              <a:ext cx="0" cy="8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47360" y="2941920"/>
              <a:ext cx="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49528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76320"/>
            <a:ext cx="9144000" cy="178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课文为我们分析了岩石记录时间的奇异功能，它们是原始的“钟表”，述说着远古的故事。文章先说明了岩石的破坏与重新生成。在说明重新形成时，指出岩石保存了历史痕迹也就是说岩石为历史作了记录：一能看出历史上的地貌，二能看出地壳的活动，三是记录了古生物的状况，还有其他自然界的活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efef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62000"/>
            <a:ext cx="86868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试说明下列句子的表达效果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不要认为岩石是坚固不坏的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它无时无刻不经历着从各方面来的“攻击”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狂风吹来了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洪水冲来了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冰河爬来了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语言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生动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44792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ahoma"/>
              </a:rPr>
              <a:t>以“海枯石烂”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为题写一首小诗</a:t>
            </a:r>
            <a:r>
              <a:rPr b="1" lang="zh-CN" sz="7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抒发你的感受</a:t>
            </a: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2465280"/>
            <a:ext cx="8458200" cy="30492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51cb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光阴似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岁月如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逝者如斯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舍昼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们不能两次踏进同一条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09680" y="5335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名人名言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line16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6400800" cy="35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时间的脚印" descr=""/>
          <p:cNvPicPr/>
          <p:nvPr/>
        </p:nvPicPr>
        <p:blipFill>
          <a:blip r:embed="rId2"/>
          <a:stretch/>
        </p:blipFill>
        <p:spPr>
          <a:xfrm>
            <a:off x="19051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ZW_039" descr=""/>
          <p:cNvPicPr/>
          <p:nvPr/>
        </p:nvPicPr>
        <p:blipFill>
          <a:blip r:embed="rId3"/>
          <a:stretch/>
        </p:blipFill>
        <p:spPr>
          <a:xfrm>
            <a:off x="7680240" y="50292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陶世龙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48320" y="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287280"/>
                <a:tab algn="l" pos="485640"/>
                <a:tab algn="l" pos="574560"/>
                <a:tab algn="l" pos="665280"/>
                <a:tab algn="l" pos="754200"/>
                <a:tab algn="l" pos="861840"/>
                <a:tab algn="l" pos="952560"/>
                <a:tab algn="l" pos="1042920"/>
                <a:tab algn="l" pos="1150920"/>
                <a:tab algn="l" pos="1527120"/>
                <a:tab algn="l" pos="305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陶世龙，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1929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月出生于四川省安岳县。出版有《打开地下宝库的钥匙》《揭开大地的秘密》《地球的画像》《火山和地震》《多变的地球》等科普读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7ea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M_015" descr="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990720"/>
            <a:ext cx="4876920" cy="3750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作者的写作思路及说明层次是什么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15228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层次结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0020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</a:t>
            </a:r>
            <a:r>
              <a:rPr b="1" lang="zh-CN" sz="4400" spc="-1" strike="noStrike">
                <a:solidFill>
                  <a:srgbClr val="99cc00"/>
                </a:solidFill>
                <a:latin typeface="Times New Roman"/>
                <a:ea typeface="华文新魏"/>
              </a:rPr>
              <a:t>文章可分三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045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一部分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—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：概括说明岩石可以记录时间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045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581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二部分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 —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具体说明岩石是怎样记下时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说明岩石作为时间的记录是大自然记录的一种，谈懂这些记录不容易，但意义重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41480"/>
            <a:ext cx="9144000" cy="42278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．课文主要介绍分析岩石记录时间的奇异功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6000" spc="-1" strike="noStrike">
                <a:solidFill>
                  <a:srgbClr val="ccff33"/>
                </a:solidFill>
                <a:latin typeface="Times New Roman"/>
              </a:rPr>
              <a:t>什么不直接进入正题</a:t>
            </a:r>
            <a:r>
              <a:rPr b="1" lang="zh-CN" sz="6000" spc="-1" strike="noStrike">
                <a:solidFill>
                  <a:srgbClr val="ccff33"/>
                </a:solidFill>
                <a:latin typeface="Times New Roman"/>
              </a:rPr>
              <a:t>,</a:t>
            </a:r>
            <a:r>
              <a:rPr b="1" lang="zh-CN" sz="6000" spc="-1" strike="noStrike">
                <a:solidFill>
                  <a:srgbClr val="ccff33"/>
                </a:solidFill>
                <a:latin typeface="Times New Roman"/>
              </a:rPr>
              <a:t>而要先引用高士其的话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Q_021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3276720"/>
            <a:ext cx="2286000" cy="2743200"/>
          </a:xfrm>
          <a:prstGeom prst="flowChartMagneticDisk">
            <a:avLst/>
          </a:prstGeom>
          <a:solidFill>
            <a:srgbClr val="3333c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4038480"/>
            <a:ext cx="533520" cy="137160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276720"/>
            <a:ext cx="2286000" cy="274320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P_098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051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方正姚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方正姚体"/>
              </a:rPr>
              <a:t>铜壶滴漏”是否偏离主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676520"/>
            <a:ext cx="76960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１、概述石烂和新生的过程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99"/>
                </a:solidFill>
                <a:uFillTx/>
                <a:latin typeface="Times New Roman"/>
                <a:hlinkClick r:id="rId2" action="ppaction://hlinksldjump"/>
              </a:rPr>
              <a:t>２、岩石经受着从哪些方面的攻击</a:t>
            </a: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Q_020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7160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153280" y="2819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7388"/>
                </a:moveTo>
                <a:lnTo>
                  <a:pt x="17806" y="14394"/>
                </a:lnTo>
                <a:lnTo>
                  <a:pt x="3794" y="21401"/>
                </a:lnTo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1:30:30Z</dcterms:created>
  <dc:creator>z</dc:creator>
  <dc:description/>
  <dc:language>en-US</dc:language>
  <cp:lastModifiedBy>hua yu</cp:lastModifiedBy>
  <dcterms:modified xsi:type="dcterms:W3CDTF">2002-04-15T06:35:19Z</dcterms:modified>
  <cp:revision>37</cp:revision>
  <dc:subject/>
  <dc:title>PowerPoint 演示文稿</dc:title>
</cp:coreProperties>
</file>