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17F-AE4D-4E71-ABD6-9F0B78D6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3D0-B5CF-4C8E-9B72-4915A89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A9F-C80D-467E-8A37-DE0DD504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7A6-4715-4606-8320-E681EF88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AA3-A797-42D7-8EF6-FB43B93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7AC-52DC-4CF6-962F-A36048E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D37-701A-485C-B17D-59A58FF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E48-8DE9-4C34-BCC4-F9D50D7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563-CC0D-45EB-B071-84BD6AC4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912-C1C1-45DF-9948-CB106B80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D7C-DE86-4D10-A222-4B61DB7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F61-001C-4391-A43B-DF152A4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02D-767F-4999-8C08-DB2374A1F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54;&#21254;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www.kepu.com.cn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file:///&#29579;&#26195;&#33452;&#32452;.ppt" TargetMode="External"/><Relationship Id="rId5" Type="http://schemas.openxmlformats.org/officeDocument/2006/relationships/hyperlink" Target="file:///&#35768;&#38686;&#32452;.ppt" TargetMode="External"/><Relationship Id="rId6" Type="http://schemas.openxmlformats.org/officeDocument/2006/relationships/hyperlink" Target="file:///&#26446;&#36798;&#38534;&#32452;.ppt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066680"/>
            <a:ext cx="6629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时间的脚印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陶世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9907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华文细黑"/>
              </a:rPr>
              <a:t>欣赏</a:t>
            </a:r>
            <a:r>
              <a:rPr b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华文细黑"/>
              </a:rPr>
              <a:t>·</a:t>
            </a:r>
            <a:r>
              <a:rPr b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华文细黑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桃花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971800"/>
            <a:ext cx="55623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68580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ff66"/>
                </a:solidFill>
                <a:uFillTx/>
                <a:latin typeface="Times New Roman"/>
                <a:ea typeface="华文行楷"/>
              </a:rPr>
              <a:t>读写延伸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S00975_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095880" y="3935520"/>
            <a:ext cx="3048120" cy="277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21337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写：时间的断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124080"/>
            <a:ext cx="538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读：可查找下列网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kepu.com.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26440" y="914400"/>
            <a:ext cx="164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铜壶滴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铜壶滴漏" descr=""/>
          <p:cNvPicPr/>
          <p:nvPr/>
        </p:nvPicPr>
        <p:blipFill>
          <a:blip r:embed="rId1"/>
          <a:stretch/>
        </p:blipFill>
        <p:spPr>
          <a:xfrm>
            <a:off x="685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8580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整体感知全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975_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4724280" y="2743200"/>
            <a:ext cx="36576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76520" y="990720"/>
            <a:ext cx="5638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小小研究报告会</a:t>
            </a:r>
            <a:endParaRPr b="0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352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初二（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876920"/>
            <a:ext cx="1981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王晓芬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76920"/>
            <a:ext cx="1752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许霞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4876920"/>
            <a:ext cx="1981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李达隆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D00028_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9907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</a:rPr>
              <a:t>寻找大自然记录的时间的脚印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12408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化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远古时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脚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年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树木经历风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脚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7240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02:02:19Z</dcterms:created>
  <dc:creator>yaohui</dc:creator>
  <dc:description/>
  <dc:language>en-US</dc:language>
  <cp:lastModifiedBy>邓月芬</cp:lastModifiedBy>
  <dcterms:modified xsi:type="dcterms:W3CDTF">2003-08-15T18:18:03Z</dcterms:modified>
  <cp:revision>32</cp:revision>
  <dc:subject/>
  <dc:title>PowerPoint 演示文稿</dc:title>
</cp:coreProperties>
</file>