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media/image10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AA7-9E27-4254-949A-0C1968DD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210-5CE7-4271-BFC8-ABAAE7F9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039-DB02-4D0D-A4A5-CB5687A3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BF9-0EE9-4931-B405-60776E1A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F0FC-D7BF-46BD-8496-1A765A5F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01EE-114F-41A3-A352-19D70E74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453C-FBEA-4344-9B35-AF435E65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BDEA-41F2-4421-9FA9-49E9C567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799F-CE0B-4800-9789-0F6A5AC8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064F-8ECF-4CEB-9F15-0D4A122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94E1-5F5D-4D42-B916-C5FDF12A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163-C229-4AFF-8332-8DA8A397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95B7-0DE0-40F2-9DB6-67830167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CF0B-35BD-4DC7-BF83-4E53AD67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25C6-8B43-4775-AC60-0FDE507E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2DD6-6793-4860-946A-61AFE7C2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5F1F-1CB9-43AD-8BD5-5B0901E8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8FB-6F2D-41FC-B449-CA81C834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4DB-478A-4791-8D80-C2277B04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EA5-EA43-4D17-8A32-CD59DC11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2C7-90DD-4430-BA83-23253BA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4C9-887B-4385-BF62-E006EA7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96F-A9E4-43D6-82C1-F4EA78C1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70C-1D7B-47A9-A307-5CACB6C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2B2E-6A49-43AF-AD10-2E9ECC056136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2994-0BD3-452C-819C-9F6A0FA56BE1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23880" y="380880"/>
            <a:ext cx="6096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时间的脚印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08" name="cow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7462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gift-box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523880" y="2514600"/>
            <a:ext cx="2286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海枯石烂</a:t>
            </a:r>
            <a:endParaRPr b="0" lang="en-US" sz="4400" spc="1" strike="noStrike">
              <a:ln w="12600">
                <a:solidFill>
                  <a:srgbClr val="00cc00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371600" y="3733920"/>
            <a:ext cx="2857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岩石的损坏</a:t>
            </a:r>
            <a:endParaRPr b="0" lang="en-US" sz="4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447920" y="49528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关于岩石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13" name="07" descr=""/>
          <p:cNvPicPr/>
          <p:nvPr/>
        </p:nvPicPr>
        <p:blipFill>
          <a:blip r:embed="rId3"/>
          <a:stretch/>
        </p:blipFill>
        <p:spPr>
          <a:xfrm>
            <a:off x="5181480" y="2209680"/>
            <a:ext cx="30434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219320" y="45720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cc00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海枯石烂</a:t>
            </a:r>
            <a:endParaRPr b="0" lang="en-US" sz="9600" spc="1" strike="noStrike">
              <a:ln w="12600">
                <a:solidFill>
                  <a:srgbClr val="00cc00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057400"/>
            <a:ext cx="81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在秦始皇时期，秦始皇认为石头是最坚固的，所以叫人把字刻在石头上让它能够流传千古。但是当我们再次看到这些石头时，上面的字迹已经模糊不清了。这就说明了真的有“海枯石烂”的时候。那为什么会这样呢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6" name="icon16" descr=""/>
          <p:cNvPicPr/>
          <p:nvPr/>
        </p:nvPicPr>
        <p:blipFill>
          <a:blip r:embed="rId1"/>
          <a:stretch/>
        </p:blipFill>
        <p:spPr>
          <a:xfrm>
            <a:off x="144792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400800" y="5715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返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7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590920" y="38088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岩石的损坏</a:t>
            </a:r>
            <a:endParaRPr b="0" lang="en-US" sz="96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0" name=""/>
          <p:cNvSpPr/>
          <p:nvPr/>
        </p:nvSpPr>
        <p:spPr>
          <a:xfrm>
            <a:off x="1200600" y="19051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通过两种形式来损坏岩石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590920"/>
            <a:ext cx="8077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大自然的破坏：炎热的阳光烘烤着它，严寒的霜雪冷冻着它，风吹着它，雨打着它，空气和水中酸类也会腐蚀岩石中的一部分物质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                                                                    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详细信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572000"/>
            <a:ext cx="853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地面上的生物：地面上和地面下的生物，也没有放弃对岩石的破坏。人的作用更是大，例如：在建筑兰新铁路的时候，一个汕头在即分钟内就被炸掉了，这相对地质作用的速度可块多了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xmas_20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8580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真的有海枯石烂的时候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不要认为岩石是坚固不坏的，它无时无刻不经受着从各方面来的攻击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经过时间的冲刷，岩石也有破坏的时候，真的有海枯石烂的一刻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6095880"/>
            <a:ext cx="1295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例子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ER0000181A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221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83808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水流和风还不断的冲刷，吹拂着它。特别是刮风下雨的时候，就像砂轮在不停的转动。岩石被磨损的光溜溜的造成了许多奇型怪状的石头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水和空气还能够进入岩石内部的空隙中造成破坏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雨水落到河，湖里渗入到地下，都对岩石有破坏作用。即使在海洋里，海水也在不断的冲击着岸上的石壁。如果大量的水结成了冰，形成冰河，它缓缓的移动着，破坏作用就更大了，就好像一柄扫帚从地上扫过，刨刮着所遇到的一些石头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4952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ahoma"/>
              </a:rPr>
              <a:t>大块的石头破碎成小块的石子，小块的石子再分裂成细微的沙粒、泥土。狂风吹来了，洪水冲来了，冰河爬来了，碎石、沙粒、泥土被他们带着，开始了旅行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228600"/>
            <a:ext cx="27432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大自然的破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4419720"/>
            <a:ext cx="2286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石头的分解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1" name=""/>
          <p:cNvSpPr/>
          <p:nvPr/>
        </p:nvSpPr>
        <p:spPr>
          <a:xfrm>
            <a:off x="7426080" y="5334120"/>
            <a:ext cx="1033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  <a:ea typeface="华文彩云"/>
              </a:rPr>
              <a:t>返回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00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ahoma"/>
                <a:ea typeface="华文中宋"/>
              </a:rPr>
              <a:t>这幅图是千奇百怪的石头，你观察到石头上面的裂痕了吗？这也是时间给我们留下的脚印啊！它告诉我们再坚固的石头在时间的流逝下也会逐步出现裂痕的，最终是慢慢地分解为细石到沙粒，这就是时间能做到的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下一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2057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Tahoma"/>
              </a:rPr>
              <a:t>再看看这一幅吧，这是碎玉堆砌的海岸，仔细瞧瞧海岸上那点点斑斑的细沙，你可知道它们也是由许多大块的岩石在时间的推移下分裂而成的。我们没办法留住时间，却可以发现时间遗留的足迹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943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下一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90720" y="6858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ahoma"/>
              </a:rPr>
              <a:t>你看得出这是什么吗？这也是经过成千上万年形成的岩石，你可知道再过上千上万年它也许就不存在了，时间是可以改变一切的，它可以让岩石都烂掉，还有什么是它不能办到的呢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2:09:18Z</dcterms:created>
  <dc:creator>ybx</dc:creator>
  <dc:description/>
  <dc:language>en-US</dc:language>
  <cp:lastModifiedBy> </cp:lastModifiedBy>
  <dcterms:modified xsi:type="dcterms:W3CDTF">2002-06-05T13:03:09Z</dcterms:modified>
  <cp:revision>13</cp:revision>
  <dc:subject/>
  <dc:title>PowerPoint 演示文稿</dc:title>
</cp:coreProperties>
</file>