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camera.wav" ContentType="audio/x-wav"/>
  <Override PartName="/ppt/media/image9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2C12-E9EE-4629-96B9-A2C031BC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BCE-4DFD-4099-9AB3-CB6BCB6C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09479-FEAC-484D-BBCF-8FDB961A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C8928-7F03-4A30-9E57-6D69B3F9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8A310-2800-4408-940E-8A65E1958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4BDD5-4E32-4EB2-9300-F7CBB159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9A81C-DBCE-409D-87A3-E7FBC6D3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CD834-A1F1-49DD-B612-B2F32A70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207AA-AA18-4757-A33F-859ED5EC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B0F61-E978-450E-844C-D4A67361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4896F-F8C5-4615-B29E-FB364365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AC300-960B-406E-BF43-1D352767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E16E-9A80-447E-9DFF-5289D111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04064-0A1D-4323-B024-477FAD72A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47DF6-CE28-4F46-BB5E-38C5FD5F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C41CD-FB57-460F-ACC1-5E85F8D9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CD959-26EB-4990-BFD1-CE9D4798D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D900E-492D-4599-A734-3A940D1F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BD6552-A343-4563-B747-90C8BF02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9D754-B80B-49AA-A5FB-13C9546E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6FB0D-30BB-4F3B-9A91-C6469740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BA945-9A5D-4D34-B524-B30763D1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6229B-5377-4702-BD49-31460849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6704-710B-467A-B8F0-001FEA7F1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10834D-7781-4F66-B9D3-32114D40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FC29-2E7D-4627-95CC-C8F51560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0282-1677-4726-B699-A54EA872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C060-2C09-4613-914D-D8B21B723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1F3C6-5C4E-4DF6-8659-C8A75A3DD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3EAE0-E9C0-4D56-8D91-7359524B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A639-BECF-480E-BD03-049E0C85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01DC-63C2-4349-A736-B453C8BD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2360-3026-4318-AF47-DE76F98D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37E-46AE-462F-A6E7-9F3A35292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85EFE-19E0-4417-9EC1-84108766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5464-E298-4409-A7D6-0A5A6782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69C-4F1F-46E5-80F4-0A4C4C694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B941-AD32-4343-A4EC-87ABFBC1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718A7-0C63-4655-93BC-DA22C4A83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E058C-B6F9-4C0D-B17C-4B4C45D6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C39FF-71FA-4C91-A17E-37D8FF35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D515E-1404-4698-A4DE-3C4BED52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46EF6-428B-4EAF-BE3B-D03C4FB17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D30-A87A-4310-90F8-306E20EE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C9C82-4573-4785-AD33-BC102459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22349-981B-4996-952C-F7932D3F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97B2A-677B-4002-B143-41B865C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FCD35-A332-4A6D-B46B-1E678FA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B1481-1775-4A86-82A5-16A389C55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71D4D-4E80-4FAC-953C-891CB2A0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1179B-8354-4E72-8B48-D67064743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7BCF8-EE04-4A7D-9838-D70E9C46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FF0C1-CBF7-4EFE-988E-83C0146F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8BA0F-AEAB-4B53-9354-410024CA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80BB-5580-4CF6-AA7B-64099F5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DA804-0ECF-418E-A9F7-A986AF88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9C753-360B-459C-A1DB-D985AF71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7729-EDF5-4BCE-BFC6-07B855D4A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2A61E-6124-4E12-9A37-3EC550B29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7A5F-4924-4096-9BE1-633ECFDA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B1F61-048C-4F43-AF6D-3F8D02DB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D41A3-18D2-4581-AE00-783E6FD2B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D3077-D56F-41F5-9EBA-7D6C933BF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ECDE6-7B2D-4A8C-B0CD-7F516573B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38AE26-4439-4FF1-BB83-2E94F56C5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A1D5-B99C-41EC-95F4-6E523D42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E055F5-C227-41C3-B40B-0A0AA16E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D9E30A-49D3-4E93-A0F6-3CCF56AB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2C1946-3336-47EB-8143-37CCDCA7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BB108E-0FBC-4161-916C-A6F41748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7B6666-4441-4EEE-8F78-B23BE55D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E2A625-D03A-4388-ADC9-922A58D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A4DBB1-7D9C-4DEF-BC4E-47C85990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2853BA-F97E-46EE-8578-C755724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7299F7-DA0D-4AF3-9A49-3B8A4C4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37BB95-1F63-4F4A-B329-E2B89081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E0FB-B131-455C-BC78-F5FEECFF8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13B43-0FD1-42AD-9920-3C2BA0BCB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D5B27D-EDB3-4CF9-BB51-9F1ABDE54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FE912D-C679-4620-A4A3-D371F061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118D0A-F79B-4048-A90A-D16F2D93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EAAF7-E8CD-4CA6-BC84-ECEF52119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ACDB3-5B9F-4D0A-B251-41DF0EAC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915825-919F-4C42-8DCD-D6B4F9A9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CCDD6E-CF41-4618-B733-0B504C54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07533-F624-4D76-A544-26B561FD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32A266-66D0-4824-807A-DC1D3E7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EFD5-920D-4F02-9495-49C4B9C0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DE964-A1E9-4CBC-B5E4-8B7D4703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8C9209-145D-48B7-ACCC-F81FF8726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30FB0D-977C-4695-8783-B84A1A06E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7D5165-B790-4332-8BEB-0B2976333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CC3DFF-E9DA-4EE5-96A2-670EAA63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C52A4-FF9D-4F41-A41C-2EFD1D5E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9A5866-9F6A-4113-8F66-0AE379B0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216A7A-1CAA-4C0D-B704-579123B1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5ED8B1-7F6E-4DBE-B253-58FED6F0A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EC0AA6-CB44-4008-ABE4-1644FA5C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2E21-0886-4FCA-A13E-373454F9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603E75-138B-48E8-8610-F6BDE378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28D3D8-F191-4E66-935C-81A8A092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41EB9-E4B5-4053-80D7-C9C606EB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219D5E-3ABA-49BD-8B10-A8231F384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6A5B8C3-61A1-4AD9-A21A-070A99245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0DE78-567B-44E9-A4AB-9FCCB739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B9A683-5F62-4941-9128-786563B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AE94-C2EF-43C3-B8BA-628BF3F4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0D639-778B-4523-8FD2-3B680EEC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48BA-A46B-4D21-B757-DAE3609C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EFBF-7F1D-4773-ADF1-E03FA527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07640" y="43920"/>
            <a:ext cx="633564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AAAA6-13A1-4393-B861-9197B4E9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8488A-396B-4AC7-BF9D-8E578A4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90EDD-5073-4BFB-A28A-F55BB29C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1DF964-97B7-44FD-8F36-C313E70E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108000" y="3456000"/>
            <a:ext cx="89280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75F09-DE1A-4316-A45A-23EB71F9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2880" y="72864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10800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2880" y="3456000"/>
            <a:ext cx="435672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09B50-9030-49F1-B560-F5F5D82F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45560" y="72864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1080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145560" y="3456000"/>
            <a:ext cx="2874600" cy="24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4151E-578C-4014-B8CC-AA6AF805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89EB8-6A8D-4F7B-98B5-2CA0ED8E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25737-0394-40D7-8EF8-16C1403A7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DDAEB-34EE-438A-A764-4BB9AC78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en_1-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5" descr="title_bar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780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304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832AA-B5C3-49AC-A517-E243F9052D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9" descr="medical bg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34560" y="632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200320" y="6325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697800" y="632592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3B2C-B502-4431-96C9-75A0D30D4F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ben_1-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title_bar"/>
          <p:cNvPicPr/>
          <p:nvPr/>
        </p:nvPicPr>
        <p:blipFill>
          <a:blip r:embed="rId3"/>
          <a:stretch/>
        </p:blipFill>
        <p:spPr>
          <a:xfrm>
            <a:off x="0" y="115920"/>
            <a:ext cx="9144000" cy="780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6304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4FE8-2EFE-4A81-96DD-9BDEF6C115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ben_1-slid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63048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63048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7536-E800-4912-BB9A-5F83F931462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8" descr="medical bg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4560" y="632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11"/>
          </p:nvPr>
        </p:nvSpPr>
        <p:spPr>
          <a:xfrm>
            <a:off x="2200320" y="6325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2"/>
          </p:nvPr>
        </p:nvSpPr>
        <p:spPr>
          <a:xfrm>
            <a:off x="6697800" y="632592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6F61-512B-4632-8E17-B1D119DC0E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9" descr="粤教版高中语文必修3模板副本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BB37-1B73-4F98-9A06-484A1E324D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5"/>
          </p:nvPr>
        </p:nvSpPr>
        <p:spPr>
          <a:xfrm>
            <a:off x="2916360" y="6165360"/>
            <a:ext cx="40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9" descr="粤教版高中语文必修3模板副本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E071-B8A8-4259-B5EF-BEB44E7DB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8"/>
          </p:nvPr>
        </p:nvSpPr>
        <p:spPr>
          <a:xfrm>
            <a:off x="2916360" y="6165360"/>
            <a:ext cx="40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9" descr="粤教版高中语文必修3模板副本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2C25-C96D-4379-BD07-EB27E4B7BB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1"/>
          </p:nvPr>
        </p:nvSpPr>
        <p:spPr>
          <a:xfrm>
            <a:off x="2916360" y="6165360"/>
            <a:ext cx="40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8" descr="medical bg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body"/>
          </p:nvPr>
        </p:nvSpPr>
        <p:spPr>
          <a:xfrm>
            <a:off x="108000" y="728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dt" idx="22"/>
          </p:nvPr>
        </p:nvSpPr>
        <p:spPr>
          <a:xfrm>
            <a:off x="34560" y="6325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ftr" idx="23"/>
          </p:nvPr>
        </p:nvSpPr>
        <p:spPr>
          <a:xfrm>
            <a:off x="2200320" y="6325920"/>
            <a:ext cx="44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4"/>
          </p:nvPr>
        </p:nvSpPr>
        <p:spPr>
          <a:xfrm>
            <a:off x="6697800" y="6325920"/>
            <a:ext cx="2411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B00A-7BB7-4675-81F8-F811243962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title"/>
          </p:nvPr>
        </p:nvSpPr>
        <p:spPr>
          <a:xfrm>
            <a:off x="107640" y="43920"/>
            <a:ext cx="63356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8" descr="ben_1-titl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5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7497B-A9B6-4236-84EB-14B706E35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2.xml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2" descr="图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3"/>
          <p:cNvSpPr/>
          <p:nvPr/>
        </p:nvSpPr>
        <p:spPr>
          <a:xfrm>
            <a:off x="2843280" y="364500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中宋"/>
              </a:rPr>
              <a:t>沈致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2484360" y="1844640"/>
            <a:ext cx="403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说　数</a:t>
            </a:r>
            <a:endParaRPr b="0" lang="en-US" sz="9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Text Box 6"/>
          <p:cNvSpPr/>
          <p:nvPr/>
        </p:nvSpPr>
        <p:spPr>
          <a:xfrm>
            <a:off x="324000" y="5877000"/>
            <a:ext cx="3887640" cy="459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华美实验中学 李洁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6"/>
          <p:cNvSpPr/>
          <p:nvPr/>
        </p:nvSpPr>
        <p:spPr>
          <a:xfrm>
            <a:off x="3318480" y="403920"/>
            <a:ext cx="9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数的实物原型是十个手指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Rectangle 7"/>
          <p:cNvSpPr/>
          <p:nvPr/>
        </p:nvSpPr>
        <p:spPr>
          <a:xfrm>
            <a:off x="539640" y="1051560"/>
            <a:ext cx="813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自然数的实物原型</a:t>
            </a:r>
            <a:r>
              <a:rPr b="1" lang="zh-CN" sz="3200" spc="-1" strike="noStrike">
                <a:solidFill>
                  <a:srgbClr val="f10d1d"/>
                </a:solidFill>
                <a:latin typeface="黑体"/>
                <a:ea typeface="黑体"/>
              </a:rPr>
              <a:t>可能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十个手指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468360" y="3024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负数概念的形成</a:t>
            </a:r>
            <a:r>
              <a:rPr b="1" lang="zh-CN" sz="3200" spc="-1" strike="noStrike">
                <a:solidFill>
                  <a:srgbClr val="f10d1d"/>
                </a:solidFill>
                <a:latin typeface="黑体"/>
                <a:ea typeface="黑体"/>
              </a:rPr>
              <a:t>恐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人类早期的商业借贷活动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95280" y="194292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负数概念的形成与人类早期的商业借贷活动有关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0" y="393372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结：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修饰限定语的功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在科学小品中，经常出现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表示时间、范围、可能性的副词，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往往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有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一般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可能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绝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根本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  <a:ea typeface="黑体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。这些词恰恰显示了科学小品行文的严谨与准确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Text Box 11"/>
          <p:cNvSpPr/>
          <p:nvPr/>
        </p:nvSpPr>
        <p:spPr>
          <a:xfrm>
            <a:off x="6877080" y="26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Text Box 12"/>
          <p:cNvSpPr/>
          <p:nvPr/>
        </p:nvSpPr>
        <p:spPr>
          <a:xfrm>
            <a:off x="8101080" y="170028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395280" y="647280"/>
            <a:ext cx="806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虚数和虚数轴都是人们想象和创造出来的，但也有实际的原型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Rectangle 5"/>
          <p:cNvSpPr/>
          <p:nvPr/>
        </p:nvSpPr>
        <p:spPr>
          <a:xfrm>
            <a:off x="395280" y="180000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虚数在生活中</a:t>
            </a:r>
            <a:r>
              <a:rPr b="1" lang="zh-CN" sz="3200" spc="-1" strike="noStrike">
                <a:solidFill>
                  <a:srgbClr val="f10d1d"/>
                </a:solidFill>
                <a:latin typeface="Arial"/>
                <a:ea typeface="黑体"/>
              </a:rPr>
              <a:t>具有原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电工学中利用复数表示交流电，虚数代表虚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Rectangle 6"/>
          <p:cNvSpPr/>
          <p:nvPr/>
        </p:nvSpPr>
        <p:spPr>
          <a:xfrm>
            <a:off x="395280" y="349956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整数、分数只是有理数，实数轴上</a:t>
            </a:r>
            <a:r>
              <a:rPr b="1" lang="zh-CN" sz="3200" spc="-1" strike="noStrike">
                <a:solidFill>
                  <a:srgbClr val="f93211"/>
                </a:solidFill>
                <a:latin typeface="黑体"/>
                <a:ea typeface="黑体"/>
              </a:rPr>
              <a:t>还有无理数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Rectangle 7"/>
          <p:cNvSpPr/>
          <p:nvPr/>
        </p:nvSpPr>
        <p:spPr>
          <a:xfrm>
            <a:off x="539640" y="2780280"/>
            <a:ext cx="813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整数、分数填满了整个实数轴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324000" y="4552920"/>
            <a:ext cx="8820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小结：以偏概全</a:t>
            </a:r>
            <a:br>
              <a:rPr sz="3200"/>
            </a:b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四题犯了以偏盖全（以部分代整体）的错误，那么我们在阅读科学小品时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注意信息提炼的完整性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5f5f5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Text Box 9"/>
          <p:cNvSpPr/>
          <p:nvPr/>
        </p:nvSpPr>
        <p:spPr>
          <a:xfrm>
            <a:off x="7020000" y="2637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Text Box 10"/>
          <p:cNvSpPr/>
          <p:nvPr/>
        </p:nvSpPr>
        <p:spPr>
          <a:xfrm>
            <a:off x="8028000" y="18900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539640" y="69228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Rectangle 3"/>
          <p:cNvSpPr/>
          <p:nvPr/>
        </p:nvSpPr>
        <p:spPr>
          <a:xfrm>
            <a:off x="539640" y="404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整数包括正数、负数和零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Rectangle 4"/>
          <p:cNvSpPr/>
          <p:nvPr/>
        </p:nvSpPr>
        <p:spPr>
          <a:xfrm>
            <a:off x="611280" y="206064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⑥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无法用整数或者分数表示的数称为无理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755640" y="3455640"/>
            <a:ext cx="75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3211"/>
                </a:solidFill>
                <a:latin typeface="黑体"/>
                <a:ea typeface="黑体"/>
              </a:rPr>
              <a:t>实数范围内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无法用整数或者分数表示的数称为无理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755640" y="11959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整数、负整数和零统称为整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6516720" y="18900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7885080" y="184464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Rectangle 10"/>
          <p:cNvSpPr/>
          <p:nvPr/>
        </p:nvSpPr>
        <p:spPr>
          <a:xfrm>
            <a:off x="468360" y="472428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结：注意概念表述的范围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1360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所有分数都可以化为小数，所有小数都可以化为分数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468360" y="69228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圆周率是无理数，无理数就是无限不循环小数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Rectangle 5"/>
          <p:cNvSpPr/>
          <p:nvPr/>
        </p:nvSpPr>
        <p:spPr>
          <a:xfrm>
            <a:off x="684360" y="371088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所有分数都可以化为小数，这是我们从课文中得出的正确概念，但是并不代表所有小数也可以化为分数，比如圆周率。此推导不可逆转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Text Box 7"/>
          <p:cNvSpPr/>
          <p:nvPr/>
        </p:nvSpPr>
        <p:spPr>
          <a:xfrm>
            <a:off x="8278920" y="333360"/>
            <a:ext cx="86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黑体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Text Box 8"/>
          <p:cNvSpPr/>
          <p:nvPr/>
        </p:nvSpPr>
        <p:spPr>
          <a:xfrm>
            <a:off x="8459640" y="1916280"/>
            <a:ext cx="8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611280" y="4797360"/>
            <a:ext cx="691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小结：注意逻辑推导的合理性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468360" y="620640"/>
            <a:ext cx="80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  <a:ea typeface="黑体"/>
              </a:rPr>
              <a:t>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、根据文中对数的发展说明，我们可以得知在不久的将来还会有更多的新的数的产生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Text Box 3"/>
          <p:cNvSpPr/>
          <p:nvPr/>
        </p:nvSpPr>
        <p:spPr>
          <a:xfrm>
            <a:off x="755640" y="285264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文中未提“不久的将来”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Text Box 4"/>
          <p:cNvSpPr/>
          <p:nvPr/>
        </p:nvSpPr>
        <p:spPr>
          <a:xfrm>
            <a:off x="324000" y="4149720"/>
            <a:ext cx="88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小结：注意时间概念的准确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已然、未然、将然的故意混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7236000" y="1844640"/>
            <a:ext cx="86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  <a:ea typeface="黑体"/>
              </a:rPr>
              <a:t>×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a50021"/>
                </a:solidFill>
                <a:latin typeface="Garamond"/>
                <a:ea typeface="黑体"/>
              </a:rPr>
              <a:t>谁说数学枯燥无味，数学天地充满了诗情画意，有待我们去发掘。</a:t>
            </a:r>
            <a:r>
              <a:rPr b="1" lang="zh-CN" sz="3600" spc="-1" strike="noStrike">
                <a:solidFill>
                  <a:srgbClr val="a50021"/>
                </a:solidFill>
                <a:latin typeface="黑体"/>
                <a:ea typeface="黑体"/>
              </a:rPr>
              <a:t>”</a:t>
            </a:r>
            <a:br>
              <a:rPr sz="3600"/>
            </a:br>
            <a:r>
              <a:rPr b="1" lang="en-US" sz="3600" spc="-1" strike="noStrike">
                <a:solidFill>
                  <a:srgbClr val="a50021"/>
                </a:solidFill>
                <a:latin typeface="黑体"/>
              </a:rPr>
              <a:t> </a:t>
            </a:r>
            <a:endParaRPr b="0" lang="en-US" sz="36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1116000" y="3933720"/>
            <a:ext cx="352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Text Box 5"/>
          <p:cNvSpPr/>
          <p:nvPr/>
        </p:nvSpPr>
        <p:spPr>
          <a:xfrm>
            <a:off x="468360" y="2421000"/>
            <a:ext cx="8280360" cy="642600"/>
          </a:xfrm>
          <a:prstGeom prst="rect">
            <a:avLst/>
          </a:prstGeom>
          <a:noFill/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ahoma"/>
              </a:rPr>
              <a:t>、文章中有哪些生动有趣的描述？请找出并谈谈这种描述方式的好处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468360" y="3860640"/>
            <a:ext cx="8675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黑体"/>
                <a:ea typeface="黑体"/>
              </a:rPr>
              <a:t>⑴ </a:t>
            </a:r>
            <a:r>
              <a:rPr b="1" lang="zh-CN" sz="2800" spc="-1" strike="noStrike">
                <a:solidFill>
                  <a:srgbClr val="000514"/>
                </a:solidFill>
                <a:latin typeface="黑体"/>
                <a:ea typeface="黑体"/>
              </a:rPr>
              <a:t>说明方法：举例子、打比方、做比较、引用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514"/>
                </a:solidFill>
                <a:latin typeface="黑体"/>
                <a:ea typeface="黑体"/>
              </a:rPr>
              <a:t>⑵ </a:t>
            </a:r>
            <a:r>
              <a:rPr b="1" lang="zh-CN" sz="2800" spc="-1" strike="noStrike">
                <a:solidFill>
                  <a:srgbClr val="000514"/>
                </a:solidFill>
                <a:latin typeface="黑体"/>
                <a:ea typeface="黑体"/>
              </a:rPr>
              <a:t>修辞方法：比喻、对比、拟人</a:t>
            </a:r>
            <a:r>
              <a:rPr b="1" lang="en-US" sz="2800" spc="-1" strike="noStrike">
                <a:solidFill>
                  <a:srgbClr val="000514"/>
                </a:solidFill>
                <a:latin typeface="黑体"/>
                <a:ea typeface="黑体"/>
              </a:rPr>
              <a:t>……</a:t>
            </a:r>
            <a:br>
              <a:rPr sz="2800"/>
            </a:br>
            <a:r>
              <a:rPr b="1" lang="en-US" sz="2800" spc="-1" strike="noStrike">
                <a:solidFill>
                  <a:srgbClr val="000514"/>
                </a:solidFill>
                <a:latin typeface="黑体"/>
                <a:ea typeface="黑体"/>
              </a:rPr>
              <a:t>⑶ </a:t>
            </a:r>
            <a:r>
              <a:rPr b="1" lang="zh-CN" sz="2800" spc="-1" strike="noStrike">
                <a:solidFill>
                  <a:srgbClr val="000514"/>
                </a:solidFill>
                <a:latin typeface="黑体"/>
                <a:ea typeface="黑体"/>
              </a:rPr>
              <a:t>遣词造句：妙用成语、妙用佛语、化用诗句、作诗</a:t>
            </a:r>
            <a:br>
              <a:rPr sz="2800"/>
            </a:br>
            <a:r>
              <a:rPr b="1" lang="zh-CN" sz="2800" spc="-1" strike="noStrike">
                <a:solidFill>
                  <a:srgbClr val="000514"/>
                </a:solidFill>
                <a:latin typeface="黑体"/>
                <a:ea typeface="黑体"/>
              </a:rPr>
              <a:t>⑷多种句式：设问句、反问句、感叹句、文言句式。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Rectangle 10"/>
          <p:cNvSpPr/>
          <p:nvPr/>
        </p:nvSpPr>
        <p:spPr>
          <a:xfrm>
            <a:off x="971640" y="260280"/>
            <a:ext cx="75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0d2a"/>
                </a:solidFill>
                <a:latin typeface="Garamond"/>
                <a:ea typeface="黑体"/>
              </a:rPr>
              <a:t>三、鉴赏科学小品的生动形象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AutoShape 11">
            <a:hlinkClick r:id="rId1" action="ppaction://hlinksldjump"/>
          </p:cNvPr>
          <p:cNvSpPr/>
          <p:nvPr/>
        </p:nvSpPr>
        <p:spPr>
          <a:xfrm>
            <a:off x="615636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AutoShape 13">
            <a:hlinkClick r:id="rId2" action="ppaction://hlinksldjump"/>
          </p:cNvPr>
          <p:cNvSpPr/>
          <p:nvPr/>
        </p:nvSpPr>
        <p:spPr>
          <a:xfrm>
            <a:off x="7380360" y="6237360"/>
            <a:ext cx="792000" cy="431640"/>
          </a:xfrm>
          <a:custGeom>
            <a:avLst/>
            <a:gdLst>
              <a:gd name="textAreaLeft" fmla="*/ 27720 w 792000"/>
              <a:gd name="textAreaRight" fmla="*/ 764280 w 792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9618" h="21600">
                <a:moveTo>
                  <a:pt x="0" y="0"/>
                </a:moveTo>
                <a:lnTo>
                  <a:pt x="39618" y="0"/>
                </a:lnTo>
                <a:lnTo>
                  <a:pt x="39618" y="21600"/>
                </a:lnTo>
                <a:lnTo>
                  <a:pt x="0" y="21600"/>
                </a:lnTo>
                <a:close/>
              </a:path>
              <a:path fill="lightenLess" w="39618" h="21600">
                <a:moveTo>
                  <a:pt x="0" y="0"/>
                </a:moveTo>
                <a:lnTo>
                  <a:pt x="39618" y="0"/>
                </a:lnTo>
                <a:lnTo>
                  <a:pt x="38218" y="1400"/>
                </a:lnTo>
                <a:lnTo>
                  <a:pt x="1400" y="1400"/>
                </a:lnTo>
                <a:close/>
              </a:path>
              <a:path fill="darken" w="39618" h="21600">
                <a:moveTo>
                  <a:pt x="39618" y="0"/>
                </a:moveTo>
                <a:lnTo>
                  <a:pt x="39618" y="21600"/>
                </a:lnTo>
                <a:lnTo>
                  <a:pt x="38218" y="20200"/>
                </a:lnTo>
                <a:lnTo>
                  <a:pt x="38218" y="1400"/>
                </a:lnTo>
                <a:close/>
              </a:path>
              <a:path fill="darkenLess" w="39618" h="21600">
                <a:moveTo>
                  <a:pt x="39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218" y="20200"/>
                </a:lnTo>
                <a:close/>
              </a:path>
              <a:path fill="lighten" w="39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618" h="21600">
                <a:moveTo>
                  <a:pt x="12803" y="3794"/>
                </a:moveTo>
                <a:lnTo>
                  <a:pt x="26815" y="10800"/>
                </a:lnTo>
                <a:lnTo>
                  <a:pt x="1280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9"/>
          <p:cNvSpPr/>
          <p:nvPr/>
        </p:nvSpPr>
        <p:spPr>
          <a:xfrm>
            <a:off x="971640" y="1628640"/>
            <a:ext cx="7489800" cy="14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93211"/>
                </a:solidFill>
                <a:latin typeface="黑体"/>
                <a:ea typeface="黑体"/>
              </a:rPr>
              <a:t>四、拓展联想：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数字还有哪些诗情画意？生活中还有哪些数学之美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4"/>
          <p:cNvSpPr/>
          <p:nvPr/>
        </p:nvSpPr>
        <p:spPr>
          <a:xfrm>
            <a:off x="971640" y="1773360"/>
            <a:ext cx="7632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写一写：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仿照课文中两首小诗的写法，选一个数字或符号写一首小诗。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3059280" y="765000"/>
            <a:ext cx="3600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d0d2a"/>
                </a:solidFill>
                <a:latin typeface="Tahoma"/>
                <a:ea typeface="黑体"/>
              </a:rPr>
              <a:t>  </a:t>
            </a:r>
            <a:r>
              <a:rPr b="1" lang="zh-CN" sz="3600" spc="-1" strike="noStrike">
                <a:solidFill>
                  <a:srgbClr val="fd0d2a"/>
                </a:solidFill>
                <a:latin typeface="Tahoma"/>
                <a:ea typeface="黑体"/>
              </a:rPr>
              <a:t>五、当堂训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"/>
          <p:cNvPicPr/>
          <p:nvPr/>
        </p:nvPicPr>
        <p:blipFill>
          <a:blip r:embed="rId1"/>
          <a:srcRect l="10124" t="0" r="0" b="0"/>
          <a:stretch/>
        </p:blipFill>
        <p:spPr>
          <a:xfrm>
            <a:off x="4932360" y="2133720"/>
            <a:ext cx="4211640" cy="39067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4454640" cy="251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4"/>
          <p:cNvSpPr/>
          <p:nvPr/>
        </p:nvSpPr>
        <p:spPr>
          <a:xfrm>
            <a:off x="539640" y="1700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、整体把握科学小品的逻辑顺序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539640" y="254016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、深入理解科学小品的准确性与生动性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Text Box 6"/>
          <p:cNvSpPr/>
          <p:nvPr/>
        </p:nvSpPr>
        <p:spPr>
          <a:xfrm>
            <a:off x="611280" y="342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、体会自创小诗在表达中的作用，尝试自我创作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" name="Text Box 7">
            <a:hlinkClick r:id="rId1" action="ppaction://hlinksldjump"/>
          </p:cNvPr>
          <p:cNvSpPr/>
          <p:nvPr/>
        </p:nvSpPr>
        <p:spPr>
          <a:xfrm>
            <a:off x="611280" y="472428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迷你简启体"/>
                <a:ea typeface="迷你简启体"/>
              </a:rPr>
              <a:t>、感受数学的真，领悟数学的美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397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93211"/>
                </a:solidFill>
                <a:latin typeface="Garamond"/>
                <a:ea typeface="黑体"/>
              </a:rPr>
              <a:t>六、参省收获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2"/>
          <p:cNvSpPr/>
          <p:nvPr/>
        </p:nvSpPr>
        <p:spPr>
          <a:xfrm>
            <a:off x="2916360" y="260280"/>
            <a:ext cx="2592360" cy="703440"/>
          </a:xfrm>
          <a:prstGeom prst="rect">
            <a:avLst/>
          </a:prstGeom>
          <a:noFill/>
          <a:ln w="93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Tahoma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Text Box 3"/>
          <p:cNvSpPr/>
          <p:nvPr/>
        </p:nvSpPr>
        <p:spPr>
          <a:xfrm>
            <a:off x="2771640" y="1628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ǎ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Text Box 4"/>
          <p:cNvSpPr/>
          <p:nvPr/>
        </p:nvSpPr>
        <p:spPr>
          <a:xfrm>
            <a:off x="2771640" y="234936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à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291636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2843280" y="3716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2771640" y="443700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ǎ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Text Box 8"/>
          <p:cNvSpPr/>
          <p:nvPr/>
        </p:nvSpPr>
        <p:spPr>
          <a:xfrm>
            <a:off x="2771640" y="508464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2627280" y="5805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āomiǎ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Rectangle 10"/>
          <p:cNvSpPr/>
          <p:nvPr/>
        </p:nvSpPr>
        <p:spPr>
          <a:xfrm>
            <a:off x="684360" y="1052640"/>
            <a:ext cx="208908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、字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衍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生   　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一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粲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孜孜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以求  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拭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目以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永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葆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常新　　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契</a:t>
            </a:r>
            <a:r>
              <a:rPr b="1" lang="zh-CN" sz="3200" spc="-1" strike="noStrike">
                <a:solidFill>
                  <a:srgbClr val="000514"/>
                </a:solidFill>
                <a:latin typeface="黑体"/>
                <a:ea typeface="黑体"/>
              </a:rPr>
              <a:t>机　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缥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514"/>
                </a:solidFill>
                <a:latin typeface="Garamond"/>
              </a:rPr>
              <a:t>七、作业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《</a:t>
            </a:r>
            <a:r>
              <a:rPr b="1" lang="zh-CN" sz="3200" spc="-1" strike="noStrike">
                <a:solidFill>
                  <a:srgbClr val="000514"/>
                </a:solidFill>
                <a:latin typeface="Garamond"/>
              </a:rPr>
              <a:t>名师面对面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》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P28</a:t>
            </a:r>
            <a:r>
              <a:rPr b="1" lang="zh-CN" sz="3200" spc="-1" strike="noStrike">
                <a:solidFill>
                  <a:srgbClr val="000514"/>
                </a:solidFill>
                <a:latin typeface="Garamond"/>
              </a:rPr>
              <a:t>，阅读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《</a:t>
            </a:r>
            <a:r>
              <a:rPr b="1" lang="zh-CN" sz="3200" spc="-1" strike="noStrike">
                <a:solidFill>
                  <a:srgbClr val="000514"/>
                </a:solidFill>
                <a:latin typeface="Garamond"/>
              </a:rPr>
              <a:t>绝妙的错误</a:t>
            </a:r>
            <a:r>
              <a:rPr b="1" lang="en-US" sz="3200" spc="-1" strike="noStrike">
                <a:solidFill>
                  <a:srgbClr val="000514"/>
                </a:solidFill>
                <a:latin typeface="Garamond"/>
              </a:rPr>
              <a:t>》</a:t>
            </a:r>
            <a:r>
              <a:rPr b="1" lang="zh-CN" sz="3200" spc="-1" strike="noStrike">
                <a:solidFill>
                  <a:srgbClr val="000514"/>
                </a:solidFill>
                <a:latin typeface="Garamond"/>
              </a:rPr>
              <a:t>一文并完成题目。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28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多种句式好处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摒弃了说明文呆板的陈述句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引入多种句式：（设问句、反问句、感叹句、文言句式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直接与读者的对话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使文章更加亲切，也更加活泼。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3">
            <a:hlinkClick r:id="rId1" action="ppaction://hlinksldjump"/>
          </p:cNvPr>
          <p:cNvSpPr/>
          <p:nvPr/>
        </p:nvSpPr>
        <p:spPr>
          <a:xfrm>
            <a:off x="900000" y="5084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036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4"/>
          <p:cNvSpPr/>
          <p:nvPr/>
        </p:nvSpPr>
        <p:spPr>
          <a:xfrm>
            <a:off x="900000" y="1268280"/>
            <a:ext cx="7272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小结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引用诗作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揭示了数字的神奇和奥妙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增添了文章的趣味性，引起读者的阅读兴趣，让人感受到数学天地的诗情画意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AutoShape 5">
            <a:hlinkClick r:id="rId1" action="ppaction://hlinksldjump"/>
          </p:cNvPr>
          <p:cNvSpPr/>
          <p:nvPr/>
        </p:nvSpPr>
        <p:spPr>
          <a:xfrm>
            <a:off x="900000" y="5084640"/>
            <a:ext cx="576360" cy="72072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720720"/>
              <a:gd name="textAreaBottom" fmla="*/ 683640 h 720720"/>
            </a:gdLst>
            <a:ahLst/>
            <a:rect l="textAreaLeft" t="textAreaTop" r="textAreaRight" b="textAreaBottom"/>
            <a:pathLst>
              <a:path w="21600" h="27007">
                <a:moveTo>
                  <a:pt x="0" y="0"/>
                </a:moveTo>
                <a:lnTo>
                  <a:pt x="21600" y="0"/>
                </a:lnTo>
                <a:lnTo>
                  <a:pt x="21600" y="27007"/>
                </a:lnTo>
                <a:lnTo>
                  <a:pt x="0" y="27007"/>
                </a:lnTo>
                <a:close/>
              </a:path>
              <a:path fill="lightenLess" w="21600" h="270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7">
                <a:moveTo>
                  <a:pt x="21600" y="0"/>
                </a:moveTo>
                <a:lnTo>
                  <a:pt x="21600" y="27007"/>
                </a:lnTo>
                <a:lnTo>
                  <a:pt x="20200" y="25607"/>
                </a:lnTo>
                <a:lnTo>
                  <a:pt x="20200" y="1400"/>
                </a:lnTo>
                <a:close/>
              </a:path>
              <a:path fill="darkenLess" w="21600" h="27007">
                <a:moveTo>
                  <a:pt x="21600" y="27007"/>
                </a:moveTo>
                <a:lnTo>
                  <a:pt x="0" y="27007"/>
                </a:lnTo>
                <a:lnTo>
                  <a:pt x="1400" y="25607"/>
                </a:lnTo>
                <a:lnTo>
                  <a:pt x="20200" y="25607"/>
                </a:lnTo>
                <a:close/>
              </a:path>
              <a:path fill="lighten" w="21600" h="27007">
                <a:moveTo>
                  <a:pt x="0" y="270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7"/>
                </a:lnTo>
                <a:close/>
              </a:path>
              <a:path fill="darken" w="21600" h="27007">
                <a:moveTo>
                  <a:pt x="10800" y="6540"/>
                </a:moveTo>
                <a:lnTo>
                  <a:pt x="13376" y="9152"/>
                </a:ln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lnTo>
                  <a:pt x="17763" y="13503"/>
                </a:lnTo>
                <a:lnTo>
                  <a:pt x="16109" y="13503"/>
                </a:lnTo>
                <a:lnTo>
                  <a:pt x="16109" y="20693"/>
                </a:lnTo>
                <a:lnTo>
                  <a:pt x="5491" y="20693"/>
                </a:lnTo>
                <a:lnTo>
                  <a:pt x="5491" y="13503"/>
                </a:lnTo>
                <a:lnTo>
                  <a:pt x="3837" y="13503"/>
                </a:lnTo>
                <a:close/>
              </a:path>
              <a:path fill="darkenLess" w="21600" h="27007">
                <a:moveTo>
                  <a:pt x="13376" y="9152"/>
                </a:moveTo>
                <a:lnTo>
                  <a:pt x="13376" y="7411"/>
                </a:lnTo>
                <a:lnTo>
                  <a:pt x="15152" y="7411"/>
                </a:lnTo>
                <a:lnTo>
                  <a:pt x="15152" y="10927"/>
                </a:lnTo>
                <a:close/>
              </a:path>
              <a:path fill="darkenLess" w="21600" h="27007">
                <a:moveTo>
                  <a:pt x="9877" y="17002"/>
                </a:moveTo>
                <a:lnTo>
                  <a:pt x="11723" y="17002"/>
                </a:lnTo>
                <a:lnTo>
                  <a:pt x="11723" y="20693"/>
                </a:lnTo>
                <a:lnTo>
                  <a:pt x="16109" y="20693"/>
                </a:lnTo>
                <a:lnTo>
                  <a:pt x="16109" y="13503"/>
                </a:lnTo>
                <a:lnTo>
                  <a:pt x="5491" y="13503"/>
                </a:lnTo>
                <a:lnTo>
                  <a:pt x="5491" y="20693"/>
                </a:lnTo>
                <a:lnTo>
                  <a:pt x="9877" y="20693"/>
                </a:lnTo>
                <a:close/>
              </a:path>
            </a:pathLst>
          </a:custGeom>
          <a:solidFill>
            <a:srgbClr val="036b1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353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一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欠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就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负资产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首先，零代表“无”，没有“无”何来“有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零的原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一无所有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还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四大皆空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-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平方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什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？这可不好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谁说数学枯燥无味？数学天地充满了诗情画意，有待我们去发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其实不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想想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可不好办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无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讲道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6756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第二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看！负数和正数分列左右如雁翅般排开，零居中央，颇有王者气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加入了分数和无理数以后，数学王国更扩大了，在零这位国王两边雁翅排开的阵容就更加威武雄壮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从实数轴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雁翅排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发展到复平面上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众星捧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无论数的概念怎样扩大，零的特殊地位始终不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道为什么圆周率背了这么个恶名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理者，不讲道理也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F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虚数和复数有没有实际原型呢？咋看似乎“虚”无缥缈，“复”杂得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68360" y="728640"/>
            <a:ext cx="81360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小结：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运用多种修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抛弃了呆板的就事论事模式，不仅仅局限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范畴，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生活事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联系起来，思维广阔，同时巧妙地运用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拟人、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修辞手法予以表现，使文章生动有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610920" y="620280"/>
            <a:ext cx="7993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总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们常把数学与理化或计算机相提并论，但专家指出，与数学最接近的学科很可能是音乐与诗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爱因斯坦就说过，这个世界可以由诗组成，也可以由数学公式组成，而他自己就是一位小提琴演奏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第一首小提琴曲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行路难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创作者就是地质学家李四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华罗庚、苏步青等数学家都能作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91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　　　　　　　　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孜孜以求：勤勉地追求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不足为奇：不值得惊奇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迎刃而解：比喻主要的问题解决了，其他有关的问题就可以很容易地得到解决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契机：指事物转化的关键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虚无缥缈：形容非常空虚渺茫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6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抱屈：叫屈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四大皆空：佛教用语，指世界上的一切都是虚幻的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r>
              <a:rPr b="1" lang="zh-CN" sz="3000" spc="-1" strike="noStrike">
                <a:solidFill>
                  <a:srgbClr val="0000ff"/>
                </a:solidFill>
                <a:latin typeface="黑体"/>
                <a:ea typeface="黑体"/>
              </a:rPr>
              <a:t>、粲： 原意为鲜明美好，这里指美好的笑容。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r>
              <a:rPr b="1" lang="zh-CN" sz="3000" spc="-1" strike="noStrike">
                <a:solidFill>
                  <a:srgbClr val="ff0000"/>
                </a:solidFill>
                <a:latin typeface="黑体"/>
                <a:ea typeface="黑体"/>
              </a:rPr>
              <a:t>、浩如烟海：形容文献、资料等非常丰富</a:t>
            </a:r>
            <a:endParaRPr b="0" lang="en-US" sz="3000" spc="-1" strike="noStrike">
              <a:solidFill>
                <a:srgbClr val="000514"/>
              </a:solidFill>
              <a:latin typeface="Garamond"/>
            </a:endParaRPr>
          </a:p>
        </p:txBody>
      </p:sp>
      <p:pic>
        <p:nvPicPr>
          <p:cNvPr id="436" name="WordArt 3" descr=""/>
          <p:cNvPicPr/>
          <p:nvPr/>
        </p:nvPicPr>
        <p:blipFill>
          <a:blip r:embed="rId1"/>
          <a:stretch/>
        </p:blipFill>
        <p:spPr>
          <a:xfrm>
            <a:off x="1828800" y="334800"/>
            <a:ext cx="4552920" cy="9082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2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9"/>
          <p:cNvSpPr/>
          <p:nvPr/>
        </p:nvSpPr>
        <p:spPr>
          <a:xfrm>
            <a:off x="152280" y="762120"/>
            <a:ext cx="3962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Garamond"/>
                <a:ea typeface="华文隶书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250920" y="2276640"/>
            <a:ext cx="8686800" cy="18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把握科学小品的准确性、生动性特征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从文章的描述中感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真，领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美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3"/>
          <p:cNvSpPr/>
          <p:nvPr/>
        </p:nvSpPr>
        <p:spPr>
          <a:xfrm>
            <a:off x="53964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科学小品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Text Box 4"/>
          <p:cNvSpPr/>
          <p:nvPr/>
        </p:nvSpPr>
        <p:spPr>
          <a:xfrm>
            <a:off x="611280" y="2492280"/>
            <a:ext cx="7993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（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幼圆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）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定义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：用通俗平实、形象生动的语言来介绍科学知识的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说明文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体。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Text Box 5"/>
          <p:cNvSpPr/>
          <p:nvPr/>
        </p:nvSpPr>
        <p:spPr>
          <a:xfrm>
            <a:off x="755640" y="4005360"/>
            <a:ext cx="799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 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（</a:t>
            </a:r>
            <a:r>
              <a:rPr b="1" lang="en-US" sz="3800" spc="-1" strike="noStrike">
                <a:solidFill>
                  <a:srgbClr val="ff0000"/>
                </a:solidFill>
                <a:latin typeface="Arial"/>
                <a:ea typeface="幼圆"/>
              </a:rPr>
              <a:t>2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）特征：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既有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科学的严谨，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幼圆"/>
              </a:rPr>
              <a:t>又有</a:t>
            </a:r>
            <a:r>
              <a:rPr b="1" lang="zh-CN" sz="3800" spc="-1" strike="noStrike">
                <a:solidFill>
                  <a:srgbClr val="ff0000"/>
                </a:solidFill>
                <a:latin typeface="Arial"/>
                <a:ea typeface="幼圆"/>
              </a:rPr>
              <a:t>文学的情趣。</a:t>
            </a:r>
            <a:endParaRPr b="0" lang="en-US" sz="3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WordArt 4"/>
          <p:cNvSpPr txBox="1"/>
          <p:nvPr/>
        </p:nvSpPr>
        <p:spPr>
          <a:xfrm>
            <a:off x="684360" y="1052640"/>
            <a:ext cx="74167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走进课文，梳理线索和思路</a:t>
            </a:r>
            <a:endParaRPr b="1" lang="en-US" sz="7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611280" y="2852640"/>
            <a:ext cx="78134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10d1d"/>
                </a:solidFill>
                <a:latin typeface="Garamond"/>
                <a:ea typeface="黑体"/>
              </a:rPr>
              <a:t>一、思考：</a:t>
            </a:r>
            <a:r>
              <a:rPr b="1" lang="zh-CN" sz="4000" spc="-1" strike="noStrike">
                <a:solidFill>
                  <a:srgbClr val="000514"/>
                </a:solidFill>
                <a:latin typeface="Garamond"/>
                <a:ea typeface="黑体"/>
              </a:rPr>
              <a:t>课文是以什么顺序来展开说明的？请你根据作者的思路画出一个简单的示意图。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18"/>
          <p:cNvSpPr/>
          <p:nvPr/>
        </p:nvSpPr>
        <p:spPr>
          <a:xfrm>
            <a:off x="3672000" y="3030480"/>
            <a:ext cx="228600" cy="121932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AutoShape 19"/>
          <p:cNvSpPr/>
          <p:nvPr/>
        </p:nvSpPr>
        <p:spPr>
          <a:xfrm>
            <a:off x="4967280" y="3716280"/>
            <a:ext cx="228600" cy="1143000"/>
          </a:xfrm>
          <a:custGeom>
            <a:avLst/>
            <a:gdLst>
              <a:gd name="textAreaLeft" fmla="*/ 0 w 228600"/>
              <a:gd name="textAreaRight" fmla="*/ 82440 w 22860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0"/>
                </a:lnTo>
                <a:cubicBezTo>
                  <a:pt x="10800" y="10410"/>
                  <a:pt x="16200" y="11310"/>
                  <a:pt x="21600" y="11310"/>
                </a:cubicBezTo>
                <a:cubicBezTo>
                  <a:pt x="16200" y="11310"/>
                  <a:pt x="10800" y="12210"/>
                  <a:pt x="10800" y="1311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AutoShape 20"/>
          <p:cNvSpPr/>
          <p:nvPr/>
        </p:nvSpPr>
        <p:spPr>
          <a:xfrm>
            <a:off x="6567480" y="43257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623"/>
                </a:lnTo>
                <a:cubicBezTo>
                  <a:pt x="10800" y="10523"/>
                  <a:pt x="16200" y="11423"/>
                  <a:pt x="21600" y="11423"/>
                </a:cubicBezTo>
                <a:cubicBezTo>
                  <a:pt x="16200" y="11423"/>
                  <a:pt x="10800" y="12323"/>
                  <a:pt x="10800" y="1322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AutoShape 21"/>
          <p:cNvSpPr/>
          <p:nvPr/>
        </p:nvSpPr>
        <p:spPr>
          <a:xfrm>
            <a:off x="7786800" y="4935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22"/>
          <p:cNvSpPr/>
          <p:nvPr/>
        </p:nvSpPr>
        <p:spPr>
          <a:xfrm>
            <a:off x="25092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作者思路示意图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Text Box 23"/>
          <p:cNvSpPr/>
          <p:nvPr/>
        </p:nvSpPr>
        <p:spPr>
          <a:xfrm>
            <a:off x="869400" y="2801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自然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ext Box 24"/>
          <p:cNvSpPr/>
          <p:nvPr/>
        </p:nvSpPr>
        <p:spPr>
          <a:xfrm>
            <a:off x="707760" y="34876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Text Box 25"/>
          <p:cNvSpPr/>
          <p:nvPr/>
        </p:nvSpPr>
        <p:spPr>
          <a:xfrm>
            <a:off x="4140720" y="3335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整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Text Box 26"/>
          <p:cNvSpPr/>
          <p:nvPr/>
        </p:nvSpPr>
        <p:spPr>
          <a:xfrm>
            <a:off x="1194480" y="40971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带负号的自然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Text Box 27"/>
          <p:cNvSpPr/>
          <p:nvPr/>
        </p:nvSpPr>
        <p:spPr>
          <a:xfrm>
            <a:off x="4140720" y="46306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Text Box 28"/>
          <p:cNvSpPr/>
          <p:nvPr/>
        </p:nvSpPr>
        <p:spPr>
          <a:xfrm>
            <a:off x="5441400" y="4097160"/>
            <a:ext cx="9122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有理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Text Box 29"/>
          <p:cNvSpPr/>
          <p:nvPr/>
        </p:nvSpPr>
        <p:spPr>
          <a:xfrm>
            <a:off x="5195880" y="5011560"/>
            <a:ext cx="140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无理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Text Box 30"/>
          <p:cNvSpPr/>
          <p:nvPr/>
        </p:nvSpPr>
        <p:spPr>
          <a:xfrm>
            <a:off x="6960240" y="4554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实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Text Box 31"/>
          <p:cNvSpPr/>
          <p:nvPr/>
        </p:nvSpPr>
        <p:spPr>
          <a:xfrm>
            <a:off x="6960240" y="5621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虚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Text Box 32"/>
          <p:cNvSpPr/>
          <p:nvPr/>
        </p:nvSpPr>
        <p:spPr>
          <a:xfrm>
            <a:off x="8103240" y="5087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复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905040" y="11970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数的发展史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Text Box 34"/>
          <p:cNvSpPr/>
          <p:nvPr/>
        </p:nvSpPr>
        <p:spPr>
          <a:xfrm>
            <a:off x="5051160" y="333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逻辑顺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Text Box 35"/>
          <p:cNvSpPr/>
          <p:nvPr/>
        </p:nvSpPr>
        <p:spPr>
          <a:xfrm>
            <a:off x="3848400" y="1197000"/>
            <a:ext cx="344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（起点</a:t>
            </a:r>
            <a:r>
              <a:rPr b="0" lang="en-US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-</a:t>
            </a: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衍生</a:t>
            </a:r>
            <a:r>
              <a:rPr b="0" lang="en-US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-</a:t>
            </a: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创新）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Text Box 36"/>
          <p:cNvSpPr/>
          <p:nvPr/>
        </p:nvSpPr>
        <p:spPr>
          <a:xfrm>
            <a:off x="4319640" y="191628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d0d2a"/>
                </a:solidFill>
                <a:latin typeface="Times New Roman"/>
                <a:ea typeface="华文隶书"/>
              </a:rPr>
              <a:t>科学的规律性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6"/>
          <p:cNvSpPr/>
          <p:nvPr/>
        </p:nvSpPr>
        <p:spPr>
          <a:xfrm>
            <a:off x="755640" y="836640"/>
            <a:ext cx="7902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科学规律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发展永无止境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吾生也有涯，而知也无涯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7"/>
          <p:cNvSpPr/>
          <p:nvPr/>
        </p:nvSpPr>
        <p:spPr>
          <a:xfrm>
            <a:off x="755640" y="3573360"/>
            <a:ext cx="70801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科学精神：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科学需要发现，需要想象，需要创造。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6"/>
          <p:cNvSpPr/>
          <p:nvPr/>
        </p:nvSpPr>
        <p:spPr>
          <a:xfrm>
            <a:off x="826920" y="1052640"/>
            <a:ext cx="777564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d0d2a"/>
                </a:solidFill>
                <a:latin typeface="Tahoma"/>
                <a:ea typeface="黑体"/>
              </a:rPr>
              <a:t>二、品析科学小品的准确严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以下练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判断正确与否，结合文本，讲出理由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科学小品的准确性特征角度把握文章的严谨性，体会科学之真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Text Box 22"/>
          <p:cNvSpPr/>
          <p:nvPr/>
        </p:nvSpPr>
        <p:spPr>
          <a:xfrm>
            <a:off x="684360" y="38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科学求真，真中涵美；艺术唯美，美不离真。”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——</a:t>
            </a: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沈致远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《</a:t>
            </a: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科学是美丽的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2T02:40:34Z</dcterms:created>
  <dc:creator/>
  <dc:description/>
  <cp:keywords/>
  <dc:language>en-US</dc:language>
  <cp:lastModifiedBy>ABC</cp:lastModifiedBy>
  <dcterms:modified xsi:type="dcterms:W3CDTF">2015-12-23T06:20:11Z</dcterms:modified>
  <cp:revision>325</cp:revision>
  <dc:subject/>
  <dc:title>PowerPoint 演示文稿</dc:title>
</cp:coreProperties>
</file>