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139-694A-4CE3-AC81-EDCFC4C8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3EC-4BA2-40CC-875B-EB2C3AFB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BE6-98B8-4AEC-A116-DA784CB6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1FF-AAA1-4251-B8F0-486B0B11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0AB-AAAD-4CA9-8404-34B854A2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0AA-C51F-4BF3-ADEB-1E6F0D05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D11-C9AE-4121-92B3-32FEC33E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6BE-44BB-495D-ADFE-1DF800DE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B8B-7834-4DDD-9CC6-8CFF84D5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086-2F80-4A2C-9B22-E816F88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23D-E053-4957-AC36-FF4C8698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9AD-A231-472D-A9F7-AFABEB0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2DC-3CB2-4C40-B365-F16A64932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1470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9600" spc="-1" strike="noStrike">
                <a:solidFill>
                  <a:srgbClr val="000000"/>
                </a:solidFill>
                <a:latin typeface="宋体"/>
                <a:ea typeface="宋体"/>
              </a:rPr>
              <a:t>诗经</a:t>
            </a:r>
            <a:r>
              <a:rPr b="0" lang="en-US" sz="9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solidFill>
            <a:srgbClr val="6699ff">
              <a:alpha val="5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楷体"/>
                <a:ea typeface="楷体"/>
              </a:rPr>
              <a:t>式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宋体"/>
                <a:ea typeface="宋体"/>
              </a:rPr>
              <a:t>式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内容占位符 2"/>
          <p:cNvGrpSpPr/>
          <p:nvPr/>
        </p:nvGrpSpPr>
        <p:grpSpPr>
          <a:xfrm>
            <a:off x="378000" y="1596960"/>
            <a:ext cx="8315280" cy="4962600"/>
            <a:chOff x="378000" y="1596960"/>
            <a:chExt cx="8315280" cy="4962600"/>
          </a:xfrm>
        </p:grpSpPr>
        <p:pic>
          <p:nvPicPr>
            <p:cNvPr id="45" name="内容占位符 2" descr=""/>
            <p:cNvPicPr/>
            <p:nvPr/>
          </p:nvPicPr>
          <p:blipFill>
            <a:blip r:embed="rId2"/>
            <a:stretch/>
          </p:blipFill>
          <p:spPr>
            <a:xfrm>
              <a:off x="378000" y="1596960"/>
              <a:ext cx="8315280" cy="49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0880" y="1600200"/>
              <a:ext cx="830592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1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式微，式微！胡不归？</a:t>
              </a:r>
              <a:br>
                <a:rPr sz="4400"/>
              </a:br>
              <a:br>
                <a:rPr sz="4400"/>
              </a:b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　　微君之故，胡为乎中露！</a:t>
              </a:r>
              <a:br>
                <a:rPr sz="4400"/>
              </a:br>
              <a:br>
                <a:rPr sz="4400"/>
              </a:b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　　式微，式微！胡不归？</a:t>
              </a:r>
              <a:br>
                <a:rPr sz="4400"/>
              </a:br>
              <a:br>
                <a:rPr sz="4400"/>
              </a:b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　　微君之躬，胡为乎泥中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000000"/>
                </a:buClr>
                <a:buFont typeface="宋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"/>
                <a:ea typeface="楷体"/>
              </a:rPr>
              <a:t>注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eiry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eiryo"/>
                <a:ea typeface="Meiryo"/>
              </a:rPr>
              <a:t>主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民行役，颠连困苦，对统治者发出不平的怨恨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　式：作语助。微：昧，黄昏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　微：非。中露：露中。倒文以协韵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　躬：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译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译文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天渐渐黑了，为什么不回去呢？若不是国君的缘故，怎么会身披露水之苦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　　天渐渐黑了，为什么不回去呢？若不是国君的驱使，怎么会在泥泞中辛劳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07:30:55Z</dcterms:created>
  <dc:creator>dell</dc:creator>
  <dc:description/>
  <dc:language>en-US</dc:language>
  <cp:lastModifiedBy>dashu</cp:lastModifiedBy>
  <dcterms:modified xsi:type="dcterms:W3CDTF">2012-05-13T06:23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