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377-1C57-450C-BED9-D3E96D23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6217-83A2-4618-84F7-91077C15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B7178-1454-4EEE-B77A-1542C703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ED2E6-1122-47D9-8876-62F90173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2BDE8-39E9-4989-A691-3269F8E3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FA949-3970-49E6-96EE-8DF6E2FC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4064A-00DC-476D-BDCF-95A09989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EC204-AA65-4482-9014-32B9466C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0D31C-E2EE-4935-A7E8-9E72FB55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1AFD0-2E79-4204-B3AC-DC58135A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B9A3F-EB81-4955-AAD6-C1AB185C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6D28D-0551-4AAF-95E1-E2EB7FD6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65C-161E-4653-86BC-7B3B0268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4190F-4724-4B8B-AEAA-1C2EC06D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298B5-12C7-4696-B9FE-ABAAE51A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164CB-85EF-4F36-9B52-7B27590A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83F0B-1173-45DB-8290-4A2804DC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C2DC6-4059-4BB3-AA17-77C8FF37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B5DCA-4AD1-4521-8FA5-504AAB4B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84CBD-8596-448D-9886-5C2F4046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D9027-ADA9-43F0-B56C-EEF06138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CEF37-63BF-495F-A5BD-C4BF04E7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10F2F-67B1-4F56-AFBA-1CAD1916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62D-E5FF-45AD-9628-35C56BF3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3427D-3DAF-45FA-AF44-A51B59F3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5666A-02D1-4E4F-A2A4-76AFAA47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94124-9B23-4B09-B6A0-DD3C0EE7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77231-9E1B-4EED-8970-5230A689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01C3C-D33E-4BE3-9A56-0FDC5F60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78937-40FA-4E1D-AB31-56F742A3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852D1-79BB-4968-A03D-FA2E4839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DF2EA-6634-4824-BBF5-8276B86D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6235B-6FC6-4281-AD04-856BFE32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2F933-4931-41F7-99FD-6CD34822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1762-F154-4712-A729-68F15E40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BBF38-E742-4700-AB55-F05DBDC5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65A2E-2ECB-464B-BB8B-176DA146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D3B90-0BDE-4120-BE2F-420FCB8D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02B5C-2A60-4FE1-A6F5-C8A3D9A9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2A977-C881-4A06-AE8B-C7313E66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B196C-7740-4465-BECA-689C8A10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095C9-64C5-4A19-B438-F23931F1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4C91D-6D90-4349-9416-2D6F77EE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530A4-B5B0-4B78-9D70-43106A7F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3EF1C-4F5D-4319-971A-6BB31718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BB50-66A8-44E9-9E17-8B2BF282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55A53-1A1C-434C-9EDA-CDD18FC7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309C7-D2E9-4C97-9FAE-1B03C6ED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C7AC7-0093-4D33-92CA-F542B323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FCD85-BD9F-45A1-8F55-3FD3BE72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2ECF7-9B8B-4BF1-B186-023BCFA2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E76D-8378-4A40-8ED5-12A97110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5F06-7C9A-4553-B786-BDE0CECD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446D-6F35-403E-B667-E5F1BA5B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8F3C-21E0-4C6F-9449-F5BD3570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6F78-4579-4114-800A-5E3CFF98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F26C-98ED-49BA-B747-85A0F7AD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88B3-8865-428C-9672-D5A9EAF0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47C9-0394-494C-8E95-9FD6946D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E701-CA3B-41A8-8A58-902D7FEC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A76F-53F3-45C2-B76E-3741F6F7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AD1F-9C89-4956-8064-4D65A2FD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48661-8026-439B-8C1D-57808CF6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F8A95-9178-4B4F-BA17-9E76D293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8054A-3318-41E8-BB04-0A4FE75D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93A17-775E-43E3-8464-5E438E71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FF883-ED89-4EAD-9613-B074B89B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841-735B-478C-9C67-ED6892B8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1EB63-B8B7-4DD8-AFFA-4D5BFC1D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3106C-3497-49B2-AD80-4D4EDEE2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43E15-F8F8-4810-9F55-700C8679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6F2AF-FB29-4DC9-8A66-7027A88B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09EB7-E5D0-4887-A93D-80C7A177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73BC1-158F-47EF-BE3C-A7A0B548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63C4F-F1CC-4BE3-AAC1-B975185E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27CE3-59FD-40FF-BF99-1219BC9A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7AE71-73E8-4900-B9DC-0A194437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2B271-B67B-4DAA-A48F-8CD47920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C8A-F9D0-4844-A0FB-8F7A48D0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2A2FC-4B52-4EAB-9707-DE79E882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41130-D444-40AE-85EE-130F1BE2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6EB60-4BE9-43CE-A705-CD6279C5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B13C8-E1B4-4D67-9BC5-7B336EAD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B44F3-B4F6-4C17-8F9A-8CDB2990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145C9-E584-4069-BF45-89F42B07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7C205-CAF2-4EB7-A0E5-329A18E0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ED2DE-8360-4A49-8FE8-AD18EAF1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E7811-EF89-45A4-A9E1-85791E85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3C843-D999-4F65-83BD-11443172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799-48F7-46F2-9CE6-D2270C93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47967-F5B9-4899-B29A-E98CE5DB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5D6EA-36BB-42A7-A0EE-85434B20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2FD2E-879C-43F8-A77C-DA8A4440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6F4F3-C69B-4A3A-85EF-10AF376F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8DCB3-92BA-448D-9EC3-5D0D9884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C5C14-0615-4E58-90E9-E726B838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F7282-EE5C-4BA0-9AC4-66CCECBF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B7130-1448-4A7B-99CA-C1C58DD4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ACD79-23DF-4155-86BF-80F114C4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8A804-EA34-4763-BE06-6EC44D46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577E-5151-430A-86E3-048D4662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EF40A-90F7-4A29-A003-A4C22EC5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87163-479E-445C-A633-6DF7A219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B84DE-47B2-4013-96A8-B67E26C0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D432A-950A-4959-8921-F89D1D65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1923E-5782-4BD8-98DA-CF3273C6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1EE5D-1307-4349-B5C7-948F4589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E1787-7BDC-462E-8CAB-D538797B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27E8B-9531-4A00-B7E6-34276BF9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F9017-DD85-422A-AA85-37BC19FA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54F15-0C7D-4E24-8B76-4F5ADAD0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1E44-6DC9-4F20-9E29-FFFC4432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CF404-EEA1-4F03-AD9E-8A9D64D8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195BE-602F-4D9F-90B3-45B56913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0C13C-302C-43F3-85ED-7C841801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C8744-2BDB-4458-99CB-0122C3AD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D1031-ABD4-4D95-A7AE-2F1EDDA8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468F9-ED29-40B5-86EF-B575C254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7AA35-877F-4FE0-AEEF-CB29AC66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D40DA-5F6F-49B0-BB88-67CEEB30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8774A-05C7-4408-B96E-F5D774D8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443CC-2299-4FDF-BB24-5B99B0DB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A1C-4E30-40DC-B858-4F968D98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0DFED-8934-434C-B89D-4452D0D0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F9877-F018-4821-A929-BBD8AE0C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30467-01BA-4222-AF0E-A9FE7624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85836-9AA1-4C73-A812-F8E1BEBD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9CE53-3A4A-48B3-8A6E-6E15D30F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F17BD-EF2B-4938-95F4-84ABB5C6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F55BB-6935-4CE8-A0D4-D7B21ADC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529A2-BF3D-4AAE-BF0A-18966A48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827D5-CA57-417D-9A47-725BFF85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5EB9B-8959-4FBE-AAD0-D3415068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261F-A7FF-4FF0-BC1A-E75DC63B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C36B0-70BC-4388-9665-6737361C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C6047-6A5B-47F6-BA69-2EA81337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89E7C-4650-4769-BF4E-41810565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F5824-816B-41DF-94F1-B050787E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4F0DF-1B81-4228-AEC8-DC224147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B17F5-FFF3-4596-87C4-941571E4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DF69C-F021-4C65-9043-144EFC4A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39080-B412-43FC-8C8D-BFA23CEE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F2D7B-DCA3-402F-A868-5BEF5923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EA7BA-EF02-49B5-A8C9-388F382A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ppt20.com/u/426748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hyperlink" Target="http://www.ppt20.com/u/426748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CAA9-DF5A-4DB8-AC7F-B7021769B31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915F-9B3B-4A87-924E-33A5188689C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072E-2CBB-46E6-BC99-9D6A4E00405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DD34-BAA1-4F33-9C00-77E5679A08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39DC-3063-4AB9-985C-A6F765B9622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42B5-7715-4089-BD76-AD33591D78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78A4-56D9-4551-8773-75A6ADC5A51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D3AE-0F31-40AD-8C92-6E14F3D23E1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KSO_Shape">
            <a:hlinkClick r:id="rId3"/>
          </p:cNvPr>
          <p:cNvSpPr/>
          <p:nvPr/>
        </p:nvSpPr>
        <p:spPr>
          <a:xfrm>
            <a:off x="3857760" y="4092480"/>
            <a:ext cx="1428480" cy="1470240"/>
          </a:xfrm>
          <a:custGeom>
            <a:avLst/>
            <a:gdLst/>
            <a:ahLst/>
            <a:rect l="l" t="t" r="r" b="b"/>
            <a:pathLst>
              <a:path w="2208213" h="1703388">
                <a:moveTo>
                  <a:pt x="1762889" y="844550"/>
                </a:moveTo>
                <a:lnTo>
                  <a:pt x="2208213" y="965111"/>
                </a:lnTo>
                <a:lnTo>
                  <a:pt x="1990788" y="1371846"/>
                </a:lnTo>
                <a:lnTo>
                  <a:pt x="1929846" y="1230662"/>
                </a:lnTo>
                <a:lnTo>
                  <a:pt x="867796" y="1703388"/>
                </a:lnTo>
                <a:lnTo>
                  <a:pt x="548483" y="1444499"/>
                </a:lnTo>
                <a:lnTo>
                  <a:pt x="97445" y="1618044"/>
                </a:lnTo>
                <a:lnTo>
                  <a:pt x="0" y="1371211"/>
                </a:lnTo>
                <a:lnTo>
                  <a:pt x="594824" y="1140876"/>
                </a:lnTo>
                <a:lnTo>
                  <a:pt x="908107" y="1394689"/>
                </a:lnTo>
                <a:lnTo>
                  <a:pt x="1824148" y="987003"/>
                </a:lnTo>
                <a:lnTo>
                  <a:pt x="1762889" y="844550"/>
                </a:lnTo>
                <a:close/>
                <a:moveTo>
                  <a:pt x="958430" y="595312"/>
                </a:moveTo>
                <a:lnTo>
                  <a:pt x="972077" y="621956"/>
                </a:lnTo>
                <a:lnTo>
                  <a:pt x="992390" y="661604"/>
                </a:lnTo>
                <a:lnTo>
                  <a:pt x="1042853" y="760249"/>
                </a:lnTo>
                <a:lnTo>
                  <a:pt x="1108868" y="888076"/>
                </a:lnTo>
                <a:lnTo>
                  <a:pt x="1115533" y="879195"/>
                </a:lnTo>
                <a:lnTo>
                  <a:pt x="1123467" y="866825"/>
                </a:lnTo>
                <a:lnTo>
                  <a:pt x="1132354" y="851917"/>
                </a:lnTo>
                <a:lnTo>
                  <a:pt x="1142827" y="834154"/>
                </a:lnTo>
                <a:lnTo>
                  <a:pt x="1153618" y="814488"/>
                </a:lnTo>
                <a:lnTo>
                  <a:pt x="1165044" y="793554"/>
                </a:lnTo>
                <a:lnTo>
                  <a:pt x="1189165" y="748196"/>
                </a:lnTo>
                <a:lnTo>
                  <a:pt x="1212651" y="702204"/>
                </a:lnTo>
                <a:lnTo>
                  <a:pt x="1234233" y="659701"/>
                </a:lnTo>
                <a:lnTo>
                  <a:pt x="1252323" y="623541"/>
                </a:lnTo>
                <a:lnTo>
                  <a:pt x="1264701" y="597849"/>
                </a:lnTo>
                <a:lnTo>
                  <a:pt x="1278983" y="601973"/>
                </a:lnTo>
                <a:lnTo>
                  <a:pt x="1292313" y="605779"/>
                </a:lnTo>
                <a:lnTo>
                  <a:pt x="1305643" y="610220"/>
                </a:lnTo>
                <a:lnTo>
                  <a:pt x="1318973" y="614343"/>
                </a:lnTo>
                <a:lnTo>
                  <a:pt x="1344046" y="623541"/>
                </a:lnTo>
                <a:lnTo>
                  <a:pt x="1368167" y="633057"/>
                </a:lnTo>
                <a:lnTo>
                  <a:pt x="1391018" y="642890"/>
                </a:lnTo>
                <a:lnTo>
                  <a:pt x="1411965" y="652723"/>
                </a:lnTo>
                <a:lnTo>
                  <a:pt x="1431643" y="662556"/>
                </a:lnTo>
                <a:lnTo>
                  <a:pt x="1449733" y="671754"/>
                </a:lnTo>
                <a:lnTo>
                  <a:pt x="1465602" y="680952"/>
                </a:lnTo>
                <a:lnTo>
                  <a:pt x="1480202" y="689199"/>
                </a:lnTo>
                <a:lnTo>
                  <a:pt x="1492897" y="696812"/>
                </a:lnTo>
                <a:lnTo>
                  <a:pt x="1503053" y="703473"/>
                </a:lnTo>
                <a:lnTo>
                  <a:pt x="1517335" y="712671"/>
                </a:lnTo>
                <a:lnTo>
                  <a:pt x="1522413" y="716477"/>
                </a:lnTo>
                <a:lnTo>
                  <a:pt x="1522413" y="764373"/>
                </a:lnTo>
                <a:lnTo>
                  <a:pt x="1522413" y="948342"/>
                </a:lnTo>
                <a:lnTo>
                  <a:pt x="1522413" y="975937"/>
                </a:lnTo>
                <a:lnTo>
                  <a:pt x="929549" y="1239837"/>
                </a:lnTo>
                <a:lnTo>
                  <a:pt x="688975" y="1045084"/>
                </a:lnTo>
                <a:lnTo>
                  <a:pt x="688975" y="948342"/>
                </a:lnTo>
                <a:lnTo>
                  <a:pt x="688975" y="764373"/>
                </a:lnTo>
                <a:lnTo>
                  <a:pt x="688975" y="716477"/>
                </a:lnTo>
                <a:lnTo>
                  <a:pt x="694053" y="712671"/>
                </a:lnTo>
                <a:lnTo>
                  <a:pt x="709605" y="702521"/>
                </a:lnTo>
                <a:lnTo>
                  <a:pt x="720396" y="695860"/>
                </a:lnTo>
                <a:lnTo>
                  <a:pt x="733408" y="687931"/>
                </a:lnTo>
                <a:lnTo>
                  <a:pt x="748325" y="679366"/>
                </a:lnTo>
                <a:lnTo>
                  <a:pt x="765781" y="669851"/>
                </a:lnTo>
                <a:lnTo>
                  <a:pt x="784506" y="660018"/>
                </a:lnTo>
                <a:lnTo>
                  <a:pt x="805136" y="650185"/>
                </a:lnTo>
                <a:lnTo>
                  <a:pt x="827035" y="640035"/>
                </a:lnTo>
                <a:lnTo>
                  <a:pt x="851156" y="630202"/>
                </a:lnTo>
                <a:lnTo>
                  <a:pt x="875912" y="620370"/>
                </a:lnTo>
                <a:lnTo>
                  <a:pt x="889241" y="615612"/>
                </a:lnTo>
                <a:lnTo>
                  <a:pt x="902571" y="611488"/>
                </a:lnTo>
                <a:lnTo>
                  <a:pt x="916219" y="607048"/>
                </a:lnTo>
                <a:lnTo>
                  <a:pt x="930183" y="602607"/>
                </a:lnTo>
                <a:lnTo>
                  <a:pt x="944465" y="598801"/>
                </a:lnTo>
                <a:lnTo>
                  <a:pt x="958430" y="595312"/>
                </a:lnTo>
                <a:close/>
                <a:moveTo>
                  <a:pt x="1619885" y="414337"/>
                </a:moveTo>
                <a:lnTo>
                  <a:pt x="1631315" y="437197"/>
                </a:lnTo>
                <a:lnTo>
                  <a:pt x="1648778" y="470852"/>
                </a:lnTo>
                <a:lnTo>
                  <a:pt x="1691640" y="554354"/>
                </a:lnTo>
                <a:lnTo>
                  <a:pt x="1747520" y="662940"/>
                </a:lnTo>
                <a:lnTo>
                  <a:pt x="1752918" y="655637"/>
                </a:lnTo>
                <a:lnTo>
                  <a:pt x="1759585" y="645160"/>
                </a:lnTo>
                <a:lnTo>
                  <a:pt x="1767523" y="632142"/>
                </a:lnTo>
                <a:lnTo>
                  <a:pt x="1776095" y="617220"/>
                </a:lnTo>
                <a:lnTo>
                  <a:pt x="1795463" y="582612"/>
                </a:lnTo>
                <a:lnTo>
                  <a:pt x="1815465" y="544194"/>
                </a:lnTo>
                <a:lnTo>
                  <a:pt x="1835785" y="505142"/>
                </a:lnTo>
                <a:lnTo>
                  <a:pt x="1854200" y="468947"/>
                </a:lnTo>
                <a:lnTo>
                  <a:pt x="1869440" y="438149"/>
                </a:lnTo>
                <a:lnTo>
                  <a:pt x="1879600" y="416559"/>
                </a:lnTo>
                <a:lnTo>
                  <a:pt x="1891665" y="419734"/>
                </a:lnTo>
                <a:lnTo>
                  <a:pt x="1903413" y="423227"/>
                </a:lnTo>
                <a:lnTo>
                  <a:pt x="1925638" y="430212"/>
                </a:lnTo>
                <a:lnTo>
                  <a:pt x="1946910" y="438149"/>
                </a:lnTo>
                <a:lnTo>
                  <a:pt x="1967548" y="446404"/>
                </a:lnTo>
                <a:lnTo>
                  <a:pt x="1986915" y="454659"/>
                </a:lnTo>
                <a:lnTo>
                  <a:pt x="2005013" y="462914"/>
                </a:lnTo>
                <a:lnTo>
                  <a:pt x="2021523" y="471169"/>
                </a:lnTo>
                <a:lnTo>
                  <a:pt x="2036763" y="479424"/>
                </a:lnTo>
                <a:lnTo>
                  <a:pt x="2050415" y="487044"/>
                </a:lnTo>
                <a:lnTo>
                  <a:pt x="2062798" y="494029"/>
                </a:lnTo>
                <a:lnTo>
                  <a:pt x="2082165" y="505777"/>
                </a:lnTo>
                <a:lnTo>
                  <a:pt x="2094230" y="514349"/>
                </a:lnTo>
                <a:lnTo>
                  <a:pt x="2098675" y="516889"/>
                </a:lnTo>
                <a:lnTo>
                  <a:pt x="2098675" y="557847"/>
                </a:lnTo>
                <a:lnTo>
                  <a:pt x="2098675" y="714057"/>
                </a:lnTo>
                <a:lnTo>
                  <a:pt x="2098675" y="796925"/>
                </a:lnTo>
                <a:lnTo>
                  <a:pt x="1798638" y="715645"/>
                </a:lnTo>
                <a:lnTo>
                  <a:pt x="1660843" y="678180"/>
                </a:lnTo>
                <a:lnTo>
                  <a:pt x="1660843" y="669925"/>
                </a:lnTo>
                <a:lnTo>
                  <a:pt x="1660843" y="623252"/>
                </a:lnTo>
                <a:lnTo>
                  <a:pt x="1623060" y="595629"/>
                </a:lnTo>
                <a:lnTo>
                  <a:pt x="1618298" y="592137"/>
                </a:lnTo>
                <a:lnTo>
                  <a:pt x="1606868" y="584517"/>
                </a:lnTo>
                <a:lnTo>
                  <a:pt x="1590040" y="573722"/>
                </a:lnTo>
                <a:lnTo>
                  <a:pt x="1567180" y="559752"/>
                </a:lnTo>
                <a:lnTo>
                  <a:pt x="1553845" y="552449"/>
                </a:lnTo>
                <a:lnTo>
                  <a:pt x="1539240" y="544512"/>
                </a:lnTo>
                <a:lnTo>
                  <a:pt x="1523365" y="535939"/>
                </a:lnTo>
                <a:lnTo>
                  <a:pt x="1506538" y="527684"/>
                </a:lnTo>
                <a:lnTo>
                  <a:pt x="1488440" y="518794"/>
                </a:lnTo>
                <a:lnTo>
                  <a:pt x="1469708" y="510222"/>
                </a:lnTo>
                <a:lnTo>
                  <a:pt x="1449388" y="501649"/>
                </a:lnTo>
                <a:lnTo>
                  <a:pt x="1428750" y="493394"/>
                </a:lnTo>
                <a:lnTo>
                  <a:pt x="1444625" y="483869"/>
                </a:lnTo>
                <a:lnTo>
                  <a:pt x="1463675" y="474027"/>
                </a:lnTo>
                <a:lnTo>
                  <a:pt x="1484948" y="463549"/>
                </a:lnTo>
                <a:lnTo>
                  <a:pt x="1508125" y="452437"/>
                </a:lnTo>
                <a:lnTo>
                  <a:pt x="1520825" y="447357"/>
                </a:lnTo>
                <a:lnTo>
                  <a:pt x="1533843" y="441642"/>
                </a:lnTo>
                <a:lnTo>
                  <a:pt x="1547178" y="436562"/>
                </a:lnTo>
                <a:lnTo>
                  <a:pt x="1560830" y="431799"/>
                </a:lnTo>
                <a:lnTo>
                  <a:pt x="1575118" y="427354"/>
                </a:lnTo>
                <a:lnTo>
                  <a:pt x="1589723" y="422592"/>
                </a:lnTo>
                <a:lnTo>
                  <a:pt x="1604645" y="418147"/>
                </a:lnTo>
                <a:lnTo>
                  <a:pt x="1619885" y="414337"/>
                </a:lnTo>
                <a:close/>
                <a:moveTo>
                  <a:pt x="325863" y="414337"/>
                </a:moveTo>
                <a:lnTo>
                  <a:pt x="336663" y="437178"/>
                </a:lnTo>
                <a:lnTo>
                  <a:pt x="354134" y="470806"/>
                </a:lnTo>
                <a:lnTo>
                  <a:pt x="397017" y="554240"/>
                </a:lnTo>
                <a:lnTo>
                  <a:pt x="452923" y="662737"/>
                </a:lnTo>
                <a:lnTo>
                  <a:pt x="458323" y="655440"/>
                </a:lnTo>
                <a:lnTo>
                  <a:pt x="465629" y="644972"/>
                </a:lnTo>
                <a:lnTo>
                  <a:pt x="472935" y="631965"/>
                </a:lnTo>
                <a:lnTo>
                  <a:pt x="481829" y="617054"/>
                </a:lnTo>
                <a:lnTo>
                  <a:pt x="500888" y="582475"/>
                </a:lnTo>
                <a:lnTo>
                  <a:pt x="521217" y="544089"/>
                </a:lnTo>
                <a:lnTo>
                  <a:pt x="541229" y="505068"/>
                </a:lnTo>
                <a:lnTo>
                  <a:pt x="559653" y="468902"/>
                </a:lnTo>
                <a:lnTo>
                  <a:pt x="574900" y="438130"/>
                </a:lnTo>
                <a:lnTo>
                  <a:pt x="585700" y="416557"/>
                </a:lnTo>
                <a:lnTo>
                  <a:pt x="600947" y="420999"/>
                </a:lnTo>
                <a:lnTo>
                  <a:pt x="615877" y="425757"/>
                </a:lnTo>
                <a:lnTo>
                  <a:pt x="630489" y="430199"/>
                </a:lnTo>
                <a:lnTo>
                  <a:pt x="644783" y="434957"/>
                </a:lnTo>
                <a:lnTo>
                  <a:pt x="658442" y="440668"/>
                </a:lnTo>
                <a:lnTo>
                  <a:pt x="671783" y="445744"/>
                </a:lnTo>
                <a:lnTo>
                  <a:pt x="684489" y="451137"/>
                </a:lnTo>
                <a:lnTo>
                  <a:pt x="696877" y="456847"/>
                </a:lnTo>
                <a:lnTo>
                  <a:pt x="719431" y="467316"/>
                </a:lnTo>
                <a:lnTo>
                  <a:pt x="740078" y="477785"/>
                </a:lnTo>
                <a:lnTo>
                  <a:pt x="758184" y="487620"/>
                </a:lnTo>
                <a:lnTo>
                  <a:pt x="773113" y="496820"/>
                </a:lnTo>
                <a:lnTo>
                  <a:pt x="753419" y="505068"/>
                </a:lnTo>
                <a:lnTo>
                  <a:pt x="734042" y="513633"/>
                </a:lnTo>
                <a:lnTo>
                  <a:pt x="715936" y="521882"/>
                </a:lnTo>
                <a:lnTo>
                  <a:pt x="698783" y="530130"/>
                </a:lnTo>
                <a:lnTo>
                  <a:pt x="682901" y="538378"/>
                </a:lnTo>
                <a:lnTo>
                  <a:pt x="667654" y="546309"/>
                </a:lnTo>
                <a:lnTo>
                  <a:pt x="653677" y="554240"/>
                </a:lnTo>
                <a:lnTo>
                  <a:pt x="641289" y="561220"/>
                </a:lnTo>
                <a:lnTo>
                  <a:pt x="619689" y="574544"/>
                </a:lnTo>
                <a:lnTo>
                  <a:pt x="602853" y="585013"/>
                </a:lnTo>
                <a:lnTo>
                  <a:pt x="592371" y="592309"/>
                </a:lnTo>
                <a:lnTo>
                  <a:pt x="587924" y="595482"/>
                </a:lnTo>
                <a:lnTo>
                  <a:pt x="549806" y="623082"/>
                </a:lnTo>
                <a:lnTo>
                  <a:pt x="549806" y="669716"/>
                </a:lnTo>
                <a:lnTo>
                  <a:pt x="549806" y="717937"/>
                </a:lnTo>
                <a:lnTo>
                  <a:pt x="549806" y="901938"/>
                </a:lnTo>
                <a:lnTo>
                  <a:pt x="549806" y="1014876"/>
                </a:lnTo>
                <a:lnTo>
                  <a:pt x="546312" y="1016462"/>
                </a:lnTo>
                <a:lnTo>
                  <a:pt x="96838" y="1193800"/>
                </a:lnTo>
                <a:lnTo>
                  <a:pt x="96838" y="713813"/>
                </a:lnTo>
                <a:lnTo>
                  <a:pt x="96838" y="557730"/>
                </a:lnTo>
                <a:lnTo>
                  <a:pt x="96838" y="516806"/>
                </a:lnTo>
                <a:lnTo>
                  <a:pt x="101285" y="514268"/>
                </a:lnTo>
                <a:lnTo>
                  <a:pt x="113991" y="505385"/>
                </a:lnTo>
                <a:lnTo>
                  <a:pt x="123521" y="499675"/>
                </a:lnTo>
                <a:lnTo>
                  <a:pt x="134321" y="493013"/>
                </a:lnTo>
                <a:lnTo>
                  <a:pt x="147344" y="485716"/>
                </a:lnTo>
                <a:lnTo>
                  <a:pt x="161639" y="477468"/>
                </a:lnTo>
                <a:lnTo>
                  <a:pt x="177839" y="469220"/>
                </a:lnTo>
                <a:lnTo>
                  <a:pt x="194992" y="460971"/>
                </a:lnTo>
                <a:lnTo>
                  <a:pt x="214051" y="452406"/>
                </a:lnTo>
                <a:lnTo>
                  <a:pt x="234063" y="444157"/>
                </a:lnTo>
                <a:lnTo>
                  <a:pt x="255345" y="435909"/>
                </a:lnTo>
                <a:lnTo>
                  <a:pt x="277581" y="427978"/>
                </a:lnTo>
                <a:lnTo>
                  <a:pt x="301404" y="420999"/>
                </a:lnTo>
                <a:lnTo>
                  <a:pt x="313157" y="417509"/>
                </a:lnTo>
                <a:lnTo>
                  <a:pt x="325863" y="414337"/>
                </a:lnTo>
                <a:close/>
                <a:moveTo>
                  <a:pt x="1105540" y="106362"/>
                </a:moveTo>
                <a:lnTo>
                  <a:pt x="1113783" y="106679"/>
                </a:lnTo>
                <a:lnTo>
                  <a:pt x="1122026" y="107315"/>
                </a:lnTo>
                <a:lnTo>
                  <a:pt x="1130269" y="108268"/>
                </a:lnTo>
                <a:lnTo>
                  <a:pt x="1138512" y="109857"/>
                </a:lnTo>
                <a:lnTo>
                  <a:pt x="1146755" y="111445"/>
                </a:lnTo>
                <a:lnTo>
                  <a:pt x="1154998" y="113987"/>
                </a:lnTo>
                <a:lnTo>
                  <a:pt x="1162924" y="116528"/>
                </a:lnTo>
                <a:lnTo>
                  <a:pt x="1170850" y="119705"/>
                </a:lnTo>
                <a:lnTo>
                  <a:pt x="1178775" y="122882"/>
                </a:lnTo>
                <a:lnTo>
                  <a:pt x="1186067" y="127013"/>
                </a:lnTo>
                <a:lnTo>
                  <a:pt x="1193993" y="131143"/>
                </a:lnTo>
                <a:lnTo>
                  <a:pt x="1200968" y="135908"/>
                </a:lnTo>
                <a:lnTo>
                  <a:pt x="1208260" y="140992"/>
                </a:lnTo>
                <a:lnTo>
                  <a:pt x="1215235" y="146710"/>
                </a:lnTo>
                <a:lnTo>
                  <a:pt x="1221892" y="152429"/>
                </a:lnTo>
                <a:lnTo>
                  <a:pt x="1228550" y="158783"/>
                </a:lnTo>
                <a:lnTo>
                  <a:pt x="1234574" y="165455"/>
                </a:lnTo>
                <a:lnTo>
                  <a:pt x="1240915" y="172444"/>
                </a:lnTo>
                <a:lnTo>
                  <a:pt x="1246304" y="180069"/>
                </a:lnTo>
                <a:lnTo>
                  <a:pt x="1251694" y="188012"/>
                </a:lnTo>
                <a:lnTo>
                  <a:pt x="1256449" y="196272"/>
                </a:lnTo>
                <a:lnTo>
                  <a:pt x="1261205" y="204850"/>
                </a:lnTo>
                <a:lnTo>
                  <a:pt x="1265643" y="214064"/>
                </a:lnTo>
                <a:lnTo>
                  <a:pt x="1269448" y="223277"/>
                </a:lnTo>
                <a:lnTo>
                  <a:pt x="1272935" y="233126"/>
                </a:lnTo>
                <a:lnTo>
                  <a:pt x="1276105" y="243610"/>
                </a:lnTo>
                <a:lnTo>
                  <a:pt x="1278959" y="254094"/>
                </a:lnTo>
                <a:lnTo>
                  <a:pt x="1281178" y="265214"/>
                </a:lnTo>
                <a:lnTo>
                  <a:pt x="1282763" y="276651"/>
                </a:lnTo>
                <a:lnTo>
                  <a:pt x="1284031" y="288407"/>
                </a:lnTo>
                <a:lnTo>
                  <a:pt x="1284665" y="300479"/>
                </a:lnTo>
                <a:lnTo>
                  <a:pt x="1285300" y="313187"/>
                </a:lnTo>
                <a:lnTo>
                  <a:pt x="1285300" y="317635"/>
                </a:lnTo>
                <a:lnTo>
                  <a:pt x="1284665" y="321765"/>
                </a:lnTo>
                <a:lnTo>
                  <a:pt x="1285300" y="321765"/>
                </a:lnTo>
                <a:lnTo>
                  <a:pt x="1289421" y="322401"/>
                </a:lnTo>
                <a:lnTo>
                  <a:pt x="1293542" y="323036"/>
                </a:lnTo>
                <a:lnTo>
                  <a:pt x="1297347" y="324307"/>
                </a:lnTo>
                <a:lnTo>
                  <a:pt x="1300834" y="326213"/>
                </a:lnTo>
                <a:lnTo>
                  <a:pt x="1304322" y="328437"/>
                </a:lnTo>
                <a:lnTo>
                  <a:pt x="1307492" y="331297"/>
                </a:lnTo>
                <a:lnTo>
                  <a:pt x="1310662" y="334474"/>
                </a:lnTo>
                <a:lnTo>
                  <a:pt x="1313833" y="337651"/>
                </a:lnTo>
                <a:lnTo>
                  <a:pt x="1316369" y="341463"/>
                </a:lnTo>
                <a:lnTo>
                  <a:pt x="1318588" y="345911"/>
                </a:lnTo>
                <a:lnTo>
                  <a:pt x="1320491" y="350359"/>
                </a:lnTo>
                <a:lnTo>
                  <a:pt x="1322393" y="354807"/>
                </a:lnTo>
                <a:lnTo>
                  <a:pt x="1323661" y="359572"/>
                </a:lnTo>
                <a:lnTo>
                  <a:pt x="1324929" y="365291"/>
                </a:lnTo>
                <a:lnTo>
                  <a:pt x="1325246" y="370374"/>
                </a:lnTo>
                <a:lnTo>
                  <a:pt x="1325563" y="375775"/>
                </a:lnTo>
                <a:lnTo>
                  <a:pt x="1325246" y="381176"/>
                </a:lnTo>
                <a:lnTo>
                  <a:pt x="1323661" y="386895"/>
                </a:lnTo>
                <a:lnTo>
                  <a:pt x="1321759" y="391978"/>
                </a:lnTo>
                <a:lnTo>
                  <a:pt x="1319222" y="396744"/>
                </a:lnTo>
                <a:lnTo>
                  <a:pt x="1316369" y="401509"/>
                </a:lnTo>
                <a:lnTo>
                  <a:pt x="1312248" y="406275"/>
                </a:lnTo>
                <a:lnTo>
                  <a:pt x="1308443" y="410087"/>
                </a:lnTo>
                <a:lnTo>
                  <a:pt x="1303688" y="413900"/>
                </a:lnTo>
                <a:lnTo>
                  <a:pt x="1298932" y="417712"/>
                </a:lnTo>
                <a:lnTo>
                  <a:pt x="1294177" y="420572"/>
                </a:lnTo>
                <a:lnTo>
                  <a:pt x="1289104" y="423431"/>
                </a:lnTo>
                <a:lnTo>
                  <a:pt x="1284031" y="425337"/>
                </a:lnTo>
                <a:lnTo>
                  <a:pt x="1278959" y="427561"/>
                </a:lnTo>
                <a:lnTo>
                  <a:pt x="1274203" y="428514"/>
                </a:lnTo>
                <a:lnTo>
                  <a:pt x="1269448" y="429467"/>
                </a:lnTo>
                <a:lnTo>
                  <a:pt x="1265009" y="429785"/>
                </a:lnTo>
                <a:lnTo>
                  <a:pt x="1264692" y="429785"/>
                </a:lnTo>
                <a:lnTo>
                  <a:pt x="1258351" y="446623"/>
                </a:lnTo>
                <a:lnTo>
                  <a:pt x="1251377" y="463779"/>
                </a:lnTo>
                <a:lnTo>
                  <a:pt x="1243768" y="479665"/>
                </a:lnTo>
                <a:lnTo>
                  <a:pt x="1235525" y="495232"/>
                </a:lnTo>
                <a:lnTo>
                  <a:pt x="1228867" y="506034"/>
                </a:lnTo>
                <a:lnTo>
                  <a:pt x="1222209" y="516836"/>
                </a:lnTo>
                <a:lnTo>
                  <a:pt x="1215235" y="527003"/>
                </a:lnTo>
                <a:lnTo>
                  <a:pt x="1207626" y="536852"/>
                </a:lnTo>
                <a:lnTo>
                  <a:pt x="1200017" y="546065"/>
                </a:lnTo>
                <a:lnTo>
                  <a:pt x="1192408" y="554643"/>
                </a:lnTo>
                <a:lnTo>
                  <a:pt x="1184165" y="562586"/>
                </a:lnTo>
                <a:lnTo>
                  <a:pt x="1176239" y="569575"/>
                </a:lnTo>
                <a:lnTo>
                  <a:pt x="1167679" y="576247"/>
                </a:lnTo>
                <a:lnTo>
                  <a:pt x="1159119" y="582283"/>
                </a:lnTo>
                <a:lnTo>
                  <a:pt x="1150242" y="587367"/>
                </a:lnTo>
                <a:lnTo>
                  <a:pt x="1141365" y="591814"/>
                </a:lnTo>
                <a:lnTo>
                  <a:pt x="1132171" y="595309"/>
                </a:lnTo>
                <a:lnTo>
                  <a:pt x="1123611" y="597533"/>
                </a:lnTo>
                <a:lnTo>
                  <a:pt x="1118856" y="598804"/>
                </a:lnTo>
                <a:lnTo>
                  <a:pt x="1114734" y="599122"/>
                </a:lnTo>
                <a:lnTo>
                  <a:pt x="1110296" y="599439"/>
                </a:lnTo>
                <a:lnTo>
                  <a:pt x="1105540" y="600075"/>
                </a:lnTo>
                <a:lnTo>
                  <a:pt x="1099199" y="599439"/>
                </a:lnTo>
                <a:lnTo>
                  <a:pt x="1092859" y="598804"/>
                </a:lnTo>
                <a:lnTo>
                  <a:pt x="1087152" y="597533"/>
                </a:lnTo>
                <a:lnTo>
                  <a:pt x="1080811" y="595627"/>
                </a:lnTo>
                <a:lnTo>
                  <a:pt x="1074471" y="593721"/>
                </a:lnTo>
                <a:lnTo>
                  <a:pt x="1068130" y="590861"/>
                </a:lnTo>
                <a:lnTo>
                  <a:pt x="1062423" y="587684"/>
                </a:lnTo>
                <a:lnTo>
                  <a:pt x="1056083" y="584507"/>
                </a:lnTo>
                <a:lnTo>
                  <a:pt x="1050693" y="581012"/>
                </a:lnTo>
                <a:lnTo>
                  <a:pt x="1044986" y="577200"/>
                </a:lnTo>
                <a:lnTo>
                  <a:pt x="1039597" y="573070"/>
                </a:lnTo>
                <a:lnTo>
                  <a:pt x="1034524" y="568940"/>
                </a:lnTo>
                <a:lnTo>
                  <a:pt x="1028818" y="564174"/>
                </a:lnTo>
                <a:lnTo>
                  <a:pt x="1023745" y="559409"/>
                </a:lnTo>
                <a:lnTo>
                  <a:pt x="1018672" y="554008"/>
                </a:lnTo>
                <a:lnTo>
                  <a:pt x="1013600" y="548289"/>
                </a:lnTo>
                <a:lnTo>
                  <a:pt x="1003455" y="536534"/>
                </a:lnTo>
                <a:lnTo>
                  <a:pt x="993944" y="523826"/>
                </a:lnTo>
                <a:lnTo>
                  <a:pt x="985067" y="510482"/>
                </a:lnTo>
                <a:lnTo>
                  <a:pt x="976190" y="495868"/>
                </a:lnTo>
                <a:lnTo>
                  <a:pt x="967630" y="480300"/>
                </a:lnTo>
                <a:lnTo>
                  <a:pt x="959704" y="463779"/>
                </a:lnTo>
                <a:lnTo>
                  <a:pt x="952729" y="446623"/>
                </a:lnTo>
                <a:lnTo>
                  <a:pt x="946388" y="429150"/>
                </a:lnTo>
                <a:lnTo>
                  <a:pt x="941950" y="428197"/>
                </a:lnTo>
                <a:lnTo>
                  <a:pt x="937194" y="426926"/>
                </a:lnTo>
                <a:lnTo>
                  <a:pt x="933073" y="425020"/>
                </a:lnTo>
                <a:lnTo>
                  <a:pt x="928317" y="423113"/>
                </a:lnTo>
                <a:lnTo>
                  <a:pt x="923562" y="420572"/>
                </a:lnTo>
                <a:lnTo>
                  <a:pt x="919123" y="418030"/>
                </a:lnTo>
                <a:lnTo>
                  <a:pt x="915002" y="414853"/>
                </a:lnTo>
                <a:lnTo>
                  <a:pt x="910563" y="411358"/>
                </a:lnTo>
                <a:lnTo>
                  <a:pt x="906759" y="407863"/>
                </a:lnTo>
                <a:lnTo>
                  <a:pt x="903271" y="403733"/>
                </a:lnTo>
                <a:lnTo>
                  <a:pt x="900101" y="399603"/>
                </a:lnTo>
                <a:lnTo>
                  <a:pt x="897248" y="395155"/>
                </a:lnTo>
                <a:lnTo>
                  <a:pt x="895345" y="390707"/>
                </a:lnTo>
                <a:lnTo>
                  <a:pt x="893443" y="385624"/>
                </a:lnTo>
                <a:lnTo>
                  <a:pt x="892492" y="380859"/>
                </a:lnTo>
                <a:lnTo>
                  <a:pt x="892175" y="375775"/>
                </a:lnTo>
                <a:lnTo>
                  <a:pt x="892175" y="370692"/>
                </a:lnTo>
                <a:lnTo>
                  <a:pt x="892492" y="365926"/>
                </a:lnTo>
                <a:lnTo>
                  <a:pt x="893760" y="361161"/>
                </a:lnTo>
                <a:lnTo>
                  <a:pt x="894394" y="356395"/>
                </a:lnTo>
                <a:lnTo>
                  <a:pt x="895980" y="352265"/>
                </a:lnTo>
                <a:lnTo>
                  <a:pt x="897565" y="348135"/>
                </a:lnTo>
                <a:lnTo>
                  <a:pt x="899467" y="344323"/>
                </a:lnTo>
                <a:lnTo>
                  <a:pt x="902003" y="340828"/>
                </a:lnTo>
                <a:lnTo>
                  <a:pt x="904222" y="337333"/>
                </a:lnTo>
                <a:lnTo>
                  <a:pt x="907076" y="334156"/>
                </a:lnTo>
                <a:lnTo>
                  <a:pt x="909929" y="331297"/>
                </a:lnTo>
                <a:lnTo>
                  <a:pt x="913099" y="329073"/>
                </a:lnTo>
                <a:lnTo>
                  <a:pt x="916270" y="326531"/>
                </a:lnTo>
                <a:lnTo>
                  <a:pt x="919123" y="324943"/>
                </a:lnTo>
                <a:lnTo>
                  <a:pt x="922928" y="323672"/>
                </a:lnTo>
                <a:lnTo>
                  <a:pt x="926415" y="322719"/>
                </a:lnTo>
                <a:lnTo>
                  <a:pt x="926098" y="313187"/>
                </a:lnTo>
                <a:lnTo>
                  <a:pt x="926415" y="300479"/>
                </a:lnTo>
                <a:lnTo>
                  <a:pt x="927049" y="288407"/>
                </a:lnTo>
                <a:lnTo>
                  <a:pt x="928317" y="276651"/>
                </a:lnTo>
                <a:lnTo>
                  <a:pt x="930219" y="265214"/>
                </a:lnTo>
                <a:lnTo>
                  <a:pt x="932122" y="254094"/>
                </a:lnTo>
                <a:lnTo>
                  <a:pt x="934975" y="243610"/>
                </a:lnTo>
                <a:lnTo>
                  <a:pt x="938145" y="233126"/>
                </a:lnTo>
                <a:lnTo>
                  <a:pt x="941633" y="223277"/>
                </a:lnTo>
                <a:lnTo>
                  <a:pt x="945754" y="214064"/>
                </a:lnTo>
                <a:lnTo>
                  <a:pt x="949876" y="204850"/>
                </a:lnTo>
                <a:lnTo>
                  <a:pt x="954631" y="196272"/>
                </a:lnTo>
                <a:lnTo>
                  <a:pt x="959704" y="188012"/>
                </a:lnTo>
                <a:lnTo>
                  <a:pt x="964776" y="180069"/>
                </a:lnTo>
                <a:lnTo>
                  <a:pt x="970800" y="172444"/>
                </a:lnTo>
                <a:lnTo>
                  <a:pt x="976507" y="165455"/>
                </a:lnTo>
                <a:lnTo>
                  <a:pt x="982847" y="158783"/>
                </a:lnTo>
                <a:lnTo>
                  <a:pt x="989188" y="152429"/>
                </a:lnTo>
                <a:lnTo>
                  <a:pt x="995846" y="146710"/>
                </a:lnTo>
                <a:lnTo>
                  <a:pt x="1003138" y="140992"/>
                </a:lnTo>
                <a:lnTo>
                  <a:pt x="1010112" y="135908"/>
                </a:lnTo>
                <a:lnTo>
                  <a:pt x="1017404" y="131143"/>
                </a:lnTo>
                <a:lnTo>
                  <a:pt x="1025013" y="127013"/>
                </a:lnTo>
                <a:lnTo>
                  <a:pt x="1032622" y="122882"/>
                </a:lnTo>
                <a:lnTo>
                  <a:pt x="1040231" y="119705"/>
                </a:lnTo>
                <a:lnTo>
                  <a:pt x="1048157" y="116528"/>
                </a:lnTo>
                <a:lnTo>
                  <a:pt x="1056400" y="113987"/>
                </a:lnTo>
                <a:lnTo>
                  <a:pt x="1064326" y="111445"/>
                </a:lnTo>
                <a:lnTo>
                  <a:pt x="1072568" y="109857"/>
                </a:lnTo>
                <a:lnTo>
                  <a:pt x="1080811" y="108268"/>
                </a:lnTo>
                <a:lnTo>
                  <a:pt x="1089054" y="107315"/>
                </a:lnTo>
                <a:lnTo>
                  <a:pt x="1097297" y="106679"/>
                </a:lnTo>
                <a:lnTo>
                  <a:pt x="1105540" y="106362"/>
                </a:lnTo>
                <a:close/>
                <a:moveTo>
                  <a:pt x="1743393" y="0"/>
                </a:moveTo>
                <a:lnTo>
                  <a:pt x="1750378" y="317"/>
                </a:lnTo>
                <a:lnTo>
                  <a:pt x="1757680" y="950"/>
                </a:lnTo>
                <a:lnTo>
                  <a:pt x="1764665" y="1584"/>
                </a:lnTo>
                <a:lnTo>
                  <a:pt x="1771650" y="2851"/>
                </a:lnTo>
                <a:lnTo>
                  <a:pt x="1778318" y="4435"/>
                </a:lnTo>
                <a:lnTo>
                  <a:pt x="1785620" y="6335"/>
                </a:lnTo>
                <a:lnTo>
                  <a:pt x="1792288" y="8553"/>
                </a:lnTo>
                <a:lnTo>
                  <a:pt x="1798955" y="11404"/>
                </a:lnTo>
                <a:lnTo>
                  <a:pt x="1805623" y="14255"/>
                </a:lnTo>
                <a:lnTo>
                  <a:pt x="1812290" y="17423"/>
                </a:lnTo>
                <a:lnTo>
                  <a:pt x="1818640" y="21224"/>
                </a:lnTo>
                <a:lnTo>
                  <a:pt x="1824990" y="25342"/>
                </a:lnTo>
                <a:lnTo>
                  <a:pt x="1830705" y="29460"/>
                </a:lnTo>
                <a:lnTo>
                  <a:pt x="1836738" y="34212"/>
                </a:lnTo>
                <a:lnTo>
                  <a:pt x="1842770" y="38963"/>
                </a:lnTo>
                <a:lnTo>
                  <a:pt x="1848168" y="44349"/>
                </a:lnTo>
                <a:lnTo>
                  <a:pt x="1853248" y="50051"/>
                </a:lnTo>
                <a:lnTo>
                  <a:pt x="1858328" y="56069"/>
                </a:lnTo>
                <a:lnTo>
                  <a:pt x="1863090" y="62405"/>
                </a:lnTo>
                <a:lnTo>
                  <a:pt x="1867853" y="69057"/>
                </a:lnTo>
                <a:lnTo>
                  <a:pt x="1871663" y="76343"/>
                </a:lnTo>
                <a:lnTo>
                  <a:pt x="1875790" y="83312"/>
                </a:lnTo>
                <a:lnTo>
                  <a:pt x="1879600" y="91232"/>
                </a:lnTo>
                <a:lnTo>
                  <a:pt x="1882775" y="99151"/>
                </a:lnTo>
                <a:lnTo>
                  <a:pt x="1885950" y="107387"/>
                </a:lnTo>
                <a:lnTo>
                  <a:pt x="1888808" y="115940"/>
                </a:lnTo>
                <a:lnTo>
                  <a:pt x="1890713" y="124810"/>
                </a:lnTo>
                <a:lnTo>
                  <a:pt x="1892618" y="134313"/>
                </a:lnTo>
                <a:lnTo>
                  <a:pt x="1894205" y="144134"/>
                </a:lnTo>
                <a:lnTo>
                  <a:pt x="1895475" y="153954"/>
                </a:lnTo>
                <a:lnTo>
                  <a:pt x="1895793" y="164091"/>
                </a:lnTo>
                <a:lnTo>
                  <a:pt x="1896110" y="174861"/>
                </a:lnTo>
                <a:lnTo>
                  <a:pt x="1895793" y="182780"/>
                </a:lnTo>
                <a:lnTo>
                  <a:pt x="1896110" y="182147"/>
                </a:lnTo>
                <a:lnTo>
                  <a:pt x="1899603" y="182780"/>
                </a:lnTo>
                <a:lnTo>
                  <a:pt x="1903095" y="183414"/>
                </a:lnTo>
                <a:lnTo>
                  <a:pt x="1906270" y="184681"/>
                </a:lnTo>
                <a:lnTo>
                  <a:pt x="1909445" y="186265"/>
                </a:lnTo>
                <a:lnTo>
                  <a:pt x="1912620" y="187849"/>
                </a:lnTo>
                <a:lnTo>
                  <a:pt x="1915478" y="190066"/>
                </a:lnTo>
                <a:lnTo>
                  <a:pt x="1917700" y="192917"/>
                </a:lnTo>
                <a:lnTo>
                  <a:pt x="1920558" y="195768"/>
                </a:lnTo>
                <a:lnTo>
                  <a:pt x="1922463" y="199253"/>
                </a:lnTo>
                <a:lnTo>
                  <a:pt x="1924368" y="202737"/>
                </a:lnTo>
                <a:lnTo>
                  <a:pt x="1926590" y="206222"/>
                </a:lnTo>
                <a:lnTo>
                  <a:pt x="1927543" y="210023"/>
                </a:lnTo>
                <a:lnTo>
                  <a:pt x="1928813" y="214458"/>
                </a:lnTo>
                <a:lnTo>
                  <a:pt x="1929765" y="218893"/>
                </a:lnTo>
                <a:lnTo>
                  <a:pt x="1930400" y="223645"/>
                </a:lnTo>
                <a:lnTo>
                  <a:pt x="1930400" y="228080"/>
                </a:lnTo>
                <a:lnTo>
                  <a:pt x="1930083" y="232831"/>
                </a:lnTo>
                <a:lnTo>
                  <a:pt x="1928813" y="237266"/>
                </a:lnTo>
                <a:lnTo>
                  <a:pt x="1927225" y="241701"/>
                </a:lnTo>
                <a:lnTo>
                  <a:pt x="1925320" y="245819"/>
                </a:lnTo>
                <a:lnTo>
                  <a:pt x="1922463" y="249937"/>
                </a:lnTo>
                <a:lnTo>
                  <a:pt x="1919288" y="253739"/>
                </a:lnTo>
                <a:lnTo>
                  <a:pt x="1915795" y="257223"/>
                </a:lnTo>
                <a:lnTo>
                  <a:pt x="1911985" y="260391"/>
                </a:lnTo>
                <a:lnTo>
                  <a:pt x="1907858" y="263242"/>
                </a:lnTo>
                <a:lnTo>
                  <a:pt x="1903730" y="265776"/>
                </a:lnTo>
                <a:lnTo>
                  <a:pt x="1899285" y="268310"/>
                </a:lnTo>
                <a:lnTo>
                  <a:pt x="1895475" y="270211"/>
                </a:lnTo>
                <a:lnTo>
                  <a:pt x="1891030" y="271795"/>
                </a:lnTo>
                <a:lnTo>
                  <a:pt x="1886585" y="272745"/>
                </a:lnTo>
                <a:lnTo>
                  <a:pt x="1882775" y="273379"/>
                </a:lnTo>
                <a:lnTo>
                  <a:pt x="1879283" y="273696"/>
                </a:lnTo>
                <a:lnTo>
                  <a:pt x="1878965" y="273696"/>
                </a:lnTo>
                <a:lnTo>
                  <a:pt x="1873250" y="288267"/>
                </a:lnTo>
                <a:lnTo>
                  <a:pt x="1867535" y="302522"/>
                </a:lnTo>
                <a:lnTo>
                  <a:pt x="1860868" y="316144"/>
                </a:lnTo>
                <a:lnTo>
                  <a:pt x="1853565" y="329449"/>
                </a:lnTo>
                <a:lnTo>
                  <a:pt x="1846263" y="342120"/>
                </a:lnTo>
                <a:lnTo>
                  <a:pt x="1838325" y="353840"/>
                </a:lnTo>
                <a:lnTo>
                  <a:pt x="1829753" y="364928"/>
                </a:lnTo>
                <a:lnTo>
                  <a:pt x="1820863" y="375065"/>
                </a:lnTo>
                <a:lnTo>
                  <a:pt x="1811973" y="384568"/>
                </a:lnTo>
                <a:lnTo>
                  <a:pt x="1802448" y="392804"/>
                </a:lnTo>
                <a:lnTo>
                  <a:pt x="1797685" y="396605"/>
                </a:lnTo>
                <a:lnTo>
                  <a:pt x="1792923" y="399773"/>
                </a:lnTo>
                <a:lnTo>
                  <a:pt x="1788160" y="403258"/>
                </a:lnTo>
                <a:lnTo>
                  <a:pt x="1783715" y="406109"/>
                </a:lnTo>
                <a:lnTo>
                  <a:pt x="1778318" y="408960"/>
                </a:lnTo>
                <a:lnTo>
                  <a:pt x="1773238" y="410860"/>
                </a:lnTo>
                <a:lnTo>
                  <a:pt x="1768475" y="412761"/>
                </a:lnTo>
                <a:lnTo>
                  <a:pt x="1763395" y="414345"/>
                </a:lnTo>
                <a:lnTo>
                  <a:pt x="1758315" y="415929"/>
                </a:lnTo>
                <a:lnTo>
                  <a:pt x="1753553" y="416879"/>
                </a:lnTo>
                <a:lnTo>
                  <a:pt x="1748473" y="417196"/>
                </a:lnTo>
                <a:lnTo>
                  <a:pt x="1743393" y="417513"/>
                </a:lnTo>
                <a:lnTo>
                  <a:pt x="1738630" y="417196"/>
                </a:lnTo>
                <a:lnTo>
                  <a:pt x="1733550" y="416879"/>
                </a:lnTo>
                <a:lnTo>
                  <a:pt x="1728470" y="415929"/>
                </a:lnTo>
                <a:lnTo>
                  <a:pt x="1723390" y="414345"/>
                </a:lnTo>
                <a:lnTo>
                  <a:pt x="1718628" y="412761"/>
                </a:lnTo>
                <a:lnTo>
                  <a:pt x="1713548" y="410860"/>
                </a:lnTo>
                <a:lnTo>
                  <a:pt x="1708468" y="408643"/>
                </a:lnTo>
                <a:lnTo>
                  <a:pt x="1703705" y="406109"/>
                </a:lnTo>
                <a:lnTo>
                  <a:pt x="1698625" y="402941"/>
                </a:lnTo>
                <a:lnTo>
                  <a:pt x="1693863" y="399773"/>
                </a:lnTo>
                <a:lnTo>
                  <a:pt x="1689100" y="396289"/>
                </a:lnTo>
                <a:lnTo>
                  <a:pt x="1684338" y="392804"/>
                </a:lnTo>
                <a:lnTo>
                  <a:pt x="1679575" y="388369"/>
                </a:lnTo>
                <a:lnTo>
                  <a:pt x="1674813" y="384568"/>
                </a:lnTo>
                <a:lnTo>
                  <a:pt x="1665923" y="375065"/>
                </a:lnTo>
                <a:lnTo>
                  <a:pt x="1657350" y="364928"/>
                </a:lnTo>
                <a:lnTo>
                  <a:pt x="1649095" y="353524"/>
                </a:lnTo>
                <a:lnTo>
                  <a:pt x="1640840" y="341803"/>
                </a:lnTo>
                <a:lnTo>
                  <a:pt x="1633220" y="329132"/>
                </a:lnTo>
                <a:lnTo>
                  <a:pt x="1626235" y="315827"/>
                </a:lnTo>
                <a:lnTo>
                  <a:pt x="1619568" y="302206"/>
                </a:lnTo>
                <a:lnTo>
                  <a:pt x="1613535" y="287951"/>
                </a:lnTo>
                <a:lnTo>
                  <a:pt x="1608138" y="273062"/>
                </a:lnTo>
                <a:lnTo>
                  <a:pt x="1604645" y="272112"/>
                </a:lnTo>
                <a:lnTo>
                  <a:pt x="1600518" y="271161"/>
                </a:lnTo>
                <a:lnTo>
                  <a:pt x="1596708" y="269894"/>
                </a:lnTo>
                <a:lnTo>
                  <a:pt x="1592580" y="267994"/>
                </a:lnTo>
                <a:lnTo>
                  <a:pt x="1589088" y="265776"/>
                </a:lnTo>
                <a:lnTo>
                  <a:pt x="1585278" y="263559"/>
                </a:lnTo>
                <a:lnTo>
                  <a:pt x="1581150" y="260708"/>
                </a:lnTo>
                <a:lnTo>
                  <a:pt x="1577658" y="258174"/>
                </a:lnTo>
                <a:lnTo>
                  <a:pt x="1574483" y="255006"/>
                </a:lnTo>
                <a:lnTo>
                  <a:pt x="1571308" y="251838"/>
                </a:lnTo>
                <a:lnTo>
                  <a:pt x="1568768" y="248353"/>
                </a:lnTo>
                <a:lnTo>
                  <a:pt x="1566228" y="244235"/>
                </a:lnTo>
                <a:lnTo>
                  <a:pt x="1564640" y="240434"/>
                </a:lnTo>
                <a:lnTo>
                  <a:pt x="1563053" y="236633"/>
                </a:lnTo>
                <a:lnTo>
                  <a:pt x="1562418" y="232515"/>
                </a:lnTo>
                <a:lnTo>
                  <a:pt x="1562100" y="228080"/>
                </a:lnTo>
                <a:lnTo>
                  <a:pt x="1562100" y="223962"/>
                </a:lnTo>
                <a:lnTo>
                  <a:pt x="1562418" y="219527"/>
                </a:lnTo>
                <a:lnTo>
                  <a:pt x="1563053" y="215725"/>
                </a:lnTo>
                <a:lnTo>
                  <a:pt x="1564323" y="211607"/>
                </a:lnTo>
                <a:lnTo>
                  <a:pt x="1565593" y="208123"/>
                </a:lnTo>
                <a:lnTo>
                  <a:pt x="1567180" y="204638"/>
                </a:lnTo>
                <a:lnTo>
                  <a:pt x="1568768" y="201470"/>
                </a:lnTo>
                <a:lnTo>
                  <a:pt x="1570673" y="198303"/>
                </a:lnTo>
                <a:lnTo>
                  <a:pt x="1572578" y="195135"/>
                </a:lnTo>
                <a:lnTo>
                  <a:pt x="1574483" y="192917"/>
                </a:lnTo>
                <a:lnTo>
                  <a:pt x="1577340" y="190383"/>
                </a:lnTo>
                <a:lnTo>
                  <a:pt x="1579563" y="188166"/>
                </a:lnTo>
                <a:lnTo>
                  <a:pt x="1582420" y="186582"/>
                </a:lnTo>
                <a:lnTo>
                  <a:pt x="1585278" y="184998"/>
                </a:lnTo>
                <a:lnTo>
                  <a:pt x="1588453" y="183731"/>
                </a:lnTo>
                <a:lnTo>
                  <a:pt x="1590993" y="183097"/>
                </a:lnTo>
                <a:lnTo>
                  <a:pt x="1590993" y="174861"/>
                </a:lnTo>
                <a:lnTo>
                  <a:pt x="1590993" y="164091"/>
                </a:lnTo>
                <a:lnTo>
                  <a:pt x="1591945" y="153954"/>
                </a:lnTo>
                <a:lnTo>
                  <a:pt x="1593215" y="144134"/>
                </a:lnTo>
                <a:lnTo>
                  <a:pt x="1594168" y="134313"/>
                </a:lnTo>
                <a:lnTo>
                  <a:pt x="1596073" y="124810"/>
                </a:lnTo>
                <a:lnTo>
                  <a:pt x="1598613" y="115940"/>
                </a:lnTo>
                <a:lnTo>
                  <a:pt x="1601470" y="107387"/>
                </a:lnTo>
                <a:lnTo>
                  <a:pt x="1604010" y="99151"/>
                </a:lnTo>
                <a:lnTo>
                  <a:pt x="1607503" y="91232"/>
                </a:lnTo>
                <a:lnTo>
                  <a:pt x="1611313" y="83312"/>
                </a:lnTo>
                <a:lnTo>
                  <a:pt x="1615123" y="76343"/>
                </a:lnTo>
                <a:lnTo>
                  <a:pt x="1619568" y="69057"/>
                </a:lnTo>
                <a:lnTo>
                  <a:pt x="1624013" y="62405"/>
                </a:lnTo>
                <a:lnTo>
                  <a:pt x="1628775" y="56069"/>
                </a:lnTo>
                <a:lnTo>
                  <a:pt x="1633855" y="50051"/>
                </a:lnTo>
                <a:lnTo>
                  <a:pt x="1639253" y="44349"/>
                </a:lnTo>
                <a:lnTo>
                  <a:pt x="1644650" y="38963"/>
                </a:lnTo>
                <a:lnTo>
                  <a:pt x="1650683" y="34212"/>
                </a:lnTo>
                <a:lnTo>
                  <a:pt x="1656398" y="29460"/>
                </a:lnTo>
                <a:lnTo>
                  <a:pt x="1662430" y="25342"/>
                </a:lnTo>
                <a:lnTo>
                  <a:pt x="1668780" y="21224"/>
                </a:lnTo>
                <a:lnTo>
                  <a:pt x="1674813" y="17423"/>
                </a:lnTo>
                <a:lnTo>
                  <a:pt x="1681480" y="14255"/>
                </a:lnTo>
                <a:lnTo>
                  <a:pt x="1687830" y="11404"/>
                </a:lnTo>
                <a:lnTo>
                  <a:pt x="1695133" y="8553"/>
                </a:lnTo>
                <a:lnTo>
                  <a:pt x="1701800" y="6335"/>
                </a:lnTo>
                <a:lnTo>
                  <a:pt x="1708468" y="4435"/>
                </a:lnTo>
                <a:lnTo>
                  <a:pt x="1715453" y="2851"/>
                </a:lnTo>
                <a:lnTo>
                  <a:pt x="1722438" y="1584"/>
                </a:lnTo>
                <a:lnTo>
                  <a:pt x="1729740" y="950"/>
                </a:lnTo>
                <a:lnTo>
                  <a:pt x="1736408" y="317"/>
                </a:lnTo>
                <a:lnTo>
                  <a:pt x="1743393" y="0"/>
                </a:lnTo>
                <a:close/>
                <a:moveTo>
                  <a:pt x="451006" y="0"/>
                </a:moveTo>
                <a:lnTo>
                  <a:pt x="458315" y="317"/>
                </a:lnTo>
                <a:lnTo>
                  <a:pt x="465306" y="950"/>
                </a:lnTo>
                <a:lnTo>
                  <a:pt x="472297" y="1584"/>
                </a:lnTo>
                <a:lnTo>
                  <a:pt x="479606" y="2851"/>
                </a:lnTo>
                <a:lnTo>
                  <a:pt x="486279" y="4435"/>
                </a:lnTo>
                <a:lnTo>
                  <a:pt x="493270" y="6335"/>
                </a:lnTo>
                <a:lnTo>
                  <a:pt x="499944" y="8553"/>
                </a:lnTo>
                <a:lnTo>
                  <a:pt x="506617" y="11404"/>
                </a:lnTo>
                <a:lnTo>
                  <a:pt x="513290" y="14255"/>
                </a:lnTo>
                <a:lnTo>
                  <a:pt x="519963" y="17423"/>
                </a:lnTo>
                <a:lnTo>
                  <a:pt x="526319" y="21224"/>
                </a:lnTo>
                <a:lnTo>
                  <a:pt x="532674" y="25342"/>
                </a:lnTo>
                <a:lnTo>
                  <a:pt x="538712" y="29460"/>
                </a:lnTo>
                <a:lnTo>
                  <a:pt x="544432" y="34212"/>
                </a:lnTo>
                <a:lnTo>
                  <a:pt x="550470" y="38963"/>
                </a:lnTo>
                <a:lnTo>
                  <a:pt x="555872" y="44349"/>
                </a:lnTo>
                <a:lnTo>
                  <a:pt x="560956" y="50051"/>
                </a:lnTo>
                <a:lnTo>
                  <a:pt x="566041" y="56069"/>
                </a:lnTo>
                <a:lnTo>
                  <a:pt x="570807" y="62405"/>
                </a:lnTo>
                <a:lnTo>
                  <a:pt x="575574" y="69057"/>
                </a:lnTo>
                <a:lnTo>
                  <a:pt x="580023" y="76343"/>
                </a:lnTo>
                <a:lnTo>
                  <a:pt x="583836" y="83312"/>
                </a:lnTo>
                <a:lnTo>
                  <a:pt x="587331" y="91232"/>
                </a:lnTo>
                <a:lnTo>
                  <a:pt x="591145" y="99151"/>
                </a:lnTo>
                <a:lnTo>
                  <a:pt x="593687" y="107387"/>
                </a:lnTo>
                <a:lnTo>
                  <a:pt x="596547" y="115940"/>
                </a:lnTo>
                <a:lnTo>
                  <a:pt x="598771" y="124810"/>
                </a:lnTo>
                <a:lnTo>
                  <a:pt x="600996" y="134313"/>
                </a:lnTo>
                <a:lnTo>
                  <a:pt x="601949" y="144134"/>
                </a:lnTo>
                <a:lnTo>
                  <a:pt x="603220" y="153954"/>
                </a:lnTo>
                <a:lnTo>
                  <a:pt x="603856" y="164091"/>
                </a:lnTo>
                <a:lnTo>
                  <a:pt x="603856" y="174861"/>
                </a:lnTo>
                <a:lnTo>
                  <a:pt x="603856" y="182147"/>
                </a:lnTo>
                <a:lnTo>
                  <a:pt x="607669" y="182780"/>
                </a:lnTo>
                <a:lnTo>
                  <a:pt x="611165" y="183414"/>
                </a:lnTo>
                <a:lnTo>
                  <a:pt x="614342" y="184681"/>
                </a:lnTo>
                <a:lnTo>
                  <a:pt x="617520" y="186265"/>
                </a:lnTo>
                <a:lnTo>
                  <a:pt x="620698" y="187849"/>
                </a:lnTo>
                <a:lnTo>
                  <a:pt x="623240" y="190066"/>
                </a:lnTo>
                <a:lnTo>
                  <a:pt x="626100" y="192917"/>
                </a:lnTo>
                <a:lnTo>
                  <a:pt x="628324" y="195768"/>
                </a:lnTo>
                <a:lnTo>
                  <a:pt x="630549" y="199253"/>
                </a:lnTo>
                <a:lnTo>
                  <a:pt x="632455" y="202737"/>
                </a:lnTo>
                <a:lnTo>
                  <a:pt x="634362" y="206222"/>
                </a:lnTo>
                <a:lnTo>
                  <a:pt x="635633" y="210023"/>
                </a:lnTo>
                <a:lnTo>
                  <a:pt x="636586" y="214458"/>
                </a:lnTo>
                <a:lnTo>
                  <a:pt x="637540" y="218893"/>
                </a:lnTo>
                <a:lnTo>
                  <a:pt x="638175" y="223645"/>
                </a:lnTo>
                <a:lnTo>
                  <a:pt x="638175" y="228080"/>
                </a:lnTo>
                <a:lnTo>
                  <a:pt x="637857" y="232831"/>
                </a:lnTo>
                <a:lnTo>
                  <a:pt x="637222" y="237266"/>
                </a:lnTo>
                <a:lnTo>
                  <a:pt x="634997" y="241701"/>
                </a:lnTo>
                <a:lnTo>
                  <a:pt x="633091" y="245819"/>
                </a:lnTo>
                <a:lnTo>
                  <a:pt x="630549" y="249937"/>
                </a:lnTo>
                <a:lnTo>
                  <a:pt x="627371" y="253739"/>
                </a:lnTo>
                <a:lnTo>
                  <a:pt x="623558" y="257223"/>
                </a:lnTo>
                <a:lnTo>
                  <a:pt x="619744" y="260391"/>
                </a:lnTo>
                <a:lnTo>
                  <a:pt x="615931" y="263242"/>
                </a:lnTo>
                <a:lnTo>
                  <a:pt x="611482" y="265776"/>
                </a:lnTo>
                <a:lnTo>
                  <a:pt x="607669" y="268310"/>
                </a:lnTo>
                <a:lnTo>
                  <a:pt x="603220" y="270211"/>
                </a:lnTo>
                <a:lnTo>
                  <a:pt x="598771" y="271795"/>
                </a:lnTo>
                <a:lnTo>
                  <a:pt x="594958" y="272745"/>
                </a:lnTo>
                <a:lnTo>
                  <a:pt x="591145" y="273379"/>
                </a:lnTo>
                <a:lnTo>
                  <a:pt x="587014" y="273696"/>
                </a:lnTo>
                <a:lnTo>
                  <a:pt x="586696" y="273696"/>
                </a:lnTo>
                <a:lnTo>
                  <a:pt x="581612" y="288267"/>
                </a:lnTo>
                <a:lnTo>
                  <a:pt x="575256" y="302522"/>
                </a:lnTo>
                <a:lnTo>
                  <a:pt x="568900" y="316144"/>
                </a:lnTo>
                <a:lnTo>
                  <a:pt x="561910" y="329449"/>
                </a:lnTo>
                <a:lnTo>
                  <a:pt x="553965" y="342120"/>
                </a:lnTo>
                <a:lnTo>
                  <a:pt x="546021" y="353840"/>
                </a:lnTo>
                <a:lnTo>
                  <a:pt x="537759" y="364928"/>
                </a:lnTo>
                <a:lnTo>
                  <a:pt x="529179" y="375065"/>
                </a:lnTo>
                <a:lnTo>
                  <a:pt x="519646" y="384568"/>
                </a:lnTo>
                <a:lnTo>
                  <a:pt x="510748" y="392804"/>
                </a:lnTo>
                <a:lnTo>
                  <a:pt x="505981" y="396605"/>
                </a:lnTo>
                <a:lnTo>
                  <a:pt x="501215" y="399773"/>
                </a:lnTo>
                <a:lnTo>
                  <a:pt x="496130" y="403258"/>
                </a:lnTo>
                <a:lnTo>
                  <a:pt x="491364" y="406109"/>
                </a:lnTo>
                <a:lnTo>
                  <a:pt x="486279" y="408960"/>
                </a:lnTo>
                <a:lnTo>
                  <a:pt x="481513" y="410860"/>
                </a:lnTo>
                <a:lnTo>
                  <a:pt x="476428" y="412761"/>
                </a:lnTo>
                <a:lnTo>
                  <a:pt x="471344" y="414345"/>
                </a:lnTo>
                <a:lnTo>
                  <a:pt x="466577" y="415929"/>
                </a:lnTo>
                <a:lnTo>
                  <a:pt x="461493" y="416879"/>
                </a:lnTo>
                <a:lnTo>
                  <a:pt x="456409" y="417196"/>
                </a:lnTo>
                <a:lnTo>
                  <a:pt x="451006" y="417513"/>
                </a:lnTo>
                <a:lnTo>
                  <a:pt x="446558" y="417196"/>
                </a:lnTo>
                <a:lnTo>
                  <a:pt x="441155" y="416879"/>
                </a:lnTo>
                <a:lnTo>
                  <a:pt x="436071" y="415929"/>
                </a:lnTo>
                <a:lnTo>
                  <a:pt x="430987" y="414345"/>
                </a:lnTo>
                <a:lnTo>
                  <a:pt x="426220" y="412761"/>
                </a:lnTo>
                <a:lnTo>
                  <a:pt x="421136" y="410860"/>
                </a:lnTo>
                <a:lnTo>
                  <a:pt x="416369" y="408643"/>
                </a:lnTo>
                <a:lnTo>
                  <a:pt x="411285" y="406109"/>
                </a:lnTo>
                <a:lnTo>
                  <a:pt x="406518" y="402941"/>
                </a:lnTo>
                <a:lnTo>
                  <a:pt x="401434" y="399773"/>
                </a:lnTo>
                <a:lnTo>
                  <a:pt x="396667" y="396289"/>
                </a:lnTo>
                <a:lnTo>
                  <a:pt x="392218" y="392804"/>
                </a:lnTo>
                <a:lnTo>
                  <a:pt x="382685" y="384568"/>
                </a:lnTo>
                <a:lnTo>
                  <a:pt x="373470" y="375065"/>
                </a:lnTo>
                <a:lnTo>
                  <a:pt x="364890" y="364928"/>
                </a:lnTo>
                <a:lnTo>
                  <a:pt x="356628" y="353524"/>
                </a:lnTo>
                <a:lnTo>
                  <a:pt x="348365" y="341803"/>
                </a:lnTo>
                <a:lnTo>
                  <a:pt x="340739" y="329132"/>
                </a:lnTo>
                <a:lnTo>
                  <a:pt x="333748" y="315827"/>
                </a:lnTo>
                <a:lnTo>
                  <a:pt x="327075" y="302206"/>
                </a:lnTo>
                <a:lnTo>
                  <a:pt x="321037" y="287951"/>
                </a:lnTo>
                <a:lnTo>
                  <a:pt x="315952" y="273062"/>
                </a:lnTo>
                <a:lnTo>
                  <a:pt x="312139" y="272112"/>
                </a:lnTo>
                <a:lnTo>
                  <a:pt x="308644" y="271161"/>
                </a:lnTo>
                <a:lnTo>
                  <a:pt x="304513" y="269894"/>
                </a:lnTo>
                <a:lnTo>
                  <a:pt x="300699" y="267994"/>
                </a:lnTo>
                <a:lnTo>
                  <a:pt x="296568" y="265776"/>
                </a:lnTo>
                <a:lnTo>
                  <a:pt x="292755" y="263559"/>
                </a:lnTo>
                <a:lnTo>
                  <a:pt x="289259" y="260708"/>
                </a:lnTo>
                <a:lnTo>
                  <a:pt x="285764" y="258174"/>
                </a:lnTo>
                <a:lnTo>
                  <a:pt x="282586" y="255006"/>
                </a:lnTo>
                <a:lnTo>
                  <a:pt x="279408" y="251838"/>
                </a:lnTo>
                <a:lnTo>
                  <a:pt x="276548" y="248353"/>
                </a:lnTo>
                <a:lnTo>
                  <a:pt x="274324" y="244235"/>
                </a:lnTo>
                <a:lnTo>
                  <a:pt x="272417" y="240434"/>
                </a:lnTo>
                <a:lnTo>
                  <a:pt x="271146" y="236633"/>
                </a:lnTo>
                <a:lnTo>
                  <a:pt x="270193" y="232515"/>
                </a:lnTo>
                <a:lnTo>
                  <a:pt x="269875" y="228080"/>
                </a:lnTo>
                <a:lnTo>
                  <a:pt x="269875" y="223962"/>
                </a:lnTo>
                <a:lnTo>
                  <a:pt x="270193" y="219527"/>
                </a:lnTo>
                <a:lnTo>
                  <a:pt x="271146" y="215725"/>
                </a:lnTo>
                <a:lnTo>
                  <a:pt x="271782" y="211607"/>
                </a:lnTo>
                <a:lnTo>
                  <a:pt x="273371" y="208123"/>
                </a:lnTo>
                <a:lnTo>
                  <a:pt x="274642" y="204638"/>
                </a:lnTo>
                <a:lnTo>
                  <a:pt x="276231" y="201470"/>
                </a:lnTo>
                <a:lnTo>
                  <a:pt x="278137" y="198303"/>
                </a:lnTo>
                <a:lnTo>
                  <a:pt x="280044" y="195135"/>
                </a:lnTo>
                <a:lnTo>
                  <a:pt x="282586" y="192917"/>
                </a:lnTo>
                <a:lnTo>
                  <a:pt x="284811" y="190383"/>
                </a:lnTo>
                <a:lnTo>
                  <a:pt x="287671" y="188166"/>
                </a:lnTo>
                <a:lnTo>
                  <a:pt x="289895" y="186582"/>
                </a:lnTo>
                <a:lnTo>
                  <a:pt x="293073" y="184998"/>
                </a:lnTo>
                <a:lnTo>
                  <a:pt x="295933" y="183731"/>
                </a:lnTo>
                <a:lnTo>
                  <a:pt x="299110" y="183097"/>
                </a:lnTo>
                <a:lnTo>
                  <a:pt x="298793" y="174861"/>
                </a:lnTo>
                <a:lnTo>
                  <a:pt x="299110" y="164091"/>
                </a:lnTo>
                <a:lnTo>
                  <a:pt x="299428" y="153954"/>
                </a:lnTo>
                <a:lnTo>
                  <a:pt x="300699" y="144134"/>
                </a:lnTo>
                <a:lnTo>
                  <a:pt x="302288" y="134313"/>
                </a:lnTo>
                <a:lnTo>
                  <a:pt x="304195" y="124810"/>
                </a:lnTo>
                <a:lnTo>
                  <a:pt x="306101" y="115940"/>
                </a:lnTo>
                <a:lnTo>
                  <a:pt x="308961" y="107387"/>
                </a:lnTo>
                <a:lnTo>
                  <a:pt x="312139" y="99151"/>
                </a:lnTo>
                <a:lnTo>
                  <a:pt x="315317" y="91232"/>
                </a:lnTo>
                <a:lnTo>
                  <a:pt x="319130" y="83312"/>
                </a:lnTo>
                <a:lnTo>
                  <a:pt x="323261" y="76343"/>
                </a:lnTo>
                <a:lnTo>
                  <a:pt x="327075" y="69057"/>
                </a:lnTo>
                <a:lnTo>
                  <a:pt x="331841" y="62405"/>
                </a:lnTo>
                <a:lnTo>
                  <a:pt x="336608" y="56069"/>
                </a:lnTo>
                <a:lnTo>
                  <a:pt x="341692" y="50051"/>
                </a:lnTo>
                <a:lnTo>
                  <a:pt x="346777" y="44349"/>
                </a:lnTo>
                <a:lnTo>
                  <a:pt x="352179" y="38963"/>
                </a:lnTo>
                <a:lnTo>
                  <a:pt x="358216" y="34212"/>
                </a:lnTo>
                <a:lnTo>
                  <a:pt x="363936" y="29460"/>
                </a:lnTo>
                <a:lnTo>
                  <a:pt x="369974" y="25342"/>
                </a:lnTo>
                <a:lnTo>
                  <a:pt x="376329" y="21224"/>
                </a:lnTo>
                <a:lnTo>
                  <a:pt x="382685" y="17423"/>
                </a:lnTo>
                <a:lnTo>
                  <a:pt x="389358" y="14255"/>
                </a:lnTo>
                <a:lnTo>
                  <a:pt x="396031" y="11404"/>
                </a:lnTo>
                <a:lnTo>
                  <a:pt x="402705" y="8553"/>
                </a:lnTo>
                <a:lnTo>
                  <a:pt x="409378" y="6335"/>
                </a:lnTo>
                <a:lnTo>
                  <a:pt x="416369" y="4435"/>
                </a:lnTo>
                <a:lnTo>
                  <a:pt x="423042" y="2851"/>
                </a:lnTo>
                <a:lnTo>
                  <a:pt x="430351" y="1584"/>
                </a:lnTo>
                <a:lnTo>
                  <a:pt x="437342" y="950"/>
                </a:lnTo>
                <a:lnTo>
                  <a:pt x="444333" y="317"/>
                </a:lnTo>
                <a:lnTo>
                  <a:pt x="451006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KSO_Shape"/>
          <p:cNvSpPr/>
          <p:nvPr/>
        </p:nvSpPr>
        <p:spPr>
          <a:xfrm>
            <a:off x="1343160" y="2938320"/>
            <a:ext cx="474480" cy="1268640"/>
          </a:xfrm>
          <a:custGeom>
            <a:avLst/>
            <a:gdLst/>
            <a:ahLst/>
            <a:rect l="l" t="t" r="r" b="b"/>
            <a:pathLst>
              <a:path w="1071563" h="2144713">
                <a:moveTo>
                  <a:pt x="337303" y="111125"/>
                </a:moveTo>
                <a:lnTo>
                  <a:pt x="345236" y="111125"/>
                </a:lnTo>
                <a:lnTo>
                  <a:pt x="352851" y="112395"/>
                </a:lnTo>
                <a:lnTo>
                  <a:pt x="360784" y="113665"/>
                </a:lnTo>
                <a:lnTo>
                  <a:pt x="368082" y="116205"/>
                </a:lnTo>
                <a:lnTo>
                  <a:pt x="375698" y="119380"/>
                </a:lnTo>
                <a:lnTo>
                  <a:pt x="382678" y="123190"/>
                </a:lnTo>
                <a:lnTo>
                  <a:pt x="385852" y="125730"/>
                </a:lnTo>
                <a:lnTo>
                  <a:pt x="389342" y="128270"/>
                </a:lnTo>
                <a:lnTo>
                  <a:pt x="392515" y="131128"/>
                </a:lnTo>
                <a:lnTo>
                  <a:pt x="395688" y="133985"/>
                </a:lnTo>
                <a:lnTo>
                  <a:pt x="398544" y="137160"/>
                </a:lnTo>
                <a:lnTo>
                  <a:pt x="401400" y="140335"/>
                </a:lnTo>
                <a:lnTo>
                  <a:pt x="404256" y="143828"/>
                </a:lnTo>
                <a:lnTo>
                  <a:pt x="406794" y="147638"/>
                </a:lnTo>
                <a:lnTo>
                  <a:pt x="409650" y="151448"/>
                </a:lnTo>
                <a:lnTo>
                  <a:pt x="411554" y="155893"/>
                </a:lnTo>
                <a:lnTo>
                  <a:pt x="413775" y="160020"/>
                </a:lnTo>
                <a:lnTo>
                  <a:pt x="415996" y="164783"/>
                </a:lnTo>
                <a:lnTo>
                  <a:pt x="417583" y="169545"/>
                </a:lnTo>
                <a:lnTo>
                  <a:pt x="419487" y="174625"/>
                </a:lnTo>
                <a:lnTo>
                  <a:pt x="420756" y="180023"/>
                </a:lnTo>
                <a:lnTo>
                  <a:pt x="422342" y="185103"/>
                </a:lnTo>
                <a:lnTo>
                  <a:pt x="423294" y="190818"/>
                </a:lnTo>
                <a:lnTo>
                  <a:pt x="424564" y="196850"/>
                </a:lnTo>
                <a:lnTo>
                  <a:pt x="425198" y="202883"/>
                </a:lnTo>
                <a:lnTo>
                  <a:pt x="425516" y="209233"/>
                </a:lnTo>
                <a:lnTo>
                  <a:pt x="466132" y="824548"/>
                </a:lnTo>
                <a:lnTo>
                  <a:pt x="465814" y="825818"/>
                </a:lnTo>
                <a:lnTo>
                  <a:pt x="466766" y="827405"/>
                </a:lnTo>
                <a:lnTo>
                  <a:pt x="467718" y="831850"/>
                </a:lnTo>
                <a:lnTo>
                  <a:pt x="486440" y="831533"/>
                </a:lnTo>
                <a:lnTo>
                  <a:pt x="494372" y="831533"/>
                </a:lnTo>
                <a:lnTo>
                  <a:pt x="502305" y="831533"/>
                </a:lnTo>
                <a:lnTo>
                  <a:pt x="510238" y="832168"/>
                </a:lnTo>
                <a:lnTo>
                  <a:pt x="517853" y="832803"/>
                </a:lnTo>
                <a:lnTo>
                  <a:pt x="525469" y="834073"/>
                </a:lnTo>
                <a:lnTo>
                  <a:pt x="532767" y="835025"/>
                </a:lnTo>
                <a:lnTo>
                  <a:pt x="540065" y="836930"/>
                </a:lnTo>
                <a:lnTo>
                  <a:pt x="547681" y="838518"/>
                </a:lnTo>
                <a:lnTo>
                  <a:pt x="554662" y="840740"/>
                </a:lnTo>
                <a:lnTo>
                  <a:pt x="562277" y="843280"/>
                </a:lnTo>
                <a:lnTo>
                  <a:pt x="569258" y="846138"/>
                </a:lnTo>
                <a:lnTo>
                  <a:pt x="575922" y="849313"/>
                </a:lnTo>
                <a:lnTo>
                  <a:pt x="582902" y="852488"/>
                </a:lnTo>
                <a:lnTo>
                  <a:pt x="589883" y="856298"/>
                </a:lnTo>
                <a:lnTo>
                  <a:pt x="596547" y="860108"/>
                </a:lnTo>
                <a:lnTo>
                  <a:pt x="602893" y="864553"/>
                </a:lnTo>
                <a:lnTo>
                  <a:pt x="607653" y="867410"/>
                </a:lnTo>
                <a:lnTo>
                  <a:pt x="612412" y="870585"/>
                </a:lnTo>
                <a:lnTo>
                  <a:pt x="616855" y="874078"/>
                </a:lnTo>
                <a:lnTo>
                  <a:pt x="621614" y="877570"/>
                </a:lnTo>
                <a:lnTo>
                  <a:pt x="625740" y="881380"/>
                </a:lnTo>
                <a:lnTo>
                  <a:pt x="630182" y="885190"/>
                </a:lnTo>
                <a:lnTo>
                  <a:pt x="633990" y="889318"/>
                </a:lnTo>
                <a:lnTo>
                  <a:pt x="637797" y="893445"/>
                </a:lnTo>
                <a:lnTo>
                  <a:pt x="642874" y="899478"/>
                </a:lnTo>
                <a:lnTo>
                  <a:pt x="647317" y="905510"/>
                </a:lnTo>
                <a:lnTo>
                  <a:pt x="652076" y="911543"/>
                </a:lnTo>
                <a:lnTo>
                  <a:pt x="656201" y="917893"/>
                </a:lnTo>
                <a:lnTo>
                  <a:pt x="660644" y="924243"/>
                </a:lnTo>
                <a:lnTo>
                  <a:pt x="664452" y="930593"/>
                </a:lnTo>
                <a:lnTo>
                  <a:pt x="668259" y="936943"/>
                </a:lnTo>
                <a:lnTo>
                  <a:pt x="671432" y="943610"/>
                </a:lnTo>
                <a:lnTo>
                  <a:pt x="674923" y="950595"/>
                </a:lnTo>
                <a:lnTo>
                  <a:pt x="677779" y="957580"/>
                </a:lnTo>
                <a:lnTo>
                  <a:pt x="680952" y="964565"/>
                </a:lnTo>
                <a:lnTo>
                  <a:pt x="683490" y="971868"/>
                </a:lnTo>
                <a:lnTo>
                  <a:pt x="686029" y="978853"/>
                </a:lnTo>
                <a:lnTo>
                  <a:pt x="688567" y="986155"/>
                </a:lnTo>
                <a:lnTo>
                  <a:pt x="690471" y="993775"/>
                </a:lnTo>
                <a:lnTo>
                  <a:pt x="692375" y="1001078"/>
                </a:lnTo>
                <a:lnTo>
                  <a:pt x="771386" y="1024890"/>
                </a:lnTo>
                <a:lnTo>
                  <a:pt x="772338" y="1026160"/>
                </a:lnTo>
                <a:lnTo>
                  <a:pt x="781540" y="1031558"/>
                </a:lnTo>
                <a:lnTo>
                  <a:pt x="791059" y="1037273"/>
                </a:lnTo>
                <a:lnTo>
                  <a:pt x="799944" y="1042988"/>
                </a:lnTo>
                <a:lnTo>
                  <a:pt x="808829" y="1049020"/>
                </a:lnTo>
                <a:lnTo>
                  <a:pt x="817713" y="1055053"/>
                </a:lnTo>
                <a:lnTo>
                  <a:pt x="826281" y="1061085"/>
                </a:lnTo>
                <a:lnTo>
                  <a:pt x="834214" y="1067753"/>
                </a:lnTo>
                <a:lnTo>
                  <a:pt x="842464" y="1074103"/>
                </a:lnTo>
                <a:lnTo>
                  <a:pt x="850397" y="1081088"/>
                </a:lnTo>
                <a:lnTo>
                  <a:pt x="857695" y="1088390"/>
                </a:lnTo>
                <a:lnTo>
                  <a:pt x="864993" y="1095693"/>
                </a:lnTo>
                <a:lnTo>
                  <a:pt x="872608" y="1103313"/>
                </a:lnTo>
                <a:lnTo>
                  <a:pt x="879589" y="1111250"/>
                </a:lnTo>
                <a:lnTo>
                  <a:pt x="886253" y="1119823"/>
                </a:lnTo>
                <a:lnTo>
                  <a:pt x="893234" y="1128395"/>
                </a:lnTo>
                <a:lnTo>
                  <a:pt x="899897" y="1136968"/>
                </a:lnTo>
                <a:lnTo>
                  <a:pt x="903070" y="1142365"/>
                </a:lnTo>
                <a:lnTo>
                  <a:pt x="906561" y="1147763"/>
                </a:lnTo>
                <a:lnTo>
                  <a:pt x="909417" y="1153478"/>
                </a:lnTo>
                <a:lnTo>
                  <a:pt x="912590" y="1159193"/>
                </a:lnTo>
                <a:lnTo>
                  <a:pt x="917984" y="1170623"/>
                </a:lnTo>
                <a:lnTo>
                  <a:pt x="922744" y="1183005"/>
                </a:lnTo>
                <a:lnTo>
                  <a:pt x="927821" y="1196023"/>
                </a:lnTo>
                <a:lnTo>
                  <a:pt x="932263" y="1209040"/>
                </a:lnTo>
                <a:lnTo>
                  <a:pt x="941148" y="1234758"/>
                </a:lnTo>
                <a:lnTo>
                  <a:pt x="945907" y="1248093"/>
                </a:lnTo>
                <a:lnTo>
                  <a:pt x="950667" y="1260475"/>
                </a:lnTo>
                <a:lnTo>
                  <a:pt x="956379" y="1272540"/>
                </a:lnTo>
                <a:lnTo>
                  <a:pt x="962408" y="1283970"/>
                </a:lnTo>
                <a:lnTo>
                  <a:pt x="965581" y="1289368"/>
                </a:lnTo>
                <a:lnTo>
                  <a:pt x="968754" y="1295083"/>
                </a:lnTo>
                <a:lnTo>
                  <a:pt x="972879" y="1300163"/>
                </a:lnTo>
                <a:lnTo>
                  <a:pt x="976369" y="1304925"/>
                </a:lnTo>
                <a:lnTo>
                  <a:pt x="980495" y="1309688"/>
                </a:lnTo>
                <a:lnTo>
                  <a:pt x="984620" y="1314133"/>
                </a:lnTo>
                <a:lnTo>
                  <a:pt x="989379" y="1318578"/>
                </a:lnTo>
                <a:lnTo>
                  <a:pt x="993822" y="1322388"/>
                </a:lnTo>
                <a:lnTo>
                  <a:pt x="1011908" y="1335088"/>
                </a:lnTo>
                <a:lnTo>
                  <a:pt x="1020159" y="1341438"/>
                </a:lnTo>
                <a:lnTo>
                  <a:pt x="1028091" y="1347470"/>
                </a:lnTo>
                <a:lnTo>
                  <a:pt x="1035072" y="1354138"/>
                </a:lnTo>
                <a:lnTo>
                  <a:pt x="1038563" y="1357630"/>
                </a:lnTo>
                <a:lnTo>
                  <a:pt x="1041736" y="1361758"/>
                </a:lnTo>
                <a:lnTo>
                  <a:pt x="1044909" y="1365568"/>
                </a:lnTo>
                <a:lnTo>
                  <a:pt x="1048082" y="1370013"/>
                </a:lnTo>
                <a:lnTo>
                  <a:pt x="1050938" y="1374775"/>
                </a:lnTo>
                <a:lnTo>
                  <a:pt x="1053794" y="1379538"/>
                </a:lnTo>
                <a:lnTo>
                  <a:pt x="1057919" y="1387793"/>
                </a:lnTo>
                <a:lnTo>
                  <a:pt x="1061409" y="1396683"/>
                </a:lnTo>
                <a:lnTo>
                  <a:pt x="1064265" y="1405573"/>
                </a:lnTo>
                <a:lnTo>
                  <a:pt x="1066803" y="1414463"/>
                </a:lnTo>
                <a:lnTo>
                  <a:pt x="1068707" y="1423671"/>
                </a:lnTo>
                <a:lnTo>
                  <a:pt x="1069977" y="1432878"/>
                </a:lnTo>
                <a:lnTo>
                  <a:pt x="1071246" y="1442403"/>
                </a:lnTo>
                <a:lnTo>
                  <a:pt x="1071563" y="1451928"/>
                </a:lnTo>
                <a:lnTo>
                  <a:pt x="1071563" y="1461453"/>
                </a:lnTo>
                <a:lnTo>
                  <a:pt x="1071563" y="1471296"/>
                </a:lnTo>
                <a:lnTo>
                  <a:pt x="1070611" y="1481456"/>
                </a:lnTo>
                <a:lnTo>
                  <a:pt x="1069659" y="1491298"/>
                </a:lnTo>
                <a:lnTo>
                  <a:pt x="1068390" y="1501141"/>
                </a:lnTo>
                <a:lnTo>
                  <a:pt x="1066803" y="1510983"/>
                </a:lnTo>
                <a:lnTo>
                  <a:pt x="1065217" y="1521461"/>
                </a:lnTo>
                <a:lnTo>
                  <a:pt x="1062996" y="1531303"/>
                </a:lnTo>
                <a:lnTo>
                  <a:pt x="1058236" y="1551306"/>
                </a:lnTo>
                <a:lnTo>
                  <a:pt x="1053159" y="1571626"/>
                </a:lnTo>
                <a:lnTo>
                  <a:pt x="1047447" y="1591311"/>
                </a:lnTo>
                <a:lnTo>
                  <a:pt x="1041736" y="1611313"/>
                </a:lnTo>
                <a:lnTo>
                  <a:pt x="1030313" y="1649096"/>
                </a:lnTo>
                <a:lnTo>
                  <a:pt x="1025553" y="1667193"/>
                </a:lnTo>
                <a:lnTo>
                  <a:pt x="1020793" y="1684973"/>
                </a:lnTo>
                <a:lnTo>
                  <a:pt x="1013495" y="1717041"/>
                </a:lnTo>
                <a:lnTo>
                  <a:pt x="1005562" y="1749743"/>
                </a:lnTo>
                <a:lnTo>
                  <a:pt x="997629" y="1781493"/>
                </a:lnTo>
                <a:lnTo>
                  <a:pt x="993187" y="1797686"/>
                </a:lnTo>
                <a:lnTo>
                  <a:pt x="988745" y="1813243"/>
                </a:lnTo>
                <a:lnTo>
                  <a:pt x="983668" y="1828801"/>
                </a:lnTo>
                <a:lnTo>
                  <a:pt x="978273" y="1844041"/>
                </a:lnTo>
                <a:lnTo>
                  <a:pt x="972879" y="1859281"/>
                </a:lnTo>
                <a:lnTo>
                  <a:pt x="966215" y="1874521"/>
                </a:lnTo>
                <a:lnTo>
                  <a:pt x="959552" y="1889126"/>
                </a:lnTo>
                <a:lnTo>
                  <a:pt x="952254" y="1903731"/>
                </a:lnTo>
                <a:lnTo>
                  <a:pt x="944321" y="1918336"/>
                </a:lnTo>
                <a:lnTo>
                  <a:pt x="935436" y="1932623"/>
                </a:lnTo>
                <a:lnTo>
                  <a:pt x="931628" y="1939291"/>
                </a:lnTo>
                <a:lnTo>
                  <a:pt x="928773" y="1945958"/>
                </a:lnTo>
                <a:lnTo>
                  <a:pt x="926234" y="1952308"/>
                </a:lnTo>
                <a:lnTo>
                  <a:pt x="924965" y="1958658"/>
                </a:lnTo>
                <a:lnTo>
                  <a:pt x="924330" y="1965008"/>
                </a:lnTo>
                <a:lnTo>
                  <a:pt x="924013" y="1971041"/>
                </a:lnTo>
                <a:lnTo>
                  <a:pt x="924330" y="1977391"/>
                </a:lnTo>
                <a:lnTo>
                  <a:pt x="924965" y="1983423"/>
                </a:lnTo>
                <a:lnTo>
                  <a:pt x="925917" y="1989773"/>
                </a:lnTo>
                <a:lnTo>
                  <a:pt x="927503" y="1996123"/>
                </a:lnTo>
                <a:lnTo>
                  <a:pt x="930994" y="2008823"/>
                </a:lnTo>
                <a:lnTo>
                  <a:pt x="934802" y="2022476"/>
                </a:lnTo>
                <a:lnTo>
                  <a:pt x="939244" y="2036446"/>
                </a:lnTo>
                <a:lnTo>
                  <a:pt x="966850" y="2144713"/>
                </a:lnTo>
                <a:lnTo>
                  <a:pt x="295100" y="2144713"/>
                </a:lnTo>
                <a:lnTo>
                  <a:pt x="292562" y="2130108"/>
                </a:lnTo>
                <a:lnTo>
                  <a:pt x="289071" y="2115821"/>
                </a:lnTo>
                <a:lnTo>
                  <a:pt x="285581" y="2101851"/>
                </a:lnTo>
                <a:lnTo>
                  <a:pt x="281456" y="2087563"/>
                </a:lnTo>
                <a:lnTo>
                  <a:pt x="276696" y="2073276"/>
                </a:lnTo>
                <a:lnTo>
                  <a:pt x="271937" y="2059623"/>
                </a:lnTo>
                <a:lnTo>
                  <a:pt x="266542" y="2046288"/>
                </a:lnTo>
                <a:lnTo>
                  <a:pt x="260831" y="2032318"/>
                </a:lnTo>
                <a:lnTo>
                  <a:pt x="254802" y="2019301"/>
                </a:lnTo>
                <a:lnTo>
                  <a:pt x="248138" y="2006283"/>
                </a:lnTo>
                <a:lnTo>
                  <a:pt x="241475" y="1992948"/>
                </a:lnTo>
                <a:lnTo>
                  <a:pt x="233859" y="1980566"/>
                </a:lnTo>
                <a:lnTo>
                  <a:pt x="226561" y="1968183"/>
                </a:lnTo>
                <a:lnTo>
                  <a:pt x="218311" y="1955801"/>
                </a:lnTo>
                <a:lnTo>
                  <a:pt x="210378" y="1944053"/>
                </a:lnTo>
                <a:lnTo>
                  <a:pt x="201810" y="1932623"/>
                </a:lnTo>
                <a:lnTo>
                  <a:pt x="197051" y="1927226"/>
                </a:lnTo>
                <a:lnTo>
                  <a:pt x="192608" y="1921511"/>
                </a:lnTo>
                <a:lnTo>
                  <a:pt x="182772" y="1911033"/>
                </a:lnTo>
                <a:lnTo>
                  <a:pt x="172300" y="1900238"/>
                </a:lnTo>
                <a:lnTo>
                  <a:pt x="161512" y="1889126"/>
                </a:lnTo>
                <a:lnTo>
                  <a:pt x="150723" y="1878331"/>
                </a:lnTo>
                <a:lnTo>
                  <a:pt x="140252" y="1867218"/>
                </a:lnTo>
                <a:lnTo>
                  <a:pt x="135175" y="1861186"/>
                </a:lnTo>
                <a:lnTo>
                  <a:pt x="130415" y="1855788"/>
                </a:lnTo>
                <a:lnTo>
                  <a:pt x="125656" y="1849756"/>
                </a:lnTo>
                <a:lnTo>
                  <a:pt x="121531" y="1843723"/>
                </a:lnTo>
                <a:lnTo>
                  <a:pt x="0" y="1283335"/>
                </a:lnTo>
                <a:lnTo>
                  <a:pt x="1587" y="1273810"/>
                </a:lnTo>
                <a:lnTo>
                  <a:pt x="3173" y="1264920"/>
                </a:lnTo>
                <a:lnTo>
                  <a:pt x="5077" y="1256348"/>
                </a:lnTo>
                <a:lnTo>
                  <a:pt x="7616" y="1248410"/>
                </a:lnTo>
                <a:lnTo>
                  <a:pt x="10154" y="1240473"/>
                </a:lnTo>
                <a:lnTo>
                  <a:pt x="13644" y="1233170"/>
                </a:lnTo>
                <a:lnTo>
                  <a:pt x="16818" y="1226503"/>
                </a:lnTo>
                <a:lnTo>
                  <a:pt x="20625" y="1219518"/>
                </a:lnTo>
                <a:lnTo>
                  <a:pt x="24433" y="1213168"/>
                </a:lnTo>
                <a:lnTo>
                  <a:pt x="28558" y="1207135"/>
                </a:lnTo>
                <a:lnTo>
                  <a:pt x="33318" y="1201420"/>
                </a:lnTo>
                <a:lnTo>
                  <a:pt x="38077" y="1196340"/>
                </a:lnTo>
                <a:lnTo>
                  <a:pt x="42837" y="1191260"/>
                </a:lnTo>
                <a:lnTo>
                  <a:pt x="48231" y="1186180"/>
                </a:lnTo>
                <a:lnTo>
                  <a:pt x="53943" y="1181735"/>
                </a:lnTo>
                <a:lnTo>
                  <a:pt x="59655" y="1176973"/>
                </a:lnTo>
                <a:lnTo>
                  <a:pt x="65684" y="1173163"/>
                </a:lnTo>
                <a:lnTo>
                  <a:pt x="71395" y="1169035"/>
                </a:lnTo>
                <a:lnTo>
                  <a:pt x="78059" y="1165225"/>
                </a:lnTo>
                <a:lnTo>
                  <a:pt x="84405" y="1161098"/>
                </a:lnTo>
                <a:lnTo>
                  <a:pt x="97732" y="1154113"/>
                </a:lnTo>
                <a:lnTo>
                  <a:pt x="112011" y="1147445"/>
                </a:lnTo>
                <a:lnTo>
                  <a:pt x="125973" y="1140778"/>
                </a:lnTo>
                <a:lnTo>
                  <a:pt x="140887" y="1134428"/>
                </a:lnTo>
                <a:lnTo>
                  <a:pt x="171666" y="1120775"/>
                </a:lnTo>
                <a:lnTo>
                  <a:pt x="227513" y="1095375"/>
                </a:lnTo>
                <a:lnTo>
                  <a:pt x="231955" y="1093153"/>
                </a:lnTo>
                <a:lnTo>
                  <a:pt x="235446" y="1090930"/>
                </a:lnTo>
                <a:lnTo>
                  <a:pt x="237984" y="1089025"/>
                </a:lnTo>
                <a:lnTo>
                  <a:pt x="240523" y="1086803"/>
                </a:lnTo>
                <a:lnTo>
                  <a:pt x="242109" y="1084263"/>
                </a:lnTo>
                <a:lnTo>
                  <a:pt x="243061" y="1081723"/>
                </a:lnTo>
                <a:lnTo>
                  <a:pt x="244330" y="1079500"/>
                </a:lnTo>
                <a:lnTo>
                  <a:pt x="244648" y="1076643"/>
                </a:lnTo>
                <a:lnTo>
                  <a:pt x="244965" y="1073785"/>
                </a:lnTo>
                <a:lnTo>
                  <a:pt x="244965" y="1070610"/>
                </a:lnTo>
                <a:lnTo>
                  <a:pt x="244965" y="1062990"/>
                </a:lnTo>
                <a:lnTo>
                  <a:pt x="244330" y="1055053"/>
                </a:lnTo>
                <a:lnTo>
                  <a:pt x="244330" y="1044893"/>
                </a:lnTo>
                <a:lnTo>
                  <a:pt x="245282" y="981710"/>
                </a:lnTo>
                <a:lnTo>
                  <a:pt x="247186" y="876935"/>
                </a:lnTo>
                <a:lnTo>
                  <a:pt x="250677" y="601345"/>
                </a:lnTo>
                <a:lnTo>
                  <a:pt x="253532" y="337185"/>
                </a:lnTo>
                <a:lnTo>
                  <a:pt x="254802" y="203200"/>
                </a:lnTo>
                <a:lnTo>
                  <a:pt x="255119" y="198120"/>
                </a:lnTo>
                <a:lnTo>
                  <a:pt x="255754" y="192723"/>
                </a:lnTo>
                <a:lnTo>
                  <a:pt x="256071" y="187643"/>
                </a:lnTo>
                <a:lnTo>
                  <a:pt x="256706" y="182880"/>
                </a:lnTo>
                <a:lnTo>
                  <a:pt x="257657" y="178118"/>
                </a:lnTo>
                <a:lnTo>
                  <a:pt x="259244" y="173673"/>
                </a:lnTo>
                <a:lnTo>
                  <a:pt x="260513" y="168910"/>
                </a:lnTo>
                <a:lnTo>
                  <a:pt x="262100" y="164783"/>
                </a:lnTo>
                <a:lnTo>
                  <a:pt x="263686" y="160655"/>
                </a:lnTo>
                <a:lnTo>
                  <a:pt x="265908" y="156528"/>
                </a:lnTo>
                <a:lnTo>
                  <a:pt x="267494" y="153035"/>
                </a:lnTo>
                <a:lnTo>
                  <a:pt x="270033" y="149225"/>
                </a:lnTo>
                <a:lnTo>
                  <a:pt x="272571" y="145415"/>
                </a:lnTo>
                <a:lnTo>
                  <a:pt x="275110" y="142240"/>
                </a:lnTo>
                <a:lnTo>
                  <a:pt x="280504" y="135890"/>
                </a:lnTo>
                <a:lnTo>
                  <a:pt x="286533" y="130810"/>
                </a:lnTo>
                <a:lnTo>
                  <a:pt x="293196" y="125730"/>
                </a:lnTo>
                <a:lnTo>
                  <a:pt x="299860" y="121603"/>
                </a:lnTo>
                <a:lnTo>
                  <a:pt x="306841" y="117793"/>
                </a:lnTo>
                <a:lnTo>
                  <a:pt x="314456" y="115253"/>
                </a:lnTo>
                <a:lnTo>
                  <a:pt x="321755" y="113348"/>
                </a:lnTo>
                <a:lnTo>
                  <a:pt x="329687" y="111760"/>
                </a:lnTo>
                <a:lnTo>
                  <a:pt x="337303" y="111125"/>
                </a:lnTo>
                <a:close/>
                <a:moveTo>
                  <a:pt x="331337" y="0"/>
                </a:moveTo>
                <a:lnTo>
                  <a:pt x="337980" y="0"/>
                </a:lnTo>
                <a:lnTo>
                  <a:pt x="344939" y="0"/>
                </a:lnTo>
                <a:lnTo>
                  <a:pt x="351266" y="318"/>
                </a:lnTo>
                <a:lnTo>
                  <a:pt x="357909" y="955"/>
                </a:lnTo>
                <a:lnTo>
                  <a:pt x="364236" y="1910"/>
                </a:lnTo>
                <a:lnTo>
                  <a:pt x="370247" y="3182"/>
                </a:lnTo>
                <a:lnTo>
                  <a:pt x="376257" y="4774"/>
                </a:lnTo>
                <a:lnTo>
                  <a:pt x="382268" y="6683"/>
                </a:lnTo>
                <a:lnTo>
                  <a:pt x="387962" y="8274"/>
                </a:lnTo>
                <a:lnTo>
                  <a:pt x="393656" y="10820"/>
                </a:lnTo>
                <a:lnTo>
                  <a:pt x="399034" y="13366"/>
                </a:lnTo>
                <a:lnTo>
                  <a:pt x="404728" y="16230"/>
                </a:lnTo>
                <a:lnTo>
                  <a:pt x="410106" y="19412"/>
                </a:lnTo>
                <a:lnTo>
                  <a:pt x="415167" y="22594"/>
                </a:lnTo>
                <a:lnTo>
                  <a:pt x="420229" y="26413"/>
                </a:lnTo>
                <a:lnTo>
                  <a:pt x="425290" y="30550"/>
                </a:lnTo>
                <a:lnTo>
                  <a:pt x="430352" y="34687"/>
                </a:lnTo>
                <a:lnTo>
                  <a:pt x="434781" y="38823"/>
                </a:lnTo>
                <a:lnTo>
                  <a:pt x="438893" y="43597"/>
                </a:lnTo>
                <a:lnTo>
                  <a:pt x="443006" y="48052"/>
                </a:lnTo>
                <a:lnTo>
                  <a:pt x="446802" y="53144"/>
                </a:lnTo>
                <a:lnTo>
                  <a:pt x="450282" y="57599"/>
                </a:lnTo>
                <a:lnTo>
                  <a:pt x="453445" y="62690"/>
                </a:lnTo>
                <a:lnTo>
                  <a:pt x="456292" y="68100"/>
                </a:lnTo>
                <a:lnTo>
                  <a:pt x="458823" y="73510"/>
                </a:lnTo>
                <a:lnTo>
                  <a:pt x="461037" y="78601"/>
                </a:lnTo>
                <a:lnTo>
                  <a:pt x="462935" y="84011"/>
                </a:lnTo>
                <a:lnTo>
                  <a:pt x="464517" y="89421"/>
                </a:lnTo>
                <a:lnTo>
                  <a:pt x="465782" y="95149"/>
                </a:lnTo>
                <a:lnTo>
                  <a:pt x="467048" y="101195"/>
                </a:lnTo>
                <a:lnTo>
                  <a:pt x="467680" y="106605"/>
                </a:lnTo>
                <a:lnTo>
                  <a:pt x="468313" y="112651"/>
                </a:lnTo>
                <a:lnTo>
                  <a:pt x="468313" y="118698"/>
                </a:lnTo>
                <a:lnTo>
                  <a:pt x="468313" y="124107"/>
                </a:lnTo>
                <a:lnTo>
                  <a:pt x="467997" y="129517"/>
                </a:lnTo>
                <a:lnTo>
                  <a:pt x="466415" y="139700"/>
                </a:lnTo>
                <a:lnTo>
                  <a:pt x="464517" y="130472"/>
                </a:lnTo>
                <a:lnTo>
                  <a:pt x="461986" y="121880"/>
                </a:lnTo>
                <a:lnTo>
                  <a:pt x="458506" y="113606"/>
                </a:lnTo>
                <a:lnTo>
                  <a:pt x="454078" y="105332"/>
                </a:lnTo>
                <a:lnTo>
                  <a:pt x="449332" y="98013"/>
                </a:lnTo>
                <a:lnTo>
                  <a:pt x="443638" y="90057"/>
                </a:lnTo>
                <a:lnTo>
                  <a:pt x="437311" y="83057"/>
                </a:lnTo>
                <a:lnTo>
                  <a:pt x="430352" y="75737"/>
                </a:lnTo>
                <a:lnTo>
                  <a:pt x="425290" y="71919"/>
                </a:lnTo>
                <a:lnTo>
                  <a:pt x="420229" y="67782"/>
                </a:lnTo>
                <a:lnTo>
                  <a:pt x="415484" y="64281"/>
                </a:lnTo>
                <a:lnTo>
                  <a:pt x="410106" y="60463"/>
                </a:lnTo>
                <a:lnTo>
                  <a:pt x="404728" y="57280"/>
                </a:lnTo>
                <a:lnTo>
                  <a:pt x="399667" y="54416"/>
                </a:lnTo>
                <a:lnTo>
                  <a:pt x="393973" y="52189"/>
                </a:lnTo>
                <a:lnTo>
                  <a:pt x="388278" y="49961"/>
                </a:lnTo>
                <a:lnTo>
                  <a:pt x="382268" y="47734"/>
                </a:lnTo>
                <a:lnTo>
                  <a:pt x="376257" y="46143"/>
                </a:lnTo>
                <a:lnTo>
                  <a:pt x="370247" y="44552"/>
                </a:lnTo>
                <a:lnTo>
                  <a:pt x="364236" y="43279"/>
                </a:lnTo>
                <a:lnTo>
                  <a:pt x="357909" y="42642"/>
                </a:lnTo>
                <a:lnTo>
                  <a:pt x="351583" y="41687"/>
                </a:lnTo>
                <a:lnTo>
                  <a:pt x="344939" y="41369"/>
                </a:lnTo>
                <a:lnTo>
                  <a:pt x="337980" y="41051"/>
                </a:lnTo>
                <a:lnTo>
                  <a:pt x="331337" y="41369"/>
                </a:lnTo>
                <a:lnTo>
                  <a:pt x="324693" y="41687"/>
                </a:lnTo>
                <a:lnTo>
                  <a:pt x="318367" y="42642"/>
                </a:lnTo>
                <a:lnTo>
                  <a:pt x="312040" y="43279"/>
                </a:lnTo>
                <a:lnTo>
                  <a:pt x="305713" y="44552"/>
                </a:lnTo>
                <a:lnTo>
                  <a:pt x="299702" y="46143"/>
                </a:lnTo>
                <a:lnTo>
                  <a:pt x="293692" y="47734"/>
                </a:lnTo>
                <a:lnTo>
                  <a:pt x="287998" y="49961"/>
                </a:lnTo>
                <a:lnTo>
                  <a:pt x="282304" y="52189"/>
                </a:lnTo>
                <a:lnTo>
                  <a:pt x="276609" y="54416"/>
                </a:lnTo>
                <a:lnTo>
                  <a:pt x="270915" y="57280"/>
                </a:lnTo>
                <a:lnTo>
                  <a:pt x="265854" y="60463"/>
                </a:lnTo>
                <a:lnTo>
                  <a:pt x="260476" y="64281"/>
                </a:lnTo>
                <a:lnTo>
                  <a:pt x="255414" y="67782"/>
                </a:lnTo>
                <a:lnTo>
                  <a:pt x="250669" y="71919"/>
                </a:lnTo>
                <a:lnTo>
                  <a:pt x="245608" y="75737"/>
                </a:lnTo>
                <a:lnTo>
                  <a:pt x="238648" y="83057"/>
                </a:lnTo>
                <a:lnTo>
                  <a:pt x="232321" y="90057"/>
                </a:lnTo>
                <a:lnTo>
                  <a:pt x="226627" y="98013"/>
                </a:lnTo>
                <a:lnTo>
                  <a:pt x="221882" y="105332"/>
                </a:lnTo>
                <a:lnTo>
                  <a:pt x="217770" y="113606"/>
                </a:lnTo>
                <a:lnTo>
                  <a:pt x="214290" y="121880"/>
                </a:lnTo>
                <a:lnTo>
                  <a:pt x="211443" y="130472"/>
                </a:lnTo>
                <a:lnTo>
                  <a:pt x="209545" y="139700"/>
                </a:lnTo>
                <a:lnTo>
                  <a:pt x="208596" y="134927"/>
                </a:lnTo>
                <a:lnTo>
                  <a:pt x="208279" y="129517"/>
                </a:lnTo>
                <a:lnTo>
                  <a:pt x="207963" y="124107"/>
                </a:lnTo>
                <a:lnTo>
                  <a:pt x="207963" y="118698"/>
                </a:lnTo>
                <a:lnTo>
                  <a:pt x="207963" y="112651"/>
                </a:lnTo>
                <a:lnTo>
                  <a:pt x="208279" y="106605"/>
                </a:lnTo>
                <a:lnTo>
                  <a:pt x="209228" y="101195"/>
                </a:lnTo>
                <a:lnTo>
                  <a:pt x="210177" y="95149"/>
                </a:lnTo>
                <a:lnTo>
                  <a:pt x="211443" y="89421"/>
                </a:lnTo>
                <a:lnTo>
                  <a:pt x="213341" y="84011"/>
                </a:lnTo>
                <a:lnTo>
                  <a:pt x="214923" y="78601"/>
                </a:lnTo>
                <a:lnTo>
                  <a:pt x="217137" y="73510"/>
                </a:lnTo>
                <a:lnTo>
                  <a:pt x="219984" y="68100"/>
                </a:lnTo>
                <a:lnTo>
                  <a:pt x="222831" y="62690"/>
                </a:lnTo>
                <a:lnTo>
                  <a:pt x="225678" y="57599"/>
                </a:lnTo>
                <a:lnTo>
                  <a:pt x="229158" y="53144"/>
                </a:lnTo>
                <a:lnTo>
                  <a:pt x="232638" y="48052"/>
                </a:lnTo>
                <a:lnTo>
                  <a:pt x="236750" y="43597"/>
                </a:lnTo>
                <a:lnTo>
                  <a:pt x="241179" y="38823"/>
                </a:lnTo>
                <a:lnTo>
                  <a:pt x="245608" y="34687"/>
                </a:lnTo>
                <a:lnTo>
                  <a:pt x="250669" y="30550"/>
                </a:lnTo>
                <a:lnTo>
                  <a:pt x="255414" y="26413"/>
                </a:lnTo>
                <a:lnTo>
                  <a:pt x="260476" y="22594"/>
                </a:lnTo>
                <a:lnTo>
                  <a:pt x="265854" y="19412"/>
                </a:lnTo>
                <a:lnTo>
                  <a:pt x="270915" y="16230"/>
                </a:lnTo>
                <a:lnTo>
                  <a:pt x="276609" y="13366"/>
                </a:lnTo>
                <a:lnTo>
                  <a:pt x="282304" y="10820"/>
                </a:lnTo>
                <a:lnTo>
                  <a:pt x="287998" y="8274"/>
                </a:lnTo>
                <a:lnTo>
                  <a:pt x="293692" y="6683"/>
                </a:lnTo>
                <a:lnTo>
                  <a:pt x="299702" y="4774"/>
                </a:lnTo>
                <a:lnTo>
                  <a:pt x="305713" y="3182"/>
                </a:lnTo>
                <a:lnTo>
                  <a:pt x="312040" y="1910"/>
                </a:lnTo>
                <a:lnTo>
                  <a:pt x="318367" y="955"/>
                </a:lnTo>
                <a:lnTo>
                  <a:pt x="324693" y="318"/>
                </a:lnTo>
                <a:lnTo>
                  <a:pt x="331337" y="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6BD9-B1B7-47FC-9741-AD8E5BE0339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9B56-7375-4030-81C3-7CE2651A9BE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01AB-0859-486A-BEB4-E8804C897E2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7D72-1635-4A9E-8815-B2663AE4FE3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20"/>
          <p:cNvSpPr/>
          <p:nvPr/>
        </p:nvSpPr>
        <p:spPr>
          <a:xfrm>
            <a:off x="3457440" y="2419200"/>
            <a:ext cx="2055960" cy="24638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9"/>
          <p:cNvSpPr/>
          <p:nvPr/>
        </p:nvSpPr>
        <p:spPr>
          <a:xfrm>
            <a:off x="3278160" y="1835280"/>
            <a:ext cx="2057400" cy="2462040"/>
          </a:xfrm>
          <a:prstGeom prst="line">
            <a:avLst/>
          </a:prstGeom>
          <a:ln w="6480">
            <a:solidFill>
              <a:srgbClr val="ada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8"/>
          <p:cNvSpPr/>
          <p:nvPr/>
        </p:nvSpPr>
        <p:spPr>
          <a:xfrm>
            <a:off x="3765600" y="2048040"/>
            <a:ext cx="1639800" cy="1963440"/>
          </a:xfrm>
          <a:prstGeom prst="line">
            <a:avLst/>
          </a:prstGeom>
          <a:ln w="6480">
            <a:solidFill>
              <a:srgbClr val="6079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8FCF-65DD-4C44-82BF-D255F65054B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694E-17BE-44C3-9A30-C25BF65EFED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D67B-1330-4140-8D66-868A5B676EB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CB48-9528-4878-B10E-E573684C28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9A4F-2654-41A1-90A2-071736A8925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C02C-4E39-45AF-AD4F-044CA1CAFB8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KSO_Shape">
            <a:hlinkClick r:id="rId3"/>
          </p:cNvPr>
          <p:cNvSpPr/>
          <p:nvPr/>
        </p:nvSpPr>
        <p:spPr>
          <a:xfrm>
            <a:off x="3857760" y="4092480"/>
            <a:ext cx="1428480" cy="1470240"/>
          </a:xfrm>
          <a:custGeom>
            <a:avLst/>
            <a:gdLst/>
            <a:ahLst/>
            <a:rect l="l" t="t" r="r" b="b"/>
            <a:pathLst>
              <a:path w="2208213" h="1703388">
                <a:moveTo>
                  <a:pt x="1762889" y="844550"/>
                </a:moveTo>
                <a:lnTo>
                  <a:pt x="2208213" y="965111"/>
                </a:lnTo>
                <a:lnTo>
                  <a:pt x="1990788" y="1371846"/>
                </a:lnTo>
                <a:lnTo>
                  <a:pt x="1929846" y="1230662"/>
                </a:lnTo>
                <a:lnTo>
                  <a:pt x="867796" y="1703388"/>
                </a:lnTo>
                <a:lnTo>
                  <a:pt x="548483" y="1444499"/>
                </a:lnTo>
                <a:lnTo>
                  <a:pt x="97445" y="1618044"/>
                </a:lnTo>
                <a:lnTo>
                  <a:pt x="0" y="1371211"/>
                </a:lnTo>
                <a:lnTo>
                  <a:pt x="594824" y="1140876"/>
                </a:lnTo>
                <a:lnTo>
                  <a:pt x="908107" y="1394689"/>
                </a:lnTo>
                <a:lnTo>
                  <a:pt x="1824148" y="987003"/>
                </a:lnTo>
                <a:lnTo>
                  <a:pt x="1762889" y="844550"/>
                </a:lnTo>
                <a:close/>
                <a:moveTo>
                  <a:pt x="958430" y="595312"/>
                </a:moveTo>
                <a:lnTo>
                  <a:pt x="972077" y="621956"/>
                </a:lnTo>
                <a:lnTo>
                  <a:pt x="992390" y="661604"/>
                </a:lnTo>
                <a:lnTo>
                  <a:pt x="1042853" y="760249"/>
                </a:lnTo>
                <a:lnTo>
                  <a:pt x="1108868" y="888076"/>
                </a:lnTo>
                <a:lnTo>
                  <a:pt x="1115533" y="879195"/>
                </a:lnTo>
                <a:lnTo>
                  <a:pt x="1123467" y="866825"/>
                </a:lnTo>
                <a:lnTo>
                  <a:pt x="1132354" y="851917"/>
                </a:lnTo>
                <a:lnTo>
                  <a:pt x="1142827" y="834154"/>
                </a:lnTo>
                <a:lnTo>
                  <a:pt x="1153618" y="814488"/>
                </a:lnTo>
                <a:lnTo>
                  <a:pt x="1165044" y="793554"/>
                </a:lnTo>
                <a:lnTo>
                  <a:pt x="1189165" y="748196"/>
                </a:lnTo>
                <a:lnTo>
                  <a:pt x="1212651" y="702204"/>
                </a:lnTo>
                <a:lnTo>
                  <a:pt x="1234233" y="659701"/>
                </a:lnTo>
                <a:lnTo>
                  <a:pt x="1252323" y="623541"/>
                </a:lnTo>
                <a:lnTo>
                  <a:pt x="1264701" y="597849"/>
                </a:lnTo>
                <a:lnTo>
                  <a:pt x="1278983" y="601973"/>
                </a:lnTo>
                <a:lnTo>
                  <a:pt x="1292313" y="605779"/>
                </a:lnTo>
                <a:lnTo>
                  <a:pt x="1305643" y="610220"/>
                </a:lnTo>
                <a:lnTo>
                  <a:pt x="1318973" y="614343"/>
                </a:lnTo>
                <a:lnTo>
                  <a:pt x="1344046" y="623541"/>
                </a:lnTo>
                <a:lnTo>
                  <a:pt x="1368167" y="633057"/>
                </a:lnTo>
                <a:lnTo>
                  <a:pt x="1391018" y="642890"/>
                </a:lnTo>
                <a:lnTo>
                  <a:pt x="1411965" y="652723"/>
                </a:lnTo>
                <a:lnTo>
                  <a:pt x="1431643" y="662556"/>
                </a:lnTo>
                <a:lnTo>
                  <a:pt x="1449733" y="671754"/>
                </a:lnTo>
                <a:lnTo>
                  <a:pt x="1465602" y="680952"/>
                </a:lnTo>
                <a:lnTo>
                  <a:pt x="1480202" y="689199"/>
                </a:lnTo>
                <a:lnTo>
                  <a:pt x="1492897" y="696812"/>
                </a:lnTo>
                <a:lnTo>
                  <a:pt x="1503053" y="703473"/>
                </a:lnTo>
                <a:lnTo>
                  <a:pt x="1517335" y="712671"/>
                </a:lnTo>
                <a:lnTo>
                  <a:pt x="1522413" y="716477"/>
                </a:lnTo>
                <a:lnTo>
                  <a:pt x="1522413" y="764373"/>
                </a:lnTo>
                <a:lnTo>
                  <a:pt x="1522413" y="948342"/>
                </a:lnTo>
                <a:lnTo>
                  <a:pt x="1522413" y="975937"/>
                </a:lnTo>
                <a:lnTo>
                  <a:pt x="929549" y="1239837"/>
                </a:lnTo>
                <a:lnTo>
                  <a:pt x="688975" y="1045084"/>
                </a:lnTo>
                <a:lnTo>
                  <a:pt x="688975" y="948342"/>
                </a:lnTo>
                <a:lnTo>
                  <a:pt x="688975" y="764373"/>
                </a:lnTo>
                <a:lnTo>
                  <a:pt x="688975" y="716477"/>
                </a:lnTo>
                <a:lnTo>
                  <a:pt x="694053" y="712671"/>
                </a:lnTo>
                <a:lnTo>
                  <a:pt x="709605" y="702521"/>
                </a:lnTo>
                <a:lnTo>
                  <a:pt x="720396" y="695860"/>
                </a:lnTo>
                <a:lnTo>
                  <a:pt x="733408" y="687931"/>
                </a:lnTo>
                <a:lnTo>
                  <a:pt x="748325" y="679366"/>
                </a:lnTo>
                <a:lnTo>
                  <a:pt x="765781" y="669851"/>
                </a:lnTo>
                <a:lnTo>
                  <a:pt x="784506" y="660018"/>
                </a:lnTo>
                <a:lnTo>
                  <a:pt x="805136" y="650185"/>
                </a:lnTo>
                <a:lnTo>
                  <a:pt x="827035" y="640035"/>
                </a:lnTo>
                <a:lnTo>
                  <a:pt x="851156" y="630202"/>
                </a:lnTo>
                <a:lnTo>
                  <a:pt x="875912" y="620370"/>
                </a:lnTo>
                <a:lnTo>
                  <a:pt x="889241" y="615612"/>
                </a:lnTo>
                <a:lnTo>
                  <a:pt x="902571" y="611488"/>
                </a:lnTo>
                <a:lnTo>
                  <a:pt x="916219" y="607048"/>
                </a:lnTo>
                <a:lnTo>
                  <a:pt x="930183" y="602607"/>
                </a:lnTo>
                <a:lnTo>
                  <a:pt x="944465" y="598801"/>
                </a:lnTo>
                <a:lnTo>
                  <a:pt x="958430" y="595312"/>
                </a:lnTo>
                <a:close/>
                <a:moveTo>
                  <a:pt x="1619885" y="414337"/>
                </a:moveTo>
                <a:lnTo>
                  <a:pt x="1631315" y="437197"/>
                </a:lnTo>
                <a:lnTo>
                  <a:pt x="1648778" y="470852"/>
                </a:lnTo>
                <a:lnTo>
                  <a:pt x="1691640" y="554354"/>
                </a:lnTo>
                <a:lnTo>
                  <a:pt x="1747520" y="662940"/>
                </a:lnTo>
                <a:lnTo>
                  <a:pt x="1752918" y="655637"/>
                </a:lnTo>
                <a:lnTo>
                  <a:pt x="1759585" y="645160"/>
                </a:lnTo>
                <a:lnTo>
                  <a:pt x="1767523" y="632142"/>
                </a:lnTo>
                <a:lnTo>
                  <a:pt x="1776095" y="617220"/>
                </a:lnTo>
                <a:lnTo>
                  <a:pt x="1795463" y="582612"/>
                </a:lnTo>
                <a:lnTo>
                  <a:pt x="1815465" y="544194"/>
                </a:lnTo>
                <a:lnTo>
                  <a:pt x="1835785" y="505142"/>
                </a:lnTo>
                <a:lnTo>
                  <a:pt x="1854200" y="468947"/>
                </a:lnTo>
                <a:lnTo>
                  <a:pt x="1869440" y="438149"/>
                </a:lnTo>
                <a:lnTo>
                  <a:pt x="1879600" y="416559"/>
                </a:lnTo>
                <a:lnTo>
                  <a:pt x="1891665" y="419734"/>
                </a:lnTo>
                <a:lnTo>
                  <a:pt x="1903413" y="423227"/>
                </a:lnTo>
                <a:lnTo>
                  <a:pt x="1925638" y="430212"/>
                </a:lnTo>
                <a:lnTo>
                  <a:pt x="1946910" y="438149"/>
                </a:lnTo>
                <a:lnTo>
                  <a:pt x="1967548" y="446404"/>
                </a:lnTo>
                <a:lnTo>
                  <a:pt x="1986915" y="454659"/>
                </a:lnTo>
                <a:lnTo>
                  <a:pt x="2005013" y="462914"/>
                </a:lnTo>
                <a:lnTo>
                  <a:pt x="2021523" y="471169"/>
                </a:lnTo>
                <a:lnTo>
                  <a:pt x="2036763" y="479424"/>
                </a:lnTo>
                <a:lnTo>
                  <a:pt x="2050415" y="487044"/>
                </a:lnTo>
                <a:lnTo>
                  <a:pt x="2062798" y="494029"/>
                </a:lnTo>
                <a:lnTo>
                  <a:pt x="2082165" y="505777"/>
                </a:lnTo>
                <a:lnTo>
                  <a:pt x="2094230" y="514349"/>
                </a:lnTo>
                <a:lnTo>
                  <a:pt x="2098675" y="516889"/>
                </a:lnTo>
                <a:lnTo>
                  <a:pt x="2098675" y="557847"/>
                </a:lnTo>
                <a:lnTo>
                  <a:pt x="2098675" y="714057"/>
                </a:lnTo>
                <a:lnTo>
                  <a:pt x="2098675" y="796925"/>
                </a:lnTo>
                <a:lnTo>
                  <a:pt x="1798638" y="715645"/>
                </a:lnTo>
                <a:lnTo>
                  <a:pt x="1660843" y="678180"/>
                </a:lnTo>
                <a:lnTo>
                  <a:pt x="1660843" y="669925"/>
                </a:lnTo>
                <a:lnTo>
                  <a:pt x="1660843" y="623252"/>
                </a:lnTo>
                <a:lnTo>
                  <a:pt x="1623060" y="595629"/>
                </a:lnTo>
                <a:lnTo>
                  <a:pt x="1618298" y="592137"/>
                </a:lnTo>
                <a:lnTo>
                  <a:pt x="1606868" y="584517"/>
                </a:lnTo>
                <a:lnTo>
                  <a:pt x="1590040" y="573722"/>
                </a:lnTo>
                <a:lnTo>
                  <a:pt x="1567180" y="559752"/>
                </a:lnTo>
                <a:lnTo>
                  <a:pt x="1553845" y="552449"/>
                </a:lnTo>
                <a:lnTo>
                  <a:pt x="1539240" y="544512"/>
                </a:lnTo>
                <a:lnTo>
                  <a:pt x="1523365" y="535939"/>
                </a:lnTo>
                <a:lnTo>
                  <a:pt x="1506538" y="527684"/>
                </a:lnTo>
                <a:lnTo>
                  <a:pt x="1488440" y="518794"/>
                </a:lnTo>
                <a:lnTo>
                  <a:pt x="1469708" y="510222"/>
                </a:lnTo>
                <a:lnTo>
                  <a:pt x="1449388" y="501649"/>
                </a:lnTo>
                <a:lnTo>
                  <a:pt x="1428750" y="493394"/>
                </a:lnTo>
                <a:lnTo>
                  <a:pt x="1444625" y="483869"/>
                </a:lnTo>
                <a:lnTo>
                  <a:pt x="1463675" y="474027"/>
                </a:lnTo>
                <a:lnTo>
                  <a:pt x="1484948" y="463549"/>
                </a:lnTo>
                <a:lnTo>
                  <a:pt x="1508125" y="452437"/>
                </a:lnTo>
                <a:lnTo>
                  <a:pt x="1520825" y="447357"/>
                </a:lnTo>
                <a:lnTo>
                  <a:pt x="1533843" y="441642"/>
                </a:lnTo>
                <a:lnTo>
                  <a:pt x="1547178" y="436562"/>
                </a:lnTo>
                <a:lnTo>
                  <a:pt x="1560830" y="431799"/>
                </a:lnTo>
                <a:lnTo>
                  <a:pt x="1575118" y="427354"/>
                </a:lnTo>
                <a:lnTo>
                  <a:pt x="1589723" y="422592"/>
                </a:lnTo>
                <a:lnTo>
                  <a:pt x="1604645" y="418147"/>
                </a:lnTo>
                <a:lnTo>
                  <a:pt x="1619885" y="414337"/>
                </a:lnTo>
                <a:close/>
                <a:moveTo>
                  <a:pt x="325863" y="414337"/>
                </a:moveTo>
                <a:lnTo>
                  <a:pt x="336663" y="437178"/>
                </a:lnTo>
                <a:lnTo>
                  <a:pt x="354134" y="470806"/>
                </a:lnTo>
                <a:lnTo>
                  <a:pt x="397017" y="554240"/>
                </a:lnTo>
                <a:lnTo>
                  <a:pt x="452923" y="662737"/>
                </a:lnTo>
                <a:lnTo>
                  <a:pt x="458323" y="655440"/>
                </a:lnTo>
                <a:lnTo>
                  <a:pt x="465629" y="644972"/>
                </a:lnTo>
                <a:lnTo>
                  <a:pt x="472935" y="631965"/>
                </a:lnTo>
                <a:lnTo>
                  <a:pt x="481829" y="617054"/>
                </a:lnTo>
                <a:lnTo>
                  <a:pt x="500888" y="582475"/>
                </a:lnTo>
                <a:lnTo>
                  <a:pt x="521217" y="544089"/>
                </a:lnTo>
                <a:lnTo>
                  <a:pt x="541229" y="505068"/>
                </a:lnTo>
                <a:lnTo>
                  <a:pt x="559653" y="468902"/>
                </a:lnTo>
                <a:lnTo>
                  <a:pt x="574900" y="438130"/>
                </a:lnTo>
                <a:lnTo>
                  <a:pt x="585700" y="416557"/>
                </a:lnTo>
                <a:lnTo>
                  <a:pt x="600947" y="420999"/>
                </a:lnTo>
                <a:lnTo>
                  <a:pt x="615877" y="425757"/>
                </a:lnTo>
                <a:lnTo>
                  <a:pt x="630489" y="430199"/>
                </a:lnTo>
                <a:lnTo>
                  <a:pt x="644783" y="434957"/>
                </a:lnTo>
                <a:lnTo>
                  <a:pt x="658442" y="440668"/>
                </a:lnTo>
                <a:lnTo>
                  <a:pt x="671783" y="445744"/>
                </a:lnTo>
                <a:lnTo>
                  <a:pt x="684489" y="451137"/>
                </a:lnTo>
                <a:lnTo>
                  <a:pt x="696877" y="456847"/>
                </a:lnTo>
                <a:lnTo>
                  <a:pt x="719431" y="467316"/>
                </a:lnTo>
                <a:lnTo>
                  <a:pt x="740078" y="477785"/>
                </a:lnTo>
                <a:lnTo>
                  <a:pt x="758184" y="487620"/>
                </a:lnTo>
                <a:lnTo>
                  <a:pt x="773113" y="496820"/>
                </a:lnTo>
                <a:lnTo>
                  <a:pt x="753419" y="505068"/>
                </a:lnTo>
                <a:lnTo>
                  <a:pt x="734042" y="513633"/>
                </a:lnTo>
                <a:lnTo>
                  <a:pt x="715936" y="521882"/>
                </a:lnTo>
                <a:lnTo>
                  <a:pt x="698783" y="530130"/>
                </a:lnTo>
                <a:lnTo>
                  <a:pt x="682901" y="538378"/>
                </a:lnTo>
                <a:lnTo>
                  <a:pt x="667654" y="546309"/>
                </a:lnTo>
                <a:lnTo>
                  <a:pt x="653677" y="554240"/>
                </a:lnTo>
                <a:lnTo>
                  <a:pt x="641289" y="561220"/>
                </a:lnTo>
                <a:lnTo>
                  <a:pt x="619689" y="574544"/>
                </a:lnTo>
                <a:lnTo>
                  <a:pt x="602853" y="585013"/>
                </a:lnTo>
                <a:lnTo>
                  <a:pt x="592371" y="592309"/>
                </a:lnTo>
                <a:lnTo>
                  <a:pt x="587924" y="595482"/>
                </a:lnTo>
                <a:lnTo>
                  <a:pt x="549806" y="623082"/>
                </a:lnTo>
                <a:lnTo>
                  <a:pt x="549806" y="669716"/>
                </a:lnTo>
                <a:lnTo>
                  <a:pt x="549806" y="717937"/>
                </a:lnTo>
                <a:lnTo>
                  <a:pt x="549806" y="901938"/>
                </a:lnTo>
                <a:lnTo>
                  <a:pt x="549806" y="1014876"/>
                </a:lnTo>
                <a:lnTo>
                  <a:pt x="546312" y="1016462"/>
                </a:lnTo>
                <a:lnTo>
                  <a:pt x="96838" y="1193800"/>
                </a:lnTo>
                <a:lnTo>
                  <a:pt x="96838" y="713813"/>
                </a:lnTo>
                <a:lnTo>
                  <a:pt x="96838" y="557730"/>
                </a:lnTo>
                <a:lnTo>
                  <a:pt x="96838" y="516806"/>
                </a:lnTo>
                <a:lnTo>
                  <a:pt x="101285" y="514268"/>
                </a:lnTo>
                <a:lnTo>
                  <a:pt x="113991" y="505385"/>
                </a:lnTo>
                <a:lnTo>
                  <a:pt x="123521" y="499675"/>
                </a:lnTo>
                <a:lnTo>
                  <a:pt x="134321" y="493013"/>
                </a:lnTo>
                <a:lnTo>
                  <a:pt x="147344" y="485716"/>
                </a:lnTo>
                <a:lnTo>
                  <a:pt x="161639" y="477468"/>
                </a:lnTo>
                <a:lnTo>
                  <a:pt x="177839" y="469220"/>
                </a:lnTo>
                <a:lnTo>
                  <a:pt x="194992" y="460971"/>
                </a:lnTo>
                <a:lnTo>
                  <a:pt x="214051" y="452406"/>
                </a:lnTo>
                <a:lnTo>
                  <a:pt x="234063" y="444157"/>
                </a:lnTo>
                <a:lnTo>
                  <a:pt x="255345" y="435909"/>
                </a:lnTo>
                <a:lnTo>
                  <a:pt x="277581" y="427978"/>
                </a:lnTo>
                <a:lnTo>
                  <a:pt x="301404" y="420999"/>
                </a:lnTo>
                <a:lnTo>
                  <a:pt x="313157" y="417509"/>
                </a:lnTo>
                <a:lnTo>
                  <a:pt x="325863" y="414337"/>
                </a:lnTo>
                <a:close/>
                <a:moveTo>
                  <a:pt x="1105540" y="106362"/>
                </a:moveTo>
                <a:lnTo>
                  <a:pt x="1113783" y="106679"/>
                </a:lnTo>
                <a:lnTo>
                  <a:pt x="1122026" y="107315"/>
                </a:lnTo>
                <a:lnTo>
                  <a:pt x="1130269" y="108268"/>
                </a:lnTo>
                <a:lnTo>
                  <a:pt x="1138512" y="109857"/>
                </a:lnTo>
                <a:lnTo>
                  <a:pt x="1146755" y="111445"/>
                </a:lnTo>
                <a:lnTo>
                  <a:pt x="1154998" y="113987"/>
                </a:lnTo>
                <a:lnTo>
                  <a:pt x="1162924" y="116528"/>
                </a:lnTo>
                <a:lnTo>
                  <a:pt x="1170850" y="119705"/>
                </a:lnTo>
                <a:lnTo>
                  <a:pt x="1178775" y="122882"/>
                </a:lnTo>
                <a:lnTo>
                  <a:pt x="1186067" y="127013"/>
                </a:lnTo>
                <a:lnTo>
                  <a:pt x="1193993" y="131143"/>
                </a:lnTo>
                <a:lnTo>
                  <a:pt x="1200968" y="135908"/>
                </a:lnTo>
                <a:lnTo>
                  <a:pt x="1208260" y="140992"/>
                </a:lnTo>
                <a:lnTo>
                  <a:pt x="1215235" y="146710"/>
                </a:lnTo>
                <a:lnTo>
                  <a:pt x="1221892" y="152429"/>
                </a:lnTo>
                <a:lnTo>
                  <a:pt x="1228550" y="158783"/>
                </a:lnTo>
                <a:lnTo>
                  <a:pt x="1234574" y="165455"/>
                </a:lnTo>
                <a:lnTo>
                  <a:pt x="1240915" y="172444"/>
                </a:lnTo>
                <a:lnTo>
                  <a:pt x="1246304" y="180069"/>
                </a:lnTo>
                <a:lnTo>
                  <a:pt x="1251694" y="188012"/>
                </a:lnTo>
                <a:lnTo>
                  <a:pt x="1256449" y="196272"/>
                </a:lnTo>
                <a:lnTo>
                  <a:pt x="1261205" y="204850"/>
                </a:lnTo>
                <a:lnTo>
                  <a:pt x="1265643" y="214064"/>
                </a:lnTo>
                <a:lnTo>
                  <a:pt x="1269448" y="223277"/>
                </a:lnTo>
                <a:lnTo>
                  <a:pt x="1272935" y="233126"/>
                </a:lnTo>
                <a:lnTo>
                  <a:pt x="1276105" y="243610"/>
                </a:lnTo>
                <a:lnTo>
                  <a:pt x="1278959" y="254094"/>
                </a:lnTo>
                <a:lnTo>
                  <a:pt x="1281178" y="265214"/>
                </a:lnTo>
                <a:lnTo>
                  <a:pt x="1282763" y="276651"/>
                </a:lnTo>
                <a:lnTo>
                  <a:pt x="1284031" y="288407"/>
                </a:lnTo>
                <a:lnTo>
                  <a:pt x="1284665" y="300479"/>
                </a:lnTo>
                <a:lnTo>
                  <a:pt x="1285300" y="313187"/>
                </a:lnTo>
                <a:lnTo>
                  <a:pt x="1285300" y="317635"/>
                </a:lnTo>
                <a:lnTo>
                  <a:pt x="1284665" y="321765"/>
                </a:lnTo>
                <a:lnTo>
                  <a:pt x="1285300" y="321765"/>
                </a:lnTo>
                <a:lnTo>
                  <a:pt x="1289421" y="322401"/>
                </a:lnTo>
                <a:lnTo>
                  <a:pt x="1293542" y="323036"/>
                </a:lnTo>
                <a:lnTo>
                  <a:pt x="1297347" y="324307"/>
                </a:lnTo>
                <a:lnTo>
                  <a:pt x="1300834" y="326213"/>
                </a:lnTo>
                <a:lnTo>
                  <a:pt x="1304322" y="328437"/>
                </a:lnTo>
                <a:lnTo>
                  <a:pt x="1307492" y="331297"/>
                </a:lnTo>
                <a:lnTo>
                  <a:pt x="1310662" y="334474"/>
                </a:lnTo>
                <a:lnTo>
                  <a:pt x="1313833" y="337651"/>
                </a:lnTo>
                <a:lnTo>
                  <a:pt x="1316369" y="341463"/>
                </a:lnTo>
                <a:lnTo>
                  <a:pt x="1318588" y="345911"/>
                </a:lnTo>
                <a:lnTo>
                  <a:pt x="1320491" y="350359"/>
                </a:lnTo>
                <a:lnTo>
                  <a:pt x="1322393" y="354807"/>
                </a:lnTo>
                <a:lnTo>
                  <a:pt x="1323661" y="359572"/>
                </a:lnTo>
                <a:lnTo>
                  <a:pt x="1324929" y="365291"/>
                </a:lnTo>
                <a:lnTo>
                  <a:pt x="1325246" y="370374"/>
                </a:lnTo>
                <a:lnTo>
                  <a:pt x="1325563" y="375775"/>
                </a:lnTo>
                <a:lnTo>
                  <a:pt x="1325246" y="381176"/>
                </a:lnTo>
                <a:lnTo>
                  <a:pt x="1323661" y="386895"/>
                </a:lnTo>
                <a:lnTo>
                  <a:pt x="1321759" y="391978"/>
                </a:lnTo>
                <a:lnTo>
                  <a:pt x="1319222" y="396744"/>
                </a:lnTo>
                <a:lnTo>
                  <a:pt x="1316369" y="401509"/>
                </a:lnTo>
                <a:lnTo>
                  <a:pt x="1312248" y="406275"/>
                </a:lnTo>
                <a:lnTo>
                  <a:pt x="1308443" y="410087"/>
                </a:lnTo>
                <a:lnTo>
                  <a:pt x="1303688" y="413900"/>
                </a:lnTo>
                <a:lnTo>
                  <a:pt x="1298932" y="417712"/>
                </a:lnTo>
                <a:lnTo>
                  <a:pt x="1294177" y="420572"/>
                </a:lnTo>
                <a:lnTo>
                  <a:pt x="1289104" y="423431"/>
                </a:lnTo>
                <a:lnTo>
                  <a:pt x="1284031" y="425337"/>
                </a:lnTo>
                <a:lnTo>
                  <a:pt x="1278959" y="427561"/>
                </a:lnTo>
                <a:lnTo>
                  <a:pt x="1274203" y="428514"/>
                </a:lnTo>
                <a:lnTo>
                  <a:pt x="1269448" y="429467"/>
                </a:lnTo>
                <a:lnTo>
                  <a:pt x="1265009" y="429785"/>
                </a:lnTo>
                <a:lnTo>
                  <a:pt x="1264692" y="429785"/>
                </a:lnTo>
                <a:lnTo>
                  <a:pt x="1258351" y="446623"/>
                </a:lnTo>
                <a:lnTo>
                  <a:pt x="1251377" y="463779"/>
                </a:lnTo>
                <a:lnTo>
                  <a:pt x="1243768" y="479665"/>
                </a:lnTo>
                <a:lnTo>
                  <a:pt x="1235525" y="495232"/>
                </a:lnTo>
                <a:lnTo>
                  <a:pt x="1228867" y="506034"/>
                </a:lnTo>
                <a:lnTo>
                  <a:pt x="1222209" y="516836"/>
                </a:lnTo>
                <a:lnTo>
                  <a:pt x="1215235" y="527003"/>
                </a:lnTo>
                <a:lnTo>
                  <a:pt x="1207626" y="536852"/>
                </a:lnTo>
                <a:lnTo>
                  <a:pt x="1200017" y="546065"/>
                </a:lnTo>
                <a:lnTo>
                  <a:pt x="1192408" y="554643"/>
                </a:lnTo>
                <a:lnTo>
                  <a:pt x="1184165" y="562586"/>
                </a:lnTo>
                <a:lnTo>
                  <a:pt x="1176239" y="569575"/>
                </a:lnTo>
                <a:lnTo>
                  <a:pt x="1167679" y="576247"/>
                </a:lnTo>
                <a:lnTo>
                  <a:pt x="1159119" y="582283"/>
                </a:lnTo>
                <a:lnTo>
                  <a:pt x="1150242" y="587367"/>
                </a:lnTo>
                <a:lnTo>
                  <a:pt x="1141365" y="591814"/>
                </a:lnTo>
                <a:lnTo>
                  <a:pt x="1132171" y="595309"/>
                </a:lnTo>
                <a:lnTo>
                  <a:pt x="1123611" y="597533"/>
                </a:lnTo>
                <a:lnTo>
                  <a:pt x="1118856" y="598804"/>
                </a:lnTo>
                <a:lnTo>
                  <a:pt x="1114734" y="599122"/>
                </a:lnTo>
                <a:lnTo>
                  <a:pt x="1110296" y="599439"/>
                </a:lnTo>
                <a:lnTo>
                  <a:pt x="1105540" y="600075"/>
                </a:lnTo>
                <a:lnTo>
                  <a:pt x="1099199" y="599439"/>
                </a:lnTo>
                <a:lnTo>
                  <a:pt x="1092859" y="598804"/>
                </a:lnTo>
                <a:lnTo>
                  <a:pt x="1087152" y="597533"/>
                </a:lnTo>
                <a:lnTo>
                  <a:pt x="1080811" y="595627"/>
                </a:lnTo>
                <a:lnTo>
                  <a:pt x="1074471" y="593721"/>
                </a:lnTo>
                <a:lnTo>
                  <a:pt x="1068130" y="590861"/>
                </a:lnTo>
                <a:lnTo>
                  <a:pt x="1062423" y="587684"/>
                </a:lnTo>
                <a:lnTo>
                  <a:pt x="1056083" y="584507"/>
                </a:lnTo>
                <a:lnTo>
                  <a:pt x="1050693" y="581012"/>
                </a:lnTo>
                <a:lnTo>
                  <a:pt x="1044986" y="577200"/>
                </a:lnTo>
                <a:lnTo>
                  <a:pt x="1039597" y="573070"/>
                </a:lnTo>
                <a:lnTo>
                  <a:pt x="1034524" y="568940"/>
                </a:lnTo>
                <a:lnTo>
                  <a:pt x="1028818" y="564174"/>
                </a:lnTo>
                <a:lnTo>
                  <a:pt x="1023745" y="559409"/>
                </a:lnTo>
                <a:lnTo>
                  <a:pt x="1018672" y="554008"/>
                </a:lnTo>
                <a:lnTo>
                  <a:pt x="1013600" y="548289"/>
                </a:lnTo>
                <a:lnTo>
                  <a:pt x="1003455" y="536534"/>
                </a:lnTo>
                <a:lnTo>
                  <a:pt x="993944" y="523826"/>
                </a:lnTo>
                <a:lnTo>
                  <a:pt x="985067" y="510482"/>
                </a:lnTo>
                <a:lnTo>
                  <a:pt x="976190" y="495868"/>
                </a:lnTo>
                <a:lnTo>
                  <a:pt x="967630" y="480300"/>
                </a:lnTo>
                <a:lnTo>
                  <a:pt x="959704" y="463779"/>
                </a:lnTo>
                <a:lnTo>
                  <a:pt x="952729" y="446623"/>
                </a:lnTo>
                <a:lnTo>
                  <a:pt x="946388" y="429150"/>
                </a:lnTo>
                <a:lnTo>
                  <a:pt x="941950" y="428197"/>
                </a:lnTo>
                <a:lnTo>
                  <a:pt x="937194" y="426926"/>
                </a:lnTo>
                <a:lnTo>
                  <a:pt x="933073" y="425020"/>
                </a:lnTo>
                <a:lnTo>
                  <a:pt x="928317" y="423113"/>
                </a:lnTo>
                <a:lnTo>
                  <a:pt x="923562" y="420572"/>
                </a:lnTo>
                <a:lnTo>
                  <a:pt x="919123" y="418030"/>
                </a:lnTo>
                <a:lnTo>
                  <a:pt x="915002" y="414853"/>
                </a:lnTo>
                <a:lnTo>
                  <a:pt x="910563" y="411358"/>
                </a:lnTo>
                <a:lnTo>
                  <a:pt x="906759" y="407863"/>
                </a:lnTo>
                <a:lnTo>
                  <a:pt x="903271" y="403733"/>
                </a:lnTo>
                <a:lnTo>
                  <a:pt x="900101" y="399603"/>
                </a:lnTo>
                <a:lnTo>
                  <a:pt x="897248" y="395155"/>
                </a:lnTo>
                <a:lnTo>
                  <a:pt x="895345" y="390707"/>
                </a:lnTo>
                <a:lnTo>
                  <a:pt x="893443" y="385624"/>
                </a:lnTo>
                <a:lnTo>
                  <a:pt x="892492" y="380859"/>
                </a:lnTo>
                <a:lnTo>
                  <a:pt x="892175" y="375775"/>
                </a:lnTo>
                <a:lnTo>
                  <a:pt x="892175" y="370692"/>
                </a:lnTo>
                <a:lnTo>
                  <a:pt x="892492" y="365926"/>
                </a:lnTo>
                <a:lnTo>
                  <a:pt x="893760" y="361161"/>
                </a:lnTo>
                <a:lnTo>
                  <a:pt x="894394" y="356395"/>
                </a:lnTo>
                <a:lnTo>
                  <a:pt x="895980" y="352265"/>
                </a:lnTo>
                <a:lnTo>
                  <a:pt x="897565" y="348135"/>
                </a:lnTo>
                <a:lnTo>
                  <a:pt x="899467" y="344323"/>
                </a:lnTo>
                <a:lnTo>
                  <a:pt x="902003" y="340828"/>
                </a:lnTo>
                <a:lnTo>
                  <a:pt x="904222" y="337333"/>
                </a:lnTo>
                <a:lnTo>
                  <a:pt x="907076" y="334156"/>
                </a:lnTo>
                <a:lnTo>
                  <a:pt x="909929" y="331297"/>
                </a:lnTo>
                <a:lnTo>
                  <a:pt x="913099" y="329073"/>
                </a:lnTo>
                <a:lnTo>
                  <a:pt x="916270" y="326531"/>
                </a:lnTo>
                <a:lnTo>
                  <a:pt x="919123" y="324943"/>
                </a:lnTo>
                <a:lnTo>
                  <a:pt x="922928" y="323672"/>
                </a:lnTo>
                <a:lnTo>
                  <a:pt x="926415" y="322719"/>
                </a:lnTo>
                <a:lnTo>
                  <a:pt x="926098" y="313187"/>
                </a:lnTo>
                <a:lnTo>
                  <a:pt x="926415" y="300479"/>
                </a:lnTo>
                <a:lnTo>
                  <a:pt x="927049" y="288407"/>
                </a:lnTo>
                <a:lnTo>
                  <a:pt x="928317" y="276651"/>
                </a:lnTo>
                <a:lnTo>
                  <a:pt x="930219" y="265214"/>
                </a:lnTo>
                <a:lnTo>
                  <a:pt x="932122" y="254094"/>
                </a:lnTo>
                <a:lnTo>
                  <a:pt x="934975" y="243610"/>
                </a:lnTo>
                <a:lnTo>
                  <a:pt x="938145" y="233126"/>
                </a:lnTo>
                <a:lnTo>
                  <a:pt x="941633" y="223277"/>
                </a:lnTo>
                <a:lnTo>
                  <a:pt x="945754" y="214064"/>
                </a:lnTo>
                <a:lnTo>
                  <a:pt x="949876" y="204850"/>
                </a:lnTo>
                <a:lnTo>
                  <a:pt x="954631" y="196272"/>
                </a:lnTo>
                <a:lnTo>
                  <a:pt x="959704" y="188012"/>
                </a:lnTo>
                <a:lnTo>
                  <a:pt x="964776" y="180069"/>
                </a:lnTo>
                <a:lnTo>
                  <a:pt x="970800" y="172444"/>
                </a:lnTo>
                <a:lnTo>
                  <a:pt x="976507" y="165455"/>
                </a:lnTo>
                <a:lnTo>
                  <a:pt x="982847" y="158783"/>
                </a:lnTo>
                <a:lnTo>
                  <a:pt x="989188" y="152429"/>
                </a:lnTo>
                <a:lnTo>
                  <a:pt x="995846" y="146710"/>
                </a:lnTo>
                <a:lnTo>
                  <a:pt x="1003138" y="140992"/>
                </a:lnTo>
                <a:lnTo>
                  <a:pt x="1010112" y="135908"/>
                </a:lnTo>
                <a:lnTo>
                  <a:pt x="1017404" y="131143"/>
                </a:lnTo>
                <a:lnTo>
                  <a:pt x="1025013" y="127013"/>
                </a:lnTo>
                <a:lnTo>
                  <a:pt x="1032622" y="122882"/>
                </a:lnTo>
                <a:lnTo>
                  <a:pt x="1040231" y="119705"/>
                </a:lnTo>
                <a:lnTo>
                  <a:pt x="1048157" y="116528"/>
                </a:lnTo>
                <a:lnTo>
                  <a:pt x="1056400" y="113987"/>
                </a:lnTo>
                <a:lnTo>
                  <a:pt x="1064326" y="111445"/>
                </a:lnTo>
                <a:lnTo>
                  <a:pt x="1072568" y="109857"/>
                </a:lnTo>
                <a:lnTo>
                  <a:pt x="1080811" y="108268"/>
                </a:lnTo>
                <a:lnTo>
                  <a:pt x="1089054" y="107315"/>
                </a:lnTo>
                <a:lnTo>
                  <a:pt x="1097297" y="106679"/>
                </a:lnTo>
                <a:lnTo>
                  <a:pt x="1105540" y="106362"/>
                </a:lnTo>
                <a:close/>
                <a:moveTo>
                  <a:pt x="1743393" y="0"/>
                </a:moveTo>
                <a:lnTo>
                  <a:pt x="1750378" y="317"/>
                </a:lnTo>
                <a:lnTo>
                  <a:pt x="1757680" y="950"/>
                </a:lnTo>
                <a:lnTo>
                  <a:pt x="1764665" y="1584"/>
                </a:lnTo>
                <a:lnTo>
                  <a:pt x="1771650" y="2851"/>
                </a:lnTo>
                <a:lnTo>
                  <a:pt x="1778318" y="4435"/>
                </a:lnTo>
                <a:lnTo>
                  <a:pt x="1785620" y="6335"/>
                </a:lnTo>
                <a:lnTo>
                  <a:pt x="1792288" y="8553"/>
                </a:lnTo>
                <a:lnTo>
                  <a:pt x="1798955" y="11404"/>
                </a:lnTo>
                <a:lnTo>
                  <a:pt x="1805623" y="14255"/>
                </a:lnTo>
                <a:lnTo>
                  <a:pt x="1812290" y="17423"/>
                </a:lnTo>
                <a:lnTo>
                  <a:pt x="1818640" y="21224"/>
                </a:lnTo>
                <a:lnTo>
                  <a:pt x="1824990" y="25342"/>
                </a:lnTo>
                <a:lnTo>
                  <a:pt x="1830705" y="29460"/>
                </a:lnTo>
                <a:lnTo>
                  <a:pt x="1836738" y="34212"/>
                </a:lnTo>
                <a:lnTo>
                  <a:pt x="1842770" y="38963"/>
                </a:lnTo>
                <a:lnTo>
                  <a:pt x="1848168" y="44349"/>
                </a:lnTo>
                <a:lnTo>
                  <a:pt x="1853248" y="50051"/>
                </a:lnTo>
                <a:lnTo>
                  <a:pt x="1858328" y="56069"/>
                </a:lnTo>
                <a:lnTo>
                  <a:pt x="1863090" y="62405"/>
                </a:lnTo>
                <a:lnTo>
                  <a:pt x="1867853" y="69057"/>
                </a:lnTo>
                <a:lnTo>
                  <a:pt x="1871663" y="76343"/>
                </a:lnTo>
                <a:lnTo>
                  <a:pt x="1875790" y="83312"/>
                </a:lnTo>
                <a:lnTo>
                  <a:pt x="1879600" y="91232"/>
                </a:lnTo>
                <a:lnTo>
                  <a:pt x="1882775" y="99151"/>
                </a:lnTo>
                <a:lnTo>
                  <a:pt x="1885950" y="107387"/>
                </a:lnTo>
                <a:lnTo>
                  <a:pt x="1888808" y="115940"/>
                </a:lnTo>
                <a:lnTo>
                  <a:pt x="1890713" y="124810"/>
                </a:lnTo>
                <a:lnTo>
                  <a:pt x="1892618" y="134313"/>
                </a:lnTo>
                <a:lnTo>
                  <a:pt x="1894205" y="144134"/>
                </a:lnTo>
                <a:lnTo>
                  <a:pt x="1895475" y="153954"/>
                </a:lnTo>
                <a:lnTo>
                  <a:pt x="1895793" y="164091"/>
                </a:lnTo>
                <a:lnTo>
                  <a:pt x="1896110" y="174861"/>
                </a:lnTo>
                <a:lnTo>
                  <a:pt x="1895793" y="182780"/>
                </a:lnTo>
                <a:lnTo>
                  <a:pt x="1896110" y="182147"/>
                </a:lnTo>
                <a:lnTo>
                  <a:pt x="1899603" y="182780"/>
                </a:lnTo>
                <a:lnTo>
                  <a:pt x="1903095" y="183414"/>
                </a:lnTo>
                <a:lnTo>
                  <a:pt x="1906270" y="184681"/>
                </a:lnTo>
                <a:lnTo>
                  <a:pt x="1909445" y="186265"/>
                </a:lnTo>
                <a:lnTo>
                  <a:pt x="1912620" y="187849"/>
                </a:lnTo>
                <a:lnTo>
                  <a:pt x="1915478" y="190066"/>
                </a:lnTo>
                <a:lnTo>
                  <a:pt x="1917700" y="192917"/>
                </a:lnTo>
                <a:lnTo>
                  <a:pt x="1920558" y="195768"/>
                </a:lnTo>
                <a:lnTo>
                  <a:pt x="1922463" y="199253"/>
                </a:lnTo>
                <a:lnTo>
                  <a:pt x="1924368" y="202737"/>
                </a:lnTo>
                <a:lnTo>
                  <a:pt x="1926590" y="206222"/>
                </a:lnTo>
                <a:lnTo>
                  <a:pt x="1927543" y="210023"/>
                </a:lnTo>
                <a:lnTo>
                  <a:pt x="1928813" y="214458"/>
                </a:lnTo>
                <a:lnTo>
                  <a:pt x="1929765" y="218893"/>
                </a:lnTo>
                <a:lnTo>
                  <a:pt x="1930400" y="223645"/>
                </a:lnTo>
                <a:lnTo>
                  <a:pt x="1930400" y="228080"/>
                </a:lnTo>
                <a:lnTo>
                  <a:pt x="1930083" y="232831"/>
                </a:lnTo>
                <a:lnTo>
                  <a:pt x="1928813" y="237266"/>
                </a:lnTo>
                <a:lnTo>
                  <a:pt x="1927225" y="241701"/>
                </a:lnTo>
                <a:lnTo>
                  <a:pt x="1925320" y="245819"/>
                </a:lnTo>
                <a:lnTo>
                  <a:pt x="1922463" y="249937"/>
                </a:lnTo>
                <a:lnTo>
                  <a:pt x="1919288" y="253739"/>
                </a:lnTo>
                <a:lnTo>
                  <a:pt x="1915795" y="257223"/>
                </a:lnTo>
                <a:lnTo>
                  <a:pt x="1911985" y="260391"/>
                </a:lnTo>
                <a:lnTo>
                  <a:pt x="1907858" y="263242"/>
                </a:lnTo>
                <a:lnTo>
                  <a:pt x="1903730" y="265776"/>
                </a:lnTo>
                <a:lnTo>
                  <a:pt x="1899285" y="268310"/>
                </a:lnTo>
                <a:lnTo>
                  <a:pt x="1895475" y="270211"/>
                </a:lnTo>
                <a:lnTo>
                  <a:pt x="1891030" y="271795"/>
                </a:lnTo>
                <a:lnTo>
                  <a:pt x="1886585" y="272745"/>
                </a:lnTo>
                <a:lnTo>
                  <a:pt x="1882775" y="273379"/>
                </a:lnTo>
                <a:lnTo>
                  <a:pt x="1879283" y="273696"/>
                </a:lnTo>
                <a:lnTo>
                  <a:pt x="1878965" y="273696"/>
                </a:lnTo>
                <a:lnTo>
                  <a:pt x="1873250" y="288267"/>
                </a:lnTo>
                <a:lnTo>
                  <a:pt x="1867535" y="302522"/>
                </a:lnTo>
                <a:lnTo>
                  <a:pt x="1860868" y="316144"/>
                </a:lnTo>
                <a:lnTo>
                  <a:pt x="1853565" y="329449"/>
                </a:lnTo>
                <a:lnTo>
                  <a:pt x="1846263" y="342120"/>
                </a:lnTo>
                <a:lnTo>
                  <a:pt x="1838325" y="353840"/>
                </a:lnTo>
                <a:lnTo>
                  <a:pt x="1829753" y="364928"/>
                </a:lnTo>
                <a:lnTo>
                  <a:pt x="1820863" y="375065"/>
                </a:lnTo>
                <a:lnTo>
                  <a:pt x="1811973" y="384568"/>
                </a:lnTo>
                <a:lnTo>
                  <a:pt x="1802448" y="392804"/>
                </a:lnTo>
                <a:lnTo>
                  <a:pt x="1797685" y="396605"/>
                </a:lnTo>
                <a:lnTo>
                  <a:pt x="1792923" y="399773"/>
                </a:lnTo>
                <a:lnTo>
                  <a:pt x="1788160" y="403258"/>
                </a:lnTo>
                <a:lnTo>
                  <a:pt x="1783715" y="406109"/>
                </a:lnTo>
                <a:lnTo>
                  <a:pt x="1778318" y="408960"/>
                </a:lnTo>
                <a:lnTo>
                  <a:pt x="1773238" y="410860"/>
                </a:lnTo>
                <a:lnTo>
                  <a:pt x="1768475" y="412761"/>
                </a:lnTo>
                <a:lnTo>
                  <a:pt x="1763395" y="414345"/>
                </a:lnTo>
                <a:lnTo>
                  <a:pt x="1758315" y="415929"/>
                </a:lnTo>
                <a:lnTo>
                  <a:pt x="1753553" y="416879"/>
                </a:lnTo>
                <a:lnTo>
                  <a:pt x="1748473" y="417196"/>
                </a:lnTo>
                <a:lnTo>
                  <a:pt x="1743393" y="417513"/>
                </a:lnTo>
                <a:lnTo>
                  <a:pt x="1738630" y="417196"/>
                </a:lnTo>
                <a:lnTo>
                  <a:pt x="1733550" y="416879"/>
                </a:lnTo>
                <a:lnTo>
                  <a:pt x="1728470" y="415929"/>
                </a:lnTo>
                <a:lnTo>
                  <a:pt x="1723390" y="414345"/>
                </a:lnTo>
                <a:lnTo>
                  <a:pt x="1718628" y="412761"/>
                </a:lnTo>
                <a:lnTo>
                  <a:pt x="1713548" y="410860"/>
                </a:lnTo>
                <a:lnTo>
                  <a:pt x="1708468" y="408643"/>
                </a:lnTo>
                <a:lnTo>
                  <a:pt x="1703705" y="406109"/>
                </a:lnTo>
                <a:lnTo>
                  <a:pt x="1698625" y="402941"/>
                </a:lnTo>
                <a:lnTo>
                  <a:pt x="1693863" y="399773"/>
                </a:lnTo>
                <a:lnTo>
                  <a:pt x="1689100" y="396289"/>
                </a:lnTo>
                <a:lnTo>
                  <a:pt x="1684338" y="392804"/>
                </a:lnTo>
                <a:lnTo>
                  <a:pt x="1679575" y="388369"/>
                </a:lnTo>
                <a:lnTo>
                  <a:pt x="1674813" y="384568"/>
                </a:lnTo>
                <a:lnTo>
                  <a:pt x="1665923" y="375065"/>
                </a:lnTo>
                <a:lnTo>
                  <a:pt x="1657350" y="364928"/>
                </a:lnTo>
                <a:lnTo>
                  <a:pt x="1649095" y="353524"/>
                </a:lnTo>
                <a:lnTo>
                  <a:pt x="1640840" y="341803"/>
                </a:lnTo>
                <a:lnTo>
                  <a:pt x="1633220" y="329132"/>
                </a:lnTo>
                <a:lnTo>
                  <a:pt x="1626235" y="315827"/>
                </a:lnTo>
                <a:lnTo>
                  <a:pt x="1619568" y="302206"/>
                </a:lnTo>
                <a:lnTo>
                  <a:pt x="1613535" y="287951"/>
                </a:lnTo>
                <a:lnTo>
                  <a:pt x="1608138" y="273062"/>
                </a:lnTo>
                <a:lnTo>
                  <a:pt x="1604645" y="272112"/>
                </a:lnTo>
                <a:lnTo>
                  <a:pt x="1600518" y="271161"/>
                </a:lnTo>
                <a:lnTo>
                  <a:pt x="1596708" y="269894"/>
                </a:lnTo>
                <a:lnTo>
                  <a:pt x="1592580" y="267994"/>
                </a:lnTo>
                <a:lnTo>
                  <a:pt x="1589088" y="265776"/>
                </a:lnTo>
                <a:lnTo>
                  <a:pt x="1585278" y="263559"/>
                </a:lnTo>
                <a:lnTo>
                  <a:pt x="1581150" y="260708"/>
                </a:lnTo>
                <a:lnTo>
                  <a:pt x="1577658" y="258174"/>
                </a:lnTo>
                <a:lnTo>
                  <a:pt x="1574483" y="255006"/>
                </a:lnTo>
                <a:lnTo>
                  <a:pt x="1571308" y="251838"/>
                </a:lnTo>
                <a:lnTo>
                  <a:pt x="1568768" y="248353"/>
                </a:lnTo>
                <a:lnTo>
                  <a:pt x="1566228" y="244235"/>
                </a:lnTo>
                <a:lnTo>
                  <a:pt x="1564640" y="240434"/>
                </a:lnTo>
                <a:lnTo>
                  <a:pt x="1563053" y="236633"/>
                </a:lnTo>
                <a:lnTo>
                  <a:pt x="1562418" y="232515"/>
                </a:lnTo>
                <a:lnTo>
                  <a:pt x="1562100" y="228080"/>
                </a:lnTo>
                <a:lnTo>
                  <a:pt x="1562100" y="223962"/>
                </a:lnTo>
                <a:lnTo>
                  <a:pt x="1562418" y="219527"/>
                </a:lnTo>
                <a:lnTo>
                  <a:pt x="1563053" y="215725"/>
                </a:lnTo>
                <a:lnTo>
                  <a:pt x="1564323" y="211607"/>
                </a:lnTo>
                <a:lnTo>
                  <a:pt x="1565593" y="208123"/>
                </a:lnTo>
                <a:lnTo>
                  <a:pt x="1567180" y="204638"/>
                </a:lnTo>
                <a:lnTo>
                  <a:pt x="1568768" y="201470"/>
                </a:lnTo>
                <a:lnTo>
                  <a:pt x="1570673" y="198303"/>
                </a:lnTo>
                <a:lnTo>
                  <a:pt x="1572578" y="195135"/>
                </a:lnTo>
                <a:lnTo>
                  <a:pt x="1574483" y="192917"/>
                </a:lnTo>
                <a:lnTo>
                  <a:pt x="1577340" y="190383"/>
                </a:lnTo>
                <a:lnTo>
                  <a:pt x="1579563" y="188166"/>
                </a:lnTo>
                <a:lnTo>
                  <a:pt x="1582420" y="186582"/>
                </a:lnTo>
                <a:lnTo>
                  <a:pt x="1585278" y="184998"/>
                </a:lnTo>
                <a:lnTo>
                  <a:pt x="1588453" y="183731"/>
                </a:lnTo>
                <a:lnTo>
                  <a:pt x="1590993" y="183097"/>
                </a:lnTo>
                <a:lnTo>
                  <a:pt x="1590993" y="174861"/>
                </a:lnTo>
                <a:lnTo>
                  <a:pt x="1590993" y="164091"/>
                </a:lnTo>
                <a:lnTo>
                  <a:pt x="1591945" y="153954"/>
                </a:lnTo>
                <a:lnTo>
                  <a:pt x="1593215" y="144134"/>
                </a:lnTo>
                <a:lnTo>
                  <a:pt x="1594168" y="134313"/>
                </a:lnTo>
                <a:lnTo>
                  <a:pt x="1596073" y="124810"/>
                </a:lnTo>
                <a:lnTo>
                  <a:pt x="1598613" y="115940"/>
                </a:lnTo>
                <a:lnTo>
                  <a:pt x="1601470" y="107387"/>
                </a:lnTo>
                <a:lnTo>
                  <a:pt x="1604010" y="99151"/>
                </a:lnTo>
                <a:lnTo>
                  <a:pt x="1607503" y="91232"/>
                </a:lnTo>
                <a:lnTo>
                  <a:pt x="1611313" y="83312"/>
                </a:lnTo>
                <a:lnTo>
                  <a:pt x="1615123" y="76343"/>
                </a:lnTo>
                <a:lnTo>
                  <a:pt x="1619568" y="69057"/>
                </a:lnTo>
                <a:lnTo>
                  <a:pt x="1624013" y="62405"/>
                </a:lnTo>
                <a:lnTo>
                  <a:pt x="1628775" y="56069"/>
                </a:lnTo>
                <a:lnTo>
                  <a:pt x="1633855" y="50051"/>
                </a:lnTo>
                <a:lnTo>
                  <a:pt x="1639253" y="44349"/>
                </a:lnTo>
                <a:lnTo>
                  <a:pt x="1644650" y="38963"/>
                </a:lnTo>
                <a:lnTo>
                  <a:pt x="1650683" y="34212"/>
                </a:lnTo>
                <a:lnTo>
                  <a:pt x="1656398" y="29460"/>
                </a:lnTo>
                <a:lnTo>
                  <a:pt x="1662430" y="25342"/>
                </a:lnTo>
                <a:lnTo>
                  <a:pt x="1668780" y="21224"/>
                </a:lnTo>
                <a:lnTo>
                  <a:pt x="1674813" y="17423"/>
                </a:lnTo>
                <a:lnTo>
                  <a:pt x="1681480" y="14255"/>
                </a:lnTo>
                <a:lnTo>
                  <a:pt x="1687830" y="11404"/>
                </a:lnTo>
                <a:lnTo>
                  <a:pt x="1695133" y="8553"/>
                </a:lnTo>
                <a:lnTo>
                  <a:pt x="1701800" y="6335"/>
                </a:lnTo>
                <a:lnTo>
                  <a:pt x="1708468" y="4435"/>
                </a:lnTo>
                <a:lnTo>
                  <a:pt x="1715453" y="2851"/>
                </a:lnTo>
                <a:lnTo>
                  <a:pt x="1722438" y="1584"/>
                </a:lnTo>
                <a:lnTo>
                  <a:pt x="1729740" y="950"/>
                </a:lnTo>
                <a:lnTo>
                  <a:pt x="1736408" y="317"/>
                </a:lnTo>
                <a:lnTo>
                  <a:pt x="1743393" y="0"/>
                </a:lnTo>
                <a:close/>
                <a:moveTo>
                  <a:pt x="451006" y="0"/>
                </a:moveTo>
                <a:lnTo>
                  <a:pt x="458315" y="317"/>
                </a:lnTo>
                <a:lnTo>
                  <a:pt x="465306" y="950"/>
                </a:lnTo>
                <a:lnTo>
                  <a:pt x="472297" y="1584"/>
                </a:lnTo>
                <a:lnTo>
                  <a:pt x="479606" y="2851"/>
                </a:lnTo>
                <a:lnTo>
                  <a:pt x="486279" y="4435"/>
                </a:lnTo>
                <a:lnTo>
                  <a:pt x="493270" y="6335"/>
                </a:lnTo>
                <a:lnTo>
                  <a:pt x="499944" y="8553"/>
                </a:lnTo>
                <a:lnTo>
                  <a:pt x="506617" y="11404"/>
                </a:lnTo>
                <a:lnTo>
                  <a:pt x="513290" y="14255"/>
                </a:lnTo>
                <a:lnTo>
                  <a:pt x="519963" y="17423"/>
                </a:lnTo>
                <a:lnTo>
                  <a:pt x="526319" y="21224"/>
                </a:lnTo>
                <a:lnTo>
                  <a:pt x="532674" y="25342"/>
                </a:lnTo>
                <a:lnTo>
                  <a:pt x="538712" y="29460"/>
                </a:lnTo>
                <a:lnTo>
                  <a:pt x="544432" y="34212"/>
                </a:lnTo>
                <a:lnTo>
                  <a:pt x="550470" y="38963"/>
                </a:lnTo>
                <a:lnTo>
                  <a:pt x="555872" y="44349"/>
                </a:lnTo>
                <a:lnTo>
                  <a:pt x="560956" y="50051"/>
                </a:lnTo>
                <a:lnTo>
                  <a:pt x="566041" y="56069"/>
                </a:lnTo>
                <a:lnTo>
                  <a:pt x="570807" y="62405"/>
                </a:lnTo>
                <a:lnTo>
                  <a:pt x="575574" y="69057"/>
                </a:lnTo>
                <a:lnTo>
                  <a:pt x="580023" y="76343"/>
                </a:lnTo>
                <a:lnTo>
                  <a:pt x="583836" y="83312"/>
                </a:lnTo>
                <a:lnTo>
                  <a:pt x="587331" y="91232"/>
                </a:lnTo>
                <a:lnTo>
                  <a:pt x="591145" y="99151"/>
                </a:lnTo>
                <a:lnTo>
                  <a:pt x="593687" y="107387"/>
                </a:lnTo>
                <a:lnTo>
                  <a:pt x="596547" y="115940"/>
                </a:lnTo>
                <a:lnTo>
                  <a:pt x="598771" y="124810"/>
                </a:lnTo>
                <a:lnTo>
                  <a:pt x="600996" y="134313"/>
                </a:lnTo>
                <a:lnTo>
                  <a:pt x="601949" y="144134"/>
                </a:lnTo>
                <a:lnTo>
                  <a:pt x="603220" y="153954"/>
                </a:lnTo>
                <a:lnTo>
                  <a:pt x="603856" y="164091"/>
                </a:lnTo>
                <a:lnTo>
                  <a:pt x="603856" y="174861"/>
                </a:lnTo>
                <a:lnTo>
                  <a:pt x="603856" y="182147"/>
                </a:lnTo>
                <a:lnTo>
                  <a:pt x="607669" y="182780"/>
                </a:lnTo>
                <a:lnTo>
                  <a:pt x="611165" y="183414"/>
                </a:lnTo>
                <a:lnTo>
                  <a:pt x="614342" y="184681"/>
                </a:lnTo>
                <a:lnTo>
                  <a:pt x="617520" y="186265"/>
                </a:lnTo>
                <a:lnTo>
                  <a:pt x="620698" y="187849"/>
                </a:lnTo>
                <a:lnTo>
                  <a:pt x="623240" y="190066"/>
                </a:lnTo>
                <a:lnTo>
                  <a:pt x="626100" y="192917"/>
                </a:lnTo>
                <a:lnTo>
                  <a:pt x="628324" y="195768"/>
                </a:lnTo>
                <a:lnTo>
                  <a:pt x="630549" y="199253"/>
                </a:lnTo>
                <a:lnTo>
                  <a:pt x="632455" y="202737"/>
                </a:lnTo>
                <a:lnTo>
                  <a:pt x="634362" y="206222"/>
                </a:lnTo>
                <a:lnTo>
                  <a:pt x="635633" y="210023"/>
                </a:lnTo>
                <a:lnTo>
                  <a:pt x="636586" y="214458"/>
                </a:lnTo>
                <a:lnTo>
                  <a:pt x="637540" y="218893"/>
                </a:lnTo>
                <a:lnTo>
                  <a:pt x="638175" y="223645"/>
                </a:lnTo>
                <a:lnTo>
                  <a:pt x="638175" y="228080"/>
                </a:lnTo>
                <a:lnTo>
                  <a:pt x="637857" y="232831"/>
                </a:lnTo>
                <a:lnTo>
                  <a:pt x="637222" y="237266"/>
                </a:lnTo>
                <a:lnTo>
                  <a:pt x="634997" y="241701"/>
                </a:lnTo>
                <a:lnTo>
                  <a:pt x="633091" y="245819"/>
                </a:lnTo>
                <a:lnTo>
                  <a:pt x="630549" y="249937"/>
                </a:lnTo>
                <a:lnTo>
                  <a:pt x="627371" y="253739"/>
                </a:lnTo>
                <a:lnTo>
                  <a:pt x="623558" y="257223"/>
                </a:lnTo>
                <a:lnTo>
                  <a:pt x="619744" y="260391"/>
                </a:lnTo>
                <a:lnTo>
                  <a:pt x="615931" y="263242"/>
                </a:lnTo>
                <a:lnTo>
                  <a:pt x="611482" y="265776"/>
                </a:lnTo>
                <a:lnTo>
                  <a:pt x="607669" y="268310"/>
                </a:lnTo>
                <a:lnTo>
                  <a:pt x="603220" y="270211"/>
                </a:lnTo>
                <a:lnTo>
                  <a:pt x="598771" y="271795"/>
                </a:lnTo>
                <a:lnTo>
                  <a:pt x="594958" y="272745"/>
                </a:lnTo>
                <a:lnTo>
                  <a:pt x="591145" y="273379"/>
                </a:lnTo>
                <a:lnTo>
                  <a:pt x="587014" y="273696"/>
                </a:lnTo>
                <a:lnTo>
                  <a:pt x="586696" y="273696"/>
                </a:lnTo>
                <a:lnTo>
                  <a:pt x="581612" y="288267"/>
                </a:lnTo>
                <a:lnTo>
                  <a:pt x="575256" y="302522"/>
                </a:lnTo>
                <a:lnTo>
                  <a:pt x="568900" y="316144"/>
                </a:lnTo>
                <a:lnTo>
                  <a:pt x="561910" y="329449"/>
                </a:lnTo>
                <a:lnTo>
                  <a:pt x="553965" y="342120"/>
                </a:lnTo>
                <a:lnTo>
                  <a:pt x="546021" y="353840"/>
                </a:lnTo>
                <a:lnTo>
                  <a:pt x="537759" y="364928"/>
                </a:lnTo>
                <a:lnTo>
                  <a:pt x="529179" y="375065"/>
                </a:lnTo>
                <a:lnTo>
                  <a:pt x="519646" y="384568"/>
                </a:lnTo>
                <a:lnTo>
                  <a:pt x="510748" y="392804"/>
                </a:lnTo>
                <a:lnTo>
                  <a:pt x="505981" y="396605"/>
                </a:lnTo>
                <a:lnTo>
                  <a:pt x="501215" y="399773"/>
                </a:lnTo>
                <a:lnTo>
                  <a:pt x="496130" y="403258"/>
                </a:lnTo>
                <a:lnTo>
                  <a:pt x="491364" y="406109"/>
                </a:lnTo>
                <a:lnTo>
                  <a:pt x="486279" y="408960"/>
                </a:lnTo>
                <a:lnTo>
                  <a:pt x="481513" y="410860"/>
                </a:lnTo>
                <a:lnTo>
                  <a:pt x="476428" y="412761"/>
                </a:lnTo>
                <a:lnTo>
                  <a:pt x="471344" y="414345"/>
                </a:lnTo>
                <a:lnTo>
                  <a:pt x="466577" y="415929"/>
                </a:lnTo>
                <a:lnTo>
                  <a:pt x="461493" y="416879"/>
                </a:lnTo>
                <a:lnTo>
                  <a:pt x="456409" y="417196"/>
                </a:lnTo>
                <a:lnTo>
                  <a:pt x="451006" y="417513"/>
                </a:lnTo>
                <a:lnTo>
                  <a:pt x="446558" y="417196"/>
                </a:lnTo>
                <a:lnTo>
                  <a:pt x="441155" y="416879"/>
                </a:lnTo>
                <a:lnTo>
                  <a:pt x="436071" y="415929"/>
                </a:lnTo>
                <a:lnTo>
                  <a:pt x="430987" y="414345"/>
                </a:lnTo>
                <a:lnTo>
                  <a:pt x="426220" y="412761"/>
                </a:lnTo>
                <a:lnTo>
                  <a:pt x="421136" y="410860"/>
                </a:lnTo>
                <a:lnTo>
                  <a:pt x="416369" y="408643"/>
                </a:lnTo>
                <a:lnTo>
                  <a:pt x="411285" y="406109"/>
                </a:lnTo>
                <a:lnTo>
                  <a:pt x="406518" y="402941"/>
                </a:lnTo>
                <a:lnTo>
                  <a:pt x="401434" y="399773"/>
                </a:lnTo>
                <a:lnTo>
                  <a:pt x="396667" y="396289"/>
                </a:lnTo>
                <a:lnTo>
                  <a:pt x="392218" y="392804"/>
                </a:lnTo>
                <a:lnTo>
                  <a:pt x="382685" y="384568"/>
                </a:lnTo>
                <a:lnTo>
                  <a:pt x="373470" y="375065"/>
                </a:lnTo>
                <a:lnTo>
                  <a:pt x="364890" y="364928"/>
                </a:lnTo>
                <a:lnTo>
                  <a:pt x="356628" y="353524"/>
                </a:lnTo>
                <a:lnTo>
                  <a:pt x="348365" y="341803"/>
                </a:lnTo>
                <a:lnTo>
                  <a:pt x="340739" y="329132"/>
                </a:lnTo>
                <a:lnTo>
                  <a:pt x="333748" y="315827"/>
                </a:lnTo>
                <a:lnTo>
                  <a:pt x="327075" y="302206"/>
                </a:lnTo>
                <a:lnTo>
                  <a:pt x="321037" y="287951"/>
                </a:lnTo>
                <a:lnTo>
                  <a:pt x="315952" y="273062"/>
                </a:lnTo>
                <a:lnTo>
                  <a:pt x="312139" y="272112"/>
                </a:lnTo>
                <a:lnTo>
                  <a:pt x="308644" y="271161"/>
                </a:lnTo>
                <a:lnTo>
                  <a:pt x="304513" y="269894"/>
                </a:lnTo>
                <a:lnTo>
                  <a:pt x="300699" y="267994"/>
                </a:lnTo>
                <a:lnTo>
                  <a:pt x="296568" y="265776"/>
                </a:lnTo>
                <a:lnTo>
                  <a:pt x="292755" y="263559"/>
                </a:lnTo>
                <a:lnTo>
                  <a:pt x="289259" y="260708"/>
                </a:lnTo>
                <a:lnTo>
                  <a:pt x="285764" y="258174"/>
                </a:lnTo>
                <a:lnTo>
                  <a:pt x="282586" y="255006"/>
                </a:lnTo>
                <a:lnTo>
                  <a:pt x="279408" y="251838"/>
                </a:lnTo>
                <a:lnTo>
                  <a:pt x="276548" y="248353"/>
                </a:lnTo>
                <a:lnTo>
                  <a:pt x="274324" y="244235"/>
                </a:lnTo>
                <a:lnTo>
                  <a:pt x="272417" y="240434"/>
                </a:lnTo>
                <a:lnTo>
                  <a:pt x="271146" y="236633"/>
                </a:lnTo>
                <a:lnTo>
                  <a:pt x="270193" y="232515"/>
                </a:lnTo>
                <a:lnTo>
                  <a:pt x="269875" y="228080"/>
                </a:lnTo>
                <a:lnTo>
                  <a:pt x="269875" y="223962"/>
                </a:lnTo>
                <a:lnTo>
                  <a:pt x="270193" y="219527"/>
                </a:lnTo>
                <a:lnTo>
                  <a:pt x="271146" y="215725"/>
                </a:lnTo>
                <a:lnTo>
                  <a:pt x="271782" y="211607"/>
                </a:lnTo>
                <a:lnTo>
                  <a:pt x="273371" y="208123"/>
                </a:lnTo>
                <a:lnTo>
                  <a:pt x="274642" y="204638"/>
                </a:lnTo>
                <a:lnTo>
                  <a:pt x="276231" y="201470"/>
                </a:lnTo>
                <a:lnTo>
                  <a:pt x="278137" y="198303"/>
                </a:lnTo>
                <a:lnTo>
                  <a:pt x="280044" y="195135"/>
                </a:lnTo>
                <a:lnTo>
                  <a:pt x="282586" y="192917"/>
                </a:lnTo>
                <a:lnTo>
                  <a:pt x="284811" y="190383"/>
                </a:lnTo>
                <a:lnTo>
                  <a:pt x="287671" y="188166"/>
                </a:lnTo>
                <a:lnTo>
                  <a:pt x="289895" y="186582"/>
                </a:lnTo>
                <a:lnTo>
                  <a:pt x="293073" y="184998"/>
                </a:lnTo>
                <a:lnTo>
                  <a:pt x="295933" y="183731"/>
                </a:lnTo>
                <a:lnTo>
                  <a:pt x="299110" y="183097"/>
                </a:lnTo>
                <a:lnTo>
                  <a:pt x="298793" y="174861"/>
                </a:lnTo>
                <a:lnTo>
                  <a:pt x="299110" y="164091"/>
                </a:lnTo>
                <a:lnTo>
                  <a:pt x="299428" y="153954"/>
                </a:lnTo>
                <a:lnTo>
                  <a:pt x="300699" y="144134"/>
                </a:lnTo>
                <a:lnTo>
                  <a:pt x="302288" y="134313"/>
                </a:lnTo>
                <a:lnTo>
                  <a:pt x="304195" y="124810"/>
                </a:lnTo>
                <a:lnTo>
                  <a:pt x="306101" y="115940"/>
                </a:lnTo>
                <a:lnTo>
                  <a:pt x="308961" y="107387"/>
                </a:lnTo>
                <a:lnTo>
                  <a:pt x="312139" y="99151"/>
                </a:lnTo>
                <a:lnTo>
                  <a:pt x="315317" y="91232"/>
                </a:lnTo>
                <a:lnTo>
                  <a:pt x="319130" y="83312"/>
                </a:lnTo>
                <a:lnTo>
                  <a:pt x="323261" y="76343"/>
                </a:lnTo>
                <a:lnTo>
                  <a:pt x="327075" y="69057"/>
                </a:lnTo>
                <a:lnTo>
                  <a:pt x="331841" y="62405"/>
                </a:lnTo>
                <a:lnTo>
                  <a:pt x="336608" y="56069"/>
                </a:lnTo>
                <a:lnTo>
                  <a:pt x="341692" y="50051"/>
                </a:lnTo>
                <a:lnTo>
                  <a:pt x="346777" y="44349"/>
                </a:lnTo>
                <a:lnTo>
                  <a:pt x="352179" y="38963"/>
                </a:lnTo>
                <a:lnTo>
                  <a:pt x="358216" y="34212"/>
                </a:lnTo>
                <a:lnTo>
                  <a:pt x="363936" y="29460"/>
                </a:lnTo>
                <a:lnTo>
                  <a:pt x="369974" y="25342"/>
                </a:lnTo>
                <a:lnTo>
                  <a:pt x="376329" y="21224"/>
                </a:lnTo>
                <a:lnTo>
                  <a:pt x="382685" y="17423"/>
                </a:lnTo>
                <a:lnTo>
                  <a:pt x="389358" y="14255"/>
                </a:lnTo>
                <a:lnTo>
                  <a:pt x="396031" y="11404"/>
                </a:lnTo>
                <a:lnTo>
                  <a:pt x="402705" y="8553"/>
                </a:lnTo>
                <a:lnTo>
                  <a:pt x="409378" y="6335"/>
                </a:lnTo>
                <a:lnTo>
                  <a:pt x="416369" y="4435"/>
                </a:lnTo>
                <a:lnTo>
                  <a:pt x="423042" y="2851"/>
                </a:lnTo>
                <a:lnTo>
                  <a:pt x="430351" y="1584"/>
                </a:lnTo>
                <a:lnTo>
                  <a:pt x="437342" y="950"/>
                </a:lnTo>
                <a:lnTo>
                  <a:pt x="444333" y="317"/>
                </a:lnTo>
                <a:lnTo>
                  <a:pt x="451006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KSO_Shape"/>
          <p:cNvSpPr/>
          <p:nvPr/>
        </p:nvSpPr>
        <p:spPr>
          <a:xfrm>
            <a:off x="1343160" y="2938320"/>
            <a:ext cx="474480" cy="1268640"/>
          </a:xfrm>
          <a:custGeom>
            <a:avLst/>
            <a:gdLst/>
            <a:ahLst/>
            <a:rect l="l" t="t" r="r" b="b"/>
            <a:pathLst>
              <a:path w="1071563" h="2144713">
                <a:moveTo>
                  <a:pt x="337303" y="111125"/>
                </a:moveTo>
                <a:lnTo>
                  <a:pt x="345236" y="111125"/>
                </a:lnTo>
                <a:lnTo>
                  <a:pt x="352851" y="112395"/>
                </a:lnTo>
                <a:lnTo>
                  <a:pt x="360784" y="113665"/>
                </a:lnTo>
                <a:lnTo>
                  <a:pt x="368082" y="116205"/>
                </a:lnTo>
                <a:lnTo>
                  <a:pt x="375698" y="119380"/>
                </a:lnTo>
                <a:lnTo>
                  <a:pt x="382678" y="123190"/>
                </a:lnTo>
                <a:lnTo>
                  <a:pt x="385852" y="125730"/>
                </a:lnTo>
                <a:lnTo>
                  <a:pt x="389342" y="128270"/>
                </a:lnTo>
                <a:lnTo>
                  <a:pt x="392515" y="131128"/>
                </a:lnTo>
                <a:lnTo>
                  <a:pt x="395688" y="133985"/>
                </a:lnTo>
                <a:lnTo>
                  <a:pt x="398544" y="137160"/>
                </a:lnTo>
                <a:lnTo>
                  <a:pt x="401400" y="140335"/>
                </a:lnTo>
                <a:lnTo>
                  <a:pt x="404256" y="143828"/>
                </a:lnTo>
                <a:lnTo>
                  <a:pt x="406794" y="147638"/>
                </a:lnTo>
                <a:lnTo>
                  <a:pt x="409650" y="151448"/>
                </a:lnTo>
                <a:lnTo>
                  <a:pt x="411554" y="155893"/>
                </a:lnTo>
                <a:lnTo>
                  <a:pt x="413775" y="160020"/>
                </a:lnTo>
                <a:lnTo>
                  <a:pt x="415996" y="164783"/>
                </a:lnTo>
                <a:lnTo>
                  <a:pt x="417583" y="169545"/>
                </a:lnTo>
                <a:lnTo>
                  <a:pt x="419487" y="174625"/>
                </a:lnTo>
                <a:lnTo>
                  <a:pt x="420756" y="180023"/>
                </a:lnTo>
                <a:lnTo>
                  <a:pt x="422342" y="185103"/>
                </a:lnTo>
                <a:lnTo>
                  <a:pt x="423294" y="190818"/>
                </a:lnTo>
                <a:lnTo>
                  <a:pt x="424564" y="196850"/>
                </a:lnTo>
                <a:lnTo>
                  <a:pt x="425198" y="202883"/>
                </a:lnTo>
                <a:lnTo>
                  <a:pt x="425516" y="209233"/>
                </a:lnTo>
                <a:lnTo>
                  <a:pt x="466132" y="824548"/>
                </a:lnTo>
                <a:lnTo>
                  <a:pt x="465814" y="825818"/>
                </a:lnTo>
                <a:lnTo>
                  <a:pt x="466766" y="827405"/>
                </a:lnTo>
                <a:lnTo>
                  <a:pt x="467718" y="831850"/>
                </a:lnTo>
                <a:lnTo>
                  <a:pt x="486440" y="831533"/>
                </a:lnTo>
                <a:lnTo>
                  <a:pt x="494372" y="831533"/>
                </a:lnTo>
                <a:lnTo>
                  <a:pt x="502305" y="831533"/>
                </a:lnTo>
                <a:lnTo>
                  <a:pt x="510238" y="832168"/>
                </a:lnTo>
                <a:lnTo>
                  <a:pt x="517853" y="832803"/>
                </a:lnTo>
                <a:lnTo>
                  <a:pt x="525469" y="834073"/>
                </a:lnTo>
                <a:lnTo>
                  <a:pt x="532767" y="835025"/>
                </a:lnTo>
                <a:lnTo>
                  <a:pt x="540065" y="836930"/>
                </a:lnTo>
                <a:lnTo>
                  <a:pt x="547681" y="838518"/>
                </a:lnTo>
                <a:lnTo>
                  <a:pt x="554662" y="840740"/>
                </a:lnTo>
                <a:lnTo>
                  <a:pt x="562277" y="843280"/>
                </a:lnTo>
                <a:lnTo>
                  <a:pt x="569258" y="846138"/>
                </a:lnTo>
                <a:lnTo>
                  <a:pt x="575922" y="849313"/>
                </a:lnTo>
                <a:lnTo>
                  <a:pt x="582902" y="852488"/>
                </a:lnTo>
                <a:lnTo>
                  <a:pt x="589883" y="856298"/>
                </a:lnTo>
                <a:lnTo>
                  <a:pt x="596547" y="860108"/>
                </a:lnTo>
                <a:lnTo>
                  <a:pt x="602893" y="864553"/>
                </a:lnTo>
                <a:lnTo>
                  <a:pt x="607653" y="867410"/>
                </a:lnTo>
                <a:lnTo>
                  <a:pt x="612412" y="870585"/>
                </a:lnTo>
                <a:lnTo>
                  <a:pt x="616855" y="874078"/>
                </a:lnTo>
                <a:lnTo>
                  <a:pt x="621614" y="877570"/>
                </a:lnTo>
                <a:lnTo>
                  <a:pt x="625740" y="881380"/>
                </a:lnTo>
                <a:lnTo>
                  <a:pt x="630182" y="885190"/>
                </a:lnTo>
                <a:lnTo>
                  <a:pt x="633990" y="889318"/>
                </a:lnTo>
                <a:lnTo>
                  <a:pt x="637797" y="893445"/>
                </a:lnTo>
                <a:lnTo>
                  <a:pt x="642874" y="899478"/>
                </a:lnTo>
                <a:lnTo>
                  <a:pt x="647317" y="905510"/>
                </a:lnTo>
                <a:lnTo>
                  <a:pt x="652076" y="911543"/>
                </a:lnTo>
                <a:lnTo>
                  <a:pt x="656201" y="917893"/>
                </a:lnTo>
                <a:lnTo>
                  <a:pt x="660644" y="924243"/>
                </a:lnTo>
                <a:lnTo>
                  <a:pt x="664452" y="930593"/>
                </a:lnTo>
                <a:lnTo>
                  <a:pt x="668259" y="936943"/>
                </a:lnTo>
                <a:lnTo>
                  <a:pt x="671432" y="943610"/>
                </a:lnTo>
                <a:lnTo>
                  <a:pt x="674923" y="950595"/>
                </a:lnTo>
                <a:lnTo>
                  <a:pt x="677779" y="957580"/>
                </a:lnTo>
                <a:lnTo>
                  <a:pt x="680952" y="964565"/>
                </a:lnTo>
                <a:lnTo>
                  <a:pt x="683490" y="971868"/>
                </a:lnTo>
                <a:lnTo>
                  <a:pt x="686029" y="978853"/>
                </a:lnTo>
                <a:lnTo>
                  <a:pt x="688567" y="986155"/>
                </a:lnTo>
                <a:lnTo>
                  <a:pt x="690471" y="993775"/>
                </a:lnTo>
                <a:lnTo>
                  <a:pt x="692375" y="1001078"/>
                </a:lnTo>
                <a:lnTo>
                  <a:pt x="771386" y="1024890"/>
                </a:lnTo>
                <a:lnTo>
                  <a:pt x="772338" y="1026160"/>
                </a:lnTo>
                <a:lnTo>
                  <a:pt x="781540" y="1031558"/>
                </a:lnTo>
                <a:lnTo>
                  <a:pt x="791059" y="1037273"/>
                </a:lnTo>
                <a:lnTo>
                  <a:pt x="799944" y="1042988"/>
                </a:lnTo>
                <a:lnTo>
                  <a:pt x="808829" y="1049020"/>
                </a:lnTo>
                <a:lnTo>
                  <a:pt x="817713" y="1055053"/>
                </a:lnTo>
                <a:lnTo>
                  <a:pt x="826281" y="1061085"/>
                </a:lnTo>
                <a:lnTo>
                  <a:pt x="834214" y="1067753"/>
                </a:lnTo>
                <a:lnTo>
                  <a:pt x="842464" y="1074103"/>
                </a:lnTo>
                <a:lnTo>
                  <a:pt x="850397" y="1081088"/>
                </a:lnTo>
                <a:lnTo>
                  <a:pt x="857695" y="1088390"/>
                </a:lnTo>
                <a:lnTo>
                  <a:pt x="864993" y="1095693"/>
                </a:lnTo>
                <a:lnTo>
                  <a:pt x="872608" y="1103313"/>
                </a:lnTo>
                <a:lnTo>
                  <a:pt x="879589" y="1111250"/>
                </a:lnTo>
                <a:lnTo>
                  <a:pt x="886253" y="1119823"/>
                </a:lnTo>
                <a:lnTo>
                  <a:pt x="893234" y="1128395"/>
                </a:lnTo>
                <a:lnTo>
                  <a:pt x="899897" y="1136968"/>
                </a:lnTo>
                <a:lnTo>
                  <a:pt x="903070" y="1142365"/>
                </a:lnTo>
                <a:lnTo>
                  <a:pt x="906561" y="1147763"/>
                </a:lnTo>
                <a:lnTo>
                  <a:pt x="909417" y="1153478"/>
                </a:lnTo>
                <a:lnTo>
                  <a:pt x="912590" y="1159193"/>
                </a:lnTo>
                <a:lnTo>
                  <a:pt x="917984" y="1170623"/>
                </a:lnTo>
                <a:lnTo>
                  <a:pt x="922744" y="1183005"/>
                </a:lnTo>
                <a:lnTo>
                  <a:pt x="927821" y="1196023"/>
                </a:lnTo>
                <a:lnTo>
                  <a:pt x="932263" y="1209040"/>
                </a:lnTo>
                <a:lnTo>
                  <a:pt x="941148" y="1234758"/>
                </a:lnTo>
                <a:lnTo>
                  <a:pt x="945907" y="1248093"/>
                </a:lnTo>
                <a:lnTo>
                  <a:pt x="950667" y="1260475"/>
                </a:lnTo>
                <a:lnTo>
                  <a:pt x="956379" y="1272540"/>
                </a:lnTo>
                <a:lnTo>
                  <a:pt x="962408" y="1283970"/>
                </a:lnTo>
                <a:lnTo>
                  <a:pt x="965581" y="1289368"/>
                </a:lnTo>
                <a:lnTo>
                  <a:pt x="968754" y="1295083"/>
                </a:lnTo>
                <a:lnTo>
                  <a:pt x="972879" y="1300163"/>
                </a:lnTo>
                <a:lnTo>
                  <a:pt x="976369" y="1304925"/>
                </a:lnTo>
                <a:lnTo>
                  <a:pt x="980495" y="1309688"/>
                </a:lnTo>
                <a:lnTo>
                  <a:pt x="984620" y="1314133"/>
                </a:lnTo>
                <a:lnTo>
                  <a:pt x="989379" y="1318578"/>
                </a:lnTo>
                <a:lnTo>
                  <a:pt x="993822" y="1322388"/>
                </a:lnTo>
                <a:lnTo>
                  <a:pt x="1011908" y="1335088"/>
                </a:lnTo>
                <a:lnTo>
                  <a:pt x="1020159" y="1341438"/>
                </a:lnTo>
                <a:lnTo>
                  <a:pt x="1028091" y="1347470"/>
                </a:lnTo>
                <a:lnTo>
                  <a:pt x="1035072" y="1354138"/>
                </a:lnTo>
                <a:lnTo>
                  <a:pt x="1038563" y="1357630"/>
                </a:lnTo>
                <a:lnTo>
                  <a:pt x="1041736" y="1361758"/>
                </a:lnTo>
                <a:lnTo>
                  <a:pt x="1044909" y="1365568"/>
                </a:lnTo>
                <a:lnTo>
                  <a:pt x="1048082" y="1370013"/>
                </a:lnTo>
                <a:lnTo>
                  <a:pt x="1050938" y="1374775"/>
                </a:lnTo>
                <a:lnTo>
                  <a:pt x="1053794" y="1379538"/>
                </a:lnTo>
                <a:lnTo>
                  <a:pt x="1057919" y="1387793"/>
                </a:lnTo>
                <a:lnTo>
                  <a:pt x="1061409" y="1396683"/>
                </a:lnTo>
                <a:lnTo>
                  <a:pt x="1064265" y="1405573"/>
                </a:lnTo>
                <a:lnTo>
                  <a:pt x="1066803" y="1414463"/>
                </a:lnTo>
                <a:lnTo>
                  <a:pt x="1068707" y="1423671"/>
                </a:lnTo>
                <a:lnTo>
                  <a:pt x="1069977" y="1432878"/>
                </a:lnTo>
                <a:lnTo>
                  <a:pt x="1071246" y="1442403"/>
                </a:lnTo>
                <a:lnTo>
                  <a:pt x="1071563" y="1451928"/>
                </a:lnTo>
                <a:lnTo>
                  <a:pt x="1071563" y="1461453"/>
                </a:lnTo>
                <a:lnTo>
                  <a:pt x="1071563" y="1471296"/>
                </a:lnTo>
                <a:lnTo>
                  <a:pt x="1070611" y="1481456"/>
                </a:lnTo>
                <a:lnTo>
                  <a:pt x="1069659" y="1491298"/>
                </a:lnTo>
                <a:lnTo>
                  <a:pt x="1068390" y="1501141"/>
                </a:lnTo>
                <a:lnTo>
                  <a:pt x="1066803" y="1510983"/>
                </a:lnTo>
                <a:lnTo>
                  <a:pt x="1065217" y="1521461"/>
                </a:lnTo>
                <a:lnTo>
                  <a:pt x="1062996" y="1531303"/>
                </a:lnTo>
                <a:lnTo>
                  <a:pt x="1058236" y="1551306"/>
                </a:lnTo>
                <a:lnTo>
                  <a:pt x="1053159" y="1571626"/>
                </a:lnTo>
                <a:lnTo>
                  <a:pt x="1047447" y="1591311"/>
                </a:lnTo>
                <a:lnTo>
                  <a:pt x="1041736" y="1611313"/>
                </a:lnTo>
                <a:lnTo>
                  <a:pt x="1030313" y="1649096"/>
                </a:lnTo>
                <a:lnTo>
                  <a:pt x="1025553" y="1667193"/>
                </a:lnTo>
                <a:lnTo>
                  <a:pt x="1020793" y="1684973"/>
                </a:lnTo>
                <a:lnTo>
                  <a:pt x="1013495" y="1717041"/>
                </a:lnTo>
                <a:lnTo>
                  <a:pt x="1005562" y="1749743"/>
                </a:lnTo>
                <a:lnTo>
                  <a:pt x="997629" y="1781493"/>
                </a:lnTo>
                <a:lnTo>
                  <a:pt x="993187" y="1797686"/>
                </a:lnTo>
                <a:lnTo>
                  <a:pt x="988745" y="1813243"/>
                </a:lnTo>
                <a:lnTo>
                  <a:pt x="983668" y="1828801"/>
                </a:lnTo>
                <a:lnTo>
                  <a:pt x="978273" y="1844041"/>
                </a:lnTo>
                <a:lnTo>
                  <a:pt x="972879" y="1859281"/>
                </a:lnTo>
                <a:lnTo>
                  <a:pt x="966215" y="1874521"/>
                </a:lnTo>
                <a:lnTo>
                  <a:pt x="959552" y="1889126"/>
                </a:lnTo>
                <a:lnTo>
                  <a:pt x="952254" y="1903731"/>
                </a:lnTo>
                <a:lnTo>
                  <a:pt x="944321" y="1918336"/>
                </a:lnTo>
                <a:lnTo>
                  <a:pt x="935436" y="1932623"/>
                </a:lnTo>
                <a:lnTo>
                  <a:pt x="931628" y="1939291"/>
                </a:lnTo>
                <a:lnTo>
                  <a:pt x="928773" y="1945958"/>
                </a:lnTo>
                <a:lnTo>
                  <a:pt x="926234" y="1952308"/>
                </a:lnTo>
                <a:lnTo>
                  <a:pt x="924965" y="1958658"/>
                </a:lnTo>
                <a:lnTo>
                  <a:pt x="924330" y="1965008"/>
                </a:lnTo>
                <a:lnTo>
                  <a:pt x="924013" y="1971041"/>
                </a:lnTo>
                <a:lnTo>
                  <a:pt x="924330" y="1977391"/>
                </a:lnTo>
                <a:lnTo>
                  <a:pt x="924965" y="1983423"/>
                </a:lnTo>
                <a:lnTo>
                  <a:pt x="925917" y="1989773"/>
                </a:lnTo>
                <a:lnTo>
                  <a:pt x="927503" y="1996123"/>
                </a:lnTo>
                <a:lnTo>
                  <a:pt x="930994" y="2008823"/>
                </a:lnTo>
                <a:lnTo>
                  <a:pt x="934802" y="2022476"/>
                </a:lnTo>
                <a:lnTo>
                  <a:pt x="939244" y="2036446"/>
                </a:lnTo>
                <a:lnTo>
                  <a:pt x="966850" y="2144713"/>
                </a:lnTo>
                <a:lnTo>
                  <a:pt x="295100" y="2144713"/>
                </a:lnTo>
                <a:lnTo>
                  <a:pt x="292562" y="2130108"/>
                </a:lnTo>
                <a:lnTo>
                  <a:pt x="289071" y="2115821"/>
                </a:lnTo>
                <a:lnTo>
                  <a:pt x="285581" y="2101851"/>
                </a:lnTo>
                <a:lnTo>
                  <a:pt x="281456" y="2087563"/>
                </a:lnTo>
                <a:lnTo>
                  <a:pt x="276696" y="2073276"/>
                </a:lnTo>
                <a:lnTo>
                  <a:pt x="271937" y="2059623"/>
                </a:lnTo>
                <a:lnTo>
                  <a:pt x="266542" y="2046288"/>
                </a:lnTo>
                <a:lnTo>
                  <a:pt x="260831" y="2032318"/>
                </a:lnTo>
                <a:lnTo>
                  <a:pt x="254802" y="2019301"/>
                </a:lnTo>
                <a:lnTo>
                  <a:pt x="248138" y="2006283"/>
                </a:lnTo>
                <a:lnTo>
                  <a:pt x="241475" y="1992948"/>
                </a:lnTo>
                <a:lnTo>
                  <a:pt x="233859" y="1980566"/>
                </a:lnTo>
                <a:lnTo>
                  <a:pt x="226561" y="1968183"/>
                </a:lnTo>
                <a:lnTo>
                  <a:pt x="218311" y="1955801"/>
                </a:lnTo>
                <a:lnTo>
                  <a:pt x="210378" y="1944053"/>
                </a:lnTo>
                <a:lnTo>
                  <a:pt x="201810" y="1932623"/>
                </a:lnTo>
                <a:lnTo>
                  <a:pt x="197051" y="1927226"/>
                </a:lnTo>
                <a:lnTo>
                  <a:pt x="192608" y="1921511"/>
                </a:lnTo>
                <a:lnTo>
                  <a:pt x="182772" y="1911033"/>
                </a:lnTo>
                <a:lnTo>
                  <a:pt x="172300" y="1900238"/>
                </a:lnTo>
                <a:lnTo>
                  <a:pt x="161512" y="1889126"/>
                </a:lnTo>
                <a:lnTo>
                  <a:pt x="150723" y="1878331"/>
                </a:lnTo>
                <a:lnTo>
                  <a:pt x="140252" y="1867218"/>
                </a:lnTo>
                <a:lnTo>
                  <a:pt x="135175" y="1861186"/>
                </a:lnTo>
                <a:lnTo>
                  <a:pt x="130415" y="1855788"/>
                </a:lnTo>
                <a:lnTo>
                  <a:pt x="125656" y="1849756"/>
                </a:lnTo>
                <a:lnTo>
                  <a:pt x="121531" y="1843723"/>
                </a:lnTo>
                <a:lnTo>
                  <a:pt x="0" y="1283335"/>
                </a:lnTo>
                <a:lnTo>
                  <a:pt x="1587" y="1273810"/>
                </a:lnTo>
                <a:lnTo>
                  <a:pt x="3173" y="1264920"/>
                </a:lnTo>
                <a:lnTo>
                  <a:pt x="5077" y="1256348"/>
                </a:lnTo>
                <a:lnTo>
                  <a:pt x="7616" y="1248410"/>
                </a:lnTo>
                <a:lnTo>
                  <a:pt x="10154" y="1240473"/>
                </a:lnTo>
                <a:lnTo>
                  <a:pt x="13644" y="1233170"/>
                </a:lnTo>
                <a:lnTo>
                  <a:pt x="16818" y="1226503"/>
                </a:lnTo>
                <a:lnTo>
                  <a:pt x="20625" y="1219518"/>
                </a:lnTo>
                <a:lnTo>
                  <a:pt x="24433" y="1213168"/>
                </a:lnTo>
                <a:lnTo>
                  <a:pt x="28558" y="1207135"/>
                </a:lnTo>
                <a:lnTo>
                  <a:pt x="33318" y="1201420"/>
                </a:lnTo>
                <a:lnTo>
                  <a:pt x="38077" y="1196340"/>
                </a:lnTo>
                <a:lnTo>
                  <a:pt x="42837" y="1191260"/>
                </a:lnTo>
                <a:lnTo>
                  <a:pt x="48231" y="1186180"/>
                </a:lnTo>
                <a:lnTo>
                  <a:pt x="53943" y="1181735"/>
                </a:lnTo>
                <a:lnTo>
                  <a:pt x="59655" y="1176973"/>
                </a:lnTo>
                <a:lnTo>
                  <a:pt x="65684" y="1173163"/>
                </a:lnTo>
                <a:lnTo>
                  <a:pt x="71395" y="1169035"/>
                </a:lnTo>
                <a:lnTo>
                  <a:pt x="78059" y="1165225"/>
                </a:lnTo>
                <a:lnTo>
                  <a:pt x="84405" y="1161098"/>
                </a:lnTo>
                <a:lnTo>
                  <a:pt x="97732" y="1154113"/>
                </a:lnTo>
                <a:lnTo>
                  <a:pt x="112011" y="1147445"/>
                </a:lnTo>
                <a:lnTo>
                  <a:pt x="125973" y="1140778"/>
                </a:lnTo>
                <a:lnTo>
                  <a:pt x="140887" y="1134428"/>
                </a:lnTo>
                <a:lnTo>
                  <a:pt x="171666" y="1120775"/>
                </a:lnTo>
                <a:lnTo>
                  <a:pt x="227513" y="1095375"/>
                </a:lnTo>
                <a:lnTo>
                  <a:pt x="231955" y="1093153"/>
                </a:lnTo>
                <a:lnTo>
                  <a:pt x="235446" y="1090930"/>
                </a:lnTo>
                <a:lnTo>
                  <a:pt x="237984" y="1089025"/>
                </a:lnTo>
                <a:lnTo>
                  <a:pt x="240523" y="1086803"/>
                </a:lnTo>
                <a:lnTo>
                  <a:pt x="242109" y="1084263"/>
                </a:lnTo>
                <a:lnTo>
                  <a:pt x="243061" y="1081723"/>
                </a:lnTo>
                <a:lnTo>
                  <a:pt x="244330" y="1079500"/>
                </a:lnTo>
                <a:lnTo>
                  <a:pt x="244648" y="1076643"/>
                </a:lnTo>
                <a:lnTo>
                  <a:pt x="244965" y="1073785"/>
                </a:lnTo>
                <a:lnTo>
                  <a:pt x="244965" y="1070610"/>
                </a:lnTo>
                <a:lnTo>
                  <a:pt x="244965" y="1062990"/>
                </a:lnTo>
                <a:lnTo>
                  <a:pt x="244330" y="1055053"/>
                </a:lnTo>
                <a:lnTo>
                  <a:pt x="244330" y="1044893"/>
                </a:lnTo>
                <a:lnTo>
                  <a:pt x="245282" y="981710"/>
                </a:lnTo>
                <a:lnTo>
                  <a:pt x="247186" y="876935"/>
                </a:lnTo>
                <a:lnTo>
                  <a:pt x="250677" y="601345"/>
                </a:lnTo>
                <a:lnTo>
                  <a:pt x="253532" y="337185"/>
                </a:lnTo>
                <a:lnTo>
                  <a:pt x="254802" y="203200"/>
                </a:lnTo>
                <a:lnTo>
                  <a:pt x="255119" y="198120"/>
                </a:lnTo>
                <a:lnTo>
                  <a:pt x="255754" y="192723"/>
                </a:lnTo>
                <a:lnTo>
                  <a:pt x="256071" y="187643"/>
                </a:lnTo>
                <a:lnTo>
                  <a:pt x="256706" y="182880"/>
                </a:lnTo>
                <a:lnTo>
                  <a:pt x="257657" y="178118"/>
                </a:lnTo>
                <a:lnTo>
                  <a:pt x="259244" y="173673"/>
                </a:lnTo>
                <a:lnTo>
                  <a:pt x="260513" y="168910"/>
                </a:lnTo>
                <a:lnTo>
                  <a:pt x="262100" y="164783"/>
                </a:lnTo>
                <a:lnTo>
                  <a:pt x="263686" y="160655"/>
                </a:lnTo>
                <a:lnTo>
                  <a:pt x="265908" y="156528"/>
                </a:lnTo>
                <a:lnTo>
                  <a:pt x="267494" y="153035"/>
                </a:lnTo>
                <a:lnTo>
                  <a:pt x="270033" y="149225"/>
                </a:lnTo>
                <a:lnTo>
                  <a:pt x="272571" y="145415"/>
                </a:lnTo>
                <a:lnTo>
                  <a:pt x="275110" y="142240"/>
                </a:lnTo>
                <a:lnTo>
                  <a:pt x="280504" y="135890"/>
                </a:lnTo>
                <a:lnTo>
                  <a:pt x="286533" y="130810"/>
                </a:lnTo>
                <a:lnTo>
                  <a:pt x="293196" y="125730"/>
                </a:lnTo>
                <a:lnTo>
                  <a:pt x="299860" y="121603"/>
                </a:lnTo>
                <a:lnTo>
                  <a:pt x="306841" y="117793"/>
                </a:lnTo>
                <a:lnTo>
                  <a:pt x="314456" y="115253"/>
                </a:lnTo>
                <a:lnTo>
                  <a:pt x="321755" y="113348"/>
                </a:lnTo>
                <a:lnTo>
                  <a:pt x="329687" y="111760"/>
                </a:lnTo>
                <a:lnTo>
                  <a:pt x="337303" y="111125"/>
                </a:lnTo>
                <a:close/>
                <a:moveTo>
                  <a:pt x="331337" y="0"/>
                </a:moveTo>
                <a:lnTo>
                  <a:pt x="337980" y="0"/>
                </a:lnTo>
                <a:lnTo>
                  <a:pt x="344939" y="0"/>
                </a:lnTo>
                <a:lnTo>
                  <a:pt x="351266" y="318"/>
                </a:lnTo>
                <a:lnTo>
                  <a:pt x="357909" y="955"/>
                </a:lnTo>
                <a:lnTo>
                  <a:pt x="364236" y="1910"/>
                </a:lnTo>
                <a:lnTo>
                  <a:pt x="370247" y="3182"/>
                </a:lnTo>
                <a:lnTo>
                  <a:pt x="376257" y="4774"/>
                </a:lnTo>
                <a:lnTo>
                  <a:pt x="382268" y="6683"/>
                </a:lnTo>
                <a:lnTo>
                  <a:pt x="387962" y="8274"/>
                </a:lnTo>
                <a:lnTo>
                  <a:pt x="393656" y="10820"/>
                </a:lnTo>
                <a:lnTo>
                  <a:pt x="399034" y="13366"/>
                </a:lnTo>
                <a:lnTo>
                  <a:pt x="404728" y="16230"/>
                </a:lnTo>
                <a:lnTo>
                  <a:pt x="410106" y="19412"/>
                </a:lnTo>
                <a:lnTo>
                  <a:pt x="415167" y="22594"/>
                </a:lnTo>
                <a:lnTo>
                  <a:pt x="420229" y="26413"/>
                </a:lnTo>
                <a:lnTo>
                  <a:pt x="425290" y="30550"/>
                </a:lnTo>
                <a:lnTo>
                  <a:pt x="430352" y="34687"/>
                </a:lnTo>
                <a:lnTo>
                  <a:pt x="434781" y="38823"/>
                </a:lnTo>
                <a:lnTo>
                  <a:pt x="438893" y="43597"/>
                </a:lnTo>
                <a:lnTo>
                  <a:pt x="443006" y="48052"/>
                </a:lnTo>
                <a:lnTo>
                  <a:pt x="446802" y="53144"/>
                </a:lnTo>
                <a:lnTo>
                  <a:pt x="450282" y="57599"/>
                </a:lnTo>
                <a:lnTo>
                  <a:pt x="453445" y="62690"/>
                </a:lnTo>
                <a:lnTo>
                  <a:pt x="456292" y="68100"/>
                </a:lnTo>
                <a:lnTo>
                  <a:pt x="458823" y="73510"/>
                </a:lnTo>
                <a:lnTo>
                  <a:pt x="461037" y="78601"/>
                </a:lnTo>
                <a:lnTo>
                  <a:pt x="462935" y="84011"/>
                </a:lnTo>
                <a:lnTo>
                  <a:pt x="464517" y="89421"/>
                </a:lnTo>
                <a:lnTo>
                  <a:pt x="465782" y="95149"/>
                </a:lnTo>
                <a:lnTo>
                  <a:pt x="467048" y="101195"/>
                </a:lnTo>
                <a:lnTo>
                  <a:pt x="467680" y="106605"/>
                </a:lnTo>
                <a:lnTo>
                  <a:pt x="468313" y="112651"/>
                </a:lnTo>
                <a:lnTo>
                  <a:pt x="468313" y="118698"/>
                </a:lnTo>
                <a:lnTo>
                  <a:pt x="468313" y="124107"/>
                </a:lnTo>
                <a:lnTo>
                  <a:pt x="467997" y="129517"/>
                </a:lnTo>
                <a:lnTo>
                  <a:pt x="466415" y="139700"/>
                </a:lnTo>
                <a:lnTo>
                  <a:pt x="464517" y="130472"/>
                </a:lnTo>
                <a:lnTo>
                  <a:pt x="461986" y="121880"/>
                </a:lnTo>
                <a:lnTo>
                  <a:pt x="458506" y="113606"/>
                </a:lnTo>
                <a:lnTo>
                  <a:pt x="454078" y="105332"/>
                </a:lnTo>
                <a:lnTo>
                  <a:pt x="449332" y="98013"/>
                </a:lnTo>
                <a:lnTo>
                  <a:pt x="443638" y="90057"/>
                </a:lnTo>
                <a:lnTo>
                  <a:pt x="437311" y="83057"/>
                </a:lnTo>
                <a:lnTo>
                  <a:pt x="430352" y="75737"/>
                </a:lnTo>
                <a:lnTo>
                  <a:pt x="425290" y="71919"/>
                </a:lnTo>
                <a:lnTo>
                  <a:pt x="420229" y="67782"/>
                </a:lnTo>
                <a:lnTo>
                  <a:pt x="415484" y="64281"/>
                </a:lnTo>
                <a:lnTo>
                  <a:pt x="410106" y="60463"/>
                </a:lnTo>
                <a:lnTo>
                  <a:pt x="404728" y="57280"/>
                </a:lnTo>
                <a:lnTo>
                  <a:pt x="399667" y="54416"/>
                </a:lnTo>
                <a:lnTo>
                  <a:pt x="393973" y="52189"/>
                </a:lnTo>
                <a:lnTo>
                  <a:pt x="388278" y="49961"/>
                </a:lnTo>
                <a:lnTo>
                  <a:pt x="382268" y="47734"/>
                </a:lnTo>
                <a:lnTo>
                  <a:pt x="376257" y="46143"/>
                </a:lnTo>
                <a:lnTo>
                  <a:pt x="370247" y="44552"/>
                </a:lnTo>
                <a:lnTo>
                  <a:pt x="364236" y="43279"/>
                </a:lnTo>
                <a:lnTo>
                  <a:pt x="357909" y="42642"/>
                </a:lnTo>
                <a:lnTo>
                  <a:pt x="351583" y="41687"/>
                </a:lnTo>
                <a:lnTo>
                  <a:pt x="344939" y="41369"/>
                </a:lnTo>
                <a:lnTo>
                  <a:pt x="337980" y="41051"/>
                </a:lnTo>
                <a:lnTo>
                  <a:pt x="331337" y="41369"/>
                </a:lnTo>
                <a:lnTo>
                  <a:pt x="324693" y="41687"/>
                </a:lnTo>
                <a:lnTo>
                  <a:pt x="318367" y="42642"/>
                </a:lnTo>
                <a:lnTo>
                  <a:pt x="312040" y="43279"/>
                </a:lnTo>
                <a:lnTo>
                  <a:pt x="305713" y="44552"/>
                </a:lnTo>
                <a:lnTo>
                  <a:pt x="299702" y="46143"/>
                </a:lnTo>
                <a:lnTo>
                  <a:pt x="293692" y="47734"/>
                </a:lnTo>
                <a:lnTo>
                  <a:pt x="287998" y="49961"/>
                </a:lnTo>
                <a:lnTo>
                  <a:pt x="282304" y="52189"/>
                </a:lnTo>
                <a:lnTo>
                  <a:pt x="276609" y="54416"/>
                </a:lnTo>
                <a:lnTo>
                  <a:pt x="270915" y="57280"/>
                </a:lnTo>
                <a:lnTo>
                  <a:pt x="265854" y="60463"/>
                </a:lnTo>
                <a:lnTo>
                  <a:pt x="260476" y="64281"/>
                </a:lnTo>
                <a:lnTo>
                  <a:pt x="255414" y="67782"/>
                </a:lnTo>
                <a:lnTo>
                  <a:pt x="250669" y="71919"/>
                </a:lnTo>
                <a:lnTo>
                  <a:pt x="245608" y="75737"/>
                </a:lnTo>
                <a:lnTo>
                  <a:pt x="238648" y="83057"/>
                </a:lnTo>
                <a:lnTo>
                  <a:pt x="232321" y="90057"/>
                </a:lnTo>
                <a:lnTo>
                  <a:pt x="226627" y="98013"/>
                </a:lnTo>
                <a:lnTo>
                  <a:pt x="221882" y="105332"/>
                </a:lnTo>
                <a:lnTo>
                  <a:pt x="217770" y="113606"/>
                </a:lnTo>
                <a:lnTo>
                  <a:pt x="214290" y="121880"/>
                </a:lnTo>
                <a:lnTo>
                  <a:pt x="211443" y="130472"/>
                </a:lnTo>
                <a:lnTo>
                  <a:pt x="209545" y="139700"/>
                </a:lnTo>
                <a:lnTo>
                  <a:pt x="208596" y="134927"/>
                </a:lnTo>
                <a:lnTo>
                  <a:pt x="208279" y="129517"/>
                </a:lnTo>
                <a:lnTo>
                  <a:pt x="207963" y="124107"/>
                </a:lnTo>
                <a:lnTo>
                  <a:pt x="207963" y="118698"/>
                </a:lnTo>
                <a:lnTo>
                  <a:pt x="207963" y="112651"/>
                </a:lnTo>
                <a:lnTo>
                  <a:pt x="208279" y="106605"/>
                </a:lnTo>
                <a:lnTo>
                  <a:pt x="209228" y="101195"/>
                </a:lnTo>
                <a:lnTo>
                  <a:pt x="210177" y="95149"/>
                </a:lnTo>
                <a:lnTo>
                  <a:pt x="211443" y="89421"/>
                </a:lnTo>
                <a:lnTo>
                  <a:pt x="213341" y="84011"/>
                </a:lnTo>
                <a:lnTo>
                  <a:pt x="214923" y="78601"/>
                </a:lnTo>
                <a:lnTo>
                  <a:pt x="217137" y="73510"/>
                </a:lnTo>
                <a:lnTo>
                  <a:pt x="219984" y="68100"/>
                </a:lnTo>
                <a:lnTo>
                  <a:pt x="222831" y="62690"/>
                </a:lnTo>
                <a:lnTo>
                  <a:pt x="225678" y="57599"/>
                </a:lnTo>
                <a:lnTo>
                  <a:pt x="229158" y="53144"/>
                </a:lnTo>
                <a:lnTo>
                  <a:pt x="232638" y="48052"/>
                </a:lnTo>
                <a:lnTo>
                  <a:pt x="236750" y="43597"/>
                </a:lnTo>
                <a:lnTo>
                  <a:pt x="241179" y="38823"/>
                </a:lnTo>
                <a:lnTo>
                  <a:pt x="245608" y="34687"/>
                </a:lnTo>
                <a:lnTo>
                  <a:pt x="250669" y="30550"/>
                </a:lnTo>
                <a:lnTo>
                  <a:pt x="255414" y="26413"/>
                </a:lnTo>
                <a:lnTo>
                  <a:pt x="260476" y="22594"/>
                </a:lnTo>
                <a:lnTo>
                  <a:pt x="265854" y="19412"/>
                </a:lnTo>
                <a:lnTo>
                  <a:pt x="270915" y="16230"/>
                </a:lnTo>
                <a:lnTo>
                  <a:pt x="276609" y="13366"/>
                </a:lnTo>
                <a:lnTo>
                  <a:pt x="282304" y="10820"/>
                </a:lnTo>
                <a:lnTo>
                  <a:pt x="287998" y="8274"/>
                </a:lnTo>
                <a:lnTo>
                  <a:pt x="293692" y="6683"/>
                </a:lnTo>
                <a:lnTo>
                  <a:pt x="299702" y="4774"/>
                </a:lnTo>
                <a:lnTo>
                  <a:pt x="305713" y="3182"/>
                </a:lnTo>
                <a:lnTo>
                  <a:pt x="312040" y="1910"/>
                </a:lnTo>
                <a:lnTo>
                  <a:pt x="318367" y="955"/>
                </a:lnTo>
                <a:lnTo>
                  <a:pt x="324693" y="318"/>
                </a:lnTo>
                <a:lnTo>
                  <a:pt x="331337" y="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395C-7CA3-4188-A3BC-6A205CEC3BA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7E97-F867-4AF6-8376-D8ACC00CA7E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ADDF-0010-4262-A636-1064A079587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4D20-9239-457F-B1EA-B0334B3D785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C932-E983-4B0E-9A84-6AAE01BC3F8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D1CE-AB43-4183-9C95-6A280F61DA0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标题 1" descr=""/>
          <p:cNvPicPr/>
          <p:nvPr/>
        </p:nvPicPr>
        <p:blipFill>
          <a:blip r:embed="rId2"/>
          <a:stretch/>
        </p:blipFill>
        <p:spPr>
          <a:xfrm>
            <a:off x="1895400" y="1390680"/>
            <a:ext cx="6404040" cy="15429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学习目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背过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《式微》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《子衿》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把握这两首诗的内容及思想感情。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（重点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体会诗歌的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音韵美、意境美、含蓄美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（难点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诗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内容占位符 3" descr=""/>
          <p:cNvPicPr/>
          <p:nvPr/>
        </p:nvPicPr>
        <p:blipFill>
          <a:blip r:embed="rId1"/>
          <a:stretch/>
        </p:blipFill>
        <p:spPr>
          <a:xfrm>
            <a:off x="11160" y="30240"/>
            <a:ext cx="914220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920" y="237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式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7920" y="1133640"/>
            <a:ext cx="7886880" cy="56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原文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式微，式微，胡不归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微君之故，胡为乎中露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式微，式微，胡不归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微君之躬，胡为乎泥中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翻译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天黑了，天黑了，为什么还不回家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如果不是为君主，何以还在露水中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天黑了，天黑了，为什么还不回家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如果不是为君主，何以还在泥浆中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8160" y="33480"/>
            <a:ext cx="907560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注释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⑴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式：作语助词。微：（日光）衰微，黄昏或曰天黑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⑵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微：非。微君：要不是君主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⑶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中露：露中。倒文以协韵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⑷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躬：身体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Arial"/>
              </a:rPr>
              <a:t>赏析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全诗只有短短二章，都以“式微，式微，胡不归”起调：天黑了，天黑了，为什么还不回家？诗人紧接着便交待了原因：“微君之故，胡为乎中露”；“微君之躬，胡为乎泥中”。意思是说，为了君主的事情，为了养活他们的贵体，才不得不终年累月、昼夜不辍地在露水和泥浆中奔波劳作。然而，《式微》诗上下二章只变换了两处文字， 但就在这巧妙的变换中， 体现出了作者用词的独具匠心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其一， 一章“微君之故”和二章“微君之躬”。上下章只变换“故”“躬”两字， 却使诗歌语义饱满、押韵和谐。“微君之故”， 朱熹《诗集传》释为： “我若非以君之故”； “微君之躬”， “躬”是“躳”的异体， 《尔雅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释言》： “躬， 身也。”躬、身二字互训， 故“躬”即自身也， 也即“君”。“微君之躬”即“我若无君”。上章言“我若非以君之故”， 下章言“我若无君”。上下章表达相同的意思却运用不同的字眼， 把作者委婉含蓄的感情表达得淋漓尽致。其二， 一章“胡为乎中露”和二章“胡为乎泥中”。“露”为“路”的假借字。《尔雅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释名》： “路， 露也。言人所践蹈而露见也。”方玉润《诗经原始》： “‘泥中’犹言泥涂也。”按： “中露”也即今俗语所谓心里沉沉的， 像被什么东西堵得慌； “泥中”犹今所谓陷入泥中而不能自拔。因此“中露”、“泥中”是虚写而非实写， 上下章可互相补充理解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20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4" dur="200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7" dur="20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-51120" y="12600"/>
            <a:ext cx="9139320" cy="682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主旨内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这是一首劳役者的悲歌，以咏叹的方式、质问的语气，直抒胸臆，堪称“饥者歌其食，芳者歌其事”的经典之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重点赏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赏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重章换字，押韵和谐。体现了一唱三叹、余味无穷的特色。体现了《诗经》精巧凝练的语言，兼有长短的句式，节奏感强。《式微》诗短短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个字，就包含了三言、四言和五言等多种变化，工整与灵活相整合，参差错落，能极力地表达主人公思想感情的起伏。而其句式的选择又是随着诗的内容和思想感情而灵活变化的，增强了诗的节奏感。总之，《式微》运用语言的艺术，非但韵律和谐优美，而且用词精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20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31T09:02:37Z</dcterms:created>
  <dc:creator/>
  <dc:description/>
  <dc:language>en-US</dc:language>
  <cp:lastModifiedBy>cop</cp:lastModifiedBy>
  <dcterms:modified xsi:type="dcterms:W3CDTF">2018-03-31T09:20:32Z</dcterms:modified>
  <cp:revision>6</cp:revision>
  <dc:subject/>
  <dc:title>课外古诗词诵读（一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