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3E61-B0D2-4B63-A5C1-5E389A4E3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8245-7456-45EA-A58D-426234747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709A-5C61-4230-BC14-0CA7DA5D9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7A7B-39E1-4690-B6B5-9F75F6AD8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DC832-3813-4C69-9545-7F51DCE0A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EC21F-B439-43F0-861F-8E86CDB2D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5B1C6-9126-485B-B5E6-C560AB20E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3CF96-7401-405D-9EA8-5F4A07EC9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AED53-6191-4434-A7E9-3DE520207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32487-B191-4EE1-A03D-6B307245A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EFFBA-1F8C-4394-8156-AB3AF577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1A58-22DB-4760-87E8-0BA7446B2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1180F-E471-4A56-AFE5-B51E1C08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97899-FEA8-4411-A0B1-335C1C53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E1EB2-A40B-475B-A5CF-C4F6A58FE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B8FC3-E635-423B-9AA2-339843273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0360F-DA3B-4F2C-B7E7-B5ABA05F8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48614-3BB8-431F-8F7D-68F128325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1D6DA-34F3-4B22-8D29-D6EA378BC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D89A1-1C5A-4349-B3F9-3101E30A6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10BC9-A390-4CF1-82E2-1E8A01361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26D63-39DE-464F-9A77-B9351F36B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FF0A-4AB4-4EC2-9FFF-EEAC1410C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12909-8153-413E-992B-381B78DE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EC541-A03F-492B-B912-71891BCF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789C9-6E54-48E0-B897-4249A616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4E325-4FAE-4DCE-BBA1-C86DF9FE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04586-CDF4-4FAA-8D6D-493DFD9BD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202A4-94EB-4A09-80C2-DAB1900A6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D7F25-17CE-4032-96A6-3E02D90AE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3D1F21-CCED-43BF-BB71-54AE7A1E1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0FC0AC-45CA-4C50-8012-2B57DA42B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C17C19-BB3F-479D-B0A9-203051DCF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B9C4-AE9A-4561-91D1-1F328257D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E5799F-1A0D-4E34-8799-CE31977B0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E70C7D-E3E1-44DD-982D-D3EE8B850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14BD77-5ACA-49CC-ABED-FD04A758C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68A504-1274-4D9D-8FB8-FCC583C8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A6735D-B6A9-4A0C-85D0-FF2F56D6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9B06AB-C991-486F-AC27-74E29B0B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229485-8ED3-4467-A49B-04F743B13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A97026-CE78-4957-82F0-949F49F9A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D21747-B6A9-468A-BD05-408574D85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A222E-760E-4153-85B2-EB4C3749B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82B1-3ECA-4929-88C9-9E0E3E46C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CA04A-5167-4533-8FCA-9F967B560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5F309-0156-4C55-89DC-DDFC11730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CA2C3-5BF8-4036-A6B1-18EF9EF6E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B75F0-F234-46C9-9045-026298512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9AF56-76B9-4214-94E0-8EFD8EE66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F30D7-811C-4401-AED0-F6C530E8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3FD36-78C1-4296-AD86-DA2DE67C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2420C-C86B-47CB-B226-FF48EC32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551C0-4007-4134-90B4-08BB4B975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F72D3-E818-4988-B4E5-9B1512228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9481-832B-4229-AA13-6C82A1F11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1E23C-6961-438A-9526-6984027EC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6FF7D-EF90-4F38-AD38-5BE17B7FF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7D540-69BA-4F77-B8B9-31878DE08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BD757-3301-437D-832D-025AF7827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3FE07E-9228-4555-98F6-CA531C9D9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DA19FF-B5BC-44AF-900C-24D6577F4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9E611-CEE4-4D16-B3CA-C7D6BF682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7387B-0DEF-4D76-A5E1-5F4C0F84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C0A03-1BC7-40F7-8CE4-2413FE90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7E5C92-D634-4281-9515-F485AB7D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B4D0-C2D5-42F0-8B68-F5203D8C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490D1-262D-4587-95C4-145128881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7F702C-A325-4586-A7DF-F00118D40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BA3163-A516-409A-A4B8-2A612CA67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0C6FD-50E7-4548-BBAC-1F7E92BA9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1CD549-AD26-465A-A3E5-46762C9E3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BF588B-502E-4252-A4C4-4505BA750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6D82B1-A3ED-4294-B88C-1F8EABD73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38E45F-F698-4862-9C6F-8BB9DF4EC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61C79-CB2E-430D-9DA1-4622F0578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B315FC-2680-43FD-B5FB-A13CAD28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FD31-E9AD-46F8-9EF7-5EB2164C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44884-74BA-449E-8141-8012F1FD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DB11A-D511-46C7-BFD2-EA655C26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60BE2E-A8B4-4160-B5E7-F637F8A5F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6F8B3-C2FC-4D62-8EFF-56761115D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153EC-BC7A-4E5C-97F2-384947134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2AEF-ECAD-41F8-8768-A6F07358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78F7E-ED74-4DFA-A13B-585435FEEBB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42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3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6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9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52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56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57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60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63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69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72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75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78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17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25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28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37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40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43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52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4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E2393-E2ED-4434-A7C1-E7BD83CBF64E}" type="slidenum"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218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19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222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23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27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28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3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34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6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37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2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43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5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46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4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85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7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88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0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92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93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5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96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99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02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05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08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11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3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14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17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20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23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25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326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4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5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336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0B0C4-ADB1-43FB-9C3F-3FE88101F659}" type="slidenum"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39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5B98E-97BA-47E0-8B89-A0C11F66109C}" type="slidenum">
              <a:rPr b="0" lang="zh-CN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5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28045-3DFD-4C2C-A594-82D880072F53}" type="slidenum">
              <a:rPr b="0" lang="zh-CN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5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516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662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676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690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3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704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718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732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5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746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7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748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dt" idx="16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ftr" idx="17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sldNum" idx="18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33D6A-F22F-4374-B09B-447C6D4B1A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3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804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818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dt" idx="19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ftr" idx="20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AB7D5-04B5-46D3-B6DC-F4BEF27667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7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968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subTitle"/>
          </p:nvPr>
        </p:nvSpPr>
        <p:spPr>
          <a:xfrm>
            <a:off x="1371600" y="45716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《诗经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邶风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 txBox="1"/>
          <p:nvPr/>
        </p:nvSpPr>
        <p:spPr>
          <a:xfrm>
            <a:off x="1371600" y="1676520"/>
            <a:ext cx="647712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宋体"/>
              </a:rPr>
              <a:t>式微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3399"/>
                </a:solidFill>
                <a:latin typeface="Arial"/>
              </a:rPr>
              <a:t>解释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天黑了，天黑了，为什么还不回家？如果不是为君主，何以还在泥浆中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52b86"/>
                </a:solidFill>
                <a:latin typeface="Arial"/>
              </a:rPr>
              <a:t>式微式微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52b86"/>
                </a:solidFill>
                <a:latin typeface="Arial"/>
              </a:rPr>
              <a:t>胡不归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52b86"/>
                </a:solidFill>
                <a:latin typeface="Arial"/>
              </a:rPr>
              <a:t>  </a:t>
            </a:r>
            <a:r>
              <a:rPr b="1" lang="zh-CN" sz="6600" spc="-1" strike="noStrike">
                <a:solidFill>
                  <a:srgbClr val="f52b86"/>
                </a:solidFill>
                <a:latin typeface="Arial"/>
              </a:rPr>
              <a:t>微君之躬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52b86"/>
                </a:solidFill>
                <a:latin typeface="Arial"/>
              </a:rPr>
              <a:t>胡为乎泥中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72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诗凡二章，都以“式微，式微，胡不归”起调：天黑了，天黑了，为什么还不回家？诗人紧接着便交待了原因：“微君之故，胡为乎中露”；“微君之躬，胡为乎泥中”。意思是说，为了君主的事情，为了养活他们的贵体，才不得不终年累月、昼夜不辍地在露水和泥浆中奔波劳作。短短二章，寥寥几句，受奴役者的非人处境以及他们对统治者的满腔愤懑，给读者留下极其深刻的印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 txBox="1"/>
          <p:nvPr/>
        </p:nvSpPr>
        <p:spPr>
          <a:xfrm>
            <a:off x="2133720" y="0"/>
            <a:ext cx="464796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鉴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" dur="500"/>
                                        <p:tgtEl>
                                          <p:spTgt spid="10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300" spc="-1" strike="noStrike">
                <a:solidFill>
                  <a:srgbClr val="ffffcc"/>
                </a:solidFill>
                <a:latin typeface="Tahoma"/>
              </a:rPr>
              <a:t>式微</a:t>
            </a:r>
            <a:endParaRPr b="0" lang="en-US" sz="6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式微式微，胡不归？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微君之故，胡为乎中露？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式微式微，胡不归？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微君之躬，胡为乎泥中？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" dur="500"/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500"/>
                                        <p:tgtEl>
                                          <p:spTgt spid="10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0" dur="500"/>
                                        <p:tgtEl>
                                          <p:spTgt spid="10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5" dur="500"/>
                                        <p:tgtEl>
                                          <p:spTgt spid="10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0" name=""/>
          <p:cNvSpPr txBox="1"/>
          <p:nvPr/>
        </p:nvSpPr>
        <p:spPr>
          <a:xfrm>
            <a:off x="1676520" y="1447920"/>
            <a:ext cx="594360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全篇背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 txBox="1"/>
          <p:nvPr/>
        </p:nvSpPr>
        <p:spPr>
          <a:xfrm>
            <a:off x="1447920" y="609480"/>
            <a:ext cx="6476760" cy="495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再见！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Arial"/>
              </a:rPr>
              <a:t>式微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式微式微，胡不归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微君之故，胡为乎中露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式微式微，胡不归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微君之躬，胡为乎泥中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0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0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18936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99"/>
                </a:solidFill>
                <a:latin typeface="Arial"/>
              </a:rPr>
              <a:t>式微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zh-CN" sz="6600" spc="-1" strike="noStrike">
                <a:solidFill>
                  <a:srgbClr val="333399"/>
                </a:solidFill>
                <a:latin typeface="Arial"/>
              </a:rPr>
              <a:t>天要黑了。式，发语词，无义。微，日光衰微，指天快黑了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-214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《邶风》，邶国之风也。周灭殷商后，周武王“以商治商”，封纣王之子武庚于今汤阴县城邶城村，号邶国。《诗经》中的《邶风》即为产生、采集、流传于邶国大地的古老而至今仍荡人心弦的诗篇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 txBox="1"/>
          <p:nvPr/>
        </p:nvSpPr>
        <p:spPr>
          <a:xfrm>
            <a:off x="2362320" y="304920"/>
            <a:ext cx="4572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《邶风》简介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式微式微，</a:t>
            </a:r>
            <a:r>
              <a:rPr b="0" lang="zh-CN" sz="4400" spc="-1" strike="noStrike">
                <a:solidFill>
                  <a:srgbClr val="333399"/>
                </a:solidFill>
                <a:latin typeface="Arial"/>
              </a:rPr>
              <a:t>胡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不归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400" spc="-1" strike="noStrike">
                <a:solidFill>
                  <a:srgbClr val="333399"/>
                </a:solidFill>
                <a:latin typeface="Arial"/>
              </a:rPr>
              <a:t>微君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之</a:t>
            </a:r>
            <a:r>
              <a:rPr b="0" lang="zh-CN" sz="4400" spc="-1" strike="noStrike">
                <a:solidFill>
                  <a:srgbClr val="333399"/>
                </a:solidFill>
                <a:latin typeface="Arial"/>
              </a:rPr>
              <a:t>故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，胡为乎中露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胡：为什么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微君：微，非。微君，要不是君主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故：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中露：即“露中”，露水中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倒文以协韵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97" fill="hold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97" fill="hold"/>
                                        <p:tgtEl>
                                          <p:spTgt spid="10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97" fill="hold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0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97" fill="hold"/>
                                        <p:tgtEl>
                                          <p:spTgt spid="10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97" fill="hold"/>
                                        <p:tgtEl>
                                          <p:spTgt spid="10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97" fill="hold"/>
                                        <p:tgtEl>
                                          <p:spTgt spid="10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0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97" fill="hold"/>
                                        <p:tgtEl>
                                          <p:spTgt spid="10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333399"/>
                </a:solidFill>
                <a:latin typeface="Arial"/>
              </a:rPr>
              <a:t>解释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天渐渐黑了，为什么不回去呢？若不是国君的缘故，怎么会身披露水之苦！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Arial"/>
              </a:rPr>
              <a:t>式微式微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Arial"/>
              </a:rPr>
              <a:t>胡不归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zh-CN" sz="6600" spc="-1" strike="noStrike">
                <a:solidFill>
                  <a:srgbClr val="0000ff"/>
                </a:solidFill>
                <a:latin typeface="Arial"/>
              </a:rPr>
              <a:t>微君之故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Arial"/>
              </a:rPr>
              <a:t>胡为乎中露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 txBox="1"/>
          <p:nvPr/>
        </p:nvSpPr>
        <p:spPr>
          <a:xfrm>
            <a:off x="1295280" y="1066680"/>
            <a:ext cx="609624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背诵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式微式微，胡不归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微君之躬，胡为乎泥中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躬：身体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4-05-07T14:22:32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