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8CF-6BAA-4364-896F-35BE61F0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5E3-6885-4F01-A73E-859CB67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0A6-0842-4A1E-8271-A0BAA9E1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92C-D1B8-4F52-8542-D83F84CC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69C-93B3-4FA4-B449-5D66B993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194-3F05-4F46-9B97-21C716C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7577-4FBF-4BA5-9CF3-25EBAD08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971-6552-4405-89D2-45346575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AC01-1421-4CD4-ABDC-CBDB207E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8530-888D-4ECE-859D-FEB96843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23E-1022-4D59-B5D0-3C9BDCD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FD9-12AF-4705-A201-DB8E3F8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0819-D638-44BF-B88B-BC47502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13B2-FBEE-4E2D-868A-7965EC2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D7E-E061-4494-8532-7DB16D4E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5181-0457-4D12-9445-5CE6A24C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70BF-7D96-4333-924C-CEDF832D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94AA-6213-48F9-BCF1-52BD067D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D113-A49B-402E-BB69-C8697D24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46AC-98A1-48C1-88AA-6708CB87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3940-E1D0-465D-8CB4-0B563D7D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ACC4-4E1E-406E-B415-DE77364A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5AC-7830-4BFB-AE6A-0EE2BCE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2854-EAC6-4967-8EA7-FB2D70B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486B-DAFE-4C60-BE23-E6C4841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C299-89F4-4CEE-8556-711AD01F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F08B-BCA6-4AA2-89D1-E05D24C5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A4A6-A3B0-4723-A102-4BE021F2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5797-7ABE-4D11-B7E5-2521D9F7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B2DA-F8E8-4DBA-AA76-23B3733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3FD7-894E-4DC4-93CD-7FA2F1B0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3D925-B2C4-457C-A78D-79C6A845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077A-BCDC-4DC5-A297-0F9BA24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B82-0ED0-42F4-B3B8-0648846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883B-F5B2-4526-9418-EA3EC70D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EF09-21AD-478B-9A69-0227ED2F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9703-96F6-4E2A-934F-6B1464B8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F84E-8C2C-4AA9-B47E-C61FA69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919F-E447-4B71-9E84-278D810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D037-220F-42E4-95E5-D0E55A57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A81F-5F1F-47E5-9C72-D28E7DC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0E28-E662-4B92-AEB6-97A922E4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8E13-DE27-47F9-85F3-0B2C70B8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D86-7599-47E7-81BD-79416DEF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F9F-4B52-4092-A7F9-E9FF113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335-C275-43EB-BF43-2DA486A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E75-CE28-4A65-BC74-3A9615D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C04-1E2C-4ADC-A498-76EFD40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E930-AD85-4185-B68D-D0FC534E9A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128A-A917-4C29-BC37-1B1D6877D9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C0C2-BED0-4E6D-BA5B-E1253C7BD0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5C10-EACD-429E-A022-096BE197BB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ledu.com.cn/jajb/tupian/yuwen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.baidu.com/&#35841;&#35299;&#20056;&#33311;&#23547;&#33539;&#33539;/album/item/585541fc72e0bd9cb801a0ee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s5u.com/pic_ks5u/Pic_List.asp?ID=1&amp;p=1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686;&#1211;%D4%C2%CB%C4%C8&#1399;%E7%D3%EA%B4%F3%D7%F7&#892;&#428;&amp;in=7218&amp;cl=2&amp;cm=1&amp;sc=0&amp;lm=-1&amp;pn=3&amp;rn=1&amp;di=400849608&amp;ln=14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zxyww.com/ejb/ShowClass.asp?ClassID=81&amp;page=5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YW000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284720" y="1557360"/>
            <a:ext cx="450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  儿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陆  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67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什么朝廷会灭亡，国家会衰败呢？请看南宋诗人林升的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临安邸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山外青山楼外楼，</a:t>
            </a:r>
            <a:r>
              <a:rPr b="0" lang="zh-CN" sz="3800" spc="-1" strike="noStrike">
                <a:solidFill>
                  <a:srgbClr val="cc0000"/>
                </a:solidFill>
                <a:latin typeface="Arial"/>
                <a:ea typeface="楷体_GB2312"/>
              </a:rPr>
              <a:t> </a:t>
            </a: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br>
              <a:rPr sz="3800"/>
            </a:b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西湖歌舞几时休？</a:t>
            </a:r>
            <a:r>
              <a:rPr b="0" lang="zh-CN" sz="3800" spc="-1" strike="noStrike">
                <a:solidFill>
                  <a:srgbClr val="cc0000"/>
                </a:solidFill>
                <a:latin typeface="Arial"/>
                <a:ea typeface="楷体_GB2312"/>
              </a:rPr>
              <a:t> </a:t>
            </a: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br>
              <a:rPr sz="3800"/>
            </a:b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暖风熏得游人醉，</a:t>
            </a:r>
            <a:r>
              <a:rPr b="0" lang="zh-CN" sz="3800" spc="-1" strike="noStrike">
                <a:solidFill>
                  <a:srgbClr val="cc0000"/>
                </a:solidFill>
                <a:latin typeface="Arial"/>
                <a:ea typeface="楷体_GB2312"/>
              </a:rPr>
              <a:t> </a:t>
            </a: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br>
              <a:rPr sz="3800"/>
            </a:br>
            <a:r>
              <a:rPr b="0" lang="zh-CN" sz="3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只把杭州作卞州。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4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这首诗的含义吗？请你找出国家衰败的根源是什么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br>
              <a:rPr sz="6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如何才能国富民强呢？中国近代改良主义学者梁启超的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中国说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这样一个片断：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0560" y="2637000"/>
            <a:ext cx="8496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今日之责任，不在他人，而全在我少年，少年智则国智，少年富则国富，少年强则国强，少年独立则国独立，少年自由则国自由，少年进步则过进步，少年胜于欧洲则国胜于欧洲，少年雄于地球则国雄于地球。红日初升，其光大道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有千古，横有八荒，前途似海，来日方长，美哉我中国少年，于天不老，壮哉我中国少年，与国无疆。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700"/>
            </a:b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  <a:ea typeface="楷体_GB2312"/>
              </a:rPr>
              <a:t>拓展总结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2060640"/>
            <a:ext cx="827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</a:t>
            </a:r>
            <a:r>
              <a:rPr b="1" lang="zh-CN" sz="39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国家兴亡，匹夫有责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们应该像诗人陆游那样胸有祖国，抱效祖国。让我们再次诵读他的压卷之作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儿</a:t>
            </a:r>
            <a:r>
              <a:rPr b="1" lang="en-US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。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900"/>
            </a:br>
            <a:r>
              <a:rPr b="1" lang="zh-CN" sz="39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6"/>
          <p:cNvSpPr/>
          <p:nvPr/>
        </p:nvSpPr>
        <p:spPr>
          <a:xfrm>
            <a:off x="4240080" y="5084640"/>
            <a:ext cx="663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5" descr="585541fc72e0bd9cb801a0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陆游《示儿》.mp3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81179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自主学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回忆学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2492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诗人、解诗题；抓字眼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诗意；想意境、悟诗情；诵诗句、背诗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3933720"/>
            <a:ext cx="72007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读古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借助书后的注释或你自己的工具书，自读诗句，了解诗意，体会诗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的思想感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089108358334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669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179280" y="333360"/>
            <a:ext cx="4932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125-1210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务观，号放翁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山阴人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即能诗文， 一生著述丰富，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剑南诗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渭南文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十种存世。陆游具有多方面文学才能，尤以诗的成就为最。自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十年间万首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今尚存九千三百余首。其中许多诗篇抒写了抗金杀敌的豪情和对敌人、卖国贼的仇恨，风格雄奇奔放，沉郁悲壮，洋溢着强烈的爱国主义激情，在思想上、艺术上取得了卓越成就，在生前即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李白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称，不仅成为南宋一代诗坛领袖，而且在中国文学史上享有崇高地位，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国伟大的爱国诗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6756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3280" y="1773000"/>
            <a:ext cx="864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死去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元知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万事空，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但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悲不见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九州同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王师北定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中原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日，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家祭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楷体_GB2312"/>
              </a:rPr>
              <a:t>无忘告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  <a:ea typeface="楷体_GB2312"/>
              </a:rPr>
              <a:t>乃翁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340000" y="765000"/>
            <a:ext cx="3332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示    儿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陆 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0" y="1197000"/>
            <a:ext cx="2700360" cy="1079640"/>
          </a:xfrm>
          <a:prstGeom prst="cloudCallout">
            <a:avLst>
              <a:gd name="adj1" fmla="val 26898"/>
              <a:gd name="adj2" fmla="val 117796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来就知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050920" y="3500280"/>
            <a:ext cx="1800360" cy="609840"/>
          </a:xfrm>
          <a:prstGeom prst="wedgeEllipseCallout">
            <a:avLst>
              <a:gd name="adj1" fmla="val 97972"/>
              <a:gd name="adj2" fmla="val -1263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只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588000" y="1341360"/>
            <a:ext cx="2556000" cy="609840"/>
          </a:xfrm>
          <a:prstGeom prst="wedgeEllipseCallout">
            <a:avLst>
              <a:gd name="adj1" fmla="val -25217"/>
              <a:gd name="adj2" fmla="val 15573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祖国统一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5796000" y="5445000"/>
            <a:ext cx="2736720" cy="1212840"/>
          </a:xfrm>
          <a:prstGeom prst="cloudCallout">
            <a:avLst>
              <a:gd name="adj1" fmla="val -79060"/>
              <a:gd name="adj2" fmla="val -73296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祖先的祭祀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2000" y="3500280"/>
            <a:ext cx="2771640" cy="720720"/>
          </a:xfrm>
          <a:prstGeom prst="cloudCallout">
            <a:avLst>
              <a:gd name="adj1" fmla="val 50513"/>
              <a:gd name="adj2" fmla="val 174226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你的父亲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250920" y="5661000"/>
            <a:ext cx="3887640" cy="934920"/>
          </a:xfrm>
          <a:prstGeom prst="wedgeRoundRectCallout">
            <a:avLst>
              <a:gd name="adj1" fmla="val 19291"/>
              <a:gd name="adj2" fmla="val -111629"/>
              <a:gd name="adj3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淮河以北沦陷在金人手里的地区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4211640" y="260280"/>
            <a:ext cx="2305080" cy="609840"/>
          </a:xfrm>
          <a:prstGeom prst="borderCallout2">
            <a:avLst>
              <a:gd name="adj1" fmla="val 18750"/>
              <a:gd name="adj2" fmla="val -8333"/>
              <a:gd name="adj3" fmla="val 18750"/>
              <a:gd name="adj4" fmla="val -4615"/>
              <a:gd name="adj5" fmla="val 188282"/>
              <a:gd name="adj6" fmla="val -93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给儿子们看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合作学习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1844280"/>
            <a:ext cx="8820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己读这首诗，谈谈自己读完后最强烈的感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知道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去元知万事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还告诉儿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祭无忘告乃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现在你了解陆游逝世前最牵挂的是什么了吗？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带着体会出来的感情，朗读这首诗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拓展延伸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752480"/>
            <a:ext cx="896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300"/>
            </a:b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秋夜将晓出篱门迎凉有感</a:t>
            </a:r>
            <a:r>
              <a:rPr b="1" lang="en-US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[</a:t>
            </a: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南宋．陆游</a:t>
            </a:r>
            <a:r>
              <a:rPr b="1" lang="en-US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〕 </a:t>
            </a: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万里河东入海，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五千仞岳上摩天。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遗民泪尽胡尘里， </a:t>
            </a:r>
            <a:br>
              <a:rPr sz="3700"/>
            </a:br>
            <a:br>
              <a:rPr sz="3700"/>
            </a:br>
            <a:r>
              <a:rPr b="1" lang="zh-CN" sz="37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南望王师又一年。 </a:t>
            </a:r>
            <a:br>
              <a:rPr sz="3700"/>
            </a:b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＿＿＿＿＿＿＿＿＿＿＿＿＿＿＿＿＿＿＿＿＿＿＿＿＿＿＿＿＿＿＿＿＿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398920" y="2997360"/>
            <a:ext cx="374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将晓：天将要亮。篱门：竹子或树枝编的门。同题诗有二首，这是第二首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三万里河：指黄河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万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它的长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五千仞岳：指西岳华山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千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它的高。古人以八尺为一仞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王师：指宋王朝的军队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4643280" y="333360"/>
            <a:ext cx="4500720" cy="1230480"/>
          </a:xfrm>
          <a:prstGeom prst="borderCallout1">
            <a:avLst>
              <a:gd name="adj1" fmla="val 18750"/>
              <a:gd name="adj2" fmla="val -8333"/>
              <a:gd name="adj3" fmla="val 124902"/>
              <a:gd name="adj4" fmla="val -1925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读这首诗，理解此诗并比较两首诗的异同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348000" y="260280"/>
            <a:ext cx="442764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72" y="1906"/>
                </a:moveTo>
                <a:lnTo>
                  <a:pt x="-18107" y="1906"/>
                </a:lnTo>
                <a:lnTo>
                  <a:pt x="-18107" y="1906"/>
                </a:lnTo>
                <a:lnTo>
                  <a:pt x="5042" y="1350"/>
                </a:lnTo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读这首诗最让人心痛的是那个字？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-360" y="-360"/>
            <a:ext cx="5003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一月四日风雨大作 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陆 游 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僵卧孤村不自哀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尚思为国戌轮台。 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阑卧听风吹雨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br>
              <a:rPr sz="3800"/>
            </a:b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马冰河入梦来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5" descr="u=3112161038,1023404154&amp;fm=0&amp;gp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16280"/>
            <a:ext cx="50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200812162247185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课外延伸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162828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位怀着满腔爱国之情的老人，带着他的毕生的遗憾和无限的希望离开了，陆游南宋统一的愿望实现了吗？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9640" y="3500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宋末林景熙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陆放翁诗卷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诗的后几句：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床头孤剑空有声，坐看中原落人手！青山一发愁蒙蒙，干戈况满天南东。来孙却见九州同，家祭如何告乃翁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诗中你能看出南宋统一了吗？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7:30:55Z</dcterms:created>
  <dc:creator>第一PPT模板网-WWW.1PPT.COM</dc:creator>
  <dc:description/>
  <dc:language>en-US</dc:language>
  <cp:lastModifiedBy>Administrator</cp:lastModifiedBy>
  <dcterms:modified xsi:type="dcterms:W3CDTF">2017-05-08T03:20:2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