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B3F-D4D2-45C8-8D37-8615B512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F73-4DF1-4E77-AAAD-6616D9CE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DE3-B9BF-4A4E-B76B-7C618F2A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FA8-46C3-4AE2-A1EB-18D7BAC3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2328E-BA11-4EEE-BB0D-992FEC35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2898B-EBEF-4483-9D7A-52DB681F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970F-E15E-4B9D-96B8-1BA04716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7CC66-3F79-44D6-BA90-6785F1F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653E4-EFC4-42EA-B38A-EC10FE6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48DFF-92B3-4ACF-A700-0C0929F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D0F4-E1B6-4188-911E-B199B2B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3A7-87A6-4BF7-9805-7DF05FA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5F326-B31D-49DA-AC34-F367CFD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E71D6-97F9-467D-BE03-E1FB334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3A845-E7A4-4544-BAD5-5D57C78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A84D8-AAB1-4D85-8AF2-26399A86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0E719-C145-42B9-A657-3FB6AD20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BB97-9BE4-4AD9-B437-8B7F1FFC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9913-9248-42BC-AAAC-2BC972A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5BD0-709E-45EB-AE66-2C9C3D53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571A-F0DE-44EF-A434-6899ED83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DC74-E26C-4DA9-9B11-31AAE22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AAB-33FB-433E-867C-9AB99F5D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EB09-C739-4979-9E94-23594CA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6725-C20B-4394-A00E-3C00883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C566-FABF-4CD8-A7AB-AF1AE7C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7F72-65E5-446A-A584-73B5F0AF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83EB-B197-4528-A2AF-0717D5FE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87B3-F0BD-4DF5-B2AD-AC96FE8A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B970-D536-4F13-833D-AD84075E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7570-621F-46DD-B2EE-D5E28EEA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4A600-95BB-4C32-A1F6-8DE45345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04BF-D5EB-4367-B165-90E9174A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569-0416-43D2-9446-2D48F4AF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0EAA8-BACB-4904-8B1B-8C91E51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9DC0-0B1F-4427-AEA6-F04B0DF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1F32-EDFE-4ACF-907F-0691561E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FA5F-85D8-47C3-A725-F1DFE02F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519F-44EB-4271-8C85-735553D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95CD-602F-498E-9886-5235D22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F7C3-BA16-4EE5-9FAC-4B647DF6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7505-41C7-4BB6-BD63-201981D2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A028-B444-43BF-92D0-4D7E879F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769-6FF1-4BA9-9746-111AAAA3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7EC-0550-4E8E-AB51-E8558351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8FD-7562-46A3-BCAF-2759123C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311-9602-4E30-B6A1-22E4659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398-CC67-4A2B-BC43-F517C26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70F-FE98-4C80-B4DD-6A5B205F901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907-CDCA-466E-8B08-542270D5B53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170D-FCD6-4BC8-85FC-13916C346C5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1B7-BB97-43F2-BFD3-A6E8D9DDDDD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55640" y="620280"/>
            <a:ext cx="4392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  <a:ea typeface="隶书"/>
              </a:rPr>
              <a:t>上海的弄堂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372360" y="3357360"/>
            <a:ext cx="216216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陈丹燕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981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散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465300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记忆的追寻者”，“海派文化阐述者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71640" y="981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落中，作者为什么要写上海弄堂的起源？这些内容，对于表现上海人弄堂生活的特点，起到了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ShockwaveFlash1"/>
          <p:cNvGraphicFramePr/>
          <p:nvPr/>
        </p:nvGraphicFramePr>
        <p:xfrm>
          <a:off x="334800" y="57240"/>
          <a:ext cx="8604360" cy="652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" y="57240"/>
                    <a:ext cx="8604360" cy="65246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66247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语句能够概括上海人弄堂生活的特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内容具体描写了上海人的弄堂生活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620640"/>
            <a:ext cx="59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去过上海的弄堂，大概再到上海的别处去，会看得懂更多的东西”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么理解这句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771640" y="260280"/>
            <a:ext cx="61214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弄堂是上海的一道独特的风景线，承载着属于这个城市的历史和文化。在其他地方，有过上海弄堂生活的人们，都会或多或少地带上这种地域文化的烙印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8360" y="836640"/>
            <a:ext cx="475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在表现上海弄堂生活时，描写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有情趣，富有特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一些生活场景，你觉得自己身边有没有这样的场景？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1341360"/>
            <a:ext cx="46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着描写两三个场景，表现一下我们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新弄堂生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新上海生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看看谁抓的场景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特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最典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404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试身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26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置作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907920"/>
            <a:ext cx="705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课外阅读王安忆《长恨歌》开头对上海弄堂的描写，摘抄你认为精彩的片段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3213000"/>
            <a:ext cx="30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思考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成在练习本上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692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“整个上海，有超过一半的住地，是弄堂，绝大多数上海人，是住在各种各样的弄堂里。”这个句子改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个上海有超过一半的住地是弄堂，绝大多数上海人是住在各种各样的弄堂里。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觉得表达效果有改变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3:34:13Z</dcterms:created>
  <dc:creator>hxd</dc:creator>
  <dc:description/>
  <dc:language>en-US</dc:language>
  <cp:lastModifiedBy>雨林木风</cp:lastModifiedBy>
  <dcterms:modified xsi:type="dcterms:W3CDTF">2010-04-05T11:23:40Z</dcterms:modified>
  <cp:revision>62</cp:revision>
  <dc:subject/>
  <dc:title>上海的弄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6000000000001024120</vt:lpwstr>
  </property>
</Properties>
</file>