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B06-43F2-4BC8-904A-2FEC14D9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9D9-FAD3-4045-AAB9-53B70818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A13-ECC3-4E8E-8380-1845E30B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073-48BD-4719-AA97-8BE38AD6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151-9B03-4A08-B32A-F2AC6CAC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440-815E-42E5-87B5-24B037E4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DA3-90F8-4C64-8AAB-2CAFF00D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0ED-4114-4E72-B388-7D1FB0E1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C428-0B1E-49F1-81F3-2C87BC98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6BA-5CE0-477F-9ADE-9D73079A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06D2-60AB-4B2F-968A-97242A85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492-DB05-4E41-8ABF-CE8F6606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0910-928F-4ABF-AB29-F48F34840C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341360"/>
            <a:ext cx="66960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17   </a:t>
            </a: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山谷中的谜底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4724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市二小      来金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8000" y="40464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549360"/>
            <a:ext cx="3097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复习好词</a:t>
            </a:r>
            <a:endParaRPr b="1" lang="en-US" sz="40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2565360"/>
            <a:ext cx="7705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谜底     帐篷     女贞     惊奇     枝丫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反弹     摧毁    屈服     毁灭     启示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549360"/>
            <a:ext cx="32400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品词析句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2637000"/>
            <a:ext cx="58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213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220500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对于外界的压力，可以通过正面抗争去战胜它，但有时也需要像雪松那样先弯曲一下，作出适当的让步，以求反弹的机会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32000" y="213372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确实，有时弯曲不是屈服和毁灭，而是为了生存和更好地发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692280"/>
            <a:ext cx="32400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品词析句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9640" y="476280"/>
            <a:ext cx="3889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生感悟</a:t>
            </a:r>
            <a:endParaRPr b="1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56536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学完这一课，请结合你的实际谈谈受到的启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95280" y="404640"/>
            <a:ext cx="3384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读写结合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220500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中的谜底虽然解开了，但是，这篇课文还留下了许多谜，比如：为什么这么简单的问题，只有这两位旅行者才发现？这难道不值得我们思索吗？把你的想法写下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06:33:21Z</dcterms:created>
  <dc:creator>微软用户</dc:creator>
  <dc:description/>
  <dc:language>en-US</dc:language>
  <cp:lastModifiedBy>微软用户</cp:lastModifiedBy>
  <dcterms:modified xsi:type="dcterms:W3CDTF">2008-01-20T09:18:44Z</dcterms:modified>
  <cp:revision>3</cp:revision>
  <dc:subject/>
  <dc:title>幻灯片 1</dc:title>
</cp:coreProperties>
</file>