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8" descr="ppt_bg.pn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图片 6" descr="天遥一家亲PPT背板.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 name="图片 6" descr="天遥G10会议通PPT背板.jpg"/>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Text Box 4"/>
          <p:cNvSpPr/>
          <p:nvPr/>
        </p:nvSpPr>
        <p:spPr>
          <a:xfrm>
            <a:off x="1116000" y="1628640"/>
            <a:ext cx="67690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112" name="Text Box 5"/>
          <p:cNvSpPr/>
          <p:nvPr/>
        </p:nvSpPr>
        <p:spPr>
          <a:xfrm>
            <a:off x="1258920" y="1197000"/>
            <a:ext cx="7200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 </a:t>
            </a:r>
            <a:r>
              <a:rPr b="1" lang="en-US" sz="4000" spc="-1" strike="noStrike">
                <a:solidFill>
                  <a:srgbClr val="ffffff"/>
                </a:solidFill>
                <a:latin typeface="Calibri"/>
              </a:rPr>
              <a:t> </a:t>
            </a:r>
            <a:r>
              <a:rPr b="1" lang="en-US" sz="4000" spc="-1" strike="noStrike">
                <a:solidFill>
                  <a:srgbClr val="ffffff"/>
                </a:solidFill>
                <a:latin typeface="Calibri"/>
              </a:rPr>
              <a:t>Open File, Memo and Examples</a:t>
            </a:r>
            <a:endParaRPr b="0" lang="en-US" sz="4000" spc="-1" strike="noStrike">
              <a:solidFill>
                <a:srgbClr val="ffffff"/>
              </a:solidFill>
              <a:latin typeface="Calibri"/>
            </a:endParaRPr>
          </a:p>
        </p:txBody>
      </p:sp>
      <p:sp>
        <p:nvSpPr>
          <p:cNvPr id="113" name="Text Box 6"/>
          <p:cNvSpPr/>
          <p:nvPr/>
        </p:nvSpPr>
        <p:spPr>
          <a:xfrm>
            <a:off x="1332000" y="2276640"/>
            <a:ext cx="6551640" cy="399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Open File:</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ile in the session of a meeting or teaching, it is embarrassing to keep others waiting due to searching for a document, or look up for a program or a shortcut. With “Open a File” function, you may have better alternative. By setting up each button in association with the file, all you have to do is clicking the mouse buttons and open all the files instantly.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Text Box 4"/>
          <p:cNvSpPr/>
          <p:nvPr/>
        </p:nvSpPr>
        <p:spPr>
          <a:xfrm>
            <a:off x="1143000" y="1643040"/>
            <a:ext cx="6551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ampl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Shift to Mode 3 – “Open Fi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The mouse buttons have association with below details:  Button 3rd – Open a PPT File; Button 4th – Open a Text File; Button 5th – Open a Spreadsheet Fi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Press each mouse button will open the associated file instantly.</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You can apply this function to mouse buttons of     2, 3, 4, 5, 6, wheel up(UP) and wheel down(DN). </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2414520" y="1955880"/>
            <a:ext cx="4318200" cy="30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00040" y="164304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Memo:</a:t>
            </a:r>
            <a:endParaRPr b="0" lang="en-US" sz="3200" spc="-1" strike="noStrike">
              <a:solidFill>
                <a:srgbClr val="000000"/>
              </a:solidFill>
              <a:latin typeface="Calibri"/>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is “Memo” function will bring a “Memo” screen. By pressing the “Memo” button, all the mouse button settings or associated files will be listed as the reminder. </a:t>
            </a:r>
            <a:endParaRPr b="0" lang="en-US" sz="2400" spc="-1" strike="noStrike">
              <a:solidFill>
                <a:srgbClr val="000000"/>
              </a:solidFill>
              <a:latin typeface="Calibri"/>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eacher may take great advantage to keep teaching class in good order by checking each button setting or associated file on the “Memo” screen, and then open them instantly. There are 7 customizable buttons in each of G10 five working modes, press the same button will close the scre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57160" y="1600200"/>
            <a:ext cx="72151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xample:</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 Shift to Mode 3 – “Open File”.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Press 6th button will open the “Memo” screen as shown below, all the button settings or associated files will be listed as the remind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You can apply this “Memo” function to mouse buttons of 2, 3, 4, 5, 6, wheel up(UP) and wheel down(D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556000" y="2133720"/>
            <a:ext cx="4181400" cy="32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6:01:28Z</dcterms:created>
  <dc:creator>karl</dc:creator>
  <dc:description/>
  <dc:language>en-US</dc:language>
  <cp:lastModifiedBy>User</cp:lastModifiedBy>
  <dcterms:modified xsi:type="dcterms:W3CDTF">2010-05-20T14:48:45Z</dcterms:modified>
  <cp:revision>283</cp:revision>
  <dc:subject/>
  <dc:title>幻灯片 1</dc:title>
</cp:coreProperties>
</file>