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LAZYR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877-FF83-4E7E-8DC3-C393B166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CCD-BA92-4B0C-911C-08BADF71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937-7558-456F-A555-6F8B75FF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B20-77A1-4B45-8FC1-6E8DEB04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BE91-6250-4BA3-83D7-5D68499D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FE1-C258-4BEA-B801-B9A069F0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9452-ED6C-4045-8B01-02E11FCF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06F5-AFB0-4BC8-B2FD-14F6763C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247E-0070-4E4E-B675-29AA3DF8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9ECF-4E4D-42C7-AAF2-790E15D0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0DC6-CA00-4836-8FCD-EE717697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203-7ECC-47BC-AFCF-572C666E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45EB-75FE-4BA8-BADC-2F99CB9C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8BB8-A522-4817-9980-2ECDC35C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4D30-C0D5-4D91-8792-BE009707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55ED-03FD-413B-9A5C-58655456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2255-1F6B-476C-B921-0B862AD2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75C-6D6C-4C73-84EC-6694CACF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B10-80D2-49F9-A3B6-D782ED5D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665-3A51-4818-92DA-48A437B1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657-DEF3-4CBC-9C05-F99D1DDD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F8F-7690-455D-A9DF-A239555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602-AF56-4357-B207-80B6D68A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B49-9DD5-4848-99F2-75A72652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A868-B347-41AA-A4E9-A82185D6E712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2CC5-3A4E-45B8-BD1D-73A1B0218235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LAZYR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321680" y="5791320"/>
            <a:ext cx="102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0305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030305"/>
                </a:solidFill>
                <a:latin typeface="Times New Roman"/>
              </a:rPr>
              <a:t>林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4343400"/>
            <a:ext cx="6248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30305"/>
                </a:solidFill>
                <a:latin typeface="Times New Roman"/>
              </a:rPr>
              <a:t>《石缝间的生命》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462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505320" cy="5486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15238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阳光照暖大地，空气清香，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有锄尽的青草在各处复活了，不但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在林荫路两旁的狭草地上生出来，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而且只要有可能，甚至从石头跟石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头中间的夹缝里钻出来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980800" y="91440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黑体"/>
              </a:rPr>
              <a:t>石 缝 间 的 生 命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209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（生长环境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1447920"/>
            <a:ext cx="1295640" cy="0"/>
          </a:xfrm>
          <a:prstGeom prst="line">
            <a:avLst/>
          </a:prstGeom>
          <a:ln w="28440">
            <a:solidFill>
              <a:srgbClr val="fb92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1447920"/>
            <a:ext cx="838080" cy="0"/>
          </a:xfrm>
          <a:prstGeom prst="line">
            <a:avLst/>
          </a:prstGeom>
          <a:ln w="28440">
            <a:solidFill>
              <a:srgbClr val="fb92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962160" y="1447920"/>
            <a:ext cx="1066680" cy="838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447920"/>
            <a:ext cx="1143000" cy="838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（生长着的生物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209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（生物体所具有的活动能力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56160" y="123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林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28800" y="1447920"/>
            <a:ext cx="1371600" cy="838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3080" y="312408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作者感悟到的就是：生命的意义在于寻找立足的天地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生命就是拼搏，只有拼搏的生命，才给人以美的享受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9144000" cy="1627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40560" y="13716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45472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）无名的野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24382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1219320"/>
            <a:ext cx="14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少吮乳汁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寻找石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32120" y="137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珍视生命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）苦苦的蒲公英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02640" y="25146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茎  叶  根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137160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2286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深埋石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甘做“抓手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32120" y="243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默默拼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320" y="3657600"/>
            <a:ext cx="17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）参天的松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53800" y="365760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枝干 针叶  树根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68720" y="354024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51040" y="3429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顽强生长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迎击侵袭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3212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奋发向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038480"/>
            <a:ext cx="1752480" cy="1143000"/>
          </a:xfrm>
          <a:prstGeom prst="line">
            <a:avLst/>
          </a:prstGeom>
          <a:ln w="9360">
            <a:solidFill>
              <a:srgbClr val="c10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90920" y="3962520"/>
            <a:ext cx="2133360" cy="1218960"/>
          </a:xfrm>
          <a:prstGeom prst="line">
            <a:avLst/>
          </a:prstGeom>
          <a:ln w="9360">
            <a:solidFill>
              <a:srgbClr val="c10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9920" y="504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生物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5334120"/>
            <a:ext cx="1218960" cy="0"/>
          </a:xfrm>
          <a:prstGeom prst="line">
            <a:avLst/>
          </a:prstGeom>
          <a:ln w="28440">
            <a:solidFill>
              <a:srgbClr val="c105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哲  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5257800"/>
            <a:ext cx="1218960" cy="0"/>
          </a:xfrm>
          <a:prstGeom prst="line">
            <a:avLst/>
          </a:prstGeom>
          <a:ln w="28440">
            <a:solidFill>
              <a:srgbClr val="c105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5029200"/>
            <a:ext cx="11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黑体"/>
              </a:rPr>
              <a:t>美  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1828800"/>
            <a:ext cx="0" cy="533520"/>
          </a:xfrm>
          <a:prstGeom prst="line">
            <a:avLst/>
          </a:prstGeom>
          <a:ln w="28440">
            <a:solidFill>
              <a:srgbClr val="c105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2895480"/>
            <a:ext cx="0" cy="533520"/>
          </a:xfrm>
          <a:prstGeom prst="line">
            <a:avLst/>
          </a:prstGeom>
          <a:ln w="28440">
            <a:solidFill>
              <a:srgbClr val="c105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4191120"/>
            <a:ext cx="0" cy="533160"/>
          </a:xfrm>
          <a:prstGeom prst="line">
            <a:avLst/>
          </a:prstGeom>
          <a:ln w="28440">
            <a:solidFill>
              <a:srgbClr val="c105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8120" y="13716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薄叶  根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3962520" y="1600200"/>
            <a:ext cx="3200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1052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c1052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12:44:30Z</dcterms:created>
  <dc:creator>syzx</dc:creator>
  <dc:description/>
  <dc:language>en-US</dc:language>
  <cp:lastModifiedBy>zmj</cp:lastModifiedBy>
  <dcterms:modified xsi:type="dcterms:W3CDTF">2009-03-03T14:19:20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e000000000001024120</vt:lpwstr>
  </property>
</Properties>
</file>