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Text Box 3"/>
          <p:cNvSpPr/>
          <p:nvPr/>
        </p:nvSpPr>
        <p:spPr>
          <a:xfrm>
            <a:off x="5670000" y="692280"/>
            <a:ext cx="2191320" cy="52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送东阳马生序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5128200" y="2421000"/>
            <a:ext cx="15314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宋    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4360" y="1327680"/>
            <a:ext cx="7920000" cy="43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面句子朗读节奏有误的一项是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余／因得／遍观群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尝趋百里外／从乡之先达／执经叩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又患／无硕师／名人与游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．不知／口体之奉／不若人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1403280" y="1557360"/>
            <a:ext cx="122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3"/>
          <p:cNvSpPr/>
          <p:nvPr/>
        </p:nvSpPr>
        <p:spPr>
          <a:xfrm>
            <a:off x="755640" y="1484280"/>
            <a:ext cx="81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1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、范读。学生听读，要求听清字音，把握句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755640" y="385776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3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、小组讨论交流，按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“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读课文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  <a:ea typeface="华文行楷"/>
              </a:rPr>
              <a:t>——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译文句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华文行楷"/>
              </a:rPr>
              <a:t>”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的步骤进行。教师巡视各组，答疑解惑，指导点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755640" y="2492280"/>
            <a:ext cx="810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2</a:t>
            </a:r>
            <a:r>
              <a:rPr b="0" lang="zh-CN" sz="3200" spc="-1" strike="noStrike">
                <a:solidFill>
                  <a:srgbClr val="333399"/>
                </a:solidFill>
                <a:latin typeface="华文行楷"/>
                <a:ea typeface="华文行楷"/>
              </a:rPr>
              <a:t>、自读课文，参照注释，借助工具书，疏通词句，理解文意，标出疑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1326240" y="765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朗读课文整体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送东阳马生.MP3" descr=""/>
          <p:cNvPicPr/>
          <p:nvPr/>
        </p:nvPicPr>
        <p:blipFill>
          <a:blip r:embed="rId1"/>
          <a:stretch/>
        </p:blipFill>
        <p:spPr>
          <a:xfrm>
            <a:off x="468360" y="59500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60497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28600" y="457200"/>
            <a:ext cx="8763120" cy="44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余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幼时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即嗜学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家贫，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无从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致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书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以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观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每假借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于</a:t>
            </a:r>
            <a:r>
              <a:rPr b="0" lang="zh-CN" sz="3200" spc="-1" strike="noStrike" u="sng">
                <a:solidFill>
                  <a:srgbClr val="333399"/>
                </a:solidFill>
                <a:uFillTx/>
                <a:latin typeface="黑体"/>
                <a:ea typeface="黑体"/>
              </a:rPr>
              <a:t>藏书之家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手自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笔录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计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日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以还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355120" y="1066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爱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5005800" y="1052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没有办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324720" y="400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常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5438160" y="407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抄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373080" y="39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计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158480" y="4005360"/>
            <a:ext cx="141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假借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7494480" y="4005360"/>
            <a:ext cx="99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以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250920" y="479736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常向有藏书的人家去借，（借来）就自己动手用笔抄写，计算着日子（按时）归还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3635280" y="386064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名词作状语 用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2"/>
          <p:cNvSpPr/>
          <p:nvPr/>
        </p:nvSpPr>
        <p:spPr>
          <a:xfrm>
            <a:off x="7451640" y="1052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1682640" y="112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900000" y="1197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5"/>
          <p:cNvSpPr/>
          <p:nvPr/>
        </p:nvSpPr>
        <p:spPr>
          <a:xfrm>
            <a:off x="6568920" y="1052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买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468360" y="164772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小时就爱好读书。家里穷，没有办法买书回来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7"/>
          <p:cNvSpPr/>
          <p:nvPr/>
        </p:nvSpPr>
        <p:spPr>
          <a:xfrm>
            <a:off x="2843280" y="4005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826920" y="836640"/>
            <a:ext cx="8066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天大寒，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        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冰  坚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     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指不可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屈伸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弗之怠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录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毕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走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送</a:t>
            </a: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之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不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稍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逾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约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1675440" y="141300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砚台里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墨汁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076360" y="1413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结成坚硬的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1189440" y="2349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弯屈伸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4357080" y="2492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抄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6300360" y="2421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跑引申为赶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3427920" y="2924280"/>
            <a:ext cx="39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否定句代词作宾语前置  之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抄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1456920" y="3357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超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79280" y="400536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有时）天气很冷，砚池里（的水）结成很硬的冰，手指（冻僵）不能弯曲和伸直，也不放松抄书。抄完，赶快送还书，不敢稍稍超过约定期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250920" y="3357720"/>
            <a:ext cx="10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稍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5148360" y="256536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395280" y="549360"/>
            <a:ext cx="815328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以是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人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多以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书假余，余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因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得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遍      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群  书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613800" y="119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878480" y="1143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都 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5438160" y="112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能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819360" y="2286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各种书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6611040" y="11970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广泛地阅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4284720" y="11253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于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250920" y="321300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因此，人家大多数愿意把书借给我，我于是能够读到各种各样的书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68360" y="26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既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加冠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慕圣贤之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道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又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患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硕师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名人与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游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  尝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百里外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从乡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之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先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执  经 叩问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40720" y="907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已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2340000" y="9079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4285800" y="83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5797080" y="83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担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685080" y="263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2195640" y="2637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交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851280" y="263700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奔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5219640" y="2637000"/>
            <a:ext cx="204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跟从当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6804000" y="2708280"/>
            <a:ext cx="29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学术界的前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2"/>
          <p:cNvSpPr/>
          <p:nvPr/>
        </p:nvSpPr>
        <p:spPr>
          <a:xfrm>
            <a:off x="808920" y="3860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握、持经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3"/>
          <p:cNvSpPr/>
          <p:nvPr/>
        </p:nvSpPr>
        <p:spPr>
          <a:xfrm>
            <a:off x="2125080" y="3789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请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395280" y="4508640"/>
            <a:ext cx="81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担心没有才学渊博的老师、名人和他们交游。曾经跑到百里之外，捧着经书向当地有道德、有学问的前辈请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1292400" y="14130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到成年时候，更加仰慕古代圣贤的学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95280" y="40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先达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德  隆望 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门人弟子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填其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室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未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稍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辞色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1459080" y="1268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道德高 声望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4933440" y="112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挤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940360" y="1052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他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826920" y="2781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言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692360" y="278136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脸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95280" y="357336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那位前辈道德高、声望高，向他求教的学生挤满了屋子，但他没有把言辞放委婉些，把脸色放温和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179280" y="404640"/>
            <a:ext cx="8209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余立侍左右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援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  疑  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质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  理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俯</a:t>
            </a:r>
            <a:r>
              <a:rPr b="1" lang="zh-CN" sz="3200" spc="-1" strike="noStrike" u="sng">
                <a:solidFill>
                  <a:srgbClr val="ff3300"/>
                </a:solidFill>
                <a:uFillTx/>
                <a:latin typeface="Times New Roman"/>
              </a:rPr>
              <a:t>身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倾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耳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请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；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或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遇其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叱咄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色愈恭，礼愈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至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，不敢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言以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复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2629800" y="907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提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76560" y="981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询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5438160" y="907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弯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6446160" y="907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侧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380360" y="692280"/>
            <a:ext cx="154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连词，相当于“而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396360" y="198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请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1404360" y="198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有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2485440" y="198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训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5941440" y="198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周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2"/>
          <p:cNvSpPr/>
          <p:nvPr/>
        </p:nvSpPr>
        <p:spPr>
          <a:xfrm>
            <a:off x="7669080" y="1916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2126880" y="292428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回答、解释，这里指辩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0" y="364500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站在他的身边，提出疑难，探问道理，弯着身子，侧着耳朵，恭恭敬敬地求教；有时受到他的斥责，（我的）态度更加恭敬，礼节更加周到，不敢说一句话辩解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457200" y="304920"/>
            <a:ext cx="8291520" cy="58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俟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其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欣悦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，则又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请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焉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。故余虽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愚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卒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 获 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所闻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。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当余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之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从师也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负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箧曳屣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黑体"/>
                <a:ea typeface="黑体"/>
              </a:rPr>
              <a:t>行</a:t>
            </a:r>
            <a:r>
              <a:rPr b="0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(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于</a:t>
            </a:r>
            <a:r>
              <a:rPr b="0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山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谷中，  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Times New Roman"/>
              </a:rPr>
              <a:t>穷冬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烈风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        大雪深数尺，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肤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皲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而不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548720" y="836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高兴，愉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3636720" y="836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语气词，不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5869800" y="83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愚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539640" y="256536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当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在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时候    之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取消句子独立性，无实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5797080" y="263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拖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7741800" y="2781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走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79280" y="90792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等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6784560" y="83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终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520200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书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"/>
          <p:cNvSpPr/>
          <p:nvPr/>
        </p:nvSpPr>
        <p:spPr>
          <a:xfrm>
            <a:off x="6642000" y="270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鞋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3"/>
          <p:cNvSpPr/>
          <p:nvPr/>
        </p:nvSpPr>
        <p:spPr>
          <a:xfrm>
            <a:off x="1045800" y="3716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2772720" y="3860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严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5"/>
          <p:cNvSpPr/>
          <p:nvPr/>
        </p:nvSpPr>
        <p:spPr>
          <a:xfrm>
            <a:off x="4284720" y="44370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皮肤因寒冷干燥而开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4500720" y="263700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背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-73080" y="5013360"/>
            <a:ext cx="921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我去求学的时候，背着书箱，拖着鞋子，走在深山大谷里，严寒的冬天寒风凛冽，积雪有几尺深，脚上的皮肤因寒冷干燥而破裂了，（我）还不知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1137960" y="141300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等他高兴了，就又去请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9"/>
          <p:cNvSpPr/>
          <p:nvPr/>
        </p:nvSpPr>
        <p:spPr>
          <a:xfrm>
            <a:off x="4211640" y="1341360"/>
            <a:ext cx="51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以我虽然愚笨，但终于还能够有所收获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304920" y="304920"/>
            <a:ext cx="8610480" cy="63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至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舍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四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支僵劲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能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动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媵人</a:t>
            </a:r>
            <a:r>
              <a:rPr b="0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持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汤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沃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灌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以</a:t>
            </a:r>
            <a:r>
              <a:rPr b="0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拥</a:t>
            </a:r>
            <a:r>
              <a:rPr b="0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覆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久而乃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寓逆旅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，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主人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日</a:t>
            </a:r>
            <a:r>
              <a:rPr b="0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    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再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食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无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鲜  肥  滋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享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40720" y="83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书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1549440" y="836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支通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2701440" y="83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僵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3925440" y="83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动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4315680" y="0"/>
            <a:ext cx="33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媵人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指古代陪嫁的人，指女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5852880" y="98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热水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6805440" y="907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浇水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255240" y="1989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围裹  覆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0" y="4653000"/>
            <a:ext cx="240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寓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名作动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居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1764720" y="4292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旅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2771640" y="4365720"/>
            <a:ext cx="14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每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3635280" y="4797360"/>
            <a:ext cx="584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给两顿饭吃  食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提供伙食，动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5"/>
          <p:cNvSpPr/>
          <p:nvPr/>
        </p:nvSpPr>
        <p:spPr>
          <a:xfrm>
            <a:off x="250920" y="5546880"/>
            <a:ext cx="81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居在旅店里，旅舍主人每天只提供两顿饭，没有新鲜肥美食品味道的享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179280" y="2565360"/>
            <a:ext cx="81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了书馆，四肢冻僵了不能动弹，服役的人拿来热水（给我）浇洗，用被子围着、盖着我，很成时间（我）才暖和过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P1000495_JPG"/>
          <p:cNvPicPr/>
          <p:nvPr/>
        </p:nvPicPr>
        <p:blipFill>
          <a:blip r:embed="rId1"/>
          <a:stretch/>
        </p:blipFill>
        <p:spPr>
          <a:xfrm>
            <a:off x="0" y="76320"/>
            <a:ext cx="3962520" cy="17650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762120" y="1752480"/>
            <a:ext cx="73152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理清思路，理解全文，学习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对比手法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来表现中心的写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理解“以”字的用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学习古人求知若渴，克服艰难困苦勤奋学习的精神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762120" y="457200"/>
            <a:ext cx="3047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179280" y="0"/>
            <a:ext cx="80773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同舍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生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皆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被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绮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绣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戴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朱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宝 饰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之帽，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腰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白玉之   </a:t>
            </a:r>
            <a:r>
              <a:rPr b="0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环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左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刀，右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备</a:t>
            </a:r>
            <a:r>
              <a:rPr b="0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容臭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 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烨然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若神人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612360" y="620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同屋住的同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917440" y="62064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被通披，穿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4643280" y="1052640"/>
            <a:ext cx="288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绣花的丝绸衣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4500720" y="404640"/>
            <a:ext cx="48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绮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有花纹的丝织品  绣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绣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7"/>
          <p:cNvSpPr/>
          <p:nvPr/>
        </p:nvSpPr>
        <p:spPr>
          <a:xfrm>
            <a:off x="7310520" y="692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用红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8"/>
          <p:cNvSpPr/>
          <p:nvPr/>
        </p:nvSpPr>
        <p:spPr>
          <a:xfrm>
            <a:off x="613080" y="2060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宝石装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9"/>
          <p:cNvSpPr/>
          <p:nvPr/>
        </p:nvSpPr>
        <p:spPr>
          <a:xfrm>
            <a:off x="2195640" y="206064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腰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名作动，挂在腰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5869800" y="1989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圈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1908360" y="342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挂着香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3997440" y="342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光彩照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3"/>
          <p:cNvSpPr/>
          <p:nvPr/>
        </p:nvSpPr>
        <p:spPr>
          <a:xfrm>
            <a:off x="324000" y="4005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和我在一个书馆的同学们，都穿着绣花的丝绸衣服，戴着用红缨和宝石装饰的帽子，腰上挂着白玉制成的环，左边带着佩刀，右边挂着香袋，光彩照人，就像神仙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250920" y="0"/>
            <a:ext cx="822960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余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则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缊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袍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敝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衣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处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(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于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)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其间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略无慕艳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意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以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中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有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  足乐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者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   不知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口体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之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不若人也。</a:t>
            </a:r>
            <a:r>
              <a:rPr b="0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盖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余之    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勤  且  艰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若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469440" y="620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900360" y="11970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穿着破旧的衣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3276720" y="620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生活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6"/>
          <p:cNvSpPr/>
          <p:nvPr/>
        </p:nvSpPr>
        <p:spPr>
          <a:xfrm>
            <a:off x="4789800" y="6206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他们中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7238520" y="692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羡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324720" y="2205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因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611280" y="2133720"/>
            <a:ext cx="23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（我）心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2773080" y="2205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足以快乐的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2340000" y="2708280"/>
            <a:ext cx="257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足乐者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指读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2"/>
          <p:cNvSpPr/>
          <p:nvPr/>
        </p:nvSpPr>
        <p:spPr>
          <a:xfrm>
            <a:off x="5724720" y="220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吃的穿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3"/>
          <p:cNvSpPr/>
          <p:nvPr/>
        </p:nvSpPr>
        <p:spPr>
          <a:xfrm>
            <a:off x="6407640" y="2637000"/>
            <a:ext cx="22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奉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供，供养，奉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2413800" y="371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大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900000" y="620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旧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6"/>
          <p:cNvSpPr/>
          <p:nvPr/>
        </p:nvSpPr>
        <p:spPr>
          <a:xfrm>
            <a:off x="1763640" y="62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破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7"/>
          <p:cNvSpPr/>
          <p:nvPr/>
        </p:nvSpPr>
        <p:spPr>
          <a:xfrm>
            <a:off x="6300720" y="69228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毫不毫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8"/>
          <p:cNvSpPr/>
          <p:nvPr/>
        </p:nvSpPr>
        <p:spPr>
          <a:xfrm>
            <a:off x="250920" y="4149720"/>
            <a:ext cx="8893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却穿着破旧的衣服生活在他们中间，一点没有羡慕的心意。因为内心有足以快乐的事（指读书），就不觉得吃的穿的不如别人了。我求学时的勤奋与艰苦的情况大体就是这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9"/>
          <p:cNvSpPr/>
          <p:nvPr/>
        </p:nvSpPr>
        <p:spPr>
          <a:xfrm>
            <a:off x="7164360" y="2276640"/>
            <a:ext cx="12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之</a:t>
            </a: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取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"/>
          <p:cNvSpPr/>
          <p:nvPr/>
        </p:nvSpPr>
        <p:spPr>
          <a:xfrm>
            <a:off x="611280" y="2637000"/>
            <a:ext cx="25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</a:rPr>
              <a:t>自叙经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3048120" y="1295280"/>
            <a:ext cx="304560" cy="3581640"/>
          </a:xfrm>
          <a:custGeom>
            <a:avLst/>
            <a:gdLst>
              <a:gd name="textAreaLeft" fmla="*/ 194760 w 304560"/>
              <a:gd name="textAreaRight" fmla="*/ 304920 w 304560"/>
              <a:gd name="textAreaTop" fmla="*/ 93240 h 3581640"/>
              <a:gd name="textAreaBottom" fmla="*/ 3488400 h 358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77200" y="776160"/>
            <a:ext cx="213084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幼时抄书之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</a:t>
            </a:r>
            <a:r>
              <a:rPr b="1" lang="zh-CN" sz="3200" spc="-1" strike="noStrike" u="sng">
                <a:solidFill>
                  <a:srgbClr val="003366"/>
                </a:solidFill>
                <a:uFillTx/>
                <a:latin typeface="Times New Roman"/>
              </a:rPr>
              <a:t>成年叩问之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3366"/>
                </a:solidFill>
                <a:uFillTx/>
                <a:latin typeface="Times New Roman"/>
              </a:rPr>
              <a:t>3</a:t>
            </a:r>
            <a:r>
              <a:rPr b="1" lang="zh-CN" sz="3200" spc="-1" strike="noStrike" u="sng">
                <a:solidFill>
                  <a:srgbClr val="003366"/>
                </a:solidFill>
                <a:uFillTx/>
                <a:latin typeface="Times New Roman"/>
              </a:rPr>
              <a:t>、求师奔走之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住读生活之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、总括：勤且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2246760" y="0"/>
            <a:ext cx="21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段作者是从哪几个方面谈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刻苦求学的经历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280" y="1197000"/>
            <a:ext cx="8147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作者写出了学习时极为艰苦的条件，目的是什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85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cc"/>
                </a:solidFill>
                <a:latin typeface="Arial"/>
              </a:rPr>
              <a:t>作者认为，勤奋和艰苦是相互联系的两个方面，有了主观的勤奋，一切艰难困苦都可以克服。这正是学有所成的根本原因。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324000" y="331920"/>
            <a:ext cx="8459640" cy="38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(1)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作者为什么要写同舍生的衣饰豪华的情节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通过对比写自己生活的艰苦，突出学习勤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(2) 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本文作者勉励马生勤奋学习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并不讲大道理，却直接以自身经历相告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这样写有什么好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800000"/>
                </a:solidFill>
                <a:latin typeface="宋体"/>
              </a:rPr>
              <a:t>以自身经历相告，现身说法，晓之以理，动之以情，态度恳切，易于接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250920" y="549360"/>
            <a:ext cx="7991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今</a:t>
            </a:r>
            <a:r>
              <a:rPr b="1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诸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生学于太学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县官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日有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Times New Roman"/>
              </a:rPr>
              <a:t>廪稍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之</a:t>
            </a:r>
            <a:r>
              <a:rPr b="1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父母岁有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裘</a:t>
            </a:r>
            <a:r>
              <a:rPr b="1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葛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无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冻</a:t>
            </a:r>
            <a:r>
              <a:rPr b="1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馁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之</a:t>
            </a:r>
            <a:r>
              <a:rPr b="1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患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矣；坐大</a:t>
            </a:r>
            <a:r>
              <a:rPr b="1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之下而诵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诗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》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无奔立之</a:t>
            </a:r>
            <a:r>
              <a:rPr b="1" lang="zh-CN" sz="3200" spc="-1" strike="noStrike" u="sng">
                <a:solidFill>
                  <a:srgbClr val="990000"/>
                </a:solidFill>
                <a:uFillTx/>
                <a:latin typeface="Times New Roman"/>
              </a:rPr>
              <a:t>劳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矣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757800" y="1052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3996720" y="112536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同义连用，官家供给的粮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1404360" y="19890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夏天的衣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3204720" y="2060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赠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4427640" y="2060640"/>
            <a:ext cx="10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饥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5709600" y="1981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忧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7304040" y="19954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大房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6624000" y="3048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辛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324000" y="407664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现在在太学里学习的各个学生，朝廷每天有米粮供给，父母每年给他们冬夏的衣服，没有受冻挨饿的担心；坐在高大的房屋里读各种书籍，再没有奔走的劳累了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380880" y="304920"/>
            <a:ext cx="80773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有司业、博士为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之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师， 未有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问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而不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告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而不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得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者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"/>
          <p:cNvSpPr/>
          <p:nvPr/>
        </p:nvSpPr>
        <p:spPr>
          <a:xfrm>
            <a:off x="2485440" y="9079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代太学生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5004720" y="83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请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7093800" y="83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告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972360" y="20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回答的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6219720" y="836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46836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有司业、博士做他们的老师，没有问题得不到回答、要求得不到满足的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23640" y="47628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0000"/>
                </a:solidFill>
                <a:uFillTx/>
                <a:latin typeface="Arial"/>
              </a:rPr>
              <a:t>凡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所</a:t>
            </a:r>
            <a:r>
              <a:rPr b="1" lang="zh-CN" sz="3200" spc="-1" strike="noStrike" u="sng">
                <a:solidFill>
                  <a:srgbClr val="990000"/>
                </a:solidFill>
                <a:uFillTx/>
                <a:latin typeface="Arial"/>
              </a:rPr>
              <a:t>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有之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皆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集于此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不必若余之手录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0000"/>
                </a:solidFill>
                <a:uFillTx/>
                <a:latin typeface="Arial"/>
              </a:rPr>
              <a:t>假诸人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而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见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"/>
          <p:cNvSpPr/>
          <p:nvPr/>
        </p:nvSpPr>
        <p:spPr>
          <a:xfrm>
            <a:off x="179280" y="1125360"/>
            <a:ext cx="8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凡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3420360" y="1125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集中在这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"/>
          <p:cNvSpPr/>
          <p:nvPr/>
        </p:nvSpPr>
        <p:spPr>
          <a:xfrm>
            <a:off x="1258920" y="1125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应该，应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396720" y="22766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向人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179280" y="2781360"/>
            <a:ext cx="77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诸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之于，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兼词，是代词“之”和介词“于”的合音，并兼有这两个词的意义。之，指书。于，向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1837800" y="2276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然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611280" y="414972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凡是应该有的书都集中在这里，不必像我那样动手抄写，要向别人借来书然后才看得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228600" y="914400"/>
            <a:ext cx="8458200" cy="27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其  业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有不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精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德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有不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成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者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非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天质</a:t>
            </a:r>
            <a:r>
              <a:rPr b="0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卑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则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心不若余之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专  耳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，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岂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他人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之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过哉</a:t>
            </a: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08040" y="1484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他们的学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2341080" y="148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精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3422160" y="1484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德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6"/>
          <p:cNvSpPr/>
          <p:nvPr/>
        </p:nvSpPr>
        <p:spPr>
          <a:xfrm>
            <a:off x="4427640" y="1484280"/>
            <a:ext cx="239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成器的地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6516720" y="1484280"/>
            <a:ext cx="9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天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8"/>
          <p:cNvSpPr/>
          <p:nvPr/>
        </p:nvSpPr>
        <p:spPr>
          <a:xfrm>
            <a:off x="1858320" y="3500280"/>
            <a:ext cx="54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非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则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不是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就是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，表选择关系的连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9"/>
          <p:cNvSpPr/>
          <p:nvPr/>
        </p:nvSpPr>
        <p:spPr>
          <a:xfrm>
            <a:off x="396360" y="263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低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1404360" y="270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就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3637800" y="2637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专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6080040" y="2708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难道，表反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3"/>
          <p:cNvSpPr/>
          <p:nvPr/>
        </p:nvSpPr>
        <p:spPr>
          <a:xfrm>
            <a:off x="7524720" y="1341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之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助词，无实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4"/>
          <p:cNvSpPr/>
          <p:nvPr/>
        </p:nvSpPr>
        <p:spPr>
          <a:xfrm>
            <a:off x="4768560" y="270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罢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5"/>
          <p:cNvSpPr/>
          <p:nvPr/>
        </p:nvSpPr>
        <p:spPr>
          <a:xfrm>
            <a:off x="250920" y="40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他们的学业如果有不精通的地方，德行如果有不成器的地方，不是天资低下，就是用心不如我专一罢了，哪里是别人的过失呢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5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539640" y="476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太学生学习条件之优越表现在哪些方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395280" y="1700280"/>
            <a:ext cx="8077320" cy="4704120"/>
          </a:xfrm>
          <a:prstGeom prst="rect">
            <a:avLst/>
          </a:prstGeom>
          <a:solidFill>
            <a:srgbClr val="fff7e1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“日有廪稍之供”，“岁有裘葛之遗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无冻馁之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“坐大厦之下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无奔走之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“有司业、博士为之师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专门老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“书皆集于此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丰富藏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765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言道：“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自古雄才多磨难，从来纨绔少伟男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”孟子也说：“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夫天将降大任于斯人也，必先苦其心志，劳其筋骨，饿其体肤，空乏其身，行拂乱其所为。</a:t>
            </a:r>
            <a:r>
              <a:rPr b="0" lang="zh-CN" sz="40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这些都说明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苦难并非全是坏事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4000" spc="-1" strike="noStrike">
                <a:solidFill>
                  <a:srgbClr val="ff00ff"/>
                </a:solidFill>
                <a:latin typeface="Arial"/>
              </a:rPr>
              <a:t>只要我们善于化苦难为动力，则苦难就会成为成功的垫脚石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900000" y="25992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段哪些地方表现了明代太学生优越的学习条件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"/>
          <p:cNvSpPr/>
          <p:nvPr/>
        </p:nvSpPr>
        <p:spPr>
          <a:xfrm>
            <a:off x="324000" y="3105360"/>
            <a:ext cx="8604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县官日有廪稍之供，父母岁有裘葛之遗，无冻馁之患矣；坐大厦之下而诵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诗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》《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书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，无奔走之劳矣；有司业、博士为之师，未有问而不告，求而不得者也；凡所宜有之书皆集于此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也是从</a:t>
            </a:r>
            <a:r>
              <a:rPr b="1" lang="zh-CN" sz="3600" spc="-1" strike="noStrike" u="sng">
                <a:solidFill>
                  <a:srgbClr val="333399"/>
                </a:solidFill>
                <a:uFillTx/>
                <a:latin typeface="楷体_GB2312"/>
                <a:ea typeface="楷体_GB2312"/>
              </a:rPr>
              <a:t>衣、食、住、行、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师、书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几个方面表现了明代太学生优越的学习条件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2689200" y="4572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"/>
          <p:cNvSpPr/>
          <p:nvPr/>
        </p:nvSpPr>
        <p:spPr>
          <a:xfrm>
            <a:off x="3429000" y="152280"/>
            <a:ext cx="1828800" cy="1447920"/>
          </a:xfrm>
          <a:prstGeom prst="irregularSeal2">
            <a:avLst/>
          </a:prstGeom>
          <a:noFill/>
          <a:ln w="475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Times New Roman"/>
              </a:rPr>
              <a:t>对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228600" y="3505320"/>
            <a:ext cx="914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754920" y="38545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诸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求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2727360" y="2286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2450520" y="1843200"/>
            <a:ext cx="667800" cy="44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1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、衣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、住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3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、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4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、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5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华文新魏"/>
              </a:rPr>
              <a:t>、结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1309680" y="2743200"/>
            <a:ext cx="4586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9"/>
          <p:cNvSpPr/>
          <p:nvPr/>
        </p:nvSpPr>
        <p:spPr>
          <a:xfrm>
            <a:off x="1676520" y="2438280"/>
            <a:ext cx="228600" cy="3733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5808960" y="1886040"/>
            <a:ext cx="607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、幼时抄书之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、成年叩问之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、求师奔走之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、住读生活之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、总括：勤且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3352680" y="2590920"/>
            <a:ext cx="1447920" cy="2438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2"/>
          <p:cNvSpPr/>
          <p:nvPr/>
        </p:nvSpPr>
        <p:spPr>
          <a:xfrm>
            <a:off x="3419640" y="3500280"/>
            <a:ext cx="1600200" cy="7621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3"/>
          <p:cNvSpPr/>
          <p:nvPr/>
        </p:nvSpPr>
        <p:spPr>
          <a:xfrm flipV="1">
            <a:off x="3048120" y="3352680"/>
            <a:ext cx="1752480" cy="9144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4"/>
          <p:cNvSpPr/>
          <p:nvPr/>
        </p:nvSpPr>
        <p:spPr>
          <a:xfrm flipV="1">
            <a:off x="3124080" y="2590920"/>
            <a:ext cx="1752840" cy="25905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8085960" y="354960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自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经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7389720" y="2514600"/>
            <a:ext cx="459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7"/>
          <p:cNvSpPr/>
          <p:nvPr/>
        </p:nvSpPr>
        <p:spPr>
          <a:xfrm>
            <a:off x="7620120" y="2286000"/>
            <a:ext cx="228600" cy="3733920"/>
          </a:xfrm>
          <a:custGeom>
            <a:avLst/>
            <a:gdLst>
              <a:gd name="textAreaLeft" fmla="*/ 0 w 228600"/>
              <a:gd name="textAreaRight" fmla="*/ 82440 w 228600"/>
              <a:gd name="textAreaTop" fmla="*/ 97200 h 3733920"/>
              <a:gd name="textAreaBottom" fmla="*/ 3636720 h 373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dur="indefinite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dur="indefinite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228600" y="990720"/>
          <a:ext cx="8381880" cy="5830920"/>
        </p:xfrm>
        <a:graphic>
          <a:graphicData uri="http://schemas.openxmlformats.org/drawingml/2006/table">
            <a:tbl>
              <a:tblPr/>
              <a:tblGrid>
                <a:gridCol w="685800"/>
                <a:gridCol w="1752480"/>
                <a:gridCol w="3048120"/>
                <a:gridCol w="2895480"/>
              </a:tblGrid>
              <a:tr h="1168200"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序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对比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方面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宋濂年轻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现在的太学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840"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父母岁有裘葛之遗）无</a:t>
                      </a:r>
                      <a:r>
                        <a:rPr b="1" lang="zh-CN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冻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馁之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3680"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县官日有廪稍之    供）无冻</a:t>
                      </a:r>
                      <a:r>
                        <a:rPr b="1" lang="zh-CN" sz="2400" spc="-1" strike="noStrike">
                          <a:solidFill>
                            <a:srgbClr val="990000"/>
                          </a:solidFill>
                          <a:latin typeface="Arial"/>
                        </a:rPr>
                        <a:t>馁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之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2760"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负箧曳屣，行深山巨谷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840"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书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凡所宜有之书皆集于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600"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求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余立侍左右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…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则又请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Text Box 39"/>
          <p:cNvSpPr/>
          <p:nvPr/>
        </p:nvSpPr>
        <p:spPr>
          <a:xfrm>
            <a:off x="3217320" y="23623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余则缊袍敝衣处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0"/>
          <p:cNvSpPr/>
          <p:nvPr/>
        </p:nvSpPr>
        <p:spPr>
          <a:xfrm>
            <a:off x="2803680" y="297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1"/>
          <p:cNvSpPr/>
          <p:nvPr/>
        </p:nvSpPr>
        <p:spPr>
          <a:xfrm>
            <a:off x="3381840" y="306396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日再食，无鲜肥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味之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2"/>
          <p:cNvSpPr/>
          <p:nvPr/>
        </p:nvSpPr>
        <p:spPr>
          <a:xfrm>
            <a:off x="6381720" y="4114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无奔走之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3"/>
          <p:cNvSpPr/>
          <p:nvPr/>
        </p:nvSpPr>
        <p:spPr>
          <a:xfrm>
            <a:off x="3357000" y="4968720"/>
            <a:ext cx="201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无从致书以观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…</a:t>
            </a: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..</a:t>
            </a: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敢稍违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4"/>
          <p:cNvSpPr/>
          <p:nvPr/>
        </p:nvSpPr>
        <p:spPr>
          <a:xfrm>
            <a:off x="6440400" y="5883120"/>
            <a:ext cx="146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未有问而不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Times New Roman"/>
              </a:rPr>
              <a:t>求而不得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5"/>
          <p:cNvSpPr/>
          <p:nvPr/>
        </p:nvSpPr>
        <p:spPr>
          <a:xfrm>
            <a:off x="1169640" y="108000"/>
            <a:ext cx="354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80"/>
                </a:solidFill>
                <a:latin typeface="Times New Roman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008080"/>
                </a:solidFill>
                <a:latin typeface="Times New Roman"/>
                <a:ea typeface="华文新魏"/>
              </a:rPr>
              <a:t>用文中原句完成下面表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48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6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3412080" y="3859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对比写作手法的运用及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3515400" y="3645000"/>
            <a:ext cx="8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自已与同舍生生活情况的对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2139120" y="1125360"/>
            <a:ext cx="8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师生态度的对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2059200" y="190332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师：辞色严厉，甚至叱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6"/>
          <p:cNvSpPr/>
          <p:nvPr/>
        </p:nvSpPr>
        <p:spPr>
          <a:xfrm>
            <a:off x="1874520" y="258912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生：色愈恭，礼愈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7"/>
          <p:cNvSpPr/>
          <p:nvPr/>
        </p:nvSpPr>
        <p:spPr>
          <a:xfrm>
            <a:off x="2243520" y="440388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同舍生：衣饰华美，饮食鲜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2151360" y="50133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作者：緼袍敝衣，日仅再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8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3"/>
          <p:cNvSpPr/>
          <p:nvPr/>
        </p:nvSpPr>
        <p:spPr>
          <a:xfrm>
            <a:off x="2553840" y="12430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师：辞色严厉，甚至叱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2408400" y="19288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生：色愈恭，礼愈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669960" y="15573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师生态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520920" y="28335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生活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7"/>
          <p:cNvSpPr/>
          <p:nvPr/>
        </p:nvSpPr>
        <p:spPr>
          <a:xfrm>
            <a:off x="2699280" y="253836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同舍生：衣饰华美，饮食鲜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8"/>
          <p:cNvSpPr/>
          <p:nvPr/>
        </p:nvSpPr>
        <p:spPr>
          <a:xfrm>
            <a:off x="2626560" y="31478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：緼袍敝衣，日仅再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9"/>
          <p:cNvSpPr/>
          <p:nvPr/>
        </p:nvSpPr>
        <p:spPr>
          <a:xfrm>
            <a:off x="565200" y="47386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学习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1752480" y="403848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昔日作者：借书抄书，奔走求师，生活艰辛，尊师力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1752480" y="495288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今日太学生：衣食丰足，学舍宽宏，有问必答，应有尽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12"/>
          <p:cNvSpPr/>
          <p:nvPr/>
        </p:nvSpPr>
        <p:spPr>
          <a:xfrm>
            <a:off x="6400800" y="1371600"/>
            <a:ext cx="228600" cy="914400"/>
          </a:xfrm>
          <a:custGeom>
            <a:avLst/>
            <a:gdLst>
              <a:gd name="textAreaLeft" fmla="*/ 0 w 228600"/>
              <a:gd name="textAreaRight" fmla="*/ 8244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13"/>
          <p:cNvSpPr/>
          <p:nvPr/>
        </p:nvSpPr>
        <p:spPr>
          <a:xfrm>
            <a:off x="6553080" y="2743200"/>
            <a:ext cx="304920" cy="1066680"/>
          </a:xfrm>
          <a:custGeom>
            <a:avLst/>
            <a:gdLst>
              <a:gd name="textAreaLeft" fmla="*/ 0 w 304920"/>
              <a:gd name="textAreaRight" fmla="*/ 11016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4"/>
          <p:cNvSpPr/>
          <p:nvPr/>
        </p:nvSpPr>
        <p:spPr>
          <a:xfrm>
            <a:off x="6934320" y="434340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15"/>
          <p:cNvSpPr/>
          <p:nvPr/>
        </p:nvSpPr>
        <p:spPr>
          <a:xfrm>
            <a:off x="6696000" y="1623960"/>
            <a:ext cx="11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16"/>
          <p:cNvSpPr/>
          <p:nvPr/>
        </p:nvSpPr>
        <p:spPr>
          <a:xfrm>
            <a:off x="6848640" y="2919240"/>
            <a:ext cx="11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7"/>
          <p:cNvSpPr/>
          <p:nvPr/>
        </p:nvSpPr>
        <p:spPr>
          <a:xfrm>
            <a:off x="7251840" y="4800600"/>
            <a:ext cx="189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对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8"/>
          <p:cNvSpPr/>
          <p:nvPr/>
        </p:nvSpPr>
        <p:spPr>
          <a:xfrm>
            <a:off x="8220240" y="2128680"/>
            <a:ext cx="9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9"/>
          <p:cNvSpPr/>
          <p:nvPr/>
        </p:nvSpPr>
        <p:spPr>
          <a:xfrm>
            <a:off x="7763040" y="1828800"/>
            <a:ext cx="304560" cy="1447920"/>
          </a:xfrm>
          <a:custGeom>
            <a:avLst/>
            <a:gdLst>
              <a:gd name="textAreaLeft" fmla="*/ 0 w 304560"/>
              <a:gd name="textAreaRight" fmla="*/ 109800 w 30456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2" dur="indefinite" restart="never" nodeType="tmRoot">
          <p:childTnLst>
            <p:seq>
              <p:cTn id="1193" dur="indefinite" nodeType="mainSeq">
                <p:childTnLst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dur="indefinite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2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3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5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5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6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6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7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8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533520" y="376200"/>
            <a:ext cx="152388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思考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971640" y="1413000"/>
            <a:ext cx="78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  <a:ea typeface="隶书"/>
              </a:rPr>
              <a:t>作者通过对比，想说明什么道理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WordArt 4"/>
          <p:cNvSpPr txBox="1"/>
          <p:nvPr/>
        </p:nvSpPr>
        <p:spPr>
          <a:xfrm>
            <a:off x="609480" y="2971800"/>
            <a:ext cx="914400" cy="69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答：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2124000" y="2421000"/>
            <a:ext cx="568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通过对比，作者说明了学习条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的好坏，对学习效果没有决定性的影响。成功的重要因素是求学者的态度：要舍得吃苦，要勤奋（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勤且艰）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，要专心（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专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1692360" y="50133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　　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一个人能够学有所成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关键在于自己的勤奋和专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8" dur="indefinite" restart="never" nodeType="tmRoot">
          <p:childTnLst>
            <p:seq>
              <p:cTn id="1289" dur="indefinite" nodeType="mainSeq">
                <p:childTnLst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179280" y="0"/>
            <a:ext cx="800100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东阳马生君则在太学   已  二年，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流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甚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称其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贤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。余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朝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(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于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)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京师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，  生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以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乡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子     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谒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  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余。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撰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       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长书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以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贽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，       辞甚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畅达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7309080" y="549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同辈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4"/>
          <p:cNvSpPr/>
          <p:nvPr/>
        </p:nvSpPr>
        <p:spPr>
          <a:xfrm>
            <a:off x="325080" y="148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1331280" y="1557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贤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6"/>
          <p:cNvSpPr/>
          <p:nvPr/>
        </p:nvSpPr>
        <p:spPr>
          <a:xfrm>
            <a:off x="3060720" y="14842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到京城朝见皇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5940720" y="1628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8"/>
          <p:cNvSpPr/>
          <p:nvPr/>
        </p:nvSpPr>
        <p:spPr>
          <a:xfrm>
            <a:off x="1764720" y="3357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拜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3161160" y="3429000"/>
            <a:ext cx="284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他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写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封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长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0"/>
          <p:cNvSpPr/>
          <p:nvPr/>
        </p:nvSpPr>
        <p:spPr>
          <a:xfrm>
            <a:off x="6800760" y="35002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把（它）作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1"/>
          <p:cNvSpPr/>
          <p:nvPr/>
        </p:nvSpPr>
        <p:spPr>
          <a:xfrm>
            <a:off x="855000" y="46530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初见面时为表敬意送的礼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2"/>
          <p:cNvSpPr/>
          <p:nvPr/>
        </p:nvSpPr>
        <p:spPr>
          <a:xfrm>
            <a:off x="4284720" y="450864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流畅、通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13"/>
          <p:cNvSpPr/>
          <p:nvPr/>
        </p:nvSpPr>
        <p:spPr>
          <a:xfrm>
            <a:off x="0" y="5445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了一篇长信作为表示敬意的见面礼，言辞很流畅、通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0" y="47628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东阳县的马生君在太学里读书已经两年了，同辈的人很称赞他的贤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15"/>
          <p:cNvSpPr/>
          <p:nvPr/>
        </p:nvSpPr>
        <p:spPr>
          <a:xfrm>
            <a:off x="5516640" y="22766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到京城朝见皇帝，他以同乡晚辈的身份拜见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0" dur="indefinite" restart="never" nodeType="tmRoot">
          <p:childTnLst>
            <p:seq>
              <p:cTn id="1321" dur="indefinite" nodeType="mainSeq">
                <p:childTnLst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250920" y="26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论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言  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而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色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自谓少时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心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于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是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可 谓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学 者 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1692360" y="83664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辩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4"/>
          <p:cNvSpPr/>
          <p:nvPr/>
        </p:nvSpPr>
        <p:spPr>
          <a:xfrm>
            <a:off x="755640" y="9079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3348360" y="9079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语言平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5004720" y="907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平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6559200" y="907920"/>
            <a:ext cx="22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用心于学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于学用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324000" y="2060640"/>
            <a:ext cx="12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于：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"/>
          <p:cNvSpPr/>
          <p:nvPr/>
        </p:nvSpPr>
        <p:spPr>
          <a:xfrm>
            <a:off x="1836360" y="2060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劳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10"/>
          <p:cNvSpPr/>
          <p:nvPr/>
        </p:nvSpPr>
        <p:spPr>
          <a:xfrm>
            <a:off x="2627280" y="206064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1"/>
          <p:cNvSpPr/>
          <p:nvPr/>
        </p:nvSpPr>
        <p:spPr>
          <a:xfrm>
            <a:off x="4140360" y="21337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善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2"/>
          <p:cNvSpPr/>
          <p:nvPr/>
        </p:nvSpPr>
        <p:spPr>
          <a:xfrm>
            <a:off x="539640" y="314172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同他辩论问题言辞温和而脸色平和。他自己说少年时在学习上用心很劳苦。这可以说是善于学习的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8" dur="indefinite" restart="never" nodeType="tmRoot">
          <p:childTnLst>
            <p:seq>
              <p:cTn id="1389" dur="indefinite" nodeType="mainSeq">
                <p:childTnLst>
                  <p:par>
                    <p:cTn id="1390" fill="hold">
                      <p:stCondLst>
                        <p:cond delay="indefinite"/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fill="hold">
                      <p:stCondLst>
                        <p:cond delay="indefinite"/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6" fill="hold">
                      <p:stCondLst>
                        <p:cond delay="indefinite"/>
                      </p:stCondLst>
                      <p:childTnLst>
                        <p:par>
                          <p:cTn id="1407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6" fill="hold">
                      <p:stCondLst>
                        <p:cond delay="indefinite"/>
                      </p:stCondLst>
                      <p:childTnLst>
                        <p:par>
                          <p:cTn id="1417" fill="hold">
                            <p:stCondLst>
                              <p:cond delay="0"/>
                            </p:stCondLst>
                            <p:childTnLst>
                              <p:par>
                                <p:cTn id="14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1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539640" y="549360"/>
            <a:ext cx="820908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其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将  归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见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  其  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亲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也，余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故</a:t>
            </a:r>
            <a:r>
              <a:rPr b="0" lang="zh-CN" sz="3200" spc="-1" strike="noStrike" u="sng">
                <a:solidFill>
                  <a:srgbClr val="ff0066"/>
                </a:solidFill>
                <a:uFillTx/>
                <a:latin typeface="黑体"/>
                <a:ea typeface="黑体"/>
              </a:rPr>
              <a:t>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 道   为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之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   难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以</a:t>
            </a:r>
            <a:r>
              <a:rPr b="0" lang="zh-CN" sz="3200" spc="-1" strike="noStrike" u="sng">
                <a:solidFill>
                  <a:srgbClr val="990000"/>
                </a:solidFill>
                <a:uFillTx/>
                <a:latin typeface="黑体"/>
                <a:ea typeface="黑体"/>
              </a:rPr>
              <a:t>告  之</a:t>
            </a:r>
            <a:r>
              <a:rPr b="0" lang="zh-CN" sz="3200" spc="-1" strike="noStrike">
                <a:solidFill>
                  <a:srgbClr val="ff0066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2413800" y="1125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探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5292720" y="1268280"/>
            <a:ext cx="317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因此＼特意　说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684720" y="2349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2467800" y="2421000"/>
            <a:ext cx="31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连词，表目的，相当于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来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95280" y="168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684360" y="1197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3976560" y="119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父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0"/>
          <p:cNvSpPr/>
          <p:nvPr/>
        </p:nvSpPr>
        <p:spPr>
          <a:xfrm>
            <a:off x="250920" y="32130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　　他将要回家探望他的父母，因此我讲讲求学的艰（困）难来告诉他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2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7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395280" y="62028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作者写这篇赠序的背景和意图是什么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539640" y="1888200"/>
            <a:ext cx="7991640" cy="38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⑴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马君则在太学已二年，流辈甚称其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  ⑵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同乡关系，“以乡人子谒余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  ⑶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撰长书，辞甚畅达，与之论辩，言和而色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自谓少时用心于学甚劳，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是可谓善学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　　总之，马生贤能、有才、好学、善学、谦虚。“其将归见其亲”，“故道为学之难”来进一步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勉励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他刻苦向学。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10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2" dur="1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9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1000" fill="hold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6" dur="1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1000" fill="hold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3" dur="1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0" dur="10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403280" y="333360"/>
            <a:ext cx="39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解题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395280" y="170028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文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节选自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宋学士文集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里的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朝京稿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。此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于洪武十一年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37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。这一年，辞官归里的宋濂又从家乡到应天府（今江苏省南京市，当时是国都）朝见朱元璋。他的同乡晚辈马君则来拜见他，他便写了这篇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赠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送给东阳马生。东阳，在今浙江省，当时与浦江、义乌等县同属金华府。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本文的重点是叙述自己的力学苦学的情况，以激励对方努力学习为目的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是对晚辈的称呼，也有亲密的意思。东阳马生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东阳的马君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826920" y="907920"/>
            <a:ext cx="5113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e0e30"/>
                </a:solidFill>
                <a:latin typeface="华文行楷"/>
                <a:ea typeface="华文行楷"/>
              </a:rPr>
              <a:t>关于文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e0e30"/>
                </a:solidFill>
                <a:latin typeface="华文行楷"/>
                <a:ea typeface="华文行楷"/>
              </a:rPr>
              <a:t>    </a:t>
            </a:r>
            <a:r>
              <a:rPr b="1" lang="zh-CN" sz="3200" spc="-1" strike="noStrike">
                <a:solidFill>
                  <a:srgbClr val="0e0e30"/>
                </a:solidFill>
                <a:latin typeface="华文行楷"/>
                <a:ea typeface="华文行楷"/>
              </a:rPr>
              <a:t>序，是一种文体，分书序和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赠序</a:t>
            </a:r>
            <a:r>
              <a:rPr b="1" lang="zh-CN" sz="3200" spc="-1" strike="noStrike">
                <a:solidFill>
                  <a:srgbClr val="0e0e30"/>
                </a:solidFill>
                <a:latin typeface="华文行楷"/>
                <a:ea typeface="华文行楷"/>
              </a:rPr>
              <a:t>两种。书序比较早，多为叙述著作者的意趣、写作缘起等；</a:t>
            </a:r>
            <a:r>
              <a:rPr b="1" lang="zh-CN" sz="3200" spc="-1" strike="noStrike">
                <a:solidFill>
                  <a:srgbClr val="ff0000"/>
                </a:solidFill>
                <a:latin typeface="华文行楷"/>
                <a:ea typeface="华文行楷"/>
              </a:rPr>
              <a:t>赠序</a:t>
            </a:r>
            <a:r>
              <a:rPr b="1" lang="zh-CN" sz="3200" spc="-1" strike="noStrike">
                <a:solidFill>
                  <a:srgbClr val="0e0e30"/>
                </a:solidFill>
                <a:latin typeface="华文行楷"/>
                <a:ea typeface="华文行楷"/>
              </a:rPr>
              <a:t>创于唐初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古代的一种文体，有临别赠言的性质</a:t>
            </a:r>
            <a:r>
              <a:rPr b="1" lang="zh-CN" sz="3200" spc="-1" strike="noStrike">
                <a:solidFill>
                  <a:srgbClr val="0e0e30"/>
                </a:solidFill>
                <a:latin typeface="华文行楷"/>
                <a:ea typeface="华文行楷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容多</a:t>
            </a:r>
            <a:r>
              <a:rPr b="1" lang="zh-CN" sz="3200" spc="-1" strike="noStrike">
                <a:solidFill>
                  <a:srgbClr val="0e0e30"/>
                </a:solidFill>
                <a:latin typeface="华文行楷"/>
                <a:ea typeface="华文行楷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推重、赞许、</a:t>
            </a:r>
            <a:r>
              <a:rPr b="1" lang="zh-CN" sz="3200" spc="-1" strike="noStrike">
                <a:solidFill>
                  <a:srgbClr val="0e0e30"/>
                </a:solidFill>
                <a:latin typeface="华文行楷"/>
                <a:ea typeface="华文行楷"/>
              </a:rPr>
              <a:t>赞颂、勉励、祝愿、惜别之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-360" y="1125000"/>
            <a:ext cx="88390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本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是一篇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赠序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其中的“序”，并非“序言”，而是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赠言”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的意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作为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文章的体裁，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序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书序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赠序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之分。</a:t>
            </a:r>
            <a:r>
              <a:rPr b="1" i="1" lang="zh-CN" sz="3600" spc="-1" strike="noStrike">
                <a:solidFill>
                  <a:srgbClr val="cc0000"/>
                </a:solidFill>
                <a:latin typeface="Arial"/>
              </a:rPr>
              <a:t>书序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相当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前言（序）、后记（跋）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，一般是介绍作家的生平，或成书过程与宗旨，为阅读和评价作品提供一定的参考资料，或给以必要的引导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zh-CN" sz="3600" spc="-1" strike="noStrike">
                <a:solidFill>
                  <a:srgbClr val="000000"/>
                </a:solidFill>
                <a:latin typeface="Arial"/>
              </a:rPr>
              <a:t>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赠序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与书序的性质不同，始于唐朝，文人之间以言相赠，表达离别时的某种思想感情，往往因人立论，阐明某些观点，相当于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议论性散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916360" y="0"/>
            <a:ext cx="2743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关于“序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8"/>
          <p:cNvSpPr/>
          <p:nvPr/>
        </p:nvSpPr>
        <p:spPr>
          <a:xfrm>
            <a:off x="6659640" y="34290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2"/>
          <p:cNvGrpSpPr/>
          <p:nvPr/>
        </p:nvGrpSpPr>
        <p:grpSpPr>
          <a:xfrm>
            <a:off x="539640" y="1137240"/>
            <a:ext cx="8006040" cy="5387400"/>
            <a:chOff x="539640" y="1137240"/>
            <a:chExt cx="8006040" cy="5387400"/>
          </a:xfrm>
        </p:grpSpPr>
        <p:pic>
          <p:nvPicPr>
            <p:cNvPr id="52" name="Picture 3" descr="ZWSONG11"/>
            <p:cNvPicPr/>
            <p:nvPr/>
          </p:nvPicPr>
          <p:blipFill>
            <a:blip r:embed="rId1"/>
            <a:stretch/>
          </p:blipFill>
          <p:spPr>
            <a:xfrm>
              <a:off x="5651640" y="2421000"/>
              <a:ext cx="2803320" cy="41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3" name="Group 4"/>
            <p:cNvGrpSpPr/>
            <p:nvPr/>
          </p:nvGrpSpPr>
          <p:grpSpPr>
            <a:xfrm>
              <a:off x="539640" y="1137240"/>
              <a:ext cx="8006040" cy="2197080"/>
              <a:chOff x="539640" y="1137240"/>
              <a:chExt cx="8006040" cy="2197080"/>
            </a:xfrm>
          </p:grpSpPr>
          <p:sp>
            <p:nvSpPr>
              <p:cNvPr id="54" name="Rectangle 5"/>
              <p:cNvSpPr/>
              <p:nvPr/>
            </p:nvSpPr>
            <p:spPr>
              <a:xfrm>
                <a:off x="539640" y="1137240"/>
                <a:ext cx="8006040" cy="61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   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宋濂（</a:t>
                </a:r>
                <a:r>
                  <a:rPr b="1" lang="en-US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310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～</a:t>
                </a:r>
                <a:r>
                  <a:rPr b="1" lang="en-US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1381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楷体_GB2312"/>
                    <a:ea typeface="楷体_GB2312"/>
                  </a:rPr>
                  <a:t>），字景濂，号潜溪，谥文宪，浙江浦江人，明初著名散文家。他生活在元末明初，少时家贫，勤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6"/>
              <p:cNvSpPr/>
              <p:nvPr/>
            </p:nvSpPr>
            <p:spPr>
              <a:xfrm>
                <a:off x="539640" y="2205000"/>
                <a:ext cx="5040360" cy="1129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4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奋好学。从文治方面对明朝的建立和巩固做出了贡献，被推为“开国文臣之首”。生平著作很多，有</a:t>
                </a:r>
                <a:r>
                  <a:rPr b="1" lang="en-US" sz="34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《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宋学士全集</a:t>
                </a:r>
                <a:r>
                  <a:rPr b="1" lang="en-US" sz="34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》</a:t>
                </a:r>
                <a:r>
                  <a:rPr b="1" lang="zh-CN" sz="3400" spc="-1" strike="noStrike">
                    <a:solidFill>
                      <a:srgbClr val="ff0000"/>
                    </a:solidFill>
                    <a:latin typeface="Arial"/>
                    <a:ea typeface="楷体_GB2312"/>
                  </a:rPr>
                  <a:t>。他的文学成就主要在散文方面，尤其长于传记的写作，在当时影响很大。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" name="Picture 7" descr="28"/>
          <p:cNvPicPr/>
          <p:nvPr/>
        </p:nvPicPr>
        <p:blipFill>
          <a:blip r:embed="rId2"/>
          <a:stretch/>
        </p:blipFill>
        <p:spPr>
          <a:xfrm>
            <a:off x="6948360" y="6288120"/>
            <a:ext cx="2195640" cy="56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P1000495_JPG"/>
          <p:cNvPicPr/>
          <p:nvPr/>
        </p:nvPicPr>
        <p:blipFill>
          <a:blip r:embed="rId1"/>
          <a:stretch/>
        </p:blipFill>
        <p:spPr>
          <a:xfrm>
            <a:off x="6372360" y="0"/>
            <a:ext cx="2771640" cy="16286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395280" y="193680"/>
            <a:ext cx="55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宋濂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1310─1381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，字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景濂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，号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潜溪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谥号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文宪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。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浦江人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浙江义乌县一带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，明初著名文学家。生活在元末明初，曾被召为翰林院编修，他借口父母亲年老，辞不就职，专心著述。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宋濂很受朱元璋器重，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命为江南儒学提举，替太子讲经，并在自己左右顾问。</a:t>
            </a:r>
            <a:r>
              <a:rPr b="1" lang="zh-CN" sz="1800" spc="-1" strike="noStrike">
                <a:solidFill>
                  <a:srgbClr val="0000cc"/>
                </a:solidFill>
                <a:latin typeface="Arial"/>
              </a:rPr>
              <a:t>为明代“开国文臣之首”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主修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元史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官至翰林学士承旨，知制诰；朝廷的重要文书，大都由他参与撰写，被称为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开国文臣之首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”年老辞官回乡，不久因长孙宋慎列入胡惟庸党，全家谪往茂州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四川茂汶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，中途病死夔州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四川奉节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。生平著述很多，有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宋学士文集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75</a:t>
            </a:r>
            <a:r>
              <a:rPr b="0" lang="zh-CN" sz="2400" spc="-1" strike="noStrike">
                <a:solidFill>
                  <a:srgbClr val="333399"/>
                </a:solidFill>
                <a:latin typeface="Arial"/>
              </a:rPr>
              <a:t>卷。他的散文成就尤高，立意精深，语言生动畅达。这篇课文是他散文中影响最大的一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宋濂和刘基、高启被并称为明初诗文三大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6629400" y="3333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方正舒体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P1000495_JPG"/>
          <p:cNvPicPr/>
          <p:nvPr/>
        </p:nvPicPr>
        <p:blipFill>
          <a:blip r:embed="rId1"/>
          <a:stretch/>
        </p:blipFill>
        <p:spPr>
          <a:xfrm>
            <a:off x="0" y="76320"/>
            <a:ext cx="2819520" cy="12556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1366920" y="-982440"/>
            <a:ext cx="7777080" cy="94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嗜（       ）                硕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叱咄（              ）     俟（ 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负箧（      ）曳（      ）屣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皲（      ）裂             媵（         ）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衾（       ）                绮（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容臭（       ）            烨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裘（      ）葛（     ）缊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冻馁（       ）             谒（   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撰（            ）           贽（       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438280" y="1035000"/>
            <a:ext cx="95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04920" y="30492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舒体"/>
              </a:rPr>
              <a:t>读准字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2743200" y="1644480"/>
            <a:ext cx="22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chì  du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6248520" y="1066680"/>
            <a:ext cx="145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hu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6400800" y="1644480"/>
            <a:ext cx="14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s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2743200" y="220968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i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4724280" y="2209680"/>
            <a:ext cx="160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6629400" y="2209680"/>
            <a:ext cx="134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2362320" y="2819520"/>
            <a:ext cx="15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ū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3"/>
          <p:cNvSpPr/>
          <p:nvPr/>
        </p:nvSpPr>
        <p:spPr>
          <a:xfrm>
            <a:off x="6172200" y="2743200"/>
            <a:ext cx="13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ì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6248520" y="3352680"/>
            <a:ext cx="12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5"/>
          <p:cNvSpPr/>
          <p:nvPr/>
        </p:nvSpPr>
        <p:spPr>
          <a:xfrm>
            <a:off x="2438280" y="3352680"/>
            <a:ext cx="137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ī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2895480" y="40384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i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6156360" y="3933720"/>
            <a:ext cx="123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8"/>
          <p:cNvSpPr/>
          <p:nvPr/>
        </p:nvSpPr>
        <p:spPr>
          <a:xfrm>
            <a:off x="2362320" y="4572000"/>
            <a:ext cx="130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qi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9"/>
          <p:cNvSpPr/>
          <p:nvPr/>
        </p:nvSpPr>
        <p:spPr>
          <a:xfrm>
            <a:off x="4267080" y="4495680"/>
            <a:ext cx="116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g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0"/>
          <p:cNvSpPr/>
          <p:nvPr/>
        </p:nvSpPr>
        <p:spPr>
          <a:xfrm>
            <a:off x="6172200" y="4572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ù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21"/>
          <p:cNvSpPr/>
          <p:nvPr/>
        </p:nvSpPr>
        <p:spPr>
          <a:xfrm>
            <a:off x="2819520" y="5149800"/>
            <a:ext cx="152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ně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6324480" y="5105520"/>
            <a:ext cx="16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6324480" y="5715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4"/>
          <p:cNvSpPr/>
          <p:nvPr/>
        </p:nvSpPr>
        <p:spPr>
          <a:xfrm>
            <a:off x="2471760" y="57150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u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12:50:53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8T03:49:39Z</dcterms:modified>
  <cp:revision>1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