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F70-75E2-47E5-ABDB-201BEE3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F2F-86D8-4781-AA4D-6B94D545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116-C657-404F-91FF-C55CD9D2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562-1E54-41BB-839A-99A16DE5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176-6E74-4EC9-A761-CEEE1D0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7F9-F25F-44E9-8BFE-EF2F5BCC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3C4-6126-4E4F-A632-EF8E9C1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C9C-E981-4040-A8BD-0922906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007-6E82-4E86-A6C5-17C606F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C2-5280-4EE6-ADDD-185EE9E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856-620F-4FDB-8F9A-B4C7307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2F7-D920-4F47-A2F4-B845D09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5D6-B86E-4F9C-9F3F-92C585276C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潭中鱼可百许头，皆若空游无所依。日光下澈，影布石上，佁然不动；俶尔远逝，往来翕忽。似与游者相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3352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柳宗元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《小石潭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了解课文的内容与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者围绕“始”“游”写了哪些内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抓住了西山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出过渡句与照应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09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总述未识西山以前的游览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怪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0481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209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未始知西山之怪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505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望西山，始指异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572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然后知吾向之未始游，游于是乎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游西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明游西山的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581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始得胜景的喜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_175" descr=""/>
          <p:cNvPicPr/>
          <p:nvPr/>
        </p:nvPicPr>
        <p:blipFill>
          <a:blip r:embed="rId1"/>
          <a:stretch/>
        </p:blipFill>
        <p:spPr>
          <a:xfrm>
            <a:off x="4952880" y="3606840"/>
            <a:ext cx="4191120" cy="3251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讨  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作者为什么说“然后知吾向之未始游，游于是乎始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作者借西山之游，抒发了自己怎样的人生感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文中两次写满酌而醉，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文章中心内容是记叙西山之游，作者为何开篇从他处着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作者怎样用比照映衬来写西山之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85800"/>
            <a:ext cx="4647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恒惴栗（夸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施施而行，漫漫而游（漫无目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高山，入深林，穷回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披草而坐，倾壶而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28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游西山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游西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886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始指异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、缘、斫、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85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贬谪流放的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愤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引起下文的出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1219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心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苦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752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心灵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孤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知所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8160" y="228600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作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11200" y="434340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惊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4520" y="388620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87692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攀援而登… …四望如一（形势高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悠悠乎、洋洋乎（气象阔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觞满酌，颓然就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50292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卓尔不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沉醉、解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傲世情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写景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比照与映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贬后的忧惧、苦闷——游山玩水的赏心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然景物的美好——社会现实的黑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得——始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万物渺小——西山“特立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寄情于景，托物寓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西山的特立——寂寞惆怅、孤标傲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精美语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赏析下列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幽泉怪石，无远不到。到则披草而坐，倾壶而醉。醉则更相枕以卧，卧而梦。意有所极，梦亦同趣。觉而起，起而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为凡是州之山有异态者，皆我有也，而未始知西山之怪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是山之特立，不与培塿为类。悠悠乎与颢气俱，而莫得其涯；洋洋乎与造物者游，而不知其所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觞满酌，颓然就醉，不知日之入。苍然暮色，自远而至，至无所见而犹不欲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凝形释，与万化冥合，然后知吾向之未始游，游于是乎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作  者  简  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6095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唐代文学家、思想家。字子厚，河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今山西永济县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人，世称河东先生、柳柳州。与 韩愈共 同 倡 导 唐 代 古 文 运 动， 并 称 韩 柳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if22" descr=""/>
          <p:cNvPicPr/>
          <p:nvPr/>
        </p:nvPicPr>
        <p:blipFill>
          <a:blip r:embed="rId1"/>
          <a:stretch/>
        </p:blipFill>
        <p:spPr>
          <a:xfrm>
            <a:off x="0" y="609480"/>
            <a:ext cx="302580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3429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柳宗元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(773—8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M_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背  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永贞元年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），积极参加王叔文领导的政治革新运动，失败，被贬为永州司马。心情抑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出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到幽树好石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暂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笑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XS_01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-2052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228600"/>
            <a:ext cx="632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山水游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永州八记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666880"/>
            <a:ext cx="73915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《始得西山宴游记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钴鉧潭记》《钴鉧潭西小丘记》《小石潭记》《袁家渴记》《石渠记》《石涧记》《小石城山记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M_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05320" y="1142640"/>
            <a:ext cx="533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学  习  目  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习在比照与映衬中写景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体会作者所表达的思想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文言文阅读基本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14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疏通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析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总结写作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解析品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N_045" descr=""/>
          <p:cNvPicPr/>
          <p:nvPr/>
        </p:nvPicPr>
        <p:blipFill>
          <a:blip r:embed="rId6"/>
          <a:stretch/>
        </p:blipFill>
        <p:spPr>
          <a:xfrm>
            <a:off x="5715000" y="1828800"/>
            <a:ext cx="237816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M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根据文体特点，感知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代的一种文体。主要是记载事物，并通过记事、记物，写景、记人来抒发作者的感情或见解，即景抒情，托物言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ZW_065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63" name="Ar_0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943600"/>
            <a:ext cx="54900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翻译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余为僇人，居是州，恒惴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苍然暮色，自远而至，至无所见而犹不欲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凝形释，与万化冥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后知吾向之未始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47:40Z</dcterms:created>
  <dc:creator>julong</dc:creator>
  <dc:description/>
  <dc:language>en-US</dc:language>
  <cp:lastModifiedBy>julong</cp:lastModifiedBy>
  <dcterms:modified xsi:type="dcterms:W3CDTF">2003-10-07T06:56:17Z</dcterms:modified>
  <cp:revision>6</cp:revision>
  <dc:subject/>
  <dc:title>PowerPoint 演示文稿</dc:title>
</cp:coreProperties>
</file>