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DC6-70D7-44B1-9C51-BA25BC75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C99-6565-47C4-9509-F3045DE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C97-2F41-4C62-BE5A-30385187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97A-53A6-4B0F-9EDF-2206D0C5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4A3-D6D8-4B89-8984-6459437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886-C05F-4867-9D2B-6FF273CA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E28-4148-4E4D-9119-95DAEC24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5FC-5ACC-4D5C-9CD3-158523A7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BCB-B18C-4BE8-A025-C7D98B2E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AEF-14A9-4E34-9753-CCDE10A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B01-802B-4EC7-BC4A-8B1E63C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B45-3A26-4801-AFB6-92E6F73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CA6A-1C28-4091-A32E-E4FD2FC8F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0,5,&#24187;&#28783;&#29255; 5" TargetMode="External"/><Relationship Id="rId5" Type="http://schemas.openxmlformats.org/officeDocument/2006/relationships/hyperlink" Target="263,6,&#24187;&#28783;&#29255; 6" TargetMode="External"/><Relationship Id="rId6" Type="http://schemas.openxmlformats.org/officeDocument/2006/relationships/hyperlink" Target="262,8,&#24187;&#28783;&#29255; 8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7171"/>
          <p:cNvSpPr/>
          <p:nvPr/>
        </p:nvSpPr>
        <p:spPr>
          <a:xfrm>
            <a:off x="2057400" y="9907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  <a:ea typeface="隶书"/>
              </a:rPr>
              <a:t>送董邵南游河北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7172"/>
          <p:cNvSpPr/>
          <p:nvPr/>
        </p:nvSpPr>
        <p:spPr>
          <a:xfrm>
            <a:off x="3962520" y="20574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cc"/>
                </a:solidFill>
                <a:latin typeface="Times New Roman"/>
                <a:ea typeface="隶书"/>
              </a:rPr>
              <a:t>作者：韩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7179"/>
          <p:cNvSpPr/>
          <p:nvPr/>
        </p:nvSpPr>
        <p:spPr>
          <a:xfrm>
            <a:off x="1371600" y="5334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7180"/>
          <p:cNvSpPr/>
          <p:nvPr/>
        </p:nvSpPr>
        <p:spPr>
          <a:xfrm>
            <a:off x="2819520" y="5334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译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7181"/>
          <p:cNvSpPr/>
          <p:nvPr/>
        </p:nvSpPr>
        <p:spPr>
          <a:xfrm>
            <a:off x="419112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7182"/>
          <p:cNvSpPr/>
          <p:nvPr/>
        </p:nvSpPr>
        <p:spPr>
          <a:xfrm>
            <a:off x="5334120" y="5334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7183"/>
          <p:cNvSpPr/>
          <p:nvPr/>
        </p:nvSpPr>
        <p:spPr>
          <a:xfrm>
            <a:off x="647712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7184"/>
          <p:cNvSpPr/>
          <p:nvPr/>
        </p:nvSpPr>
        <p:spPr>
          <a:xfrm>
            <a:off x="38088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导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9217"/>
          <p:cNvSpPr/>
          <p:nvPr/>
        </p:nvSpPr>
        <p:spPr>
          <a:xfrm>
            <a:off x="457200" y="390600"/>
            <a:ext cx="8305920" cy="155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导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唐代初期，各藩镇仅统领所属各州的甲兵。旋并兼按察、安抚、度支各使，州刺史也为所属，掌握境内全部军政大权。安史之乱后，中央力量大为削弱，唐王朝被迫以魏博、成德、幽州三镇分授安史旧将为节度使。他们在辖区内扩充军队，委派官吏，征收赋税，形成河朔三镇的割据形势。节度使职位，往往父子相继，或为部将承袭。其后，山东、江淮之间也多仿效，列镇相望。九世纪初叶，藩镇发展到四十几个，形成所谓“自国门以外，皆分裂于方镇”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新唐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兵志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局面。藩镇间或互相攻战，或联合反唐。唐王朝虽屡图削弱藩镇势力，但收效甚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本篇大约作于贞元十八或十九年。作者的朋友董邵南怀抱杰出才能，却屡试不第，只好到河北找出路。作者韩愈不赞成董投奔河北蕃镇，故作此序。本文语言简炼，精确、鲜明、生动、为说教文中的名篇</a:t>
            </a:r>
            <a:r>
              <a:rPr b="1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9218"/>
          <p:cNvSpPr/>
          <p:nvPr/>
        </p:nvSpPr>
        <p:spPr>
          <a:xfrm>
            <a:off x="990720" y="838080"/>
            <a:ext cx="7086600" cy="3124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文体知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送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……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序：是赠序，是古代含有临别赠言性质的文体，内容多表示安慰、劝勉、赞许之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动作按钮: 第一张 9219">
            <a:hlinkClick r:id="" action="ppaction://hlinkshowjump?jump=firstslide"/>
          </p:cNvPr>
          <p:cNvSpPr/>
          <p:nvPr/>
        </p:nvSpPr>
        <p:spPr>
          <a:xfrm>
            <a:off x="8839080" y="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0242"/>
          <p:cNvSpPr/>
          <p:nvPr/>
        </p:nvSpPr>
        <p:spPr>
          <a:xfrm>
            <a:off x="0" y="353880"/>
            <a:ext cx="9144000" cy="40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送董生邵南游河北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　　　　　　　　　　 　　韩　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燕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赵古称多慷慨悲歌之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士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董生自举进士，屡不得志于有司，怀抱利器，郁郁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适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兹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土。吾知其必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有合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也。董生勉乎哉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夫以子之不遇时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苟慕义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强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仁者皆爱惜焉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矧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燕赵之士，出乎其性者哉！然吾尝闻风俗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与化移易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吾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恶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知其今不异于古所云邪？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聊以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吾子之行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卜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之也。董生勉乎哉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吾因子有所感矣。为我吊望诸君之墓，而观于其市，复有昔时屠狗者乎？为我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谢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曰：“明天子在上，可以出而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仕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矣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0243"/>
          <p:cNvSpPr/>
          <p:nvPr/>
        </p:nvSpPr>
        <p:spPr>
          <a:xfrm>
            <a:off x="762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0244"/>
          <p:cNvSpPr/>
          <p:nvPr/>
        </p:nvSpPr>
        <p:spPr>
          <a:xfrm>
            <a:off x="39625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q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0245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ě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10246"/>
          <p:cNvSpPr/>
          <p:nvPr/>
        </p:nvSpPr>
        <p:spPr>
          <a:xfrm>
            <a:off x="51814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10247"/>
          <p:cNvSpPr/>
          <p:nvPr/>
        </p:nvSpPr>
        <p:spPr>
          <a:xfrm>
            <a:off x="2438280" y="1752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10248"/>
          <p:cNvSpPr/>
          <p:nvPr/>
        </p:nvSpPr>
        <p:spPr>
          <a:xfrm>
            <a:off x="6172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0249"/>
          <p:cNvSpPr/>
          <p:nvPr/>
        </p:nvSpPr>
        <p:spPr>
          <a:xfrm>
            <a:off x="3429000" y="1600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豪侠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0250"/>
          <p:cNvSpPr/>
          <p:nvPr/>
        </p:nvSpPr>
        <p:spPr>
          <a:xfrm>
            <a:off x="21337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0251"/>
          <p:cNvSpPr/>
          <p:nvPr/>
        </p:nvSpPr>
        <p:spPr>
          <a:xfrm>
            <a:off x="24382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0252"/>
          <p:cNvSpPr/>
          <p:nvPr/>
        </p:nvSpPr>
        <p:spPr>
          <a:xfrm>
            <a:off x="4419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有所遇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0253"/>
          <p:cNvSpPr/>
          <p:nvPr/>
        </p:nvSpPr>
        <p:spPr>
          <a:xfrm>
            <a:off x="685800" y="2986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像你这样不走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0254"/>
          <p:cNvSpPr/>
          <p:nvPr/>
        </p:nvSpPr>
        <p:spPr>
          <a:xfrm>
            <a:off x="2438280" y="301608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如果是仰慕正义、力行仁道的人都会感到惋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0255"/>
          <p:cNvSpPr/>
          <p:nvPr/>
        </p:nvSpPr>
        <p:spPr>
          <a:xfrm>
            <a:off x="64771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何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0256"/>
          <p:cNvSpPr/>
          <p:nvPr/>
        </p:nvSpPr>
        <p:spPr>
          <a:xfrm>
            <a:off x="32004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随教化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0257"/>
          <p:cNvSpPr/>
          <p:nvPr/>
        </p:nvSpPr>
        <p:spPr>
          <a:xfrm>
            <a:off x="51055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10258"/>
          <p:cNvSpPr/>
          <p:nvPr/>
        </p:nvSpPr>
        <p:spPr>
          <a:xfrm>
            <a:off x="-763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姑且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10259"/>
          <p:cNvSpPr/>
          <p:nvPr/>
        </p:nvSpPr>
        <p:spPr>
          <a:xfrm>
            <a:off x="16765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测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0260"/>
          <p:cNvSpPr/>
          <p:nvPr/>
        </p:nvSpPr>
        <p:spPr>
          <a:xfrm>
            <a:off x="19810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致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0261"/>
          <p:cNvSpPr/>
          <p:nvPr/>
        </p:nvSpPr>
        <p:spPr>
          <a:xfrm>
            <a:off x="60958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做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动作按钮: 前进或下一项 10262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动作按钮: 第一张 10263">
            <a:hlinkClick r:id="" action="ppaction://hlinkshowjump?jump=firstslide"/>
          </p:cNvPr>
          <p:cNvSpPr/>
          <p:nvPr/>
        </p:nvSpPr>
        <p:spPr>
          <a:xfrm>
            <a:off x="8915400" y="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1265"/>
          <p:cNvSpPr/>
          <p:nvPr/>
        </p:nvSpPr>
        <p:spPr>
          <a:xfrm>
            <a:off x="228600" y="38088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译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燕赵两地古时候号称（出了）许多感慨悲歌的有志之士。董生参加进士考试，屡次都没有受到主管官员的选拔，满腹的才学无法施展，在抑郁中到那个地方去。我料定你和那边的这类人会意气相投的。董生啊，你好自为之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像你这样不走运，凡是是仰慕正义、力行仁道的人都会感到惋惜的，更何况是那仁义出乎本性的燕赵之士呢！可是我曾听说社会风俗总要随着教化而改变，我怎么能知道那里现在的风气跟古时候说的有什么不同呢？姑且凭你这次前往（的所见）来测定一下吧。董生啊，你好自为之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因你此行而有所感慨。请代我去凭吊望诸君乐毅的坟墓，并且看看市井之中，是否还有像从前那种隐居屠狗的志士？（如果有），请代我向他们致意：“现在有圣明火天子在上，可以出来做官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动作按钮: 后退或前一项 11266">
            <a:hlinkClick r:id="" action="ppaction://hlinkshowjump?jump=previousslide"/>
          </p:cNvPr>
          <p:cNvSpPr/>
          <p:nvPr/>
        </p:nvSpPr>
        <p:spPr>
          <a:xfrm>
            <a:off x="8686800" y="61722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动作按钮: 第一张 11267">
            <a:hlinkClick r:id="" action="ppaction://hlinkshowjump?jump=firstslide"/>
          </p:cNvPr>
          <p:cNvSpPr/>
          <p:nvPr/>
        </p:nvSpPr>
        <p:spPr>
          <a:xfrm>
            <a:off x="8915400" y="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2289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概括本文各段大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12290"/>
          <p:cNvSpPr/>
          <p:nvPr/>
        </p:nvSpPr>
        <p:spPr>
          <a:xfrm>
            <a:off x="304920" y="685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古代河北来看，董生北去定合得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12291"/>
          <p:cNvSpPr/>
          <p:nvPr/>
        </p:nvSpPr>
        <p:spPr>
          <a:xfrm>
            <a:off x="304920" y="1143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风俗教化古今不一定相同，董生此去合得来与否还不一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12292"/>
          <p:cNvSpPr/>
          <p:nvPr/>
        </p:nvSpPr>
        <p:spPr>
          <a:xfrm>
            <a:off x="304920" y="1600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要董生去吊乐毅坟，劝“屠狗者”出来做官，道出本文真意，即挽留之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12293"/>
          <p:cNvSpPr/>
          <p:nvPr/>
        </p:nvSpPr>
        <p:spPr>
          <a:xfrm>
            <a:off x="228600" y="24382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问题：文中两处“</a:t>
            </a:r>
            <a:r>
              <a:rPr b="0" lang="zh-CN" sz="2400" spc="-1" strike="noStrike">
                <a:solidFill>
                  <a:srgbClr val="ffff66"/>
                </a:solidFill>
                <a:latin typeface="隶书"/>
                <a:ea typeface="楷体_GB2312"/>
              </a:rPr>
              <a:t>董生勉乎哉！”表达的意思是否一样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12294"/>
          <p:cNvSpPr/>
          <p:nvPr/>
        </p:nvSpPr>
        <p:spPr>
          <a:xfrm>
            <a:off x="228600" y="2895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含义不同。前一句表祝愿，后一句则是语重心长地告诉董生应有所警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2295"/>
          <p:cNvSpPr/>
          <p:nvPr/>
        </p:nvSpPr>
        <p:spPr>
          <a:xfrm>
            <a:off x="304920" y="3657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文中作者不欲董生助藩镇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2296"/>
          <p:cNvSpPr/>
          <p:nvPr/>
        </p:nvSpPr>
        <p:spPr>
          <a:xfrm>
            <a:off x="304920" y="4038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本文之意在于反对藩镇割据，维护国家统一，他对董生此去河北前途未卜担心。所以劝勉他小心从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2297"/>
          <p:cNvSpPr/>
          <p:nvPr/>
        </p:nvSpPr>
        <p:spPr>
          <a:xfrm>
            <a:off x="228600" y="4800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本文三段话在结构上有何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12298"/>
          <p:cNvSpPr/>
          <p:nvPr/>
        </p:nvSpPr>
        <p:spPr>
          <a:xfrm>
            <a:off x="2286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段话，作者用意一层深一层，层层相连，一转再转，步步深入，写得波澜起伏，曲折多变，委婉，含蓄，巧妙地表情达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动作按钮: 后退或前一项 12299">
            <a:hlinkClick r:id="" action="ppaction://hlinkshowjump?jump=previousslide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动作按钮: 第一张 12300">
            <a:hlinkClick r:id="" action="ppaction://hlinkshowjump?jump=firstslide"/>
          </p:cNvPr>
          <p:cNvSpPr/>
          <p:nvPr/>
        </p:nvSpPr>
        <p:spPr>
          <a:xfrm>
            <a:off x="8915400" y="0"/>
            <a:ext cx="228600" cy="209520"/>
          </a:xfrm>
          <a:custGeom>
            <a:avLst/>
            <a:gdLst>
              <a:gd name="textAreaLeft" fmla="*/ 13320 w 228600"/>
              <a:gd name="textAreaRight" fmla="*/ 215280 w 22860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23564" h="21600">
                <a:moveTo>
                  <a:pt x="0" y="0"/>
                </a:moveTo>
                <a:lnTo>
                  <a:pt x="23564" y="0"/>
                </a:lnTo>
                <a:lnTo>
                  <a:pt x="23564" y="21600"/>
                </a:lnTo>
                <a:lnTo>
                  <a:pt x="0" y="21600"/>
                </a:lnTo>
                <a:close/>
              </a:path>
              <a:path fill="lightenLess" w="23564" h="21600">
                <a:moveTo>
                  <a:pt x="0" y="0"/>
                </a:moveTo>
                <a:lnTo>
                  <a:pt x="23564" y="0"/>
                </a:lnTo>
                <a:lnTo>
                  <a:pt x="22164" y="1400"/>
                </a:lnTo>
                <a:lnTo>
                  <a:pt x="1400" y="1400"/>
                </a:lnTo>
                <a:close/>
              </a:path>
              <a:path fill="darken" w="23564" h="21600">
                <a:moveTo>
                  <a:pt x="23564" y="0"/>
                </a:moveTo>
                <a:lnTo>
                  <a:pt x="23564" y="21600"/>
                </a:lnTo>
                <a:lnTo>
                  <a:pt x="22164" y="20200"/>
                </a:lnTo>
                <a:lnTo>
                  <a:pt x="22164" y="1400"/>
                </a:lnTo>
                <a:close/>
              </a:path>
              <a:path fill="darkenLess" w="23564" h="21600">
                <a:moveTo>
                  <a:pt x="23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4" y="20200"/>
                </a:lnTo>
                <a:close/>
              </a:path>
              <a:path fill="lighten" w="23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4" h="21600">
                <a:moveTo>
                  <a:pt x="11782" y="3837"/>
                </a:moveTo>
                <a:lnTo>
                  <a:pt x="14358" y="6448"/>
                </a:lnTo>
                <a:lnTo>
                  <a:pt x="14358" y="4707"/>
                </a:lnTo>
                <a:lnTo>
                  <a:pt x="16134" y="4707"/>
                </a:lnTo>
                <a:lnTo>
                  <a:pt x="16134" y="8224"/>
                </a:lnTo>
                <a:lnTo>
                  <a:pt x="18745" y="10800"/>
                </a:lnTo>
                <a:lnTo>
                  <a:pt x="17091" y="10800"/>
                </a:lnTo>
                <a:lnTo>
                  <a:pt x="17091" y="17989"/>
                </a:lnTo>
                <a:lnTo>
                  <a:pt x="6473" y="17989"/>
                </a:lnTo>
                <a:lnTo>
                  <a:pt x="6473" y="10800"/>
                </a:lnTo>
                <a:lnTo>
                  <a:pt x="4819" y="10800"/>
                </a:lnTo>
                <a:close/>
              </a:path>
              <a:path fill="darkenLess" w="23564" h="21600">
                <a:moveTo>
                  <a:pt x="14358" y="6448"/>
                </a:moveTo>
                <a:lnTo>
                  <a:pt x="14358" y="4707"/>
                </a:lnTo>
                <a:lnTo>
                  <a:pt x="16134" y="4707"/>
                </a:lnTo>
                <a:lnTo>
                  <a:pt x="16134" y="8224"/>
                </a:lnTo>
                <a:close/>
              </a:path>
              <a:path fill="darkenLess" w="23564" h="21600">
                <a:moveTo>
                  <a:pt x="10859" y="14299"/>
                </a:moveTo>
                <a:lnTo>
                  <a:pt x="12704" y="14299"/>
                </a:lnTo>
                <a:lnTo>
                  <a:pt x="12704" y="17989"/>
                </a:lnTo>
                <a:lnTo>
                  <a:pt x="17091" y="17989"/>
                </a:lnTo>
                <a:lnTo>
                  <a:pt x="17091" y="10800"/>
                </a:lnTo>
                <a:lnTo>
                  <a:pt x="6473" y="10800"/>
                </a:lnTo>
                <a:lnTo>
                  <a:pt x="6473" y="17989"/>
                </a:lnTo>
                <a:lnTo>
                  <a:pt x="1085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5361"/>
          <p:cNvSpPr/>
          <p:nvPr/>
        </p:nvSpPr>
        <p:spPr>
          <a:xfrm>
            <a:off x="914400" y="762120"/>
            <a:ext cx="73152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提问：“世有伯乐，然后有千里马”和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楷体_GB2312"/>
              </a:rPr>
              <a:t>燕赵古称多慷慨悲歌之士”这两句在文中各有何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15363"/>
          <p:cNvSpPr/>
          <p:nvPr/>
        </p:nvSpPr>
        <p:spPr>
          <a:xfrm>
            <a:off x="1143000" y="2517840"/>
            <a:ext cx="6858000" cy="137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世有伯乐，然后有千里马”在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马说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中起论点的作用，下文都是从反面论述千里马被埋没的原因， “燕赵古称多慷慨悲歌之士”在本文中起铺垫作用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既为第一自然段中认为董升北去一定合得来作铺垫，又为下文转写“今不异于古”作铺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动作按钮: 第一张 15364">
            <a:hlinkClick r:id="" action="ppaction://hlinkshowjump?jump=firstslide"/>
          </p:cNvPr>
          <p:cNvSpPr/>
          <p:nvPr/>
        </p:nvSpPr>
        <p:spPr>
          <a:xfrm>
            <a:off x="8915400" y="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e4e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3313"/>
          <p:cNvSpPr/>
          <p:nvPr/>
        </p:nvSpPr>
        <p:spPr>
          <a:xfrm>
            <a:off x="838080" y="533520"/>
            <a:ext cx="47246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比较“说”和“序”两种文体的不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13314"/>
          <p:cNvSpPr/>
          <p:nvPr/>
        </p:nvSpPr>
        <p:spPr>
          <a:xfrm>
            <a:off x="838080" y="1447920"/>
            <a:ext cx="70866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发表议论，也可以记事，都是为了说明一个道理，当发表议论时，重视文辞的力量，常逞其千迴百折之力，极尽嘻笑怒骂之能事，与现代“杂文”大体相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13315"/>
          <p:cNvSpPr/>
          <p:nvPr/>
        </p:nvSpPr>
        <p:spPr>
          <a:xfrm>
            <a:off x="838080" y="3656160"/>
            <a:ext cx="7162920" cy="64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序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是赠序，是古代含有临别赠言性质的文体，内容多表示安慰、劝勉、赞许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动作按钮: 第一张 13316">
            <a:hlinkClick r:id="" action="ppaction://hlinkshowjump?jump=firstslide"/>
          </p:cNvPr>
          <p:cNvSpPr/>
          <p:nvPr/>
        </p:nvSpPr>
        <p:spPr>
          <a:xfrm>
            <a:off x="8915400" y="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4337"/>
          <p:cNvSpPr/>
          <p:nvPr/>
        </p:nvSpPr>
        <p:spPr>
          <a:xfrm>
            <a:off x="0" y="76320"/>
            <a:ext cx="8915400" cy="5273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、课后练习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、背诵全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、想像作文：以董邵南的身份给韩愈回信，可用白话，也可用文言。发挥想像，语言尽量符合人物身份、心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动作按钮: 第一张 14338">
            <a:hlinkClick r:id="" action="ppaction://hlinkshowjump?jump=firstslide"/>
          </p:cNvPr>
          <p:cNvSpPr/>
          <p:nvPr/>
        </p:nvSpPr>
        <p:spPr>
          <a:xfrm>
            <a:off x="8839080" y="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4:26:22Z</dcterms:created>
  <dc:creator>zty</dc:creator>
  <dc:description/>
  <dc:language>en-US</dc:language>
  <cp:lastModifiedBy>admin</cp:lastModifiedBy>
  <dcterms:modified xsi:type="dcterms:W3CDTF">2019-05-08T05:28:50Z</dcterms:modified>
  <cp:revision>11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