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0B5-9C93-4BA4-8327-109A2A0F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286-D52C-4488-B379-2D492E66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A6D-CB61-44AB-97AE-BBDE1DD5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7EE-8511-483F-B1E4-5654DADC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56FE-0E3F-4613-9364-B9CAF273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A0F4-AD48-4FDE-BCFA-7012BC6C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703C-AE00-4690-95FD-3DD99795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5573-A1F9-4B87-937C-703ACE6F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35FE-DE6F-4879-A42C-471FAD52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BE92-2CCB-486C-819B-D3C120DB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9DE9-F07E-4D4A-B703-2D268988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FDA-544F-44C5-8C3E-D85D10C8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BFEE-B2E6-4CA1-BD47-4407749E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8272-BA19-4D93-B793-529D7F0F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0F52-92A0-4F12-92A1-10F57D9D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2EE3-A5CA-4629-AD98-C58A2769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0184-0DA3-43A5-85D8-72D93741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5F0-CD2A-409F-8EFF-91A8D626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72A-09F7-4A05-94A1-D5031C61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B58-5FE2-468E-B983-4C82A24A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E13-A73F-42C4-A4F8-8EAEC15E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AEE-1B88-4218-B9C6-9870B76E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76B-9C6C-479E-9923-2878BB32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B0D-0978-4382-81FD-9F3780C3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A10C-214B-4BB7-9548-8C7E6FD476DD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93D5-CC2F-432A-B37F-BA4E4BF6CEC6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gnews.baidu.com/i?ct=520093696&amp;z=0&amp;tn=baiduimagenewsdetail&amp;word=%BA%AB%D3%FA&amp;in=10354&amp;cl=2&amp;lm=-1&amp;pn=0&amp;rn=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thay.ce.cn/person/200807/24/t20080724_16268993.shtml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baike.baidu.com/view/17592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unan.d0086.com/SKM/bskk/lsrw/lsrw_1257.shtml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cathay.ce.cn/person/200611/06/t20061106_9297739.shtml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D%F5%B0%B2&#687;&amp;in=13033&amp;cl=2&amp;cm=1&amp;sc=0&amp;lm=-1&amp;pn=1&amp;rn=1&amp;di=1808713300&amp;ln=1512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gnews.baidu.com/i?ct=520093696&amp;z=0&amp;tn=baiduimagenewsdetail&amp;word=%CB%D5%E9%F8&amp;in=19514&amp;cl=2&amp;lm=-1&amp;pn=0&amp;rn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B%D5%E4%AD&amp;in=24752&amp;cl=2&amp;cm=1&amp;sc=0&amp;lm=-1&amp;pn=9&amp;rn=1&amp;di=664141921&amp;ln=155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.baidu.com/i?ct=503316480&amp;z=0&amp;tn=baiduimagedetail&amp;word=%CB%D5%D5%DE&amp;in=11419&amp;cl=2&amp;cm=1&amp;sc=0&amp;lm=-1&amp;pn=4&amp;rn=1&amp;di=830771536&amp;ln=26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D4%F8%B9%AE&amp;in=32464&amp;cl=2&amp;cm=1&amp;sc=0&amp;lm=-1&amp;pn=35&amp;rn=1&amp;di=2301721448&amp;ln=277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华文行楷"/>
              </a:rPr>
              <a:t>送董邵南序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韩愈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吾因子有所感矣。为我吊望诸君之墓，而观于其市，复有昔时屠狗者乎？为我谢曰：“明天子在上，可以出而仕矣。”</a:t>
            </a:r>
            <a:br>
              <a:rPr sz="3600"/>
            </a:b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56000" y="1905120"/>
            <a:ext cx="4486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我因为你的此行而产生了一些感想。请你为我到望诸君乐毅的墓上去凭吊一番，并且到那里的街市上看看，还有过去的屠狗者一类的豪侠义士吗？替我向他们殷勤致意：“圣明天子在上执政，可以出来任职效忠了！” </a:t>
            </a:r>
            <a:br>
              <a:rPr sz="2800"/>
            </a:b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董邵南去河北的原因是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(1)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董生举进士，连不得志于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有司 。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(2)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怀抱利器，郁郁适兹土。 </a:t>
            </a:r>
            <a:br>
              <a:rPr sz="4000"/>
            </a:b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吾知其必有合也”原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燕赵古称多感慨悲歌之士 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怀抱利器 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夫以子之不遇时，苟慕义强仁者皆爱惜焉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矧燕赵之士出乎其性者哉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作者拜托董生的两件事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替作者凭吊一下望诸君（乐毅）的墓 。</a:t>
            </a:r>
            <a:br>
              <a:rPr sz="4400"/>
            </a:b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　看看，是否还有过去时代屠狗者（高渐离）一类的埋没在草野的志士 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华文行楷"/>
              </a:rPr>
              <a:t>语言特点—含蓄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文章表面上一直是送董生游河北。开头就预言前去“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必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有合”，是送他去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第二段虽怀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疑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燕赵的风俗可能变了，但要“以吾子之行卜之”，还是要送他去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结尾托他去吊望诸君之墓、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劝谕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燕赵之士归顺朝廷，仍然是送他去。总之，的确是一篇送行的文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但送之正是为了留之，微情妙旨，全寄于笔墨之外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. 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主旨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提醒董生应妥善处理他和唐王朝的关系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就劝其入朝廷效忠 。</a:t>
            </a:r>
            <a:br>
              <a:rPr sz="4800"/>
            </a:b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华文行楷"/>
              </a:rPr>
              <a:t>课件制作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隆尧三中        刘中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2008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年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17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华文行楷"/>
              </a:rPr>
              <a:t>作者简介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28800" y="2236680"/>
            <a:ext cx="2935080" cy="3530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9760" y="1905120"/>
            <a:ext cx="41925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韩愈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768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～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824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方正姚体"/>
                <a:ea typeface="方正姚体"/>
                <a:hlinkClick r:id="rId4"/>
              </a:rPr>
              <a:t>唐代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文学家、哲学家。字</a:t>
            </a: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退之，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祖籍河北昌黎，世称</a:t>
            </a: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韩昌黎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。晚年任</a:t>
            </a: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吏部侍郎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，又称</a:t>
            </a: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韩吏部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。谥号“文”，又称</a:t>
            </a: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韩文公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。他是唐代</a:t>
            </a: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古文运动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的倡导者，宋代苏轼称他“文起八代之衰”，与柳宗元并称“韩柳”，有“文章巨公”和“百代文宗”之名。作品都收在《昌黎先生集》里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柳宗元（左）和欧阳修（右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25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9760" y="1905120"/>
            <a:ext cx="41925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413000"/>
            <a:ext cx="4105440" cy="4752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484280"/>
            <a:ext cx="40212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王安石（左）和苏轼（右）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25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9760" y="1905120"/>
            <a:ext cx="41925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557360"/>
            <a:ext cx="4249800" cy="4606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557360"/>
            <a:ext cx="42498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549000"/>
            <a:ext cx="8540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苏洵（左）和苏辙（右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25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9760" y="1905120"/>
            <a:ext cx="41925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557360"/>
            <a:ext cx="4249800" cy="4537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557360"/>
            <a:ext cx="42498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华文行楷"/>
              </a:rPr>
              <a:t>曾巩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44640"/>
            <a:ext cx="86421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写作背景及文体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董邵南，寿州安丰（今安徽寿县）人，因屡考进士未中，拟去河北托身藩镇幕府。韩愈一贯反对藩镇割据，故作此序赠送他，既同情他仕途的不遇，又劝他不要去为割据的藩镇作不义之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序是惜别赠言的文字，叫作“赠序”，内容多是对于所赠亲友的赞许、推重或勉励之辞，是临别赠言性质的文体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燕赵古称多感慨悲歌之士。董生举进士，连不得志于有司，怀抱利器，郁郁适兹土。吾知其必有合也。董生勉乎哉！</a:t>
            </a:r>
            <a:br>
              <a:rPr sz="3600"/>
            </a:b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自古就说燕、赵一带有很多慷慨激昂的豪侠义士。董生考进士，接连几次未被主考官录取，怀抱杰出的才能，心情抑郁地要到那个地方去。我知道董生此行一定会有所遇合，董生，努力吧！</a:t>
            </a:r>
            <a:br>
              <a:rPr sz="3200"/>
            </a:b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二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3765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夫以子之不遇时，苟慕义彊仁者皆爱惜焉。矧燕、赵之士出乎其性者哉！然吾尝闻风俗与化移易，吾恶知其今不异于古所云邪？聊以吾子之行卜之也。董生勉乎哉！</a:t>
            </a:r>
            <a:br>
              <a:rPr sz="2000"/>
            </a:b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95280" y="1916280"/>
            <a:ext cx="48243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像你这样不遇时，如果是仰慕而勉力实行仁义的人，都会同情怜惜你的。何况燕、赵豪侠之士奉行仁义是出于他们的本性呢！然而，我曾听说风俗是随着教化而改变的，我哪能料想现在比古时所说的有没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两样呢？姑且以你此行去证实吧。董生，努力吧！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6:26:58Z</dcterms:created>
  <dc:creator/>
  <dc:description/>
  <dc:language>en-US</dc:language>
  <cp:lastModifiedBy>微软用户</cp:lastModifiedBy>
  <dcterms:modified xsi:type="dcterms:W3CDTF">2008-10-17T07:51:25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3000000000001024120</vt:lpwstr>
  </property>
</Properties>
</file>