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0E0-48A9-4B48-B991-E44AA134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E01-9D4F-442F-AA08-3128F879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F63-0A40-41EA-B79A-4E3F13D7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152-4CD6-496C-9E35-B6155120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1DF9-1190-4C1E-BB08-D749AE02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40A3-7B51-432B-986C-19B559D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8681-0EA4-4BA9-AF5D-A88F120F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EA09-1036-4C2A-95E9-90C97CCF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46A0-B243-4AE8-9897-63317AD3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7DF-BDCB-4373-B48E-418CB563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3399-4B88-465B-8FE4-3CC8906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2CE-8884-4B2A-AB2B-28A1430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AF5B-0ABB-40DC-96A4-D9C3557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28D-057F-401A-A9FE-9970B16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59E-722A-4DBC-849B-66888E68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2080-E23A-4680-BAB6-8AE1E6AA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637D-F54F-4465-BA7C-7D710C7B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1DB2-9C4A-410C-B48E-97139492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0C40-4AF2-4227-87CB-56FA8D19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8DD40-B7F0-4C0A-BDC3-C015920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D77B6-47F9-475E-B00E-1B3B8FB6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A543-4887-41DC-8EEF-E4AE45F7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CB1-F4C8-4BEA-BC2D-344CB175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85DF-20F7-46A6-98C9-009DCCD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A440-283A-4D24-A5A5-D574A3B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1B5F7-6742-41B4-91E4-1C448E69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462A-EB7F-43C1-AE93-35D8F5E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CFC8E-E76A-40BC-9CFD-C3F15001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AEE2E-2AA8-41CE-B231-8F9165CD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FDECE-1B06-4AB1-8962-721979A7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4EC-3726-49B7-A892-D97FD903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DD1-8435-4315-9434-EA04E6FD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391-E889-4D0F-B5BB-627CE89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9DA-ED7D-4FDD-BECE-6D21192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436-E17B-4DAB-B548-2C5063E8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06E-D607-40E5-A1EE-C0E8902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0E7-08F9-4BCC-A71D-97409729B4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1D1B-380D-4790-8D14-3B6FC4E98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568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6329-FEAC-42CF-A533-557C6CC0F7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748720" y="6453360"/>
            <a:ext cx="142920" cy="14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3280" y="14130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隶书"/>
              </a:rPr>
              <a:t>水 调 歌 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84720" y="393372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苏 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43280" y="5493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苏轼，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子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，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东坡居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，北宋著名的豪放派诗人、大文豪。他与其弟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苏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、其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苏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被世人合称“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三苏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。苏轼的文学成就在北宋是首屈一指的，也是我国文学史上第一流的文学大家，其作品有著名的《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隶书"/>
              </a:rPr>
              <a:t>东坡全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2020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333360"/>
            <a:ext cx="78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这是一首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中秋咏月兼怀亲人的抒情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之作。是中秋词中最为著名的一首。当时苏轼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4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岁，为密州太守，政治上很不得意，与其弟子由已有六七年不见，心情抑郁不欢。但作者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并未因此幻想超脱尘世，而是热爱着人间的现实生活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。他认为，一个人一生很难十全十美，只要大家都能在月光下过得很好，也就可以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919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4360" y="333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琥珀"/>
              </a:rPr>
              <a:t>关于“词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413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词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原是为配乐歌唱而写的歌词，所以起初称“曲子”或“曲子词”，也有称“长短句”的。词有许多词调，表示词调名称的是词牌，如“水调歌头”等，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这种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-方正超大字符集"/>
              </a:rPr>
              <a:t>词牌名与词的内容毫不相干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-方正超大字符集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宋体-方正超大字符集"/>
              </a:rPr>
              <a:t>只是“依声填词”、“按谱填词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407664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词前有时还有小序，，一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介绍作词的背景和意图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如本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丙辰中秋，欢饮达旦，大醉，作此篇，兼怀子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268280"/>
            <a:ext cx="889308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丙辰中秋，欢饮达旦，大醉，作此篇，兼怀子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明月几时有？把酒问青天。不知天上宫阙，今夕是何年。我欲乘风归去，又恐琼楼玉宇，高处不胜寒。起舞弄清影，何似在人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转朱阁，低绮户，照无眠。不应有恨，何事长向别时圆？人有悲欢离合，月有阴晴圆缺，此事古难全。但愿人长久，千里共婵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87640" y="189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琥珀"/>
              </a:rPr>
              <a:t>水调歌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8360" y="9079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1060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24000" y="2205000"/>
            <a:ext cx="3601440" cy="3313440"/>
            <a:chOff x="324000" y="2205000"/>
            <a:chExt cx="3601440" cy="3313440"/>
          </a:xfrm>
        </p:grpSpPr>
        <p:sp>
          <p:nvSpPr>
            <p:cNvPr id="169" name=""/>
            <p:cNvSpPr/>
            <p:nvPr/>
          </p:nvSpPr>
          <p:spPr>
            <a:xfrm>
              <a:off x="468000" y="2205000"/>
              <a:ext cx="3457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天上美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4510080"/>
              <a:ext cx="3455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Arial"/>
                </a:rPr>
                <a:t>人间美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11280" y="476280"/>
            <a:ext cx="6408720" cy="7034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琥珀"/>
              </a:rPr>
              <a:t>从词中哪些句子可以读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6000" y="234936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欲乘风归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56000" y="4421160"/>
            <a:ext cx="4032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起舞弄清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何似在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60436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4049"/>
                </a:moveTo>
                <a:lnTo>
                  <a:pt x="17806" y="11056"/>
                </a:lnTo>
                <a:lnTo>
                  <a:pt x="3794" y="180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771640" y="189000"/>
            <a:ext cx="352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404640"/>
            <a:ext cx="5400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明月几时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把酒问青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不知天上宫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今夕是何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欲乘风归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又恐琼楼玉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高处不胜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起舞弄清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何似在人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27640" y="5661000"/>
            <a:ext cx="2376720" cy="9169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读中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58920" y="404640"/>
            <a:ext cx="7345440" cy="6173280"/>
            <a:chOff x="1258920" y="404640"/>
            <a:chExt cx="7345440" cy="6173280"/>
          </a:xfrm>
        </p:grpSpPr>
        <p:sp>
          <p:nvSpPr>
            <p:cNvPr id="179" name=""/>
            <p:cNvSpPr/>
            <p:nvPr/>
          </p:nvSpPr>
          <p:spPr>
            <a:xfrm>
              <a:off x="1258920" y="404640"/>
              <a:ext cx="5400720" cy="61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明月几时有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把酒问青天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不知天上宫阙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今夕是何年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我欲乘风归去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又恐琼楼玉宇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高处不胜寒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起舞弄清影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Arial"/>
                </a:rPr>
                <a:t>何似在人间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7640" y="5661000"/>
              <a:ext cx="2376720" cy="916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Arial"/>
                </a:rPr>
                <a:t>读中品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820000" y="6453360"/>
            <a:ext cx="324000" cy="404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04640"/>
              <a:gd name="textAreaBottom" fmla="*/ 383760 h 404640"/>
            </a:gdLst>
            <a:ahLst/>
            <a:rect l="textAreaLeft" t="textAreaTop" r="textAreaRight" b="textAreaBottom"/>
            <a:pathLst>
              <a:path w="21600" h="26970">
                <a:moveTo>
                  <a:pt x="0" y="0"/>
                </a:moveTo>
                <a:lnTo>
                  <a:pt x="21600" y="0"/>
                </a:lnTo>
                <a:lnTo>
                  <a:pt x="21600" y="26970"/>
                </a:lnTo>
                <a:lnTo>
                  <a:pt x="0" y="26970"/>
                </a:lnTo>
                <a:close/>
              </a:path>
              <a:path fill="lightenLess" w="21600" h="269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0">
                <a:moveTo>
                  <a:pt x="21600" y="0"/>
                </a:moveTo>
                <a:lnTo>
                  <a:pt x="21600" y="26970"/>
                </a:lnTo>
                <a:lnTo>
                  <a:pt x="20200" y="25570"/>
                </a:lnTo>
                <a:lnTo>
                  <a:pt x="20200" y="1400"/>
                </a:lnTo>
                <a:close/>
              </a:path>
              <a:path fill="darkenLess" w="21600" h="26970">
                <a:moveTo>
                  <a:pt x="21600" y="26970"/>
                </a:moveTo>
                <a:lnTo>
                  <a:pt x="0" y="26970"/>
                </a:lnTo>
                <a:lnTo>
                  <a:pt x="1400" y="25570"/>
                </a:lnTo>
                <a:lnTo>
                  <a:pt x="20200" y="25570"/>
                </a:lnTo>
                <a:close/>
              </a:path>
              <a:path fill="lighten" w="21600" h="26970">
                <a:moveTo>
                  <a:pt x="0" y="269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0"/>
                </a:lnTo>
                <a:close/>
              </a:path>
              <a:path fill="darken" w="21600" h="26970">
                <a:moveTo>
                  <a:pt x="3794" y="13485"/>
                </a:moveTo>
                <a:lnTo>
                  <a:pt x="17806" y="6479"/>
                </a:lnTo>
                <a:lnTo>
                  <a:pt x="17806" y="204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260280"/>
            <a:ext cx="705672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转朱阁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低绮户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照无眠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不应有恨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楷体"/>
              </a:rPr>
              <a:t>何事长向别时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58920" y="765000"/>
            <a:ext cx="720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楷体"/>
              </a:rPr>
              <a:t>人有悲欢离合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楷体"/>
              </a:rPr>
              <a:t>月有阴晴圆缺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楷体"/>
              </a:rPr>
              <a:t>此事古难全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楷体"/>
              </a:rPr>
              <a:t>但愿人长久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华文楷体"/>
              </a:rPr>
              <a:t>千里共婵娟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4360" y="260280"/>
            <a:ext cx="2376360" cy="9169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读中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2349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人有悲欢离合，月有阴晴圆缺，此事古难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9280" y="1484280"/>
            <a:ext cx="9144000" cy="3224520"/>
            <a:chOff x="179280" y="1484280"/>
            <a:chExt cx="9144000" cy="3224520"/>
          </a:xfrm>
        </p:grpSpPr>
        <p:sp>
          <p:nvSpPr>
            <p:cNvPr id="187" name=""/>
            <p:cNvSpPr/>
            <p:nvPr/>
          </p:nvSpPr>
          <p:spPr>
            <a:xfrm>
              <a:off x="179280" y="148428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作者对人生的感悟体现在哪些词句上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0920" y="4005360"/>
              <a:ext cx="795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作者“怀子由”的感情体现在哪句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550040" y="5084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但愿人长久，千里共婵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8675640" y="645336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21216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-544320" y="1484280"/>
            <a:ext cx="9688320" cy="3102120"/>
            <a:chOff x="-544320" y="1484280"/>
            <a:chExt cx="9688320" cy="3102120"/>
          </a:xfrm>
        </p:grpSpPr>
        <p:sp>
          <p:nvSpPr>
            <p:cNvPr id="192" name=""/>
            <p:cNvSpPr/>
            <p:nvPr/>
          </p:nvSpPr>
          <p:spPr>
            <a:xfrm>
              <a:off x="826920" y="1484280"/>
              <a:ext cx="55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上阕：问天（幻想——现实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544320" y="1989000"/>
              <a:ext cx="1277640" cy="21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水调歌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280" y="1771560"/>
              <a:ext cx="360360" cy="2447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3720 h 2447280"/>
                <a:gd name="textAreaBottom" fmla="*/ 2383560 h 244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0000" y="4005000"/>
              <a:ext cx="561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下阙：问月（感伤——祝福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27640" y="1699920"/>
              <a:ext cx="432000" cy="244908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63720 h 2449080"/>
                <a:gd name="textAreaBottom" fmla="*/ 2385360 h 24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04000" y="2276280"/>
              <a:ext cx="23400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旷达的胸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乐观的情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677440" y="6246720"/>
            <a:ext cx="466560" cy="611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611280"/>
              <a:gd name="textAreaBottom" fmla="*/ 581040 h 611280"/>
            </a:gdLst>
            <a:ahLst/>
            <a:rect l="textAreaLeft" t="textAreaTop" r="textAreaRight" b="textAreaBottom"/>
            <a:pathLst>
              <a:path w="21600" h="28295">
                <a:moveTo>
                  <a:pt x="0" y="0"/>
                </a:moveTo>
                <a:lnTo>
                  <a:pt x="21600" y="0"/>
                </a:lnTo>
                <a:lnTo>
                  <a:pt x="21600" y="28295"/>
                </a:lnTo>
                <a:lnTo>
                  <a:pt x="0" y="28295"/>
                </a:lnTo>
                <a:close/>
              </a:path>
              <a:path fill="lightenLess" w="21600" h="28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295">
                <a:moveTo>
                  <a:pt x="21600" y="0"/>
                </a:moveTo>
                <a:lnTo>
                  <a:pt x="21600" y="28295"/>
                </a:lnTo>
                <a:lnTo>
                  <a:pt x="20200" y="26895"/>
                </a:lnTo>
                <a:lnTo>
                  <a:pt x="20200" y="1400"/>
                </a:lnTo>
                <a:close/>
              </a:path>
              <a:path fill="darkenLess" w="21600" h="28295">
                <a:moveTo>
                  <a:pt x="21600" y="28295"/>
                </a:moveTo>
                <a:lnTo>
                  <a:pt x="0" y="28295"/>
                </a:lnTo>
                <a:lnTo>
                  <a:pt x="1400" y="26895"/>
                </a:lnTo>
                <a:lnTo>
                  <a:pt x="20200" y="26895"/>
                </a:lnTo>
                <a:close/>
              </a:path>
              <a:path fill="lighten" w="21600" h="28295">
                <a:moveTo>
                  <a:pt x="0" y="28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895"/>
                </a:lnTo>
                <a:close/>
              </a:path>
              <a:path fill="darken" w="21600" h="28295">
                <a:moveTo>
                  <a:pt x="3794" y="7141"/>
                </a:moveTo>
                <a:lnTo>
                  <a:pt x="17806" y="14147"/>
                </a:lnTo>
                <a:lnTo>
                  <a:pt x="3794" y="2115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0920" y="260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古诗人常借“月亮” 、 “月光”表达思念之情，你知道哪些这方面的诗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773360"/>
            <a:ext cx="882000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今夜月明人尽望，不知秋思落谁家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王建《十五夜望月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举头望明月，低头思故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白《静夜思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海上生明月，天涯共此时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      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张九龄《望月怀远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692280"/>
            <a:ext cx="2592360" cy="10083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试一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284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能以“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月亮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”为中心，创作一首小诗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10800"/>
                </a:moveTo>
                <a:lnTo>
                  <a:pt x="19506" y="3794"/>
                </a:lnTo>
                <a:lnTo>
                  <a:pt x="195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332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256680" cy="770436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90040" y="1197000"/>
            <a:ext cx="26438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转朱阁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低绮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照无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1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 advTm="18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7:33:46Z</dcterms:created>
  <dc:creator>teacher</dc:creator>
  <dc:description/>
  <dc:language>en-US</dc:language>
  <cp:lastModifiedBy>FtpDown</cp:lastModifiedBy>
  <dcterms:modified xsi:type="dcterms:W3CDTF">2006-03-02T12:27:59Z</dcterms:modified>
  <cp:revision>24</cp:revision>
  <dc:subject/>
  <dc:title>幻灯片 1</dc:title>
</cp:coreProperties>
</file>