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gif" ContentType="image/gif"/>
  <Override PartName="/ppt/media/image9.wmf" ContentType="image/x-wmf"/>
  <Override PartName="/ppt/media/image7.jpeg" ContentType="image/jpeg"/>
  <Override PartName="/ppt/media/camera.wav" ContentType="audio/x-wav"/>
  <Override PartName="/ppt/media/type.wav" ContentType="audio/x-wav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BF5-5318-41D6-926E-5C02F5B0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9AA-E072-444F-B9F2-88A31EB3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B39-7489-40A1-B025-DBB1AF85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C11F-F58B-4A35-A47B-8C1C456A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5590-FF0B-4401-A97B-49996408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2163-A167-45B9-A465-D99CD9A5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BB2E-0582-4274-AB54-9F1DAA09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16B1-53A5-496A-BB7C-4059E86F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74F1-18C0-4B37-996C-47742B01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954B-E5ED-4C0A-B491-99BEFC1F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1D32-597F-4A40-B32D-F6244411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BBC-4F3B-4D31-9C18-65CA6260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7686-7F60-4513-83A5-33BFA0A4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E43A-A3C1-4CB0-9749-2EA2E657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4DDD-3C15-437B-81BE-A17945E6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F970-27C3-4DE8-9326-8184B80E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B202-465D-4D1A-8F6D-E0E8FC29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9673-359C-47C9-B0B4-4928B25E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954-2C73-4006-BF9F-DFA34A41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17A-2CCE-4D60-999D-CFFC6A03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F99D-1D7A-4B35-9834-9E9B69BF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C8B8-54E0-4F10-A584-38C76886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DD2-7F93-47DD-9EA4-C5CB2987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2D83-29AF-4CBA-BD0A-1757D53B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PPT\陳小姐\歡迎會\框.gif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B08D-E704-4134-A999-044341BF5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D:\PPT\陳小姐\歡迎會\紙角.gif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A367-DB80-47C8-9DA1-636697289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2"/>
          <p:cNvSpPr/>
          <p:nvPr/>
        </p:nvSpPr>
        <p:spPr>
          <a:xfrm>
            <a:off x="228600" y="2514600"/>
            <a:ext cx="1676520" cy="1676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3"/>
          <p:cNvSpPr/>
          <p:nvPr/>
        </p:nvSpPr>
        <p:spPr>
          <a:xfrm>
            <a:off x="1447920" y="3581280"/>
            <a:ext cx="2514600" cy="2514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"/>
          <p:cNvSpPr/>
          <p:nvPr/>
        </p:nvSpPr>
        <p:spPr>
          <a:xfrm>
            <a:off x="4419720" y="3124080"/>
            <a:ext cx="3429000" cy="3429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685800" y="2971800"/>
            <a:ext cx="762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057400" y="42670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257800" y="3962520"/>
            <a:ext cx="167652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8580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方正舒体"/>
                <a:ea typeface="方正舒体"/>
              </a:rPr>
              <a:t>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133720" y="44197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方正舒体"/>
                <a:ea typeface="方正舒体"/>
              </a:rPr>
              <a:t>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5410080" y="403848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33cc"/>
                </a:solidFill>
                <a:latin typeface="方正舒体"/>
                <a:ea typeface="方正舒体"/>
              </a:rPr>
              <a:t>奴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Object 13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795760"/>
          </a:xfrm>
          <a:prstGeom prst="rect">
            <a:avLst/>
          </a:prstGeom>
          <a:ln w="0">
            <a:noFill/>
          </a:ln>
        </p:spPr>
      </p:pic>
      <p:sp>
        <p:nvSpPr>
          <p:cNvPr id="95" name="WordArt 14"/>
          <p:cNvSpPr txBox="1"/>
          <p:nvPr/>
        </p:nvSpPr>
        <p:spPr>
          <a:xfrm>
            <a:off x="4191120" y="1447920"/>
            <a:ext cx="2743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华文行楷"/>
              </a:rPr>
              <a:t>巴尔扎克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华文行楷"/>
              <a:ea typeface="华文行楷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819520" y="1981080"/>
            <a:ext cx="1447560" cy="1447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3276720" y="24382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3048120" y="1371600"/>
            <a:ext cx="53316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3200400" y="1523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133720" y="274320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2362320" y="2971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小说节选部分前面的情节是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方正隶二简体"/>
              </a:rPr>
              <a:t>葛朗台的弟弟在巴黎因破产而自杀，侄儿查理来到索漠城投奔他。欧也妮为了帮助堂哥查理，把她积攒的钱送给了查理，立即被葛朗台软禁起来，每天“只有清水面包，没有取暖的火”。随之他又借故逼走了查理。查理临走时，把母亲留下的梳妆匣留给欧也妮保管。就在这时候，葛朗台太太的身体越来越差，如果妻子死了，女儿欧也妮就继承母亲的遗产，他就要对女儿报告财产的数目，可“那简直是抹自己的脖子！”于是他决定向欧也妮屈服，巴结她，诱哄她，以便自己到死都能抓着几百万家财的大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04920" y="6094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方正康体简体"/>
              </a:rPr>
              <a:t>情节结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80880" y="14479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第一部分：交待了葛朗台的性格特点和情节发展的矛盾冲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80880" y="25146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第二部分：抢夺梳妆台。刻画葛朗台爱金如命的痴狂与痴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33520" y="36576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第三部分：诱骗继承权。揭露了他欺诈狡猾的性格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33520" y="4724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第四部分：看守密室。深刻揭露了其守财奴的本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533520" y="5638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第五部分：表现了他至死不变的性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38080" y="106668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第二课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762120" y="2743200"/>
            <a:ext cx="6629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重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、研习情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、个性化的语言和动作描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457200" y="9144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解说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19051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方正隶二简体"/>
              </a:rPr>
              <a:t>小说最突出的成就是，在描写资产阶级发家的过程中，塑造了一个吝啬鬼的形象，暴露了资产阶级的一些本质牲。马克思指出：“巴尔扎克曾对各色各样的贪婪作了透彻的研究。”葛朗台是巴尔扎克刻画得最成功的吝啬鬼形象之一，在法国文学史上这是一个著名的典型，早已脍炙人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533520" y="72396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隶二简体"/>
              </a:rPr>
              <a:t>　　巴尔扎克把资产者嗜钱如命的本质真是揭露得淋漓尽致。恩格斯指出：“在资产阶级看来，世界上没有一样东西不是为了金钱而存在的，连他们本身也不例外，因为他们活着就是为了赚钱，除了快快赚发财，他们不知道还有别的幸福，除了金钱的损失，也不知道还有别的痛苦。”葛朗台就是这样一个资产者的典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抢夺梳妆匣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971800" y="2819520"/>
            <a:ext cx="160020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2971800" y="30481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梳妆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1600200" y="3276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57200" y="2971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ff"/>
                </a:solidFill>
                <a:latin typeface="Times New Roman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9"/>
          <p:cNvSpPr/>
          <p:nvPr/>
        </p:nvSpPr>
        <p:spPr>
          <a:xfrm flipV="1">
            <a:off x="380988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200400" y="1676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cc66ff"/>
                </a:solidFill>
                <a:latin typeface="Times New Roman"/>
              </a:rPr>
              <a:t>抢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4724280" y="3276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867280" y="2971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ff"/>
                </a:solidFill>
                <a:latin typeface="Times New Roman"/>
              </a:rPr>
              <a:t>交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2362320" y="4572000"/>
            <a:ext cx="35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6000" spc="-1" strike="noStrike">
                <a:solidFill>
                  <a:srgbClr val="ff6600"/>
                </a:solidFill>
                <a:latin typeface="Times New Roman"/>
              </a:rPr>
              <a:t>爱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124080" y="2895480"/>
            <a:ext cx="18288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124080" y="3124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继承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4"/>
          <p:cNvSpPr/>
          <p:nvPr/>
        </p:nvSpPr>
        <p:spPr>
          <a:xfrm flipH="1">
            <a:off x="2209320" y="3429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14400" y="3200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cc66ff"/>
                </a:solidFill>
                <a:latin typeface="Times New Roman"/>
              </a:rPr>
              <a:t>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 flipV="1">
            <a:off x="403848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352680" y="1828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cc66ff"/>
                </a:solidFill>
                <a:latin typeface="Times New Roman"/>
              </a:rPr>
              <a:t>诱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51055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172200" y="3124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ff"/>
                </a:solidFill>
                <a:latin typeface="Times New Roman"/>
              </a:rPr>
              <a:t>骗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209680" y="434340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0" lang="zh-CN" sz="6000" spc="-1" strike="noStrike">
                <a:solidFill>
                  <a:srgbClr val="ff6600"/>
                </a:solidFill>
                <a:latin typeface="Times New Roman"/>
              </a:rPr>
              <a:t>骗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533520" y="1066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诱骗继承权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2895480" y="2133720"/>
            <a:ext cx="236232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581280" y="22860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金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 flipH="1">
            <a:off x="1752480" y="3200400"/>
            <a:ext cx="1067040" cy="1219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838080" y="46483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ff"/>
                </a:solidFill>
                <a:latin typeface="Times New Roman"/>
              </a:rPr>
              <a:t>守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6"/>
          <p:cNvSpPr/>
          <p:nvPr/>
        </p:nvSpPr>
        <p:spPr>
          <a:xfrm>
            <a:off x="5334120" y="320040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79132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ff"/>
                </a:solidFill>
                <a:latin typeface="Times New Roman"/>
              </a:rPr>
              <a:t>兑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971800" y="46483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守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看守密室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08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临终言行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666880" y="3429000"/>
            <a:ext cx="9144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335680" y="3505320"/>
            <a:ext cx="1155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法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21337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389600" y="3429000"/>
            <a:ext cx="66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ff"/>
                </a:solidFill>
                <a:latin typeface="Times New Roman"/>
              </a:rPr>
              <a:t>抓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4800600" y="3429000"/>
            <a:ext cx="83808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393080" y="3429000"/>
            <a:ext cx="1155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金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7"/>
          <p:cNvSpPr/>
          <p:nvPr/>
        </p:nvSpPr>
        <p:spPr>
          <a:xfrm>
            <a:off x="56386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5688360" y="3429000"/>
            <a:ext cx="115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ff"/>
                </a:solidFill>
                <a:latin typeface="Times New Roman"/>
              </a:rPr>
              <a:t>看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3886200" y="3200400"/>
            <a:ext cx="549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3429000" y="23623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ff6600"/>
                </a:solidFill>
                <a:latin typeface="Times New Roman"/>
              </a:rPr>
              <a:t>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3429000" y="47242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457200" y="838080"/>
            <a:ext cx="18288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人物介绍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5001840" y="685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巴尔扎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733920" y="160020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          </a:t>
            </a:r>
            <a:r>
              <a:rPr b="0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巴尔扎克（</a:t>
            </a:r>
            <a:r>
              <a:rPr b="0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1799</a:t>
            </a:r>
            <a:r>
              <a:rPr b="0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－</a:t>
            </a:r>
            <a:r>
              <a:rPr b="0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1850</a:t>
            </a:r>
            <a:r>
              <a:rPr b="0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）是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9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世纪法国伟大的批判现实主义作家，</a:t>
            </a:r>
            <a:r>
              <a:rPr b="0" lang="zh-CN" sz="3600" spc="-1" strike="noStrike">
                <a:solidFill>
                  <a:srgbClr val="1c06c0"/>
                </a:solidFill>
                <a:latin typeface="华文新魏"/>
                <a:ea typeface="华文新魏"/>
              </a:rPr>
              <a:t>欧洲批判现实主义文学的奠基人和杰出代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G:\课件动画素材\动画线条\line11.gif"/>
          <p:cNvPicPr/>
          <p:nvPr/>
        </p:nvPicPr>
        <p:blipFill>
          <a:blip r:embed="rId1"/>
          <a:stretch/>
        </p:blipFill>
        <p:spPr>
          <a:xfrm>
            <a:off x="304920" y="1447920"/>
            <a:ext cx="7924680" cy="228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资料\MS000020ZW-2_0074_1.jpg"/>
          <p:cNvPicPr/>
          <p:nvPr/>
        </p:nvPicPr>
        <p:blipFill>
          <a:blip r:embed="rId2"/>
          <a:stretch/>
        </p:blipFill>
        <p:spPr>
          <a:xfrm>
            <a:off x="380880" y="1676520"/>
            <a:ext cx="297180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dur="indefinite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人物性格分析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</a:rPr>
              <a:t>抢夺梳妆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惜金如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</a:rPr>
              <a:t>诱骗继承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狡猾欺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</a:rPr>
              <a:t>看守密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—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贪婪执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</a:rPr>
              <a:t>临终言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至死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3733920" y="2209680"/>
            <a:ext cx="990360" cy="3657600"/>
          </a:xfrm>
          <a:custGeom>
            <a:avLst/>
            <a:gdLst>
              <a:gd name="textAreaLeft" fmla="*/ 0 w 990360"/>
              <a:gd name="textAreaRight" fmla="*/ 357480 w 99036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925800" y="3200400"/>
            <a:ext cx="26607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极端贪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极端吝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5257800" y="18288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00"/>
                </a:solidFill>
                <a:latin typeface="Times New Roman"/>
              </a:rPr>
              <a:t>专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6266160" y="3352680"/>
            <a:ext cx="1277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336600"/>
                </a:solidFill>
                <a:latin typeface="Times New Roman"/>
              </a:rPr>
              <a:t>凶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5257800" y="5486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336600"/>
                </a:solidFill>
                <a:latin typeface="Times New Roman"/>
              </a:rPr>
              <a:t>虚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1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6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6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1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6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>
            <a:off x="533520" y="3429000"/>
            <a:ext cx="6400800" cy="0"/>
          </a:xfrm>
          <a:prstGeom prst="line">
            <a:avLst/>
          </a:prstGeom>
          <a:ln w="93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010280" y="3200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金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-149760" y="914400"/>
            <a:ext cx="91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巴结诱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-57960" y="2895480"/>
            <a:ext cx="91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梳妆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762120" y="1676520"/>
            <a:ext cx="533160" cy="33526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146240" y="5105520"/>
            <a:ext cx="54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抢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856440" y="2895480"/>
            <a:ext cx="9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太太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V="1">
            <a:off x="1295280" y="1752480"/>
            <a:ext cx="914400" cy="3276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304360" y="762120"/>
            <a:ext cx="91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讲和讨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1847160" y="2971800"/>
            <a:ext cx="91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太太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2"/>
          <p:cNvSpPr/>
          <p:nvPr/>
        </p:nvSpPr>
        <p:spPr>
          <a:xfrm>
            <a:off x="2209680" y="1828800"/>
            <a:ext cx="1067040" cy="3276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066480" y="4800600"/>
            <a:ext cx="91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哆嗦受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279600" y="2514600"/>
            <a:ext cx="546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放弃继承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"/>
          <p:cNvSpPr/>
          <p:nvPr/>
        </p:nvSpPr>
        <p:spPr>
          <a:xfrm flipV="1">
            <a:off x="3276720" y="1752480"/>
            <a:ext cx="990360" cy="3353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3980880" y="685800"/>
            <a:ext cx="91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紧紧拥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3599640" y="2971800"/>
            <a:ext cx="91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要月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8"/>
          <p:cNvSpPr/>
          <p:nvPr/>
        </p:nvSpPr>
        <p:spPr>
          <a:xfrm>
            <a:off x="4267080" y="1752480"/>
            <a:ext cx="914400" cy="3124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4726800" y="4876920"/>
            <a:ext cx="91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占便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5032440" y="3124080"/>
            <a:ext cx="546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临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21"/>
          <p:cNvSpPr/>
          <p:nvPr/>
        </p:nvSpPr>
        <p:spPr>
          <a:xfrm flipV="1">
            <a:off x="5181480" y="1066680"/>
            <a:ext cx="1219320" cy="3733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6404040" y="990720"/>
            <a:ext cx="5461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叮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Oval 2"/>
          <p:cNvSpPr/>
          <p:nvPr/>
        </p:nvSpPr>
        <p:spPr>
          <a:xfrm>
            <a:off x="2438280" y="2666880"/>
            <a:ext cx="3124440" cy="3124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76720" y="3505320"/>
            <a:ext cx="144756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4"/>
          <p:cNvSpPr/>
          <p:nvPr/>
        </p:nvSpPr>
        <p:spPr>
          <a:xfrm>
            <a:off x="1905120" y="22096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990720" y="1371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方正魏碑简体"/>
                <a:ea typeface="方正魏碑简体"/>
              </a:rPr>
              <a:t>利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396252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3124080" y="1143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方正魏碑简体"/>
                <a:ea typeface="方正魏碑简体"/>
              </a:rPr>
              <a:t>    </a:t>
            </a:r>
            <a:r>
              <a:rPr b="0" lang="zh-CN" sz="3200" spc="-1" strike="noStrike">
                <a:solidFill>
                  <a:srgbClr val="990099"/>
                </a:solidFill>
                <a:latin typeface="方正魏碑简体"/>
                <a:ea typeface="方正魏碑简体"/>
              </a:rPr>
              <a:t>拜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"/>
          <p:cNvSpPr/>
          <p:nvPr/>
        </p:nvSpPr>
        <p:spPr>
          <a:xfrm flipH="1">
            <a:off x="5333760" y="1981080"/>
            <a:ext cx="609480" cy="838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410080" y="1143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方正魏碑简体"/>
                <a:ea typeface="方正魏碑简体"/>
              </a:rPr>
              <a:t>贪欲具有极大的爆发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1329480" y="3352680"/>
            <a:ext cx="789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方正魏碑简体"/>
                <a:ea typeface="方正魏碑简体"/>
              </a:rPr>
              <a:t>金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6068160" y="3276720"/>
            <a:ext cx="789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方正魏碑简体"/>
                <a:ea typeface="方正魏碑简体"/>
              </a:rPr>
              <a:t>至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0" y="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方正魏碑简体"/>
                <a:ea typeface="方正魏碑简体"/>
              </a:rPr>
              <a:t>资本主义社会人与人之间赤裸裸的金钱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533520" y="914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传神的动作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533520" y="18288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、老头儿身子一　　，　上梳妆匣，好似一头老虎　　上一个睡着的婴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114800" y="1828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181480" y="18288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4876920" y="2438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685800" y="35053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敏捷、迅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0" y="44956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见钱眼开，见利忘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533520" y="914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传神的动作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33520" y="18288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、他来　　了她去用午饭，几小时地　　着她，眼睛的神气差不多是很慈祥了；她　　          着女儿，仿佛她是金铸的一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2362320" y="1828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057400" y="2438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4876920" y="3048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chǒ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9480" y="54100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望、瞅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：木然、震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533520" y="419112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：低三下四，强作慈祥，骗子本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3520" y="914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传神的动作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533520" y="15238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、神甫把镀金的十字架送到他唇边，给他亲吻基督的圣像，他却作了一个骇人的姿势想把十字架　　在手里，这下最后的努力送了他的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295280" y="32767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5257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惟有金钱，基督圣像是不占地位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0" y="44956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见钱眼开，聚敛钱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33520" y="99072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方正康体简体"/>
              </a:rPr>
              <a:t>葛朗台形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33520" y="205740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　　葛朗台是世界文学史上最成功的守财奴形象之一。节选部分紧紧抓住人与物（金子）、情（夫妻之情、父女之情）与钱在葛朗台心理天平上的份量这一矛盾，刻画了一个贪婪、吝啬、专横、凶狠、虚伪的守财奴形象。这个守财奴既带有资本原始积累时期资产者的特点，又带有西方传统文化的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838080" y="1219320"/>
            <a:ext cx="65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葛朗台的妻子是作者赞扬的人物，作者在她的身上寄托了自己的审美观和价值观——作者认为：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方正康体简体"/>
              </a:rPr>
              <a:t>笃信宗教，才不致于陷入金钱的泥沼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。这也是作者的局限之所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838080" y="121932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巴尔扎克的“伟大的作品是对上流社会必然崩溃的一曲无尽的挽歌，他的全部同情都在注定要灭亡的那个阶级方面。但是，尽管如此，当他让他所深切同情的那些贵族男女行动的时候，他的嘲笑是空前尖刻，他的讽刺是空前辛辣的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533520" y="1752480"/>
            <a:ext cx="7010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“据我看来，现实主义的意思是，除了细节的真实外，还要真实地再现典型环境里的典型人物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恩格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380880" y="1523880"/>
            <a:ext cx="731520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华文新魏"/>
                <a:ea typeface="华文新魏"/>
              </a:rPr>
              <a:t>1831</a:t>
            </a:r>
            <a:r>
              <a:rPr b="0" lang="zh-CN" sz="2800" spc="-1" strike="noStrike">
                <a:solidFill>
                  <a:srgbClr val="333300"/>
                </a:solidFill>
                <a:latin typeface="华文新魏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驴皮记》</a:t>
            </a:r>
            <a:r>
              <a:rPr b="0" lang="zh-CN" sz="2800" spc="-1" strike="noStrike">
                <a:solidFill>
                  <a:srgbClr val="333300"/>
                </a:solidFill>
                <a:latin typeface="华文新魏"/>
                <a:ea typeface="华文新魏"/>
              </a:rPr>
              <a:t>的出版使其名声大震，决定创作宏伟的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人间喜剧》</a:t>
            </a:r>
            <a:r>
              <a:rPr b="0" lang="zh-CN" sz="2800" spc="-1" strike="noStrike">
                <a:solidFill>
                  <a:srgbClr val="333300"/>
                </a:solidFill>
                <a:latin typeface="华文新魏"/>
                <a:ea typeface="华文新魏"/>
              </a:rPr>
              <a:t>。从</a:t>
            </a:r>
            <a:r>
              <a:rPr b="0" lang="zh-CN" sz="2800" spc="-1" strike="noStrike">
                <a:solidFill>
                  <a:srgbClr val="333300"/>
                </a:solidFill>
                <a:latin typeface="华文新魏"/>
                <a:ea typeface="华文新魏"/>
              </a:rPr>
              <a:t>1829</a:t>
            </a:r>
            <a:r>
              <a:rPr b="0" lang="zh-CN" sz="2800" spc="-1" strike="noStrike">
                <a:solidFill>
                  <a:srgbClr val="333300"/>
                </a:solidFill>
                <a:latin typeface="华文新魏"/>
                <a:ea typeface="华文新魏"/>
              </a:rPr>
              <a:t>至</a:t>
            </a:r>
            <a:r>
              <a:rPr b="0" lang="zh-CN" sz="2800" spc="-1" strike="noStrike">
                <a:solidFill>
                  <a:srgbClr val="333300"/>
                </a:solidFill>
                <a:latin typeface="华文新魏"/>
                <a:ea typeface="华文新魏"/>
              </a:rPr>
              <a:t>1848</a:t>
            </a:r>
            <a:r>
              <a:rPr b="0" lang="zh-CN" sz="2800" spc="-1" strike="noStrike">
                <a:solidFill>
                  <a:srgbClr val="333300"/>
                </a:solidFill>
                <a:latin typeface="华文新魏"/>
                <a:ea typeface="华文新魏"/>
              </a:rPr>
              <a:t>年，他勤奋写作，努力完成这一庞大计划，最终写出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91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部小说</a:t>
            </a:r>
            <a:r>
              <a:rPr b="0" lang="zh-CN" sz="2800" spc="-1" strike="noStrike">
                <a:solidFill>
                  <a:srgbClr val="333300"/>
                </a:solidFill>
                <a:latin typeface="华文新魏"/>
                <a:ea typeface="华文新魏"/>
              </a:rPr>
              <a:t>，</a:t>
            </a:r>
            <a:r>
              <a:rPr b="0" lang="zh-CN" sz="2800" spc="-1" strike="noStrike">
                <a:solidFill>
                  <a:srgbClr val="1c06c0"/>
                </a:solidFill>
                <a:latin typeface="华文新魏"/>
                <a:ea typeface="华文新魏"/>
              </a:rPr>
              <a:t>《高老头》是《人间喜剧》中最杰出的一部</a:t>
            </a:r>
            <a:r>
              <a:rPr b="0" lang="zh-CN" sz="2800" spc="-1" strike="noStrike">
                <a:solidFill>
                  <a:srgbClr val="333300"/>
                </a:solidFill>
                <a:latin typeface="华文新魏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人间喜剧》有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社会百科全书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之誉</a:t>
            </a:r>
            <a:r>
              <a:rPr b="0" lang="zh-CN" sz="2800" spc="-1" strike="noStrike">
                <a:solidFill>
                  <a:srgbClr val="333300"/>
                </a:solidFill>
                <a:latin typeface="华文新魏"/>
                <a:ea typeface="华文新魏"/>
              </a:rPr>
              <a:t>。巴尔扎克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注重具体、详尽的环境描写和细节描写，善于通过人物的言行揭示人物的灵魂</a:t>
            </a:r>
            <a:r>
              <a:rPr b="0" lang="zh-CN" sz="2800" spc="-1" strike="noStrike">
                <a:solidFill>
                  <a:srgbClr val="333300"/>
                </a:solidFill>
                <a:latin typeface="华文新魏"/>
                <a:ea typeface="华文新魏"/>
              </a:rPr>
              <a:t>。《人间喜剧》塑造了两千四百多个人物，一个人物往往在多部小说中出现。巴尔扎克在政治上拥护王室，属保皇党，但创作中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真实地反映社会生活，描写了贵族阶级的注定灭亡，揭露了资产阶级的贪婪、掠夺和一切建立在金钱基础上的社会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3"/>
          <p:cNvSpPr txBox="1"/>
          <p:nvPr/>
        </p:nvSpPr>
        <p:spPr>
          <a:xfrm>
            <a:off x="457200" y="838080"/>
            <a:ext cx="18288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人物介绍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258800" y="609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巴尔扎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G:\课件动画素材\动画线条\line11.gif"/>
          <p:cNvPicPr/>
          <p:nvPr/>
        </p:nvPicPr>
        <p:blipFill>
          <a:blip r:embed="rId1"/>
          <a:stretch/>
        </p:blipFill>
        <p:spPr>
          <a:xfrm>
            <a:off x="304920" y="1295280"/>
            <a:ext cx="7924680" cy="22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:\资料\us\巴尔扎克.jpg"/>
          <p:cNvPicPr/>
          <p:nvPr/>
        </p:nvPicPr>
        <p:blipFill>
          <a:blip r:embed="rId2"/>
          <a:stretch/>
        </p:blipFill>
        <p:spPr>
          <a:xfrm>
            <a:off x="7391520" y="0"/>
            <a:ext cx="14475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ff"/>
                </a:solidFill>
                <a:latin typeface="Times New Roman"/>
                <a:ea typeface="方正康体简体"/>
              </a:rPr>
              <a:t>学习字词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癖（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pǐ)</a:t>
            </a: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好</a:t>
            </a: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(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h</a:t>
            </a:r>
            <a:r>
              <a:rPr b="0" lang="en-US" sz="2800" spc="-1" strike="noStrike">
                <a:solidFill>
                  <a:srgbClr val="666633"/>
                </a:solidFill>
                <a:latin typeface="Times New Roman"/>
                <a:ea typeface="华文新魏"/>
              </a:rPr>
              <a:t>à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o )    </a:t>
            </a: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吝啬</a:t>
            </a: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(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s</a:t>
            </a:r>
            <a:r>
              <a:rPr b="0" lang="en-US" sz="2800" spc="-1" strike="noStrike">
                <a:solidFill>
                  <a:srgbClr val="666633"/>
                </a:solidFill>
                <a:latin typeface="Times New Roman"/>
                <a:ea typeface="华文新魏"/>
              </a:rPr>
              <a:t>è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)   </a:t>
            </a: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执著</a:t>
            </a: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(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zhu</a:t>
            </a:r>
            <a:r>
              <a:rPr b="0" lang="en-US" sz="2800" spc="-1" strike="noStrike">
                <a:solidFill>
                  <a:srgbClr val="666633"/>
                </a:solidFill>
                <a:latin typeface="Times New Roman"/>
                <a:ea typeface="华文新魏"/>
              </a:rPr>
              <a:t>ó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)    </a:t>
            </a: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决意      诱哄（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hǒng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）  </a:t>
            </a: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逆情背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咂摸</a:t>
            </a: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(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zāmo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）      </a:t>
            </a: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箍（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gū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）</a:t>
            </a: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桶匠   气急败坏        面面相觑（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q</a:t>
            </a:r>
            <a:r>
              <a:rPr b="0" lang="en-US" sz="2800" spc="-1" strike="noStrike">
                <a:solidFill>
                  <a:srgbClr val="666633"/>
                </a:solidFill>
                <a:latin typeface="Times New Roman"/>
                <a:ea typeface="华文新魏"/>
              </a:rPr>
              <a:t>ù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）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莫名其妙    奄（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yǎn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）</a:t>
            </a: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奄一息   骇（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h</a:t>
            </a:r>
            <a:r>
              <a:rPr b="0" lang="en-US" sz="2800" spc="-1" strike="noStrike">
                <a:solidFill>
                  <a:srgbClr val="666633"/>
                </a:solidFill>
                <a:latin typeface="Times New Roman"/>
                <a:ea typeface="华文新魏"/>
              </a:rPr>
              <a:t>à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i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）</a:t>
            </a: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呆了        恬（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ti</a:t>
            </a:r>
            <a:r>
              <a:rPr b="0" lang="en-US" sz="2800" spc="-1" strike="noStrike">
                <a:solidFill>
                  <a:srgbClr val="666633"/>
                </a:solidFill>
                <a:latin typeface="Times New Roman"/>
                <a:ea typeface="华文新魏"/>
              </a:rPr>
              <a:t>á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n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）</a:t>
            </a: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淡隐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牵肠挂肚（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dǔ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）  </a:t>
            </a: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弥撒   鞠躬尽瘁   原委    两讫</a:t>
            </a: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(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q</a:t>
            </a:r>
            <a:r>
              <a:rPr b="0" lang="en-US" sz="2800" spc="-1" strike="noStrike">
                <a:solidFill>
                  <a:srgbClr val="666633"/>
                </a:solidFill>
                <a:latin typeface="Times New Roman"/>
                <a:ea typeface="华文新魏"/>
              </a:rPr>
              <a:t>ì</a:t>
            </a:r>
            <a:r>
              <a:rPr b="0" lang="en-US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6633"/>
                </a:solidFill>
                <a:latin typeface="华文新魏"/>
                <a:ea typeface="华文新魏"/>
              </a:rPr>
              <a:t>老态龙钟    原委   弥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5800" y="1066680"/>
            <a:ext cx="6705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咄（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duō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咄怪事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一古（股）脑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裴（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日冷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文采斐（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fěi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飞（蜚 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fēi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短流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蜚（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fēi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声海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517680" y="722160"/>
            <a:ext cx="57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思辨多音多义形近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4920" y="1295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恬退隐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04920" y="2666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处之恬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04920" y="3962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恬淡寡欲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80880" y="46483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恬不知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362320" y="12193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以安然的淡泊的态度退让着，并暗暗忍受着不公的待遇。恬：安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362320" y="2666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形容毫不动心、十分安然地对待某件事情。恬：毫不动心，安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286000" y="39625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追求自然，淡泊名利。恬：淡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438280" y="46483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干了坏事，毫不在乎，不觉可耻。恬：坦然，满不在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517680" y="722160"/>
            <a:ext cx="57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思辨多音多义形近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1295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悉心调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04920" y="2362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悉数归公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04920" y="33526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悉听尊（君）便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80880" y="46483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来函详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362320" y="12193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尽心去调养身体。悉：尽，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362320" y="23623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全部归公。悉，全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505320" y="32767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完全听凭你。悉，完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438280" y="46483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你的来信，我已详尽知道。悉，知道、明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17680" y="722160"/>
            <a:ext cx="57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思辨多音多义形近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04920" y="1295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莫名其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04920" y="2666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一文不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04920" y="3962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莫可名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80880" y="51814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无以名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362320" y="12193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名：说出，动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362320" y="2666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名：占有，动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286000" y="39625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名：形容出，动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2514600" y="51814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名：命名，动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517680" y="722160"/>
            <a:ext cx="57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思辨多音多义形近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04920" y="12952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执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31240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睡着的婴儿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04920" y="3962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睡着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80880" y="46483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（鲁四老爷家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雇着了女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600200" y="12193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佛教用语。原指为获得某种成果坚持不放，不能超脱；后也指拘泥（贬义）或坚持不懈（褒义）。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zhuó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也写作“著”，动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666880" y="31240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zh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助词，读轻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286000" y="39625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zhá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动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4419720" y="4648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zháo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动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3T03:32:56Z</dcterms:created>
  <dc:creator/>
  <dc:description/>
  <dc:language>en-US</dc:language>
  <cp:lastModifiedBy>admin</cp:lastModifiedBy>
  <dcterms:modified xsi:type="dcterms:W3CDTF">2019-04-13T03:33:01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67</vt:lpwstr>
  </property>
</Properties>
</file>