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7.gif" ContentType="image/gif"/>
  <Override PartName="/ppt/media/image16.png" ContentType="image/png"/>
  <Override PartName="/ppt/media/image15.gif" ContentType="image/gif"/>
  <Override PartName="/ppt/media/image3.jpeg" ContentType="image/jpeg"/>
  <Override PartName="/ppt/media/image14.gif" ContentType="image/gif"/>
  <Override PartName="/ppt/media/image12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11.gif" ContentType="image/gif"/>
  <Override PartName="/ppt/media/image1.jpeg" ContentType="image/jpe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F43-6C53-44CC-9F99-1CB90138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D71-EA19-44B8-8CCA-409E3461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4620-9385-4A8F-B3DD-26F9574D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308-76FA-42D7-BCF3-0E48F344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324-7B2D-42F8-B30D-6F2E414B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FFE-7058-4A24-ADCA-60B915A2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354-5D8A-4169-B714-39B39EA7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3D1-002B-487D-A52C-21EBF449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E23-E2A8-4672-AB0F-F78C47BF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3D2-89B9-4B15-A455-FCB546F1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1C3-D80E-44BC-B944-0ACE33E1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B5F-62BD-4A61-BE41-436AD76E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467D-A192-440B-A4AB-4726396A4E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101" descr="边框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539640" y="549360"/>
            <a:ext cx="5761080" cy="2232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d60093"/>
                </a:solidFill>
                <a:latin typeface="方正舒体"/>
                <a:ea typeface="方正舒体"/>
              </a:rPr>
              <a:t>神笔马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4103" descr="公鸡"/>
          <p:cNvPicPr/>
          <p:nvPr/>
        </p:nvPicPr>
        <p:blipFill>
          <a:blip r:embed="rId2"/>
          <a:stretch/>
        </p:blipFill>
        <p:spPr>
          <a:xfrm>
            <a:off x="5003640" y="765000"/>
            <a:ext cx="1081080" cy="1295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3079" descr="kuang1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13336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舒体"/>
              </a:rPr>
              <a:t>读下面的句子：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马良气呼呼地说：“我偏不信，穷娃    子就不能学画画！”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马良摇摇头说：“我才不呢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我专给咱穷人画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!”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马良想夺回神笔，就一口答应说：“好，就给你画一回吧！” 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他多么盼望能有一支笔啊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!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马良真高兴啊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!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奇怪，公鸡活了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3081" descr="小图标4"/>
          <p:cNvPicPr/>
          <p:nvPr/>
        </p:nvPicPr>
        <p:blipFill>
          <a:blip r:embed="rId2"/>
          <a:stretch/>
        </p:blipFill>
        <p:spPr>
          <a:xfrm>
            <a:off x="4859280" y="620640"/>
            <a:ext cx="750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6392" descr="边框12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1" name="矩形 16393"/>
          <p:cNvSpPr/>
          <p:nvPr/>
        </p:nvSpPr>
        <p:spPr>
          <a:xfrm>
            <a:off x="0" y="52164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68588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笔马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8588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8588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（    ）画画  没有笔  用（   ）画   用（  ）画  （     ）都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8588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得到神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8588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8588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画（  ）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画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8588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画（  ）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画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8588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（  ）穷人 画（  ）        画（   ）（   ）大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8588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画（  ）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画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8588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画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8588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左大括号 16394"/>
          <p:cNvSpPr/>
          <p:nvPr/>
        </p:nvSpPr>
        <p:spPr>
          <a:xfrm>
            <a:off x="2556000" y="3357720"/>
            <a:ext cx="287280" cy="223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右大括号 16395"/>
          <p:cNvSpPr/>
          <p:nvPr/>
        </p:nvSpPr>
        <p:spPr>
          <a:xfrm>
            <a:off x="6443640" y="3357720"/>
            <a:ext cx="216000" cy="1871640"/>
          </a:xfrm>
          <a:custGeom>
            <a:avLst/>
            <a:gdLst>
              <a:gd name="textAreaLeft" fmla="*/ 0 w 216000"/>
              <a:gd name="textAreaRight" fmla="*/ 78120 w 21600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直接箭头连接符 16398"/>
          <p:cNvCxnSpPr>
            <a:stCxn id="51" idx="2"/>
            <a:endCxn id="51" idx="2"/>
          </p:cNvCxnSpPr>
          <p:nvPr/>
        </p:nvCxnSpPr>
        <p:spPr>
          <a:xfrm>
            <a:off x="4571640" y="6219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55" name="直接连接符 16399"/>
          <p:cNvSpPr/>
          <p:nvPr/>
        </p:nvSpPr>
        <p:spPr>
          <a:xfrm flipH="1">
            <a:off x="3708360" y="299736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6400"/>
          <p:cNvSpPr/>
          <p:nvPr/>
        </p:nvSpPr>
        <p:spPr>
          <a:xfrm flipH="1" flipV="1">
            <a:off x="5219280" y="2997000"/>
            <a:ext cx="865080" cy="502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6401" descr="小图标"/>
          <p:cNvPicPr/>
          <p:nvPr/>
        </p:nvPicPr>
        <p:blipFill>
          <a:blip r:embed="rId2"/>
          <a:stretch/>
        </p:blipFill>
        <p:spPr>
          <a:xfrm>
            <a:off x="1619280" y="2421000"/>
            <a:ext cx="12970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内容占位符 1945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9462"/>
          <p:cNvSpPr/>
          <p:nvPr/>
        </p:nvSpPr>
        <p:spPr>
          <a:xfrm>
            <a:off x="755640" y="404640"/>
            <a:ext cx="705636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华文彩云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彩云"/>
              </a:rPr>
              <a:t>我想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Arial"/>
                <a:ea typeface="华文新魏"/>
              </a:rPr>
              <a:t>学了这篇课文，你想对马良或者大官说些什么？也可以谈谈你的感受和收获。例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华文新魏"/>
              </a:rPr>
              <a:t>马良，你是一个＿＿的人，我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华文新魏"/>
              </a:rPr>
              <a:t>马良，当我看到你＿＿＿的时候，我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华文新魏"/>
              </a:rPr>
              <a:t>我想对大官说＿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华文新魏"/>
              </a:rPr>
              <a:t>学了这篇课文，我懂得了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内容占位符 19463" descr="小图标3"/>
          <p:cNvPicPr/>
          <p:nvPr/>
        </p:nvPicPr>
        <p:blipFill>
          <a:blip r:embed="rId2"/>
          <a:stretch/>
        </p:blipFill>
        <p:spPr>
          <a:xfrm>
            <a:off x="2556000" y="404640"/>
            <a:ext cx="79200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2057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5280" y="764640"/>
            <a:ext cx="489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同学们，如果你有一支神奇的“笔”，你想要什么就可以画什么，你画什么就会有什么。你都会用它来画些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内容占位符 15366" descr="边框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彩云"/>
              </a:rPr>
              <a:t>课后作业：</a:t>
            </a:r>
            <a:br>
              <a:rPr sz="3600"/>
            </a:b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、请你把这个故事讲给别人听。</a:t>
            </a:r>
            <a:br>
              <a:rPr sz="3600"/>
            </a:b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、请以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假如我有一支神笔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为题，写一篇文章，写作时可以大胆</a:t>
            </a:r>
            <a:br>
              <a:rPr sz="3600"/>
            </a:b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想象。</a:t>
            </a:r>
            <a:br>
              <a:rPr sz="3600"/>
            </a:b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、用画笔把刚才说的内容画出来，并配上一段文字说明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5370" descr="加油"/>
          <p:cNvPicPr/>
          <p:nvPr/>
        </p:nvPicPr>
        <p:blipFill>
          <a:blip r:embed="rId2"/>
          <a:stretch/>
        </p:blipFill>
        <p:spPr>
          <a:xfrm>
            <a:off x="4500720" y="1052640"/>
            <a:ext cx="100800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4337"/>
          <p:cNvSpPr txBox="1"/>
          <p:nvPr/>
        </p:nvSpPr>
        <p:spPr>
          <a:xfrm>
            <a:off x="1835280" y="0"/>
            <a:ext cx="1657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看图画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矩形 14338"/>
          <p:cNvSpPr txBox="1"/>
          <p:nvPr/>
        </p:nvSpPr>
        <p:spPr>
          <a:xfrm>
            <a:off x="5003640" y="0"/>
            <a:ext cx="158436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讲故事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0" name="图片 14339" descr="《神笔马良》课文插图1"/>
          <p:cNvPicPr/>
          <p:nvPr/>
        </p:nvPicPr>
        <p:blipFill>
          <a:blip r:embed="rId1"/>
          <a:stretch/>
        </p:blipFill>
        <p:spPr>
          <a:xfrm>
            <a:off x="0" y="2857680"/>
            <a:ext cx="3132000" cy="4000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4340" descr="《神笔马良》课文插图2"/>
          <p:cNvPicPr/>
          <p:nvPr/>
        </p:nvPicPr>
        <p:blipFill>
          <a:blip r:embed="rId2"/>
          <a:stretch/>
        </p:blipFill>
        <p:spPr>
          <a:xfrm>
            <a:off x="5940360" y="2781360"/>
            <a:ext cx="3203640" cy="407664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14341"/>
          <p:cNvSpPr/>
          <p:nvPr/>
        </p:nvSpPr>
        <p:spPr>
          <a:xfrm>
            <a:off x="457200" y="83808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画耕牛 画门 画水车 （爱穷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画大海 金山  船  风  （恨恶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14349" descr="娃娃1"/>
          <p:cNvPicPr/>
          <p:nvPr/>
        </p:nvPicPr>
        <p:blipFill>
          <a:blip r:embed="rId3"/>
          <a:stretch/>
        </p:blipFill>
        <p:spPr>
          <a:xfrm>
            <a:off x="7740720" y="333360"/>
            <a:ext cx="99036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4350" descr="烟囱"/>
          <p:cNvPicPr/>
          <p:nvPr/>
        </p:nvPicPr>
        <p:blipFill>
          <a:blip r:embed="rId4"/>
          <a:stretch/>
        </p:blipFill>
        <p:spPr>
          <a:xfrm>
            <a:off x="3924360" y="4581360"/>
            <a:ext cx="23032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13313"/>
          <p:cNvSpPr/>
          <p:nvPr/>
        </p:nvSpPr>
        <p:spPr>
          <a:xfrm>
            <a:off x="0" y="1522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3315"/>
          <p:cNvSpPr/>
          <p:nvPr/>
        </p:nvSpPr>
        <p:spPr>
          <a:xfrm>
            <a:off x="1476360" y="2276640"/>
            <a:ext cx="669780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3328" descr="山"/>
          <p:cNvPicPr/>
          <p:nvPr/>
        </p:nvPicPr>
        <p:blipFill>
          <a:blip r:embed="rId1"/>
          <a:stretch/>
        </p:blipFill>
        <p:spPr>
          <a:xfrm>
            <a:off x="0" y="0"/>
            <a:ext cx="9144000" cy="81090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3329" descr="娃娃"/>
          <p:cNvPicPr/>
          <p:nvPr/>
        </p:nvPicPr>
        <p:blipFill>
          <a:blip r:embed="rId2"/>
          <a:stretch/>
        </p:blipFill>
        <p:spPr>
          <a:xfrm>
            <a:off x="5292720" y="836640"/>
            <a:ext cx="1455840" cy="1557360"/>
          </a:xfrm>
          <a:prstGeom prst="rect">
            <a:avLst/>
          </a:prstGeom>
          <a:ln w="0">
            <a:noFill/>
          </a:ln>
        </p:spPr>
      </p:pic>
      <p:sp>
        <p:nvSpPr>
          <p:cNvPr id="79" name="矩形 13332"/>
          <p:cNvSpPr txBox="1"/>
          <p:nvPr/>
        </p:nvSpPr>
        <p:spPr>
          <a:xfrm rot="5400000">
            <a:off x="6982560" y="510120"/>
            <a:ext cx="165564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7:51:24Z</dcterms:created>
  <dc:creator>gwfxyshe</dc:creator>
  <dc:description/>
  <dc:language>en-US</dc:language>
  <cp:lastModifiedBy>admin</cp:lastModifiedBy>
  <dcterms:modified xsi:type="dcterms:W3CDTF">2019-03-26T07:17:59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