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3.png" ContentType="image/png"/>
  <Override PartName="/ppt/media/image22.jpeg" ContentType="image/jpeg"/>
  <Override PartName="/ppt/media/image7.png" ContentType="image/png"/>
  <Override PartName="/ppt/media/camera.wav" ContentType="audio/x-wav"/>
  <Override PartName="/ppt/media/image28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33.gif" ContentType="image/gif"/>
  <Override PartName="/ppt/media/image32.gif" ContentType="image/gif"/>
  <Override PartName="/ppt/media/image19.jpeg" ContentType="image/jpeg"/>
  <Override PartName="/ppt/media/image34.png" ContentType="image/png"/>
  <Override PartName="/ppt/media/image21.jpeg" ContentType="image/jpeg"/>
  <Override PartName="/ppt/media/image6.gif" ContentType="image/gif"/>
  <Override PartName="/ppt/media/image36.jpeg" ContentType="image/jpeg"/>
  <Override PartName="/ppt/media/image11.png" ContentType="image/png"/>
  <Override PartName="/ppt/media/image9.jpeg" ContentType="image/jpeg"/>
  <Override PartName="/ppt/media/image35.jpeg" ContentType="image/jpeg"/>
  <Override PartName="/ppt/media/image10.png" ContentType="image/png"/>
  <Override PartName="/ppt/media/image24.jpeg" ContentType="image/jpeg"/>
  <Override PartName="/ppt/media/projctor.wav" ContentType="audio/x-wav"/>
  <Override PartName="/ppt/media/image1.png" ContentType="image/pn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F33-32FF-4267-AFF8-FB8541FC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C01-A235-4D45-99F3-BBC04CAF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380F8-85BA-457D-AF89-6540F21E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C7031-0AF5-4B79-A3C8-E60AA7FC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FA3EC-832B-43A2-A136-7DD358F8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48F42-270A-4BF7-8B61-29BA0591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D027C-A53E-43D9-B471-03AD645B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D4869-E908-47DD-8CBB-183691FE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91E1F-3815-48CD-AEC4-34AA509E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72488-8E5B-4E5F-9555-1A693B0B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0C530-14C2-471B-AAFA-47B385B0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7F66D-3E5E-4BFA-B083-4EDA3D03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03F0-7F87-4BEC-BA60-A5632DB4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44F14-72E9-473B-B1C2-32B1E6DF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D7D8C-E78A-4592-9C1B-D7DC6830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168F9-CD66-4539-8E53-3551E7A1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2D454-0975-4E53-8CC2-15BC9EE0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5C4CD-B3C1-4006-87A1-B9957F4F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09C8E-3EF3-4F24-9B27-09E8300A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5DA1B-528F-49CB-AD61-92DD6E52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C7181-3C2A-4ADE-8F51-C8CCE278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64606-8535-4561-B6F5-98801277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514BE-D412-42C4-9320-C02087F4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C88C-7862-4CDA-9F5B-2A920D3F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86F5F-DE3B-459F-97E4-1EB7235D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CE019-1917-4E58-A854-25BA091E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2A3EF-94EA-4721-8B39-B5BED412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2BBDB-D8B1-40FA-9443-710C6851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A6C7A-FDA5-414B-8D29-5164D50C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C2146-333F-4DBD-92BB-6D9CE150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CDD91-40F4-406F-9C95-67D47960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BB6B8-B8F6-4B2B-9A3D-7586E488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9D281-E696-47B5-A5A3-7A80CB5C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B98F2-F81F-4321-B712-E95034C5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F7E2-77CC-4D08-BB03-1BFDE14A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DC84E-41A6-4CAB-997C-C07844B5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57177-2FE9-487D-BC7A-E3485474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9BFE3-CCD8-4A58-8224-64D5E2E7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85213-8558-4F84-A786-4CDAC96E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B284B-669E-4711-8D91-7C199E10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A58E3-3731-49B4-9481-A5ACE65D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01F0A-2CB4-43D3-B7D1-24A6F4EA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3944D-A423-4912-8F6B-8396E019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55352-919A-48DD-89B4-45244C8F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0B5CD-EB56-41FE-B0B8-C0D68F39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9CA6-4742-40AE-8D3E-B08B76C6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030E7-8535-4537-9E11-AD577715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6CCF4-6C4E-46FD-8360-561017B3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E66CA-2E74-44BB-9384-4E4E644C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A7DCF-00B8-4B87-AEBE-DD966A36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27C5C-1A5A-4127-88A5-55406150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672A-C9CE-4311-9787-1F52A7CE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6E6C-4AA9-4C7F-8E1A-112FF51F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6461-887D-491D-89ED-19D03A3C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E6BA-8250-45AF-89AD-6E21D04D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0F5A-1CCC-4242-925A-6F9A9604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EADD-827C-4C8D-AEF1-933EA24C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5E7A-9586-41E1-85F5-16715495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6930-6EBF-454D-8C14-08F4C8D4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AAE4-1E59-4146-B270-4BB7BA11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5662-2004-4C7B-8324-E858B656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18A2-7C2F-4690-9881-C9254B3F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C0815-F460-4931-B2DA-C693CA18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7FBFE-EAC7-4D80-859C-49CE01BA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08A0E-F0AE-4FAA-8596-6D884E59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C0734-1331-469E-9F6A-B83D5BE8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8395B-7C8E-445D-9CDC-BB8EE129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C13-8856-4F0B-9960-2B854C41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BCC3F-B5E5-4C98-BCF1-615B0D19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CFF6F-9574-4278-9852-6C9A6061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A3EFE-174C-4310-B347-7B82FC84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3C552-C5C1-440A-932A-3AADA536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482BB-2155-45E0-9C24-226E7953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BBCF9-8608-4C91-8B47-1C36F5B3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9AEB5-53CE-41CF-B267-863D2D72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4B33E-388C-44D2-A5EF-E02D3D4B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34078-CE27-4C85-B75F-86479076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9F35E-C11E-4EFC-B825-F0AB13EF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61E-EE84-41D5-A3BC-7BFE9264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B34B3-A893-4EE7-9EE5-66AF1C15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2380B-2D21-4603-9CDC-B1AFBC04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E0981-020A-4375-B264-C808CC02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A14BE-9835-4D78-A38D-83F4E66F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8A910-1C27-4949-BB78-7F163B8C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E48BF-5DFC-4624-B54D-0CAFAA7C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BA9F8-EB79-4890-87D8-ACE8D368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18362-5477-4631-8B37-DBE7C94A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C40D6-AE22-42A8-9241-7487418F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49E90-E3B9-4F56-A068-E3B34D1D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F1C7-31C6-4D58-A8DA-DB5431D8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43CC9-2578-4DAB-BCBA-20B50E73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662E2-3A10-4403-8957-F82978EE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983B9-9E96-4C84-8B3F-7837FDFE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6FE34-6D7F-418A-B293-80E0D9A6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8EEF6-BC3C-4EF7-B357-E652708D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B52C9-8CD4-4551-BDE6-423A56C9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8BE11-F162-4329-8572-42EC8DCC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6BA9B-9680-4DBA-B246-CA07408E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80611-F090-428F-9828-2A28DBA8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773F1-406F-4129-83A1-642C9F6D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F12-B0E8-435B-A6CE-FCE1F95B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8106D-F37A-48FF-9487-15F2D4A0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C5536-673F-4D47-9B51-224C3542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0E324-64C3-4FCF-B0A1-45241812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2D45F-C2CE-45F5-A71A-6F7AD5C7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A0A21-78D6-42FF-937C-CA1F3342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CB421-7569-4A2C-93BE-0A94C90F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1BAA8-9618-40A6-8E93-2FCE7C66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1F2EA-28AB-41E3-ADD4-AF669D16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54520-AC53-4CC7-B936-AFC80100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52DA5-30DE-4838-8621-C3AB3022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BB17-383C-4EB9-AD9F-2E39C31E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1E217-D6B0-4B03-8F4E-3E33A3F9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FCF99-F2F9-4B21-98B3-0B9C8851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F8DC7-C400-4139-8EAD-0223AC74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E6FE0-2487-4336-93F1-B5A249EF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5F5A0-5D6E-408A-83C8-CB497562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2F038-EDC3-440C-B6ED-69DA5C1B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7CA80-EAA4-4291-98ED-EFC132FE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43C66-FED6-4091-AAF5-500311D9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4743C-EFBE-4B71-9EE7-88BFF761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F6938-1BFA-4E75-9050-28794B5E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70E6-630F-4AC7-B03F-BEF8437B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F3C54-B27F-4818-BF5D-9757D9AB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69E99-0C09-4764-A72D-964E30C7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E760E-0253-4602-BC35-99F34C42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C3886-4614-4CDA-B6C2-8814AA2F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AF299-3167-4212-A240-84E60CD9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5FA55-C4B4-4D47-8E6C-B68FD138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F9F13-B8A6-4888-8CA6-00CA3531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916F2-368C-4827-AC37-7D70C37E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EA0C8-A485-47D0-A069-18F04C4A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2A4AA-B2AE-4703-A933-F93E047D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3477-12B8-42AF-B9BB-B8E8D644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6E2AA-4D87-4CEF-B406-D5450A49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BD964-39E4-45CD-93EA-14F9A7F2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E6278-BAE3-4BD6-8E4A-313CA6F5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9025B-E543-49CF-9D3E-FAE5A89E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4EC9F-131F-4881-9503-66001E00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02C18-DF12-4132-927A-70B42ACF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76C4F-F0CE-4EBE-9C50-59A485D4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80116-40FA-42DF-AA9E-22310BDD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A8EBB-A63D-4283-9C20-409B698A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F87EE-810D-4A1F-BABE-30D0528F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EAAD-AEDD-45CE-902B-92F044DDFC8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907A-ADB6-47DC-984C-F7E833060D0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756F-C3DE-4F9D-98C5-17A02D73CDF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BFEA-BBE0-4FA3-A8E5-84754BC6B26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4220-3B3F-42F4-BA80-A873EB7479C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6574-69F1-4E95-B1BE-9C5124588E6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9100-F446-4A22-8258-4E9BF4E2172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B39B-A7AB-4DDA-9835-F0ED372579C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C84A-691D-4F58-8D8F-A264F8CAE30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FF84-0DD1-4626-9486-9644D9A3429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599D-97BD-403C-9E42-EA84B9BCEB2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A408-EC1C-4FF4-A2A2-EA870F78DDA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三代人"/>
          <p:cNvPicPr/>
          <p:nvPr/>
        </p:nvPicPr>
        <p:blipFill>
          <a:blip r:embed="rId1"/>
          <a:srcRect l="0" t="0" r="194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0" name="mp3 - 纯音乐 - 古典钢琴 - 合辑various-01-夜曲-肖邦.mp3" descr=""/>
          <p:cNvPicPr/>
          <p:nvPr/>
        </p:nvPicPr>
        <p:blipFill>
          <a:blip r:embed="rId2"/>
          <a:stretch/>
        </p:blipFill>
        <p:spPr>
          <a:xfrm>
            <a:off x="8317080" y="6093000"/>
            <a:ext cx="512640" cy="5126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5"/>
          <p:cNvSpPr/>
          <p:nvPr/>
        </p:nvSpPr>
        <p:spPr>
          <a:xfrm>
            <a:off x="6655680" y="-115920"/>
            <a:ext cx="193284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800000"/>
                </a:solidFill>
                <a:latin typeface="Arial"/>
              </a:rPr>
              <a:t>散  步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7219080" y="458028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莫怀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6398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图片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-322200" y="0"/>
            <a:ext cx="9750240" cy="701820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从文章中找出你认为写得最精彩的地方，读一读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Verdana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3333ff"/>
                </a:solidFill>
                <a:latin typeface="华文行楷"/>
                <a:ea typeface="华文行楷"/>
              </a:rPr>
              <a:t>我喜欢的是</a:t>
            </a:r>
            <a:r>
              <a:rPr b="1" lang="zh-CN" sz="4000" spc="-1" strike="noStrike">
                <a:solidFill>
                  <a:srgbClr val="3333ff"/>
                </a:solidFill>
                <a:latin typeface="华文行楷"/>
                <a:ea typeface="华文行楷"/>
              </a:rPr>
              <a:t>___________________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华文行楷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3333ff"/>
                </a:solidFill>
                <a:latin typeface="华文行楷"/>
                <a:ea typeface="华文行楷"/>
              </a:rPr>
              <a:t>因为它美在（写出了）</a:t>
            </a:r>
            <a:r>
              <a:rPr b="1" lang="zh-CN" sz="4000" spc="-1" strike="noStrike">
                <a:solidFill>
                  <a:srgbClr val="3333ff"/>
                </a:solidFill>
                <a:latin typeface="华文行楷"/>
                <a:ea typeface="华文行楷"/>
              </a:rPr>
              <a:t>__________.</a:t>
            </a:r>
            <a:r>
              <a:rPr b="1" lang="zh-CN" sz="4000" spc="-1" strike="noStrike">
                <a:solidFill>
                  <a:srgbClr val="3333ff"/>
                </a:solidFill>
                <a:latin typeface="Verdana"/>
                <a:ea typeface="华文行楷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谈谈你喜欢的理由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WordArt 4" descr=""/>
          <p:cNvPicPr/>
          <p:nvPr/>
        </p:nvPicPr>
        <p:blipFill>
          <a:blip r:embed="rId2"/>
          <a:stretch/>
        </p:blipFill>
        <p:spPr>
          <a:xfrm>
            <a:off x="-6480" y="66600"/>
            <a:ext cx="390852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21044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本文两两对称的句子很多，这样的句子互相映衬，有情趣，有对称美。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        请你找出几个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06436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ahoma"/>
                <a:ea typeface="楷体_GB2312"/>
              </a:rPr>
              <a:t>有的浓，有的淡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ahoma"/>
                <a:ea typeface="楷体_GB2312"/>
              </a:rPr>
              <a:t>我和母亲在前面，我的妻子和儿子走在后面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ahoma"/>
                <a:ea typeface="楷体_GB2312"/>
              </a:rPr>
              <a:t>前面也是妈妈和儿子，后面也是妈妈和儿子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ahoma"/>
                <a:ea typeface="楷体_GB2312"/>
              </a:rPr>
              <a:t>母亲要走大路，大路平顺；我的儿子要走小路，小路有意思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5" name="WordArt 7" descr=""/>
          <p:cNvPicPr/>
          <p:nvPr/>
        </p:nvPicPr>
        <p:blipFill>
          <a:blip r:embed="rId1"/>
          <a:stretch/>
        </p:blipFill>
        <p:spPr>
          <a:xfrm>
            <a:off x="6656400" y="1335240"/>
            <a:ext cx="1781280" cy="1699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50560" y="965160"/>
            <a:ext cx="779292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接上页：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96360" y="1917720"/>
            <a:ext cx="79916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ahoma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00ff"/>
                </a:solidFill>
                <a:latin typeface="Tahoma"/>
                <a:ea typeface="楷体_GB2312"/>
              </a:rPr>
              <a:t>我的母亲老了，她早已习惯听从她强壮的儿子；我的儿子还小，他还习惯听从他高大的父亲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ahoma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ff00ff"/>
                </a:solidFill>
                <a:latin typeface="Tahoma"/>
                <a:ea typeface="楷体_GB2312"/>
              </a:rPr>
              <a:t>我蹲下来，背起了母亲，妻子也蹲下来，背起了儿子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ahoma"/>
                <a:ea typeface="楷体_GB2312"/>
              </a:rPr>
              <a:t>7.</a:t>
            </a:r>
            <a:r>
              <a:rPr b="1" lang="zh-CN" sz="3200" spc="-1" strike="noStrike">
                <a:solidFill>
                  <a:srgbClr val="ff00ff"/>
                </a:solidFill>
                <a:latin typeface="Tahoma"/>
                <a:ea typeface="楷体_GB2312"/>
              </a:rPr>
              <a:t>我的母亲虽然高大，然而很瘦，自然不算重；儿子虽然很胖，毕竟幼小，自然也轻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8" name="WordArt 7" descr=""/>
          <p:cNvPicPr/>
          <p:nvPr/>
        </p:nvPicPr>
        <p:blipFill>
          <a:blip r:embed="rId1"/>
          <a:stretch/>
        </p:blipFill>
        <p:spPr>
          <a:xfrm>
            <a:off x="7370640" y="5095800"/>
            <a:ext cx="185256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755640" y="2057400"/>
            <a:ext cx="838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隶书"/>
              </a:rPr>
              <a:t>探究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在这一家中你最欣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哪一位？理由是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76000" y="907560"/>
            <a:ext cx="815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归纳本文四个人物的特点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6920" y="2491920"/>
            <a:ext cx="2840040" cy="27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ahoma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  <a:ea typeface="楷体_GB2312"/>
              </a:rPr>
              <a:t>妻子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ahoma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  <a:ea typeface="楷体_GB2312"/>
              </a:rPr>
              <a:t>母亲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ahoma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  <a:ea typeface="楷体_GB2312"/>
              </a:rPr>
              <a:t>儿子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3348000" y="2492280"/>
            <a:ext cx="518472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孝敬老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贤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疼爱孙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天真聪明，懂事乖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7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4" name="陈红-常回家看看.mp3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25" name="WordArt 4" descr=""/>
          <p:cNvPicPr/>
          <p:nvPr/>
        </p:nvPicPr>
        <p:blipFill>
          <a:blip r:embed="rId3"/>
          <a:stretch/>
        </p:blipFill>
        <p:spPr>
          <a:xfrm>
            <a:off x="676440" y="281160"/>
            <a:ext cx="2901960" cy="171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" fill="hold"/>
                                        <p:tgtEl>
                                          <p:spTgt spid="6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A1071042546_14300"/>
          <p:cNvPicPr/>
          <p:nvPr/>
        </p:nvPicPr>
        <p:blipFill>
          <a:blip r:embed="rId1"/>
          <a:stretch/>
        </p:blipFill>
        <p:spPr>
          <a:xfrm>
            <a:off x="1042920" y="404640"/>
            <a:ext cx="7391520" cy="450864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3"/>
          <p:cNvSpPr/>
          <p:nvPr/>
        </p:nvSpPr>
        <p:spPr>
          <a:xfrm>
            <a:off x="684360" y="522936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冬天一个早晨，天空飘洒着纷纷扬扬的雪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中年男子的菜摊上坐着一个小男孩，孩子用给菜保温的被子围着，父亲不时用手给儿子掖掖被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父与子"/>
          <p:cNvPicPr/>
          <p:nvPr/>
        </p:nvPicPr>
        <p:blipFill>
          <a:blip r:embed="rId1">
            <a:lum bright="24000"/>
          </a:blip>
          <a:srcRect l="0" t="0" r="0" b="5929"/>
          <a:stretch/>
        </p:blipFill>
        <p:spPr>
          <a:xfrm>
            <a:off x="324000" y="117360"/>
            <a:ext cx="8670600" cy="601992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3"/>
          <p:cNvSpPr/>
          <p:nvPr/>
        </p:nvSpPr>
        <p:spPr>
          <a:xfrm>
            <a:off x="3124080" y="61722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爷爷，您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W020040826465424790450"/>
          <p:cNvPicPr/>
          <p:nvPr/>
        </p:nvPicPr>
        <p:blipFill>
          <a:blip r:embed="rId1"/>
          <a:stretch/>
        </p:blipFill>
        <p:spPr>
          <a:xfrm>
            <a:off x="-1508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未命名"/>
          <p:cNvPicPr/>
          <p:nvPr/>
        </p:nvPicPr>
        <p:blipFill>
          <a:blip r:embed="rId1"/>
          <a:stretch/>
        </p:blipFill>
        <p:spPr>
          <a:xfrm>
            <a:off x="-395280" y="0"/>
            <a:ext cx="10007640" cy="738972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3"/>
          <p:cNvSpPr/>
          <p:nvPr/>
        </p:nvSpPr>
        <p:spPr>
          <a:xfrm>
            <a:off x="539640" y="692280"/>
            <a:ext cx="8928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隶书"/>
              </a:rPr>
              <a:t>学习目标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学会在生活中的小事中感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亲情之美，培养尊老爱幼的品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学习文章巧妙的构思，体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文章朴实而耐人寻味的语言风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2" descr="u=2891573622,2524573419&amp;gp=1 (5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u=2891573622,2524573419&amp;gp=1 (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u=2891573622,2524573419&amp;gp=1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u=2891573622,2524573419&amp;gp=1 (1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u=2891573622,2524573419&amp;gp=1 (8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u=2891573622,2524573419&amp;gp=1 (22)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u=2891573622,2524573419&amp;gp=1 (23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horz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160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u=2891573622,2524573419&amp;gp=1 (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4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u=2891573622,2524573419&amp;gp=1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学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3"/>
          <p:cNvSpPr/>
          <p:nvPr/>
        </p:nvSpPr>
        <p:spPr>
          <a:xfrm>
            <a:off x="2124000" y="260280"/>
            <a:ext cx="540072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长大后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常想想母亲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常想想父亲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不要怪母亲唠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不要怪父亲严厉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亲情是最珍贵的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0" y="152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莫怀戚，男，汉族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出生于重庆。笔名周平安、章大明。他的创作以小说见长，也擅长散文，但不善于写诗。他的作品很注意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发掘生活中的情趣，颇富人情味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从《散步》中可以领悟这一特色。此外其作品还有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贴近生活、描写入情入理、可读性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特点。他的中篇小说《诗礼人家》曾获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四川文学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。著有小说集《诗礼人家》、《大律师现实录》、系列小说《东方福尔摩斯探案集》、长篇小说《透支时代》等。其作品曾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中国作协庄重文文学奖。散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《散步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《家园落日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选入各地各种版本的中学语文教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2555280" y="83664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华文行楷"/>
                <a:ea typeface="华文行楷"/>
              </a:rPr>
              <a:t>拓展延伸，拥抱亲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36360" y="1917720"/>
            <a:ext cx="889344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1" lang="zh-CN" sz="3700" spc="-1" strike="noStrike">
                <a:solidFill>
                  <a:srgbClr val="ff0000"/>
                </a:solidFill>
                <a:latin typeface="华文行楷"/>
                <a:ea typeface="华文行楷"/>
              </a:rPr>
              <a:t>幸福的家庭是美好的温馨的，幸福家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华文行楷"/>
                <a:ea typeface="华文行楷"/>
              </a:rPr>
              <a:t>庭的生活细节也渗透着浓浓的亲情，真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华文行楷"/>
                <a:ea typeface="华文行楷"/>
              </a:rPr>
              <a:t>感人的关爱。它不仅在莫怀戚的家中，它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也在我们每一个人的家中，在我们每一个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华文行楷"/>
                <a:ea typeface="华文行楷"/>
              </a:rPr>
              <a:t>人的心中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说说你家中的亲情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4" descr="11"/>
          <p:cNvPicPr/>
          <p:nvPr/>
        </p:nvPicPr>
        <p:blipFill>
          <a:blip r:embed="rId1"/>
          <a:stretch/>
        </p:blipFill>
        <p:spPr>
          <a:xfrm rot="21001800">
            <a:off x="6184440" y="4248000"/>
            <a:ext cx="2916360" cy="21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6360" y="1052280"/>
            <a:ext cx="9144000" cy="557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华文行楷"/>
                <a:ea typeface="华文行楷"/>
              </a:rPr>
              <a:t>　　</a:t>
            </a: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赶快为你的父母尽一份孝心。也许是一处豪宅，也许是一片砖瓦。也许是山珍海味，也许是一枚野果一朵小花。也许是数以万计的金钱，也许只是含着体温的一枚硬币……但在“孝”的天平上，它们等值。</a:t>
            </a:r>
            <a:br>
              <a:rPr sz="4400"/>
            </a:br>
            <a:r>
              <a:rPr b="1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    </a:t>
            </a:r>
            <a:r>
              <a:rPr b="1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---</a:t>
            </a:r>
            <a:r>
              <a:rPr b="1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毕淑敏《孝心无价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47" name="Picture 3" descr="20061110124341"/>
          <p:cNvPicPr/>
          <p:nvPr/>
        </p:nvPicPr>
        <p:blipFill>
          <a:blip r:embed="rId1"/>
          <a:stretch/>
        </p:blipFill>
        <p:spPr>
          <a:xfrm>
            <a:off x="5869080" y="44280"/>
            <a:ext cx="255564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2" descr="图片2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49" name="Text Box 3"/>
          <p:cNvSpPr/>
          <p:nvPr/>
        </p:nvSpPr>
        <p:spPr>
          <a:xfrm>
            <a:off x="1491840" y="549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教师心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325440" y="1341360"/>
            <a:ext cx="878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亲情不单靠今天课堂上片刻的时间来体会，它更需要我们用一生的光阴来感悟。亲情不单是父母无条件的付出，它更应该是儿女们无言的回报。让我们的家永远洋溢着亲情，让我们的家永远充满爱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606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2" name="地久天长.MID" descr=""/>
          <p:cNvPicPr/>
          <p:nvPr/>
        </p:nvPicPr>
        <p:blipFill>
          <a:blip r:embed="rId2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3" name="WordArt 4"/>
          <p:cNvSpPr txBox="1"/>
          <p:nvPr/>
        </p:nvSpPr>
        <p:spPr>
          <a:xfrm>
            <a:off x="380880" y="1447920"/>
            <a:ext cx="8382240" cy="21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亲情，需要每个人的忍让和付出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1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be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3"/>
          <p:cNvSpPr/>
          <p:nvPr/>
        </p:nvSpPr>
        <p:spPr>
          <a:xfrm>
            <a:off x="324000" y="2565360"/>
            <a:ext cx="8359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1c1c1c"/>
                </a:solidFill>
                <a:latin typeface="黑体"/>
                <a:ea typeface="黑体"/>
              </a:rPr>
              <a:t>回家为自己的父母、家人做一件事：捶捶背、洗洗脚、揉揉肩、陪父母散散步</a:t>
            </a:r>
            <a:r>
              <a:rPr b="1" lang="zh-CN" sz="4000" spc="-1" strike="noStrike">
                <a:solidFill>
                  <a:srgbClr val="1c1c1c"/>
                </a:solidFill>
                <a:latin typeface="Times New Roman"/>
                <a:ea typeface="黑体"/>
              </a:rPr>
              <a:t>……</a:t>
            </a:r>
            <a:r>
              <a:rPr b="1" lang="en-US" sz="40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1c1c1c"/>
                </a:solidFill>
                <a:latin typeface="黑体"/>
                <a:ea typeface="黑体"/>
              </a:rPr>
              <a:t>打个电话告诉家人，你很爱他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0" y="404640"/>
            <a:ext cx="806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a41ef"/>
                </a:solidFill>
                <a:latin typeface="隶书"/>
                <a:ea typeface="隶书"/>
              </a:rPr>
              <a:t>作业布置</a:t>
            </a:r>
            <a:r>
              <a:rPr b="1" lang="zh-CN" sz="6000" spc="-1" strike="noStrike">
                <a:solidFill>
                  <a:srgbClr val="5a41ef"/>
                </a:solidFill>
                <a:latin typeface="隶书"/>
                <a:ea typeface="隶书"/>
              </a:rPr>
              <a:t>：</a:t>
            </a:r>
            <a:r>
              <a:rPr b="1" lang="zh-CN" sz="6000" spc="-1" strike="noStrike">
                <a:solidFill>
                  <a:srgbClr val="1c1c1c"/>
                </a:solidFill>
                <a:latin typeface="Times New Roman"/>
                <a:ea typeface="黑体"/>
              </a:rPr>
              <a:t>真诚行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685800" y="31417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散步的人有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散步的地点是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散步的季节是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散步的过程中发生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4067280" y="37893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田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4211640" y="4437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初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5003640" y="501336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WordArt 6" descr="白色大理石"/>
          <p:cNvPicPr/>
          <p:nvPr/>
        </p:nvPicPr>
        <p:blipFill>
          <a:blip r:embed="rId2"/>
          <a:stretch/>
        </p:blipFill>
        <p:spPr>
          <a:xfrm>
            <a:off x="1384200" y="749160"/>
            <a:ext cx="1737000" cy="125568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7"/>
          <p:cNvSpPr/>
          <p:nvPr/>
        </p:nvSpPr>
        <p:spPr>
          <a:xfrm flipV="1" rot="10594800">
            <a:off x="1115640" y="2275560"/>
            <a:ext cx="35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思考下面几个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8" descr="10"/>
          <p:cNvPicPr/>
          <p:nvPr/>
        </p:nvPicPr>
        <p:blipFill>
          <a:blip r:embed="rId3"/>
          <a:stretch/>
        </p:blipFill>
        <p:spPr>
          <a:xfrm>
            <a:off x="477720" y="2060640"/>
            <a:ext cx="692280" cy="825480"/>
          </a:xfrm>
          <a:prstGeom prst="rect">
            <a:avLst/>
          </a:prstGeom>
          <a:ln w="0">
            <a:noFill/>
          </a:ln>
        </p:spPr>
      </p:pic>
      <p:pic>
        <p:nvPicPr>
          <p:cNvPr id="593" name="WordArt 9" descr=""/>
          <p:cNvPicPr/>
          <p:nvPr/>
        </p:nvPicPr>
        <p:blipFill>
          <a:blip r:embed="rId4"/>
          <a:stretch/>
        </p:blipFill>
        <p:spPr>
          <a:xfrm>
            <a:off x="3408480" y="1401840"/>
            <a:ext cx="2151000" cy="57924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10"/>
          <p:cNvSpPr/>
          <p:nvPr/>
        </p:nvSpPr>
        <p:spPr>
          <a:xfrm>
            <a:off x="3564000" y="31417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母亲、我、妻子、儿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散步朗读.mp3" descr=""/>
          <p:cNvPicPr/>
          <p:nvPr/>
        </p:nvPicPr>
        <p:blipFill>
          <a:blip r:embed="rId5"/>
          <a:stretch/>
        </p:blipFill>
        <p:spPr>
          <a:xfrm>
            <a:off x="709308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235102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WordArt 2" descr="白色大理石"/>
          <p:cNvPicPr/>
          <p:nvPr/>
        </p:nvPicPr>
        <p:blipFill>
          <a:blip r:embed="rId2"/>
          <a:stretch/>
        </p:blipFill>
        <p:spPr>
          <a:xfrm>
            <a:off x="171360" y="-19080"/>
            <a:ext cx="1139760" cy="1268280"/>
          </a:xfrm>
          <a:prstGeom prst="rect">
            <a:avLst/>
          </a:prstGeom>
          <a:ln w="0">
            <a:noFill/>
          </a:ln>
        </p:spPr>
      </p:pic>
      <p:pic>
        <p:nvPicPr>
          <p:cNvPr id="597" name="WordArt 3" descr=""/>
          <p:cNvPicPr/>
          <p:nvPr/>
        </p:nvPicPr>
        <p:blipFill>
          <a:blip r:embed="rId3"/>
          <a:stretch/>
        </p:blipFill>
        <p:spPr>
          <a:xfrm>
            <a:off x="2687760" y="249120"/>
            <a:ext cx="1933560" cy="57960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4"/>
          <p:cNvSpPr/>
          <p:nvPr/>
        </p:nvSpPr>
        <p:spPr>
          <a:xfrm>
            <a:off x="358920" y="1341360"/>
            <a:ext cx="8785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面对母亲和儿子的分歧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我做出了什么决 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“我”为什么要做这样的决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为什么最终选择走小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为什么说“我”的背上和她的背上的加起来，就是整个世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900000" y="1916280"/>
            <a:ext cx="59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755640" y="1916280"/>
            <a:ext cx="410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826920" y="1773360"/>
            <a:ext cx="712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面对母亲和儿子的分歧，我做  出了什么决定？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我决定委屈自己的儿子，选择走大路。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60000" y="907920"/>
            <a:ext cx="77914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为什么要做这样的决定？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因为我考虑到自己陪伴儿子的时间还很长，即使这一次委屈了他，以后还有长久的日子可以补偿。但我能为母亲做事的时间已经不多了，所以尽力满足母亲的要求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为什么最终选择走小路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因为母亲疼爱孙子。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594560" cy="23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f01"/>
                </a:solidFill>
                <a:latin typeface="Tahoma"/>
              </a:rPr>
              <a:t>　　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蹲下来，背起了母亲，妻子也蹲下来，背起了儿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但我和妻子都是慢慢地，稳稳地，走得很仔细，好像我背上的同她背上的加起来，就是整个世界。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说说你对这段话的理解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94920" y="3068280"/>
            <a:ext cx="8458200" cy="26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ahoma"/>
                <a:ea typeface="楷体_GB2312"/>
              </a:rPr>
              <a:t>从字面上看，是形容他们走得小心，唯恐哪一步有闪失。特别是母亲，是经不起摔跌的，要绝对稳当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ahoma"/>
                <a:ea typeface="楷体_GB2312"/>
              </a:rPr>
              <a:t>这句话强调自己责任的重大：上要赡养和孝敬父母，下要抚养和教育子女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ahoma"/>
                <a:ea typeface="楷体_GB2312"/>
              </a:rPr>
              <a:t>也提倡整个社会有这有的责任心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04:37:13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cp:lastPrinted>1899-12-30T00:00:00Z</cp:lastPrinted>
  <dcterms:modified xsi:type="dcterms:W3CDTF">2017-03-29T08:52:38Z</dcterms:modified>
  <cp:revision>13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3</vt:lpwstr>
  </property>
</Properties>
</file>