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3B1-2BA3-40F6-85B6-10638F86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109-E5D1-4BDA-BC81-3A8ED86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A89-6A5C-40AE-8334-30FF083F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BF6-3865-4557-AA99-7FCA19BA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BF2D-283A-492A-AE06-4EB0577D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1C56-BE89-49A9-9F80-AA22CEA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8F04-A47F-49C3-9EE7-A90883D7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74A5-2BD1-4AEC-B009-B5F761B7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D2F-E69A-4D91-8F0E-6EAF18A0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0281-16F6-4C05-974F-5E6EFC79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4B82-3E30-407B-A79B-01CFE8E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3DE-70FF-4355-B4F4-1B7C1E3C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E1BD-8677-4E17-985E-025C463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BA36-DEC1-4DFF-80CE-9EA0D66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2E64-1305-4074-9B6F-F06EF31C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548-C4D8-4A29-8C02-1904D08A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EF1-DDE5-4A22-B4AB-C92A72A0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C68-E953-436A-B8FA-BAB9417D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DB2-C07C-444A-B3A1-15AA469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87C-2D23-43A9-BC93-81A818A4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E17-F0CC-4705-8BE6-C33A5D8D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8B3-E4BA-440C-9B58-8E1FF97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2E3-21E5-431B-9D5E-6B55879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CA8-05D5-4345-9346-DDC1A6E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731A-7565-44B4-A058-47B266009D98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6F9-7795-4B4F-AC1E-C841A36EE86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3152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66"/>
                </a:solidFill>
                <a:latin typeface="Tahoma"/>
                <a:ea typeface="华文新魏"/>
              </a:rPr>
              <a:t>人为什么要活着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32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58c"/>
                </a:solidFill>
                <a:latin typeface="Tahoma"/>
                <a:ea typeface="华文行楷"/>
              </a:rPr>
              <a:t>         </a:t>
            </a:r>
            <a:r>
              <a:rPr b="1" lang="zh-CN" sz="5400" spc="-1" strike="noStrike">
                <a:solidFill>
                  <a:srgbClr val="40458c"/>
                </a:solidFill>
                <a:latin typeface="Tahoma"/>
                <a:ea typeface="华文行楷"/>
              </a:rPr>
              <a:t>苏步青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5950080"/>
            <a:ext cx="4384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反思：</a:t>
            </a:r>
            <a:endParaRPr b="0" lang="en-US" sz="7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095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引用苏步青自己的事例对于听演讲的学生来说更有说服力，但是不适合学生在自己的议论文里也这么写。所以这一点要明确告诉学生</a:t>
            </a:r>
            <a:r>
              <a:rPr b="1" lang="zh-CN" sz="3200" spc="-1" strike="noStrike">
                <a:solidFill>
                  <a:srgbClr val="40458c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作为一篇演讲稿来说并不能为学生提供很好的议论文的范例。故迁移应该选一篇比较规范的议论文来强化学来的找论点、分析举例论证和道理论证的方法，同时给学生更可借鉴的写作范例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板书设计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为什么要活着（苏步青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论点：一个人的能力有大小，活着就是要为人类做出贡献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质   人究竟为了什么要成名？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疑       </a:t>
            </a: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论：成名并非坏事，关键</a:t>
            </a:r>
            <a:r>
              <a:rPr b="1" lang="zh-CN" sz="1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</a:t>
            </a: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为祖国为人民服务</a:t>
            </a: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逻辑严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式   名誉意味着什么？                                                                     层层深入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论       </a:t>
            </a: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论：一个人活着，全力以赴为人民做点有益的事</a:t>
            </a: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环环相扣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证   读书太辛苦，不如个体户赚大钱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</a:t>
            </a: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论：要把自己的命运和祖国的前途命运紧密结合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一起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32767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3352680"/>
            <a:ext cx="76320" cy="1828800"/>
          </a:xfrm>
          <a:custGeom>
            <a:avLst/>
            <a:gdLst>
              <a:gd name="textAreaLeft" fmla="*/ 0 w 76320"/>
              <a:gd name="textAreaRight" fmla="*/ 2736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华文新魏"/>
              </a:rPr>
              <a:t>教学目标 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华文新魏"/>
              </a:rPr>
              <a:t>* 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华文新魏"/>
              </a:rPr>
              <a:t>重点 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华文新魏"/>
              </a:rPr>
              <a:t>* 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华文新魏"/>
              </a:rPr>
              <a:t>难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507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教学目标：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弄清文章阐明的观点，理清文章论证的思路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了解以质疑的方式层层论证的特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学习作者为祖国为人民服务的人生观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教学重点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了解论述的内容及作者的观点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了解以质疑的方式层层论证的特点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教学难点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段论述内容之间的内在联系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66"/>
                </a:solidFill>
                <a:latin typeface="Tahoma"/>
                <a:ea typeface="华文新魏"/>
              </a:rPr>
              <a:t>梳理结构，明白论证过程。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095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一段提出论点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人的能力有大小，活着就是要为人类做出贡献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论证过程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、（人）究竟为了什么要成名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举例论证：“我”成名的过程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侯苦读，目的是光宗耀祖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来取博，目的是为祖国争光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培养人才，目的是为人民服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得出结论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名并非坏事，关键是要为祖国为人民服务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66"/>
                </a:solidFill>
                <a:latin typeface="Tahoma"/>
                <a:ea typeface="华文新魏"/>
              </a:rPr>
              <a:t>梳理结构，明白论证过程。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2398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二、“名誉意味着什么？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举例论证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我”现在还读书、撰写专著、培训教师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一个人活着，全力以赴为人民做点有益的事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、“读书太心苦，不如个体户赚大钱。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道理论证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克思说……         （引证法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要把自己的命运和祖国的前途命运紧密结合在一起，而努力学习，艰苦奋斗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每个人都有一定的理想，这种理想决定着他的努力和判断的方向。就在这个意义上，我从来不把安逸和快乐看作生活目的本身——这种伦理基础，我叫它猪栏理想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r"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爱因斯坦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理解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各段论述内容之间的内在联系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作者借解答第一个问题，说明“树立为人民服务的人生观”是“为人类作贡献”的关键。作者以此为前提，继续解答第二、三个问题，使论证逐步深入，并推出更深刻的结论：“树立为人民服务”的人生观，就能正确对待“名”和“利”，就能坚持为人类作出贡献；而树立为人民服务的人生观，关键是要“将自己的命运与祖国的前途紧密地联系起来”。这样，问题与问题之间逻辑严密，环环相扣。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 结 归 纳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华文新魏"/>
              </a:rPr>
              <a:t>课文开篇提出中心论点：人活着就是要为人类做出贡献。接着，作者以问答的方式，结合自己的成长过程，首先说明只有树立为人民服务的人生观，才能为人类作贡献。然后又以“名利”的考验为例，进一步证明树立为人民服务的人生观，是坚持做出贡献的关键，同时有进一步推出“树立正确的人生观”的关键是“要将自己的命运和祖国的前途紧紧地联系在一起”这一道理。全文以严密的推理，阐述了“人生观”与“人生”的密切关系，阐述了“人生观”与“人生”的决定意义，具有很强的说服力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5100" spc="-1" strike="noStrike">
                <a:solidFill>
                  <a:srgbClr val="0000ff"/>
                </a:solidFill>
                <a:latin typeface="华文新魏"/>
                <a:ea typeface="华文新魏"/>
              </a:rPr>
              <a:t>感悟 </a:t>
            </a:r>
            <a:r>
              <a:rPr b="1" lang="zh-CN" sz="5100" spc="-1" strike="noStrike">
                <a:solidFill>
                  <a:srgbClr val="0000ff"/>
                </a:solidFill>
                <a:latin typeface="华文新魏"/>
                <a:ea typeface="华文新魏"/>
              </a:rPr>
              <a:t>* </a:t>
            </a:r>
            <a:r>
              <a:rPr b="1" lang="zh-CN" sz="51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交流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者认为：“如果把一生的希望寄托于机遇，则将一事无成。”结合你的亲身体验或他人的生活经历，说说你对“机遇与人生”的看法。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1564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00"/>
                </a:solidFill>
                <a:latin typeface="Tahoma"/>
                <a:ea typeface="华文新魏"/>
              </a:rPr>
              <a:t>借鉴：</a:t>
            </a:r>
            <a:endParaRPr b="0" lang="en-US" sz="6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523880"/>
            <a:ext cx="86868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新魏"/>
              </a:rPr>
              <a:t>借鉴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段首提问，段末明确结论，都是为论证中心论点服务。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新魏"/>
              </a:rPr>
              <a:t>这样针对学生的提问来论述更有针对性，也更能引起读者兴趣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3:01:54Z</dcterms:created>
  <dc:creator>www.21cnjy.com</dc:creator>
  <dc:description/>
  <dc:language>en-US</dc:language>
  <cp:lastModifiedBy>番茄花园</cp:lastModifiedBy>
  <dcterms:modified xsi:type="dcterms:W3CDTF">2007-03-02T13:50:01Z</dcterms:modified>
  <cp:revision>17</cp:revision>
  <dc:subject/>
  <dc:title>21世纪教育网</dc:title>
</cp:coreProperties>
</file>