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wmf" ContentType="image/x-wmf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1.gif" ContentType="image/gif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EF05-8C4A-475E-AA18-999BC3902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5818-69E3-48A9-9952-CCCE71CE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535F-C670-4E50-92A6-C93ACE35F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F859-2A21-44C5-9940-78975FD86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39D0-FFB3-4C16-A63E-9078520CD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0195-9805-45DC-9F5A-8E2A170F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502BD-D481-4DB5-8581-2C5DBABC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49AE-5E0A-4EC9-8358-40A3D7B6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FAF1-EDA4-4D74-9B91-1569AE43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3BC28-6A5A-4D5D-843A-31E98D3E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2446-A46E-4785-A50D-B369B9A0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4B2B-BB04-43FB-AF54-2F11EAC2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EB46-DDBD-4D4B-A9B0-16BE77D9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993F8-0B9C-41EE-A99F-CF8888C1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1E0D-7D85-4A77-B2D6-C8688BE2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80A8D-EB84-4263-81E8-5141A4C0E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F0D7-D5B4-4DD2-8DF1-1EEB904AF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B1BA-208B-4981-927A-B651F9BC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9AF4-3949-4B1C-8571-333D72CD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43DB-CA9A-4B0E-B5DC-BBA64E01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3874-D37E-47E2-839F-468077EA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B77C-40A9-40E2-AF46-C112E351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8310-D47C-4A8C-ADDD-896C0BCB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6727-818C-48B7-88FE-B9D22DC4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0D73-F35E-44EF-ADA5-CB8C3C17F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A4ED-732F-4CB4-848D-ADB21AD836D9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hi.baidu.com/&#20912;&#26376;&#24433;&#29436;no_1/album/item/0d7341d61d36a4c1a144df1a.html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www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5"/>
          <p:cNvSpPr txBox="1"/>
          <p:nvPr/>
        </p:nvSpPr>
        <p:spPr>
          <a:xfrm>
            <a:off x="2124000" y="2565360"/>
            <a:ext cx="5045040" cy="24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人生之旅</a:t>
            </a:r>
            <a:endParaRPr b="1" lang="en-US" sz="6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"/>
          <p:cNvSpPr/>
          <p:nvPr/>
        </p:nvSpPr>
        <p:spPr>
          <a:xfrm>
            <a:off x="971640" y="26028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苏教版 六年级品德与社会上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6"/>
          <p:cNvSpPr/>
          <p:nvPr/>
        </p:nvSpPr>
        <p:spPr>
          <a:xfrm>
            <a:off x="0" y="765000"/>
            <a:ext cx="9144000" cy="1124280"/>
          </a:xfrm>
          <a:prstGeom prst="cloudCallout">
            <a:avLst>
              <a:gd name="adj1" fmla="val -33018"/>
              <a:gd name="adj2" fmla="val 420199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成人后身高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现在身高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×B+A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可以通过查表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得到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1" name="Picture 7" descr="008867"/>
          <p:cNvPicPr/>
          <p:nvPr/>
        </p:nvPicPr>
        <p:blipFill>
          <a:blip r:embed="rId2"/>
          <a:stretch/>
        </p:blipFill>
        <p:spPr>
          <a:xfrm>
            <a:off x="0" y="3500280"/>
            <a:ext cx="1152360" cy="27324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8"/>
          <p:cNvSpPr/>
          <p:nvPr/>
        </p:nvSpPr>
        <p:spPr>
          <a:xfrm>
            <a:off x="0" y="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c5900"/>
                </a:solidFill>
                <a:latin typeface="Arial"/>
              </a:rPr>
              <a:t>可以根据现在的身高预测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611280" y="2565360"/>
            <a:ext cx="68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c5900"/>
                </a:solidFill>
                <a:latin typeface="Arial"/>
              </a:rPr>
              <a:t>可以根据自己的脚长预测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AutoShape 10"/>
          <p:cNvSpPr/>
          <p:nvPr/>
        </p:nvSpPr>
        <p:spPr>
          <a:xfrm>
            <a:off x="826920" y="3500280"/>
            <a:ext cx="9144000" cy="2016360"/>
          </a:xfrm>
          <a:prstGeom prst="cloudCallout">
            <a:avLst>
              <a:gd name="adj1" fmla="val -42064"/>
              <a:gd name="adj2" fmla="val 176458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先测定现在的脚长（从脚趾尖到脚跟的距离为脚长），再按测量时的年龄和脚长查表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。（表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、表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在活动记录中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昆虫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WordArt 5" descr=""/>
          <p:cNvPicPr/>
          <p:nvPr/>
        </p:nvPicPr>
        <p:blipFill>
          <a:blip r:embed="rId3"/>
          <a:stretch/>
        </p:blipFill>
        <p:spPr>
          <a:xfrm>
            <a:off x="19080" y="1616040"/>
            <a:ext cx="751536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昆虫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C:\Documents and Settings\yjf\Local Settings\Temporary Internet Files\Content.IE5\MHWZFU79\MCj04344710000[1].wmf"/>
          <p:cNvPicPr/>
          <p:nvPr/>
        </p:nvPicPr>
        <p:blipFill>
          <a:blip r:embed="rId3"/>
          <a:stretch/>
        </p:blipFill>
        <p:spPr>
          <a:xfrm>
            <a:off x="2857680" y="2786040"/>
            <a:ext cx="312552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0d7341d61d36a4c1a144df1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00720" y="1052640"/>
            <a:ext cx="3362040" cy="2857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u=1089278887,3945447930&amp;fm=3&amp;gp=41"/>
          <p:cNvPicPr/>
          <p:nvPr/>
        </p:nvPicPr>
        <p:blipFill>
          <a:blip r:embed="rId4"/>
          <a:stretch/>
        </p:blipFill>
        <p:spPr>
          <a:xfrm>
            <a:off x="1547640" y="2205000"/>
            <a:ext cx="2592720" cy="30970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8"/>
          <p:cNvSpPr/>
          <p:nvPr/>
        </p:nvSpPr>
        <p:spPr>
          <a:xfrm>
            <a:off x="4427640" y="4653000"/>
            <a:ext cx="42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知道他是谁吗？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Documents and Settings\yjf\桌面\1.jpg"/>
          <p:cNvPicPr/>
          <p:nvPr/>
        </p:nvPicPr>
        <p:blipFill>
          <a:blip r:embed="rId2"/>
          <a:stretch/>
        </p:blipFill>
        <p:spPr>
          <a:xfrm>
            <a:off x="428760" y="1357200"/>
            <a:ext cx="3286080" cy="3762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C:\Documents and Settings\yjf\桌面\2.jpg"/>
          <p:cNvPicPr/>
          <p:nvPr/>
        </p:nvPicPr>
        <p:blipFill>
          <a:blip r:embed="rId3"/>
          <a:stretch/>
        </p:blipFill>
        <p:spPr>
          <a:xfrm>
            <a:off x="4643280" y="1000080"/>
            <a:ext cx="36291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Documents and Settings\yjf\桌面\3.jpg"/>
          <p:cNvPicPr/>
          <p:nvPr/>
        </p:nvPicPr>
        <p:blipFill>
          <a:blip r:embed="rId2"/>
          <a:stretch/>
        </p:blipFill>
        <p:spPr>
          <a:xfrm>
            <a:off x="785880" y="1143000"/>
            <a:ext cx="3429000" cy="4338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C:\Documents and Settings\yjf\桌面\4.jpg"/>
          <p:cNvPicPr/>
          <p:nvPr/>
        </p:nvPicPr>
        <p:blipFill>
          <a:blip r:embed="rId3"/>
          <a:stretch/>
        </p:blipFill>
        <p:spPr>
          <a:xfrm>
            <a:off x="5000760" y="1071720"/>
            <a:ext cx="331452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昆虫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WordArt 5"/>
          <p:cNvSpPr txBox="1"/>
          <p:nvPr/>
        </p:nvSpPr>
        <p:spPr>
          <a:xfrm>
            <a:off x="1619280" y="1700280"/>
            <a:ext cx="619272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人的一生还可以怎样划分？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2195640" y="4437000"/>
            <a:ext cx="27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5" name="Picture 7" descr="008867"/>
          <p:cNvPicPr/>
          <p:nvPr/>
        </p:nvPicPr>
        <p:blipFill>
          <a:blip r:embed="rId3"/>
          <a:stretch/>
        </p:blipFill>
        <p:spPr>
          <a:xfrm>
            <a:off x="468360" y="3716280"/>
            <a:ext cx="172728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www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zg2_003"/>
          <p:cNvPicPr/>
          <p:nvPr/>
        </p:nvPicPr>
        <p:blipFill>
          <a:blip r:embed="rId3"/>
          <a:srcRect l="35302" t="0" r="19726" b="0"/>
          <a:stretch/>
        </p:blipFill>
        <p:spPr>
          <a:xfrm>
            <a:off x="395280" y="4581360"/>
            <a:ext cx="1727280" cy="1872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u=2051519506,3711167777&amp;fm=0&amp;gp=36"/>
          <p:cNvPicPr/>
          <p:nvPr/>
        </p:nvPicPr>
        <p:blipFill>
          <a:blip r:embed="rId4"/>
          <a:srcRect l="16228" t="0" r="8100" b="0"/>
          <a:stretch/>
        </p:blipFill>
        <p:spPr>
          <a:xfrm>
            <a:off x="3924360" y="2924280"/>
            <a:ext cx="2016000" cy="2160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30762"/>
          <p:cNvPicPr/>
          <p:nvPr/>
        </p:nvPicPr>
        <p:blipFill>
          <a:blip r:embed="rId5"/>
          <a:stretch/>
        </p:blipFill>
        <p:spPr>
          <a:xfrm>
            <a:off x="6804000" y="2133720"/>
            <a:ext cx="1779480" cy="23050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2124000" y="5229360"/>
            <a:ext cx="24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幼年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4211640" y="206064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成年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7236000" y="1268280"/>
            <a:ext cx="129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老年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539640" y="0"/>
            <a:ext cx="44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1403280" y="476280"/>
            <a:ext cx="21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WordArt 14"/>
          <p:cNvSpPr txBox="1"/>
          <p:nvPr/>
        </p:nvSpPr>
        <p:spPr>
          <a:xfrm>
            <a:off x="755640" y="476280"/>
            <a:ext cx="4176720" cy="105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人的一生可以划分为：</a:t>
            </a:r>
            <a:endParaRPr b="1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www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1"/>
          <p:cNvSpPr/>
          <p:nvPr/>
        </p:nvSpPr>
        <p:spPr>
          <a:xfrm>
            <a:off x="0" y="476280"/>
            <a:ext cx="972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的一生：（胎儿期）、（婴幼儿期）（幼儿期）、（学龄期）、（青春期）、（青年期）、（成年期）、（老年期）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755640" y="5589720"/>
            <a:ext cx="33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WordArt 16"/>
          <p:cNvSpPr txBox="1"/>
          <p:nvPr/>
        </p:nvSpPr>
        <p:spPr>
          <a:xfrm>
            <a:off x="0" y="4941720"/>
            <a:ext cx="565164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人的一生也可以划分为：</a:t>
            </a:r>
            <a:endParaRPr b="1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昆虫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7"/>
          <p:cNvSpPr/>
          <p:nvPr/>
        </p:nvSpPr>
        <p:spPr>
          <a:xfrm>
            <a:off x="1547640" y="3068640"/>
            <a:ext cx="280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WordArt 10"/>
          <p:cNvSpPr txBox="1"/>
          <p:nvPr/>
        </p:nvSpPr>
        <p:spPr>
          <a:xfrm>
            <a:off x="1795320" y="1916280"/>
            <a:ext cx="555336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预测自己长大以后的身高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1332000" y="4724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4" name="Picture 12" descr="008867"/>
          <p:cNvPicPr/>
          <p:nvPr/>
        </p:nvPicPr>
        <p:blipFill>
          <a:blip r:embed="rId3"/>
          <a:stretch/>
        </p:blipFill>
        <p:spPr>
          <a:xfrm>
            <a:off x="468360" y="3716280"/>
            <a:ext cx="172728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2"/>
          <p:cNvSpPr/>
          <p:nvPr/>
        </p:nvSpPr>
        <p:spPr>
          <a:xfrm>
            <a:off x="-252360" y="1989000"/>
            <a:ext cx="9396360" cy="1008360"/>
          </a:xfrm>
          <a:prstGeom prst="cloudCallout">
            <a:avLst>
              <a:gd name="adj1" fmla="val -49712"/>
              <a:gd name="adj2" fmla="val 255986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男孩成人后身高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（父母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母亲身高）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÷2×1.08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6" name="Picture 3" descr="xy"/>
          <p:cNvPicPr/>
          <p:nvPr/>
        </p:nvPicPr>
        <p:blipFill>
          <a:blip r:embed="rId2"/>
          <a:stretch/>
        </p:blipFill>
        <p:spPr>
          <a:xfrm>
            <a:off x="0" y="5661000"/>
            <a:ext cx="681120" cy="6922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99640" y="5373360"/>
            <a:ext cx="6481800" cy="3459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预测自己长大后的身高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0" y="0"/>
            <a:ext cx="8352000" cy="1727280"/>
          </a:xfrm>
          <a:prstGeom prst="cloudCallout">
            <a:avLst>
              <a:gd name="adj1" fmla="val -28138"/>
              <a:gd name="adj2" fmla="val 35055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可以根据父母的身高预测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324000" y="3789360"/>
            <a:ext cx="9324720" cy="1008000"/>
          </a:xfrm>
          <a:prstGeom prst="cloudCallout">
            <a:avLst>
              <a:gd name="adj1" fmla="val -58972"/>
              <a:gd name="adj2" fmla="val 91731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男孩成人后身高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（父亲身高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×0.928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母亲身高）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÷2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2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9T02:38:14Z</dcterms:created>
  <dc:creator>huayuanzhao</dc:creator>
  <dc:description/>
  <dc:language>en-US</dc:language>
  <cp:lastModifiedBy>User</cp:lastModifiedBy>
  <dcterms:modified xsi:type="dcterms:W3CDTF">2011-05-20T08:54:01Z</dcterms:modified>
  <cp:revision>9</cp:revision>
  <dc:subject/>
  <dc:title>昆 虫</dc:title>
</cp:coreProperties>
</file>