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9.gif" ContentType="image/gif"/>
  <Override PartName="/ppt/media/image13.gif" ContentType="image/gif"/>
  <Override PartName="/ppt/media/image8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gif" ContentType="image/gif"/>
  <Override PartName="/ppt/media/image4.png" ContentType="image/png"/>
  <Override PartName="/ppt/media/image2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694-6BB3-4EDB-B576-15D545B4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AD0-8918-41D8-AC85-CC49338A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CE4-F44E-4B37-9AD6-E0AE685A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61E-49C5-4C52-92A7-8AE47BA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C59-8447-460C-9DA1-CC466D0D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0AD-60E4-4C51-8E3B-53F3769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08C-1E36-4F50-8943-470C925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2F2-D09F-4A8F-AF46-779172B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147-565A-40A2-9F63-962B068E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BE9-FD95-4EA5-84A8-221C0B75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473-945A-4BD9-90DF-F1E10D37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CD5-C1EA-4F98-A4C3-E6E8818B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3BA-A340-416D-A05B-F7F1EE26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8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87320" y="665280"/>
            <a:ext cx="741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Times New Roman"/>
                <a:ea typeface="隶书"/>
              </a:rPr>
              <a:t>人 琴 俱 亡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0" descr="bac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0"/>
            <a:ext cx="87249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达标反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辨析多义字的字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　　此已丧矣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＿＿　　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　　　　病笃＿＿＿　　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丧　　　　　　　　　　　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　　便索舆来奔丧＿＿　　　　笃实＿＿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弦既不调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__     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月余亦卒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既                                                     生卒年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既然而悔之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卒   士卒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卒业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5360" y="1428840"/>
            <a:ext cx="285840" cy="1218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5435640" y="1434960"/>
            <a:ext cx="285840" cy="12193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501480" y="3187800"/>
            <a:ext cx="285840" cy="1218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5518080" y="3251160"/>
            <a:ext cx="285840" cy="2133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72440" y="2933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去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66880" y="1104840"/>
            <a:ext cx="16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去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355920" y="232740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丧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病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781680" y="232416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忠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765520" y="29178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已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2895480" y="4095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后来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7467480" y="35053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7372440" y="4076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6686640" y="4686480"/>
            <a:ext cx="16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完毕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3" descr="祝福"/>
          <p:cNvPicPr/>
          <p:nvPr/>
        </p:nvPicPr>
        <p:blipFill>
          <a:blip r:embed="rId2"/>
          <a:stretch/>
        </p:blipFill>
        <p:spPr>
          <a:xfrm>
            <a:off x="6324480" y="5210280"/>
            <a:ext cx="310536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卡通画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266760" y="399960"/>
            <a:ext cx="64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解释加点词含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85800" y="1257480"/>
            <a:ext cx="7086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王子猷、子敬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恸绝良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便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坐灵床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弦既不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素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705200" y="114300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：全，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724280" y="1714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因：副词，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686480" y="2286000"/>
            <a:ext cx="17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索：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4705200" y="28195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径：径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705200" y="339084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调：协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724280" y="4019400"/>
            <a:ext cx="37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素：一向； 好：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8" descr="WL_356"/>
          <p:cNvPicPr/>
          <p:nvPr/>
        </p:nvPicPr>
        <p:blipFill>
          <a:blip r:embed="rId2"/>
          <a:stretch/>
        </p:blipFill>
        <p:spPr>
          <a:xfrm>
            <a:off x="276120" y="4471920"/>
            <a:ext cx="1990800" cy="2386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386080" y="4514760"/>
            <a:ext cx="4562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、翻译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）何以都不闻消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）因恸绝良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壁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卡通1"/>
          <p:cNvPicPr/>
          <p:nvPr/>
        </p:nvPicPr>
        <p:blipFill>
          <a:blip r:embed="rId2"/>
          <a:stretch/>
        </p:blipFill>
        <p:spPr>
          <a:xfrm>
            <a:off x="6238800" y="0"/>
            <a:ext cx="2619360" cy="209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</a:rPr>
              <a:t>学习小结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）内容小结：这则故事写了王子猷对王子敬独特的悼念方式，表现了他对弟弟深厚的情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）方法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本文的人物形象刻画得很有个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课文语言十分简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壁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228600" y="228600"/>
            <a:ext cx="680076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延伸拓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、链接生活：我们常说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同学如兄弟姐妹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，那你认为应该如何处理好同学之间的这种手足之情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61800" y="2819520"/>
            <a:ext cx="6534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、曹植的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七步诗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反映是怎么样的兄弟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煮豆持做羹，漉菽以为汁；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萁在釜下燃，豆在釜中泣，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本是同根生，相煎何太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壁4"/>
          <p:cNvPicPr/>
          <p:nvPr/>
        </p:nvPicPr>
        <p:blipFill>
          <a:blip r:embed="rId1"/>
          <a:stretch/>
        </p:blipFill>
        <p:spPr>
          <a:xfrm>
            <a:off x="0" y="0"/>
            <a:ext cx="9431280" cy="7050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257480" y="1771560"/>
            <a:ext cx="699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Times New Roman"/>
              </a:rPr>
              <a:t>谢 谢 观 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98 -0.02407 0.03299 -0.05857 0.05799 -0.05857 C 0.09497 -0.05857 0.125 -0.02269 0.125 0.02268 C 0.125 0.03727 0.12205 0.05069 0.11597 0.06273 C 0.11702 0.06273 0 0.24259 0 0.24398 C 0 0.24259 -0.11701 0.06273 -0.11597 0.06273 C -0.12205 0.05069 -0.125 0.03727 -0.125 0.02268 C -0.125 -0.02269 -0.09496 -0.05857 -0.05694 -0.05857 C -0.03298 -0.05857 -0.01198 -0.02407 0 0 Z">
                                      <p:cBhvr>
                                        <p:cTn id="32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420920" y="2805120"/>
            <a:ext cx="6323040" cy="35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高 山 流 水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8" name="Picture 5" descr="D_001"/>
          <p:cNvPicPr/>
          <p:nvPr/>
        </p:nvPicPr>
        <p:blipFill>
          <a:blip r:embed="rId1"/>
          <a:stretch/>
        </p:blipFill>
        <p:spPr>
          <a:xfrm>
            <a:off x="8028000" y="6308640"/>
            <a:ext cx="1116000" cy="549360"/>
          </a:xfrm>
          <a:prstGeom prst="rect">
            <a:avLst/>
          </a:prstGeom>
          <a:ln w="0">
            <a:noFill/>
          </a:ln>
        </p:spPr>
      </p:pic>
      <p:pic>
        <p:nvPicPr>
          <p:cNvPr id="89" name="致爱丽丝.wma" descr=""/>
          <p:cNvPicPr/>
          <p:nvPr/>
        </p:nvPicPr>
        <p:blipFill>
          <a:blip r:embed="rId2"/>
          <a:stretch/>
        </p:blipFill>
        <p:spPr>
          <a:xfrm>
            <a:off x="824400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4882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u=2265131033,602626217&amp;gp=2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50920" y="33336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俞伯牙与钟子期的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aoshan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20041016192259132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D_001"/>
          <p:cNvPicPr/>
          <p:nvPr/>
        </p:nvPicPr>
        <p:blipFill>
          <a:blip r:embed="rId4"/>
          <a:stretch/>
        </p:blipFill>
        <p:spPr>
          <a:xfrm>
            <a:off x="8101080" y="6165720"/>
            <a:ext cx="736560" cy="692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647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95280" y="549360"/>
            <a:ext cx="87487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课教学目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整体感知全文，翻译了解课文大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积累常见的文言实词虚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品味课文中所体现的深厚兄弟情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点：掌握常见的文言实词与虚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难点：体会用独特悼念方式表达深厚的兄弟情谊，感受凄美的爱的感情熏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8"/>
          <p:cNvSpPr/>
          <p:nvPr/>
        </p:nvSpPr>
        <p:spPr>
          <a:xfrm>
            <a:off x="5364000" y="69228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84360" y="1988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笃     了    舆    调    恸   掷    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332000" y="3716280"/>
            <a:ext cx="217440" cy="100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3851280" y="3645000"/>
            <a:ext cx="217440" cy="100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6588000" y="3645000"/>
            <a:ext cx="217440" cy="100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1258920" y="5229360"/>
            <a:ext cx="217440" cy="100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851280" y="5300640"/>
            <a:ext cx="217440" cy="100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611280" y="404640"/>
            <a:ext cx="75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温故而知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注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88960" y="2959200"/>
            <a:ext cx="7416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多义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笃                   素                    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既                   索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31"/>
          <p:cNvGrpSpPr/>
          <p:nvPr/>
        </p:nvGrpSpPr>
        <p:grpSpPr>
          <a:xfrm>
            <a:off x="1562040" y="3371760"/>
            <a:ext cx="7182000" cy="2940120"/>
            <a:chOff x="1562040" y="3371760"/>
            <a:chExt cx="7182000" cy="2940120"/>
          </a:xfrm>
        </p:grpSpPr>
        <p:sp>
          <p:nvSpPr>
            <p:cNvPr id="106" name="Text Box 20"/>
            <p:cNvSpPr/>
            <p:nvPr/>
          </p:nvSpPr>
          <p:spPr>
            <a:xfrm>
              <a:off x="1641600" y="3546360"/>
              <a:ext cx="119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沉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忠实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\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心一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1"/>
            <p:cNvSpPr/>
            <p:nvPr/>
          </p:nvSpPr>
          <p:spPr>
            <a:xfrm>
              <a:off x="4022640" y="3489480"/>
              <a:ext cx="18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白色的生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素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6953400" y="3371760"/>
              <a:ext cx="17906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完毕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1562040" y="5257800"/>
              <a:ext cx="1409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已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"/>
            <p:cNvSpPr/>
            <p:nvPr/>
          </p:nvSpPr>
          <p:spPr>
            <a:xfrm>
              <a:off x="4267080" y="5295960"/>
              <a:ext cx="1924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绳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30"/>
          <p:cNvSpPr/>
          <p:nvPr/>
        </p:nvSpPr>
        <p:spPr>
          <a:xfrm>
            <a:off x="7924680" y="6224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52240" y="914040"/>
            <a:ext cx="80010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看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看注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标检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议议：表现兄弟情深的句子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弦既不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923760" y="495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三看一议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-90720"/>
            <a:ext cx="9144000" cy="7896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琴俱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王子猷、子敬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病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敬先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猷问左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何以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闻消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此已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时了不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38120" y="131436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王子猷、王子敬都病得很重，子敬先死了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俱，副词，表范围，都。笃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dǔ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。而，表承接，不译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38120" y="339084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王子猷问手下的人说：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为什么总听不到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子敬的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消息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这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一定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是他已经死了。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都，副词，总，竟。何以，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以何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为什么。矣，语气助词，表肯定语气，可译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了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920" y="5619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说话时完全不悲伤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语，动词，说话。了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liǎo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全，完全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60400" y="6357960"/>
            <a:ext cx="66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1818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索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奔丧，都不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敬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便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坐灵床上，取子敬琴弹，弦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云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敬子敬，人琴俱亡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因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久。月余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Times New Roman"/>
              </a:rPr>
              <a:t>亦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533520"/>
            <a:ext cx="85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就要轿子来去看望丧事，一路上都没有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  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索，要。舆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y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轿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236232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子敬一向喜欢弹琴，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子猷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一直走进去坐在灵床上，拿过子敬的琴来弹，几根弦的声音已经不协调了，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子猷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把琴扔在地上说：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子敬啊，子敬啊，你人和琴都死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素，向来，一向。琴，动词，弹琴。径，直往。灵床，停放尸体的床铺。既，已经。调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ti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协调。掷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zh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ì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投掷，抛掷，扔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5619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于是痛哭了很久，几乎要昏过去。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 过了一个多月，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子猷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也死了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因，副词，于是，就。恸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tòng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痛哭，极度悲哀。良，很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亦，副词，也。卒，死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79038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13"/>
          <p:cNvPicPr/>
          <p:nvPr/>
        </p:nvPicPr>
        <p:blipFill>
          <a:blip r:embed="rId3"/>
          <a:stretch/>
        </p:blipFill>
        <p:spPr>
          <a:xfrm>
            <a:off x="7481880" y="4616280"/>
            <a:ext cx="1662120" cy="224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28560" y="590400"/>
            <a:ext cx="75628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课后反思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既然兄弟情深厚感情如此，为何作者却说子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不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不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那子猷究竟以何种方式来悼念子敬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讨论：为什么在文章的结尾说子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余亦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52:12Z</dcterms:created>
  <dc:creator/>
  <dc:description>第一PPT模板网-WWW.1PPT.COM
</dc:description>
  <dc:language>en-US</dc:language>
  <cp:lastModifiedBy>Administrator</cp:lastModifiedBy>
  <dcterms:modified xsi:type="dcterms:W3CDTF">2017-08-01T01:52:50Z</dcterms:modified>
  <cp:revision>43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