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69F28-AEC4-4A5C-AFB4-4BDFFA47C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ABF30-5629-4551-9796-E1A995654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71F93-7332-453E-AFEF-A3AC5F15E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244A1-F398-4094-98E5-2900D9C9D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35B0E-517A-435F-BE07-4140AB661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8E363-4FC0-471E-A0A3-AA65993FA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AC465-2908-4908-A2D9-DCF48989F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1FCCC-5EBE-45A5-BA2C-D0B70D299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D3EA4-EC24-45A0-AF09-941346AED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4EB41-64C9-4951-9B21-3A1C113B5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2FE3C-A08E-44CB-B04C-17083D0CE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2012D-F30A-429C-A286-A05249B3E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B2CC6-2251-48DD-BDB8-94D113958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6F125-C178-447B-8BA1-1B2225737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7227C-9571-4E7C-BAE2-E66908A51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8E20B-BBFB-4CA0-8D09-B4542F84E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5EE1D-33E5-4410-966B-6ACE81DE0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C4EB7-57E1-44FF-A962-13DE499FF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30D76-A593-42C6-84B3-B0C553CEE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01E43-5741-454D-8D20-118498324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65629-E515-43C2-9690-659BF350B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B0721-B639-4CBA-A47A-ED4511A03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C3EBB-BE9D-4C0F-9DDB-7FD8B6AC7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360AA-C05D-4A11-863F-A43693227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F32E0-0CCE-4CD0-AC58-3BAE06878A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6CB9D-934C-4739-8BBC-259F555CD177}" type="slidenum">
              <a:rPr b="0" lang="en-US" sz="14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图片 1" descr=""/>
          <p:cNvPicPr/>
          <p:nvPr/>
        </p:nvPicPr>
        <p:blipFill>
          <a:blip r:embed="rId1"/>
          <a:stretch/>
        </p:blipFill>
        <p:spPr>
          <a:xfrm>
            <a:off x="584280" y="711360"/>
            <a:ext cx="8064360" cy="5375160"/>
          </a:xfrm>
          <a:prstGeom prst="rect">
            <a:avLst/>
          </a:prstGeom>
          <a:ln w="0">
            <a:noFill/>
          </a:ln>
        </p:spPr>
      </p:pic>
      <p:sp>
        <p:nvSpPr>
          <p:cNvPr id="83" name="WordArt 4"/>
          <p:cNvSpPr txBox="1"/>
          <p:nvPr/>
        </p:nvSpPr>
        <p:spPr>
          <a:xfrm>
            <a:off x="1417680" y="1125360"/>
            <a:ext cx="575928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华文中宋"/>
              </a:rPr>
              <a:t>人琴俱亡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华文中宋"/>
              <a:ea typeface="华文中宋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5435640" y="3645000"/>
            <a:ext cx="160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刘义庆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6" descr="02"/>
          <p:cNvPicPr/>
          <p:nvPr/>
        </p:nvPicPr>
        <p:blipFill>
          <a:blip r:embed="rId1"/>
          <a:stretch/>
        </p:blipFill>
        <p:spPr>
          <a:xfrm>
            <a:off x="324000" y="3429000"/>
            <a:ext cx="2939760" cy="3014640"/>
          </a:xfrm>
          <a:prstGeom prst="rect">
            <a:avLst/>
          </a:prstGeom>
          <a:ln w="0">
            <a:noFill/>
          </a:ln>
        </p:spPr>
      </p:pic>
      <p:sp>
        <p:nvSpPr>
          <p:cNvPr id="102" name="AutoShape 8"/>
          <p:cNvSpPr/>
          <p:nvPr/>
        </p:nvSpPr>
        <p:spPr>
          <a:xfrm>
            <a:off x="8317080" y="5950080"/>
            <a:ext cx="753840" cy="753840"/>
          </a:xfrm>
          <a:custGeom>
            <a:avLst/>
            <a:gdLst>
              <a:gd name="textAreaLeft" fmla="*/ 48600 w 753840"/>
              <a:gd name="textAreaRight" fmla="*/ 705240 w 753840"/>
              <a:gd name="textAreaTop" fmla="*/ 48600 h 753840"/>
              <a:gd name="textAreaBottom" fmla="*/ 705240 h 753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301"/>
                </a:moveTo>
                <a:lnTo>
                  <a:pt x="4707" y="7301"/>
                </a:lnTo>
                <a:lnTo>
                  <a:pt x="5090" y="7667"/>
                </a:lnTo>
                <a:lnTo>
                  <a:pt x="14299" y="7667"/>
                </a:lnTo>
                <a:lnTo>
                  <a:pt x="14856" y="8224"/>
                </a:lnTo>
                <a:lnTo>
                  <a:pt x="14856" y="8772"/>
                </a:lnTo>
                <a:lnTo>
                  <a:pt x="16701" y="8772"/>
                </a:lnTo>
                <a:lnTo>
                  <a:pt x="17067" y="8224"/>
                </a:lnTo>
                <a:lnTo>
                  <a:pt x="17806" y="8224"/>
                </a:lnTo>
                <a:lnTo>
                  <a:pt x="17806" y="13376"/>
                </a:lnTo>
                <a:lnTo>
                  <a:pt x="17067" y="13376"/>
                </a:lnTo>
                <a:lnTo>
                  <a:pt x="16701" y="12828"/>
                </a:lnTo>
                <a:lnTo>
                  <a:pt x="14856" y="12828"/>
                </a:lnTo>
                <a:lnTo>
                  <a:pt x="14856" y="14107"/>
                </a:lnTo>
                <a:lnTo>
                  <a:pt x="5273" y="14107"/>
                </a:lnTo>
                <a:lnTo>
                  <a:pt x="5273" y="9877"/>
                </a:lnTo>
                <a:lnTo>
                  <a:pt x="5090" y="9877"/>
                </a:lnTo>
                <a:lnTo>
                  <a:pt x="4707" y="10243"/>
                </a:lnTo>
                <a:lnTo>
                  <a:pt x="3794" y="10243"/>
                </a:lnTo>
                <a:close/>
              </a:path>
            </a:pathLst>
          </a:cu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0" y="1844280"/>
            <a:ext cx="8540640" cy="87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手足情是人世间永不凋零朵的花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572"/>
                </a:solidFill>
                <a:latin typeface="Arial"/>
              </a:rPr>
              <a:t>深入体会“至爱亲情” 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04920" y="1980720"/>
            <a:ext cx="8540640" cy="108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再读课文，把握感情基调（哀怨、凄婉、悲凉）。 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06" name="Picture 4" descr="14"/>
          <p:cNvPicPr/>
          <p:nvPr/>
        </p:nvPicPr>
        <p:blipFill>
          <a:blip r:embed="rId1"/>
          <a:stretch/>
        </p:blipFill>
        <p:spPr>
          <a:xfrm>
            <a:off x="3564000" y="2852640"/>
            <a:ext cx="4464000" cy="368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学习目标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250920" y="134136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有感情的诵读古文，体会用独特悼念方式表达深厚的兄弟情谊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掌握常见的文言实词与虚词，品味简洁传神的语言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重点 ：掌握常见的文言实词与虚词 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难点：体会用独特悼念方式表达深厚的兄弟情谊，感受凄美的爱的感情熏陶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3360" y="259920"/>
            <a:ext cx="8540640" cy="81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572"/>
                </a:solidFill>
                <a:latin typeface="Arial"/>
              </a:rPr>
              <a:t>注意读准下列字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24000" y="1412640"/>
            <a:ext cx="854064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了（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liǎo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）不悲 ，        笃（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dǔ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），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舆（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yú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），    奔（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bēn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）丧 ， 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恸（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tòng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），亦卒（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zú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）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不调（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tiáo)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89" name="Picture 4" descr="13"/>
          <p:cNvPicPr/>
          <p:nvPr/>
        </p:nvPicPr>
        <p:blipFill>
          <a:blip r:embed="rId1"/>
          <a:stretch/>
        </p:blipFill>
        <p:spPr>
          <a:xfrm>
            <a:off x="7137360" y="3357720"/>
            <a:ext cx="1649520" cy="31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0" y="475920"/>
            <a:ext cx="8935920" cy="638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Arial"/>
              </a:rPr>
              <a:t>实词：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Arial"/>
              </a:rPr>
              <a:t>笃：（病）重；        索：要；        舆：轿子；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Arial"/>
              </a:rPr>
              <a:t>径：直往；              素：向来，一向；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Arial"/>
              </a:rPr>
              <a:t>卒：死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Arial"/>
              </a:rPr>
              <a:t>虚词：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Arial"/>
              </a:rPr>
              <a:t>而：表承接，不译；     了：完全；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Arial"/>
              </a:rPr>
              <a:t>既：已经；                     俱：全，都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Arial"/>
              </a:rPr>
              <a:t>因：于是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1680" y="685800"/>
            <a:ext cx="8308800" cy="403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         </a:t>
            </a:r>
            <a:r>
              <a:rPr b="0" lang="zh-CN" sz="6600" spc="-1" strike="noStrike">
                <a:solidFill>
                  <a:srgbClr val="007572"/>
                </a:solidFill>
                <a:latin typeface="Arial"/>
              </a:rPr>
              <a:t>学生对照书下注解进行翻译，有不会的先讨论，然后师生共同解决。</a:t>
            </a:r>
            <a:endParaRPr b="0" lang="en-US" sz="6600" spc="-1" strike="noStrike">
              <a:solidFill>
                <a:srgbClr val="0075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50560" y="836280"/>
            <a:ext cx="87138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Arial"/>
              </a:rPr>
              <a:t>出示译文：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Arial"/>
              </a:rPr>
              <a:t>王子猷、王子敬都病得很重，子敬先死了。王子猷问手下人：“为什么总听不到（子敬的）消息？（这）一定是他已经死了。”说话时完全不悲伤。就要轿子来去奔丧事，一路上都没哭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ff6600"/>
                </a:solidFill>
                <a:latin typeface="Arial"/>
              </a:rPr>
              <a:t>子敬一向喜欢弹琴，（子猷）一直走进去坐在灵床上，拿过子敬的琴来弹，几根弦的声音已经不协调了，（子猷）把琴扔在地上说：“子敬啊，子敬啊，你人和琴都死了。”于是痛哭了很久，几乎要昏过去。过了一个月，（子猷）也死了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8920" y="549000"/>
            <a:ext cx="854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572"/>
                </a:solidFill>
                <a:latin typeface="Arial"/>
              </a:rPr>
              <a:t>探究 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、子猷以自己独特的不同寻常的方式悼念了弟弟子敬，独特在哪？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、你如何理解子猷的独特的悼念方式？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拓展延伸 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83840" y="764640"/>
            <a:ext cx="8659800" cy="609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手足情是一个不老的话题，生活中你有没有真切的体会？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97" name="Picture 4" descr="60"/>
          <p:cNvPicPr/>
          <p:nvPr/>
        </p:nvPicPr>
        <p:blipFill>
          <a:blip r:embed="rId1"/>
          <a:stretch/>
        </p:blipFill>
        <p:spPr>
          <a:xfrm>
            <a:off x="6300720" y="4726080"/>
            <a:ext cx="230364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布置作业 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将本文扩写成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500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字左右的文章，对子猷悼念弟弟前后的神态、心理、动作进行合理想象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00" name="Picture 4" descr="56"/>
          <p:cNvPicPr/>
          <p:nvPr/>
        </p:nvPicPr>
        <p:blipFill>
          <a:blip r:embed="rId1"/>
          <a:stretch/>
        </p:blipFill>
        <p:spPr>
          <a:xfrm>
            <a:off x="3924360" y="3213000"/>
            <a:ext cx="338436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8T06:21:39Z</dcterms:created>
  <dc:creator/>
  <dc:description>第一PPT模板网-WWW.1PPT.COM
</dc:description>
  <dc:language>en-US</dc:language>
  <cp:lastModifiedBy>Administrator</cp:lastModifiedBy>
  <dcterms:modified xsi:type="dcterms:W3CDTF">2017-08-01T01:50:52Z</dcterms:modified>
  <cp:revision>39</cp:revision>
  <dc:subject>第一PPT模板网-WWW.1PPT.COM</dc:subject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690</vt:lpwstr>
  </property>
</Properties>
</file>