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A324-2998-4A8A-B8C2-C462AD32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65F-98EA-4ECB-BAE5-B4F9F468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326-579A-43CE-A331-65974476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9FE-AF42-432C-BFF8-82212536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F21B-4029-4BD5-8535-B3A8F44C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6F6-3D65-4280-8F6E-B4905186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2F9F-AF12-4564-AB4B-76D776E3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1FB-2F68-43AF-9051-8ED57DA0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D2AB-E913-4E2C-BFED-43159694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D7D-3CA1-41DB-A638-BE82CF96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4E7-AB29-44CB-8FD5-CBDD8A4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97B3-6875-42BA-AF54-C2BC0E0A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289C-7992-491D-A42C-C8A58DC33D2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F624-33AC-45B6-AA31-E507DC24FD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464160"/>
            <a:ext cx="1841400" cy="393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464160"/>
            <a:ext cx="1841400" cy="39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xxjxsj.cn/article/32857.html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hyperlink" Target="http://image.baidu.com/i?ct=503316480&amp;z=0&amp;tn=baiduimagedetail&amp;word=%C0%EE%C7%E5%D5%D5&amp;in=30690&amp;cl=2&amp;cm=1&amp;sc=0&amp;lm=-1&amp;pn=14&amp;rn=1&amp;di=630380812&amp;ln=2000&amp;fr=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602760" y="979920"/>
            <a:ext cx="146016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16240" y="1500840"/>
            <a:ext cx="606960" cy="30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5040" y="1125360"/>
            <a:ext cx="13993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cc00"/>
                </a:solidFill>
                <a:latin typeface="Festive"/>
                <a:ea typeface="Festive"/>
              </a:rPr>
              <a:t>如梦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47280" y="3068640"/>
            <a:ext cx="6678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水柱简体"/>
                <a:ea typeface="方正水柱简体"/>
              </a:rPr>
              <a:t>	</a:t>
            </a:r>
            <a:r>
              <a:rPr b="1" lang="zh-CN" sz="3200" spc="-1" strike="noStrike">
                <a:solidFill>
                  <a:srgbClr val="333399"/>
                </a:solidFill>
                <a:latin typeface="方正水柱简体"/>
                <a:ea typeface="方正水柱简体"/>
              </a:rPr>
              <a:t>李清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7236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DFD7C-6F3E-4305-AA92-31E69F1DE4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521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67080" y="1628640"/>
            <a:ext cx="152100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  <a:ea typeface="方正粗倩简体"/>
              </a:rPr>
              <a:t>探究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3457800" cy="653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56000" y="765000"/>
            <a:ext cx="45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词人爱花惜花的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还表现在哪些地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708280"/>
            <a:ext cx="340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卡通简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卡通简体"/>
              </a:rPr>
              <a:t>试问”卷帘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C5714-24D0-4CC2-936A-D4B4D6B640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51280" y="260280"/>
            <a:ext cx="43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124000" y="0"/>
            <a:ext cx="590076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759120" y="62064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首词通过对爱花惜花行为的细腻描写，抒发了词人怎样的情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5640" y="2652840"/>
            <a:ext cx="6002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卡通简体"/>
              </a:rPr>
              <a:t>表达了对美好事物的珍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卡通简体"/>
              </a:rPr>
              <a:t>之情，既有爱花惜花的遗憾，又有对春光流逝的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卡通简体"/>
              </a:rPr>
              <a:t>恋和红颜易老的感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1F85E-9A16-480D-8CF4-284CAA4635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755640" y="90792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3399"/>
                </a:solidFill>
                <a:latin typeface="Arial"/>
                <a:ea typeface="隶书"/>
              </a:rPr>
              <a:t>三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昨夜"/>
          <p:cNvPicPr/>
          <p:nvPr/>
        </p:nvPicPr>
        <p:blipFill>
          <a:blip r:embed="rId1"/>
          <a:stretch/>
        </p:blipFill>
        <p:spPr>
          <a:xfrm>
            <a:off x="324000" y="4292640"/>
            <a:ext cx="8569080" cy="244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468360" y="26370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隶书"/>
              </a:rPr>
              <a:t>李清照两首《如梦令》的异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451640" y="51577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8151840" y="537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8388360" y="5950080"/>
            <a:ext cx="287280" cy="215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25714E-193A-4E2D-8A1E-3EC0CC8612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0 0 C -0.004 -0.08921 0.046 -0.16644 0.113 -0.17176 C 0.177 -0.17842 0.237 -0.1185 0.241 -0.03196 C 0.246 0.04793 0.204 0.1225 0.144 0.12782 C 0.089 0.13182 0.037 0.08255 0.033 0.00799 C 0.029 -0.05992 0.064 -0.12383 0.115 -0.12915 C 0.162 -0.13315 0.206 -0.09187 0.209 -0.02929 C 0.212 0.02663 0.184 0.08122 0.142 0.08388 C 0.104 0.08788 0.068 0.05592 0.065 0.00533 C 0.063 -0.03994 0.084 -0.08388 0.117 -0.08655 C 0.146 -0.08921 0.175 -0.06524 0.177 -0.02663 C 0.179 0.00666 0.164 0.03861 0.14 0.04128 C 0.12 0.04394 0.099 0.02929 0.098 0.00266 C 0.096 -0.01864 0.104 -0.04128 0.119 -0.04394 C 0.131 -0.04394 0.143 -0.03861 0.145 -0.02397 C 0.146 -0.01465 0.144 -0.00533 0.138 -0.00133 C 0.135 0 0.133 0 0.13 -0.00133 E">
                                      <p:cBhvr>
                                        <p:cTn id="12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2143080" y="50004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3399"/>
                </a:solidFill>
                <a:latin typeface="Arial"/>
                <a:ea typeface="隶书"/>
              </a:rPr>
              <a:t>比较阅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昨夜"/>
          <p:cNvPicPr/>
          <p:nvPr/>
        </p:nvPicPr>
        <p:blipFill>
          <a:blip r:embed="rId1"/>
          <a:stretch/>
        </p:blipFill>
        <p:spPr>
          <a:xfrm>
            <a:off x="324000" y="4005360"/>
            <a:ext cx="8569080" cy="2735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7451640" y="515772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8151840" y="537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8388360" y="5950080"/>
            <a:ext cx="287280" cy="21564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4"/>
          <p:cNvSpPr/>
          <p:nvPr/>
        </p:nvSpPr>
        <p:spPr>
          <a:xfrm>
            <a:off x="5148360" y="2286720"/>
            <a:ext cx="3311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梦令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常记溪亭日暮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   沉醉不知归路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兴尽晚回舟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误入藕花深处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争渡，争渡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惊起一滩鸥鹭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684360" y="2390040"/>
            <a:ext cx="3743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梦令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    昨夜雨疏风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浓睡不消残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试问卷帘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却道“海棠依旧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否？知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是绿肥红瘦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A1E56-14D7-43C2-A4D7-F5CA27456A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path" presetID="4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Motion origin="layout" path="M 0.0967 -4.33526E-006 C 0.09271 -0.08924 0.14271 -0.16647 0.20972 -0.17179 C 0.27379 -0.17849 0.33368 -0.11861 0.33767 -0.0319 C 0.34271 0.04787 0.3007 0.12255 0.24063 0.12787 C 0.18577 0.1318 0.13368 0.08255 0.12969 0.0081 C 0.1257 -0.05988 0.16077 -0.12393 0.21163 -0.12924 C 0.25868 -0.13317 0.30278 -0.09179 0.30573 -0.02936 C 0.30868 0.02659 0.28073 0.08116 0.23872 0.08393 C 0.2007 0.08787 0.16476 0.05596 0.16163 0.00532 C 0.15972 -0.04 0.18073 -0.08393 0.21372 -0.08647 C 0.24271 -0.08924 0.2717 -0.0652 0.27379 -0.02659 C 0.2757 0.00671 0.26077 0.03862 0.23663 0.04139 C 0.21667 0.04393 0.19566 0.02937 0.19462 0.00278 C 0.19271 -0.01872 0.2007 -0.04138 0.21563 -0.04393 C 0.22778 -0.04393 0.23976 -0.03861 0.24167 -0.02404 C 0.24271 -0.01456 0.24063 -0.00531 0.23472 -0.00138 C 0.23177 -4.33526000000011E-006 0.22969 -4.33526000000011E-006 0.22674 -0.00138 E">
                                      <p:cBhvr>
                                        <p:cTn id="126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相同：都写了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酒醉、花美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②不同：两首词的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时间、地点、景物、人物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都不同，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心境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也不同。虽然都“醉”，“常记溪亭日暮”是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因美景、心情陶醉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本词是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为花而喜，为花而悲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，实则是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伤春惜春，以花自喻，慨叹自己的青春易逝。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而“常记溪亭日暮”之情景，是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追忆美好快乐的时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李清照两首《如梦令》的异同</a:t>
            </a:r>
            <a:br>
              <a:rPr sz="44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提示从词的内容、句式、情感等角度分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0F9BD-D30A-40C5-8863-DFD37E7F23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052640"/>
            <a:ext cx="501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收集一些写花的诗词名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比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卡通简体"/>
              </a:rPr>
              <a:t>孟浩然“夜来风雨声，花落知多少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476280" y="1125360"/>
            <a:ext cx="152100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  <a:ea typeface="方正粗倩简体"/>
              </a:rPr>
              <a:t>作业布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9600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1FF1B-364B-438C-90E8-32A3448739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77524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270080"/>
            <a:ext cx="1930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李清照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084-115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，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南宋女词人，号易安居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父亲李格非是苏轼的学生，夫赵明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著名金石考据家。早年生活优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和赵明诚共同致力于书画金石的搜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整理。金兵入侵中原，流寓南方。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诚病死，境遇孤苦。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前期多写悠闲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活，后期多悲叹身世感伤情调</a:t>
            </a:r>
            <a:r>
              <a:rPr b="1" lang="zh-CN" sz="2800" spc="-1" strike="noStrike">
                <a:solidFill>
                  <a:srgbClr val="9966ff"/>
                </a:solidFill>
                <a:latin typeface="Arial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李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照是诗、词、散文皆有成就的宋代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作家，但她最擅长的，成就最高的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是词。她的词在两宋词坛上独树一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被称为“李易安体”，把婉约词推向了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峰。有《漱玉词》、《李清照集》。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333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Arial"/>
                <a:ea typeface="方正粗倩简体"/>
              </a:rPr>
              <a:t>走近李清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2843280" cy="47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6B6E5-CB8D-410E-8B21-7FCD9D465A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16000" y="-360"/>
            <a:ext cx="31669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0" y="765000"/>
            <a:ext cx="9144000" cy="106884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李清照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84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155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号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易安居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是诗、词、散文皆有成就的宋代女作家，但她最擅长的，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成就最高的还是词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　李清照经历了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南北分裂之乱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在南渡前后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她的词风变化很大。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南渡前，李清照的词多描写少女、少妇的闺中生活，对爱情的追求和自然的热爱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《如梦令（常记溪亭日暮）》、《怨王孙》两首词，于轻快活泼的画面中见作者开朗欢乐的心情和轻松悠闲的生活。《醉花阴》中含蓄地述说闺中的寂寞和对爱情的向往。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南渡后，生活的艰辛，国破家亡的苦难使她的词风趋于凄凉低沉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声声慢》等词表现了词人长期流亡生活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2DA80-2C58-48D1-8158-52A072E9D5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5437080" y="0"/>
            <a:ext cx="94327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00720" y="692280"/>
            <a:ext cx="46432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如梦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李清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昨夜 雨疏 风骤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浓睡 不消 残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试问 卷帘人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却道 “海棠依旧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知否？知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应是 绿肥 红瘦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1200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00" y="234936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2997360"/>
            <a:ext cx="28872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242100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2997360"/>
            <a:ext cx="28872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357336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422100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544500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537372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9B0AA8-34EF-4044-8646-4A9561D753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2232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351480" y="1144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58920" y="1413000"/>
            <a:ext cx="766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读准字音、体会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结合注释、理解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意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讨论：这首词写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些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" y="836640"/>
            <a:ext cx="8506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  <a:ea typeface="方正粗倩简体"/>
              </a:rPr>
              <a:t>品读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6669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572000" y="5157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E74B4-D849-4022-B65A-B5C6E535DF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9972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1280" y="333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鉴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125360"/>
            <a:ext cx="63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是一首清新可喜的小词。清晨女诗人从沉睡中醒来，还带着一些酒意，隐约记得夜间曾听见急风夹杂着雨点敲打窗户，不由得担心正在盛开的海棠花。赶紧问正在卷帘得侍女，侍女回答：海棠还和昨天一样。女诗人显然不满意侍女的粗心，有些埋怨地说：“知道吗？经过一夜风雨，现在应该是绿叶多红花少啊。短短地一问一答，把女诗人对落花的痛惜、对春天的留恋表达得淋漓尽致。尤其是最后一句，诗人不说叶多花少，而说“绿肥红瘦”，非常传神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885080" y="6021360"/>
            <a:ext cx="1258920" cy="836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101080" y="6237360"/>
            <a:ext cx="10429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</a:rPr>
              <a:t>下一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48360" y="1341360"/>
            <a:ext cx="1981440" cy="36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065F4-A4A3-421F-BD9D-62217A4A3D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5680" y="692280"/>
            <a:ext cx="9058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绿肥红瘦”指的是什么？运用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什么修辞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42100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水柱简体"/>
              </a:rPr>
              <a:t>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74920" y="2048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卡通简体"/>
              </a:rPr>
              <a:t>绿——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58920" y="2820960"/>
            <a:ext cx="561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卡通简体"/>
              </a:rPr>
              <a:t>红——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149720"/>
            <a:ext cx="9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方正水柱简体"/>
              </a:rPr>
              <a:t>情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3645000"/>
            <a:ext cx="7891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肥——雨后的叶子因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分充分而茂盛肥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瘦——雨后的花朵因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堪雨打而凋谢稀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292720" y="0"/>
            <a:ext cx="46083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80E46-85D2-4978-8EF5-2C8FFF43D7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67480" y="1071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052640"/>
            <a:ext cx="3944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-549360" y="1628640"/>
            <a:ext cx="1521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"/>
                <a:ea typeface="方正粗倩简体"/>
              </a:rPr>
              <a:t>探究赏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71640" y="660240"/>
            <a:ext cx="875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细雨潇潇，风势猛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暮春时节，词人的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情如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185560" y="26989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卡通简体"/>
              </a:rPr>
              <a:t>苦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3645000"/>
            <a:ext cx="150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卡通简体"/>
              </a:rPr>
              <a:t>伤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CB1D3-078F-4B90-9630-5EE906CD54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45352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076720" y="1052640"/>
            <a:ext cx="40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为什么词人会这样的伤感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-605520" y="1484280"/>
            <a:ext cx="1399320" cy="20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  <a:ea typeface="方正粗倩简体"/>
              </a:rPr>
              <a:t>探究赏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92720" y="2701800"/>
            <a:ext cx="37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卡通简体"/>
              </a:rPr>
              <a:t>以花自喻，由花的凋零联想到自己的青春易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9CC0D0-B558-469F-9F1A-6A36966865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2T08:48:37Z</dcterms:created>
  <dc:creator>http://zhdduya100.taobao.com/</dc:creator>
  <dc:description>http://zhdduya100.taobao.com/</dc:description>
  <cp:keywords>http://zhdduya100.taobao.com/</cp:keywords>
  <dc:language>en-US</dc:language>
  <cp:lastModifiedBy>pyxx</cp:lastModifiedBy>
  <dcterms:modified xsi:type="dcterms:W3CDTF">2014-12-01T01:41:06Z</dcterms:modified>
  <cp:revision>45</cp:revision>
  <dc:subject>http://zhdduya100.taobao.com/</dc:subject>
  <dc:title>http://zhdduya100.taobao.com/</dc:title>
</cp:coreProperties>
</file>