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4BC-53E6-479D-AC07-D0F48734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454-E0F1-4EAE-A9EA-1AFE21C9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BFA-2EF0-4CA0-A89B-DDFD8D75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40F-78A7-4A35-BB3E-199513DE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4700-F165-4E39-A5A9-EEBE292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7DBD-B726-474E-9821-A9FC4FC7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0BDB-01CD-4E25-8928-525C7E9F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6DD6-B894-4B8E-9055-5E39EBD5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086-02E8-4906-A26F-89BBC0E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508-5D22-4E0F-B5AA-05C5184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8D5-A73C-4127-841B-C775E3D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E50-0876-4099-B526-DF346C8D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EA73-6B36-40BC-A64C-96C3AAF8BD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hyperlink" Target="file:///tmp/home/.config/libreoffice/4/user/gallery/&#22914;&#26790;&#20196;.wav" TargetMode="External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130000033546012336559140242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37920" y="45684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华文行楷"/>
              </a:rPr>
              <a:t>如梦令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华文行楷"/>
              </a:rPr>
              <a:t>·</a:t>
            </a:r>
            <a:r>
              <a:rPr b="0" lang="zh-CN" sz="5000" spc="-1" strike="noStrike">
                <a:solidFill>
                  <a:srgbClr val="000000"/>
                </a:solidFill>
                <a:latin typeface="Arial"/>
                <a:ea typeface="华文行楷"/>
              </a:rPr>
              <a:t>昨夜雨疏风骤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866920" y="1905120"/>
            <a:ext cx="3048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李清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08308e387cafe51eb9998f76[1]"/>
          <p:cNvPicPr/>
          <p:nvPr/>
        </p:nvPicPr>
        <p:blipFill>
          <a:blip r:embed="rId1"/>
          <a:srcRect l="1665" t="1677" r="1665" b="782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05920" y="-5005440"/>
            <a:ext cx="457200" cy="114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OGGSG[2VVSK7HDVWL_G4%GN"/>
          <p:cNvPicPr/>
          <p:nvPr/>
        </p:nvPicPr>
        <p:blipFill>
          <a:blip r:embed="rId2"/>
          <a:stretch/>
        </p:blipFill>
        <p:spPr>
          <a:xfrm>
            <a:off x="609480" y="380880"/>
            <a:ext cx="3657600" cy="943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HT0RO3W}F)B[{R5M[1@6@TF"/>
          <p:cNvPicPr/>
          <p:nvPr/>
        </p:nvPicPr>
        <p:blipFill>
          <a:blip r:embed="rId3"/>
          <a:stretch/>
        </p:blipFill>
        <p:spPr>
          <a:xfrm>
            <a:off x="380880" y="1981080"/>
            <a:ext cx="8458200" cy="1905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B5~L6AP%7`[PSE7WNFL0U%G"/>
          <p:cNvPicPr/>
          <p:nvPr/>
        </p:nvPicPr>
        <p:blipFill>
          <a:blip r:embed="rId4"/>
          <a:stretch/>
        </p:blipFill>
        <p:spPr>
          <a:xfrm>
            <a:off x="380880" y="4572000"/>
            <a:ext cx="8305920" cy="1733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209680" y="167652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“昨夜雨疏风骤” 描绘了怎样的画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确：这一句描绘了一幅风雨交加的画面：本是春花盛开的季节，却偏偏在昨天夜里，刮起来狂风，下起了疏雨，让人心生怜惜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5119059_011853399477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华文行楷"/>
              </a:rPr>
              <a:t>女主人公为什么不自己去看看，却问卷帘人？“试问”的“试”字反映了作者的什么心理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明确：女主人公昨夜就已知道，经过风雨之后，今朝的海棠定是落红满径了，“试问”，不是真有疑问，而是自己不忍亲见落花的悲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试问”表明了女主人是明知故问，体现了女主人活泼的性格，同时也将女主人关心花事却又不忍听到花落的矛盾心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委婉地传达出来。贴切入微，曲折有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01300000212958121860273074217[1]"/>
          <p:cNvPicPr/>
          <p:nvPr/>
        </p:nvPicPr>
        <p:blipFill>
          <a:blip r:embed="rId2"/>
          <a:stretch/>
        </p:blipFill>
        <p:spPr>
          <a:xfrm>
            <a:off x="152280" y="1600200"/>
            <a:ext cx="43434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3e733c8083d0b7a7f703a614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知否、知否？应是绿肥红瘦”，“绿肥红瘦”，形容绿叶繁茂、红花萎谢的情景。“应是”也包含着女主公复杂的心理，你能替她就出来吗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010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明确：你哪里懂得，娇嫩的海棠花怎么能经得起狂风骤雨呀。表明词人对窗外景象的推测与判断，“应是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华文新魏"/>
              </a:rPr>
              <a:t>暗含着“必然是”和“不得不是”之意。含有不尽的无可奈何的惜花情结，可谓语浅意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“绿肥红瘦”历来为人称道，说说好在哪些方面？（试从修辞的角度进行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明确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借代。“绿肥红瘦”中的“绿”和“红”是叶和花的颜色，用以代指海棠的花和叶，贴切自然。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拟人。“肥”和“瘦”把雨后海棠花的花和叶形态拟人化。形象生动。 “肥”形容雨后的叶子因水份充足而茂盛肥大，“瘦”形容雨后的花朵因不堪雨打而凋谢稀少。本来平平常常的四个字，经词人的搭配组合，竟显得如此色彩鲜明、形象生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炼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solidFill>
            <a:srgbClr val="ffffff">
              <a:alpha val="4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一个“试”字，写出了人物心中的担忧，她不愿意春天就这么快的过去。“试”字将不忍问却又忍不住想知道的矛盾心理刻画得淋漓尽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却”字同时写出了主人公原有的心思和听到回答后的意外之情，还隐隐道出了“卷帘人”不了解主人公的心思和回答时的漫不经心，两者之间形成了一个微妙的对比，主人公的细腻委婉与“卷帘人”粗疏淡漠之间形成了鲜明的对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绿肥红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“绿”字代指绿叶，“红”代指花朵，“肥”暗含“多”意，“瘦”暗含“少”意，营造出了一个全新的意境。而更深一层，绿肥红瘦微妙地道出了感伤的情怀：爱花惜春，伤感红颜易老，惜别怀人的烦闷，就于这灵动的句段中流露出来。不需直言，不假雕饰，却更令人心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7848720" y="5738760"/>
          <a:ext cx="129528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5738760"/>
                    <a:ext cx="129528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3"/>
          <p:cNvSpPr/>
          <p:nvPr/>
        </p:nvSpPr>
        <p:spPr>
          <a:xfrm>
            <a:off x="611280" y="1413000"/>
            <a:ext cx="3581280" cy="43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如梦令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昨夜雨疏风骤，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浓睡不消残酒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试问卷帘人，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却道海棠依旧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知否？知否？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应是绿肥红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3809880" y="1676520"/>
            <a:ext cx="0" cy="44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038480" y="1523880"/>
            <a:ext cx="510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试问卷帘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句中谁在问？问什么？卷帘人如何回答的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绿肥红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句中体会出词人对枯萎消瘦的海棠花抱有什么样的感情吗？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WordArt 6"/>
          <p:cNvSpPr txBox="1"/>
          <p:nvPr/>
        </p:nvSpPr>
        <p:spPr>
          <a:xfrm rot="100800">
            <a:off x="4114800" y="838080"/>
            <a:ext cx="168264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练习：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小令写法别致。曲折委婉，通过主人公与“卷帘人”的对话来展开全文。这种写法，真实可感，画面感强；行文上显得紧凑而有内容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功地运用代指手法。以“绿”“红”代指叶和花，以“肥”“瘦”代指多少，语言凝练，生动鲜活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词采用了一问一答的形式表达了词人感伤的情怀，几股愁思扭结，既有爱花惜春的遗憾，又有红颜易老的伤感，更有惜别怀人的烦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87480" y="1295280"/>
            <a:ext cx="84103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0000"/>
                </a:solidFill>
                <a:latin typeface="Arial"/>
                <a:ea typeface="方正舒体"/>
              </a:rPr>
              <a:t>如梦令</a:t>
            </a:r>
            <a:endParaRPr b="0" lang="en-US" sz="6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方正舒体"/>
              </a:rPr>
              <a:t>李清照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常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溪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日暮，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沉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不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归路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兴尽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回舟，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误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藕花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深处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争渡，争渡，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惊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一滩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方正舒体"/>
              </a:rPr>
              <a:t>/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华文新魏"/>
              </a:rPr>
              <a:t>鸥</a:t>
            </a:r>
            <a:r>
              <a:rPr b="0" lang="zh-CN" sz="3600" spc="-1" strike="noStrike">
                <a:solidFill>
                  <a:srgbClr val="0066cc"/>
                </a:solidFill>
                <a:latin typeface="Arial"/>
                <a:ea typeface="方正舒体"/>
              </a:rPr>
              <a:t>鹭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6858000" y="5334120"/>
          <a:ext cx="1143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334120"/>
                    <a:ext cx="1143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5"/>
          <p:cNvGraphicFramePr/>
          <p:nvPr/>
        </p:nvGraphicFramePr>
        <p:xfrm>
          <a:off x="5791320" y="5334120"/>
          <a:ext cx="114300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5334120"/>
                    <a:ext cx="1143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6"/>
          <p:cNvGraphicFramePr/>
          <p:nvPr/>
        </p:nvGraphicFramePr>
        <p:xfrm>
          <a:off x="4724280" y="5715000"/>
          <a:ext cx="1219320" cy="11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24280" y="5715000"/>
                    <a:ext cx="1219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7"/>
          <p:cNvGraphicFramePr/>
          <p:nvPr/>
        </p:nvGraphicFramePr>
        <p:xfrm>
          <a:off x="3733920" y="6019920"/>
          <a:ext cx="11430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33920" y="60199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8"/>
          <p:cNvGraphicFramePr/>
          <p:nvPr/>
        </p:nvGraphicFramePr>
        <p:xfrm>
          <a:off x="7620120" y="228600"/>
          <a:ext cx="91440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5" name="Object 8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620120" y="228600"/>
                    <a:ext cx="914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Control 4" descr=""/>
          <p:cNvPicPr/>
          <p:nvPr/>
        </p:nvPicPr>
        <p:blipFill>
          <a:blip r:embed="rId12"/>
          <a:stretch/>
        </p:blipFill>
        <p:spPr>
          <a:xfrm>
            <a:off x="2135160" y="5715000"/>
            <a:ext cx="152280" cy="2001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291156348037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75244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RRN)J44)C%KUUSP1NYBPBG5"/>
          <p:cNvPicPr/>
          <p:nvPr/>
        </p:nvPicPr>
        <p:blipFill>
          <a:blip r:embed="rId2"/>
          <a:stretch/>
        </p:blipFill>
        <p:spPr>
          <a:xfrm>
            <a:off x="7386480" y="304920"/>
            <a:ext cx="1757520" cy="6400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8Z$N78ON8VYLVAA2J_B_02X"/>
          <p:cNvPicPr/>
          <p:nvPr/>
        </p:nvPicPr>
        <p:blipFill>
          <a:blip r:embed="rId3"/>
          <a:stretch/>
        </p:blipFill>
        <p:spPr>
          <a:xfrm>
            <a:off x="4724280" y="304920"/>
            <a:ext cx="266724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-712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【译文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83808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经常记起在溪边的亭子游玩直到太阳落山的时候，喝得大醉不知道回来的路。游兴满足了，天黑往回划船，错误地划进了荷花深处。快速地划，快速地划，惊动满滩的水鸟，都飞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rwp0011"/>
          <p:cNvPicPr/>
          <p:nvPr/>
        </p:nvPicPr>
        <p:blipFill>
          <a:blip r:embed="rId1"/>
          <a:stretch/>
        </p:blipFill>
        <p:spPr>
          <a:xfrm>
            <a:off x="228600" y="0"/>
            <a:ext cx="3200400" cy="60483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3624120" y="625320"/>
            <a:ext cx="547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这首词记叙了一件什么事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词人写作的是当天的事吗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这件事发生在什么季节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词人是一个人去的吗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为什么会误入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为什么词人会常想起这件事呢？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378400" y="12826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词人的一次郊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976360" y="23940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是，“常记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219640" y="3500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夏天，“藕花深处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435640" y="4581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不是，“争渡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991640" y="51577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沉醉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6046920" y="622152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有趣，值得回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1905120"/>
            <a:ext cx="1295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常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记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AutoShape 3"/>
          <p:cNvSpPr/>
          <p:nvPr/>
        </p:nvSpPr>
        <p:spPr>
          <a:xfrm>
            <a:off x="914400" y="609480"/>
            <a:ext cx="228600" cy="4191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09080 h 4191120"/>
              <a:gd name="textAreaBottom" fmla="*/ 4082040 h 419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21932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点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0" y="7621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溪亭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219320" y="16765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间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2096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暮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219320" y="2971800"/>
            <a:ext cx="15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件：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28600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醉归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AutoShape 10"/>
          <p:cNvSpPr/>
          <p:nvPr/>
        </p:nvSpPr>
        <p:spPr>
          <a:xfrm>
            <a:off x="3124080" y="2362320"/>
            <a:ext cx="381240" cy="19047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9680 h 1904760"/>
              <a:gd name="textAreaBottom" fmla="*/ 18550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876920" y="2895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352680" y="2438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节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191120" y="2438280"/>
            <a:ext cx="35049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沉醉 回舟 误入 惊起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3276720" y="35193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景致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205160" y="353700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彩亭 碧水 红荷 银鸥 白鹭 晚霞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>
            <a:off x="1752480" y="4800600"/>
            <a:ext cx="5410440" cy="76320"/>
          </a:xfrm>
          <a:prstGeom prst="pie">
            <a:avLst/>
          </a:prstGeom>
          <a:solidFill>
            <a:srgbClr val="bbe0e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7543800" y="2438280"/>
            <a:ext cx="9907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诗情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7543800" y="3505320"/>
            <a:ext cx="990720" cy="520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3300"/>
                </a:solidFill>
                <a:latin typeface="Arial"/>
              </a:rPr>
              <a:t>画意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8360" y="5229360"/>
            <a:ext cx="849780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热爱生活，热爱自然，热爱美好事物的情操。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35" name="Object 20"/>
          <p:cNvGraphicFramePr/>
          <p:nvPr/>
        </p:nvGraphicFramePr>
        <p:xfrm>
          <a:off x="8077320" y="5935680"/>
          <a:ext cx="106668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5935680"/>
                    <a:ext cx="10666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Object 2"/>
          <p:cNvGraphicFramePr/>
          <p:nvPr/>
        </p:nvGraphicFramePr>
        <p:xfrm>
          <a:off x="6858000" y="5334120"/>
          <a:ext cx="11430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5334120"/>
                    <a:ext cx="11430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3"/>
          <p:cNvGraphicFramePr/>
          <p:nvPr/>
        </p:nvGraphicFramePr>
        <p:xfrm>
          <a:off x="7772400" y="5715000"/>
          <a:ext cx="13716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2400" y="5715000"/>
                    <a:ext cx="1371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4"/>
          <p:cNvGraphicFramePr/>
          <p:nvPr/>
        </p:nvGraphicFramePr>
        <p:xfrm>
          <a:off x="5791320" y="5334120"/>
          <a:ext cx="114300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5334120"/>
                    <a:ext cx="1143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5"/>
          <p:cNvGraphicFramePr/>
          <p:nvPr/>
        </p:nvGraphicFramePr>
        <p:xfrm>
          <a:off x="4724280" y="5715000"/>
          <a:ext cx="1219320" cy="1143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24280" y="5715000"/>
                    <a:ext cx="12193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6"/>
          <p:cNvGraphicFramePr/>
          <p:nvPr/>
        </p:nvGraphicFramePr>
        <p:xfrm>
          <a:off x="3733920" y="6019920"/>
          <a:ext cx="114300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6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3920" y="6019920"/>
                    <a:ext cx="1143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7" name="Picture 7" descr="1122869a7e0"/>
          <p:cNvPicPr/>
          <p:nvPr/>
        </p:nvPicPr>
        <p:blipFill>
          <a:blip r:embed="rId11"/>
          <a:stretch/>
        </p:blipFill>
        <p:spPr>
          <a:xfrm>
            <a:off x="468360" y="692280"/>
            <a:ext cx="4325760" cy="53290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5364000" y="84312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词人回忆了一次愉快的郊游情景，因醉在归途中误入藕花丛中，把栖息的水鸟都吓飞了。表现了作者早期生活的情趣和心境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33520" y="144792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晋朝的王徽之，是大书法家王羲之的儿子。在一个雪夜，他从山阴家中出发，泛舟剡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shàn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溪，为的是忽然兴至，要去访问一个朋友戴安道。等到了戴家门口，他并没有走进去，就吩咐回舟而归了。有人训他为什么这样，他说：“乘兴而来，兴尽而返，我又何必见安道呢？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" y="44956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清照和王徽之正是有同样的洒脱情怀。既然兴尽即返，不问归路，自然难免有驾船驶入荷花浓密之处的失误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805760" y="68580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兴尽”是用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兴尽而返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典故：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7543800" y="5738760"/>
          <a:ext cx="160020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738760"/>
                    <a:ext cx="16002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200310202222513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2"/>
          <p:cNvSpPr/>
          <p:nvPr/>
        </p:nvSpPr>
        <p:spPr>
          <a:xfrm>
            <a:off x="1676520" y="4343400"/>
            <a:ext cx="53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3"/>
          <p:cNvSpPr/>
          <p:nvPr/>
        </p:nvSpPr>
        <p:spPr>
          <a:xfrm>
            <a:off x="1676520" y="4495680"/>
            <a:ext cx="5333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6172200" y="5334120"/>
          <a:ext cx="129528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334120"/>
                    <a:ext cx="129528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5029200" y="5410080"/>
          <a:ext cx="12952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5410080"/>
                    <a:ext cx="12952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3733920" y="5486400"/>
          <a:ext cx="1371600" cy="118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5486400"/>
                    <a:ext cx="13716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2286000" y="5607000"/>
          <a:ext cx="1447920" cy="1251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0" y="5607000"/>
                    <a:ext cx="144792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8"/>
          <p:cNvGraphicFramePr/>
          <p:nvPr/>
        </p:nvGraphicFramePr>
        <p:xfrm>
          <a:off x="7620120" y="4038480"/>
          <a:ext cx="1295280" cy="99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8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4038480"/>
                    <a:ext cx="129528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9" descr="FbandaoBLOG_files_1iWg4UTxWPG58fIg8w5520070321214554"/>
          <p:cNvPicPr/>
          <p:nvPr/>
        </p:nvPicPr>
        <p:blipFill>
          <a:blip r:embed="rId11"/>
          <a:srcRect l="0" t="10651" r="6486" b="0"/>
          <a:stretch/>
        </p:blipFill>
        <p:spPr>
          <a:xfrm>
            <a:off x="0" y="765000"/>
            <a:ext cx="6877080" cy="4559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20051218141458ia"/>
          <p:cNvPicPr/>
          <p:nvPr/>
        </p:nvPicPr>
        <p:blipFill>
          <a:blip r:embed="rId12"/>
          <a:srcRect l="69685" t="8968" r="0" b="10925"/>
          <a:stretch/>
        </p:blipFill>
        <p:spPr>
          <a:xfrm>
            <a:off x="6856560" y="763560"/>
            <a:ext cx="2287440" cy="455760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：青春易逝，红颜易老。青春对每一个人都是公平的，人人都曾拥有，都会拥有这段宝贵的时光。如果你善待青春，青春就会大放异彩。反之，如果你轻视挥霍它，你就会得到相应的报应。经过勤奋，努力与拼搏的青春将结出诱人的果实。不要总以为时光还多，消磨青春，那样留下的只会是遗憾，努力过了，拼搏过了，你才能大声地说：无怨的青春，无悔的年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129115634803750000[1]"/>
          <p:cNvPicPr/>
          <p:nvPr/>
        </p:nvPicPr>
        <p:blipFill>
          <a:blip r:embed="rId1"/>
          <a:srcRect l="9978" t="0" r="0" b="9999"/>
          <a:stretch/>
        </p:blipFill>
        <p:spPr>
          <a:xfrm>
            <a:off x="0" y="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WordArt 3"/>
          <p:cNvSpPr txBox="1"/>
          <p:nvPr/>
        </p:nvSpPr>
        <p:spPr>
          <a:xfrm>
            <a:off x="3505320" y="2209680"/>
            <a:ext cx="41907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cc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观赏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cc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Bar dir="ver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2987640" cy="576360"/>
          </a:xfrm>
          <a:prstGeom prst="rect">
            <a:avLst/>
          </a:prstGeom>
          <a:solidFill>
            <a:srgbClr val="ffffff">
              <a:alpha val="32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8720" y="1269720"/>
            <a:ext cx="85680" cy="7596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tIns="30240" bIns="30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李清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84—115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，号易安居士，厉城人（今山东济南人）。 清照幼承家学，早有才名，十八岁嫁给赵明诚。她能写散文、骈文、诗词，并能作画、考证金石。一生分南渡前后两个时期，早期多写闺房生活，清丽婉约，似受花间影响；中年以后，因国破家亡，词中多寄身世之感、故国之思，且工于造句，富于意境，“以寻常语度入音律”。有词集：《漱玉集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225680" y="762120"/>
            <a:ext cx="38214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李清照（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08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15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？），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宋著名女词人，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易安居士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宋词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婉约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豪放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大派，她是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婉约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代表人物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一。李清照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父亲李格非，丈夫赵明诚都是当时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学者。她早年过着平静、优越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活，诗词多表现欢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丽婉约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金兵南下，北宋灭亡，她饱受流亡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之苦，诗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多寄身世之感、故国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之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表现哀伤。她的作品被后人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编辑成《李清照集》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漱玉词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漱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字反映李清照作品的风格：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吐珠玑，如清泉翠玉，剔透玲珑，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晶莹秀丽。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写作背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李清照与赵明诚结婚后的前六年时间，两人共同居住在汴京，后来近十年时间又一起屏居山东青州，一直到李清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左右，赵明诚起复再次出来做官，两人才有了分手离别的时候，这首词应该作于这一段时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朗读：在宋代有一位大文学家，叫朱熹。他在写的一本书《朱子家训》中，把读书的方法概括的非常精确。他说：“读书有三到：心到、眼到、口到。”入手，提出学习要求：用心展开想象，用眼仔细观察，用口有感情地吟诵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由读《如梦令》这首词。看谁读得准确，读得流畅。要求读准字音，读顺句子。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结合课下注释，翻译本首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u=4058054894,3102585662&amp;fm=15&amp;gp=0[1]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翻译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昨儿夜里下起稀疏雨点，但吹着阵阵强风，乘着酒醉酣睡，一觉醒来仍解消不了残剩的酒意。惺忪之际问着来卷帘的侍女，却回道：海棠花还是照旧鲜艳美丽。你知道吗？你知道吗？应该是绿叶繁茂、红花憔悴凋零呀。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c8163ac272c1afec9130c4c[1]"/>
          <p:cNvPicPr/>
          <p:nvPr/>
        </p:nvPicPr>
        <p:blipFill>
          <a:blip r:embed="rId1"/>
          <a:srcRect l="2498" t="2050" r="2498" b="777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华文行楷"/>
              </a:rPr>
              <a:t>五、整体感知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这首小词委婉地表达了作者怜花惜花的心情，也流露了内心的苦闷。词中着意人物心理情绪的刻画。以景衬情，委曲精工。轻灵新巧而又凄婉含蓄。极尽传神之妙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d24b51fb5b4dec686d6b692[1]"/>
          <p:cNvPicPr/>
          <p:nvPr/>
        </p:nvPicPr>
        <p:blipFill>
          <a:blip r:embed="rId2"/>
          <a:stretch/>
        </p:blipFill>
        <p:spPr>
          <a:xfrm>
            <a:off x="4952880" y="1523880"/>
            <a:ext cx="3505320" cy="46022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5:16:10Z</dcterms:created>
  <dc:creator>haier</dc:creator>
  <dc:description/>
  <cp:keywords/>
  <dc:language>en-US</dc:language>
  <cp:lastModifiedBy>administrator</cp:lastModifiedBy>
  <dcterms:modified xsi:type="dcterms:W3CDTF">2015-11-23T12:42:4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97</vt:lpwstr>
  </property>
  <property fmtid="{D5CDD505-2E9C-101B-9397-08002B2CF9AE}" pid="3" name="Version">
    <vt:r8>1</vt:r8>
  </property>
</Properties>
</file>