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522-17F3-4990-9D4C-9C21F510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24E-8582-4CDA-AC34-53C65996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3E4D-B352-4D5E-A985-1F363C64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6E3-9778-4726-BA5F-318F083B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9ADF-8336-4D60-A575-66092DC7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72F3-9E52-4F8E-8E1C-8281214A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07BC-6FE1-40FC-A086-D3144878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519F-3809-4EDC-B0A9-B5DDEA52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B3BC-C51C-415F-8D5E-0B90B083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72C9-42E9-4223-9525-6B86D463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4FE0-35D6-41F9-8745-9E584E66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488E-4C64-43A8-8676-E1B71DEC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061C-192A-4A55-B066-802603A2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C610-CFCE-4632-A526-8220DB1C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2CC8-25EB-40EF-8097-FBEFEDB7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74A8-3C43-4C76-80B4-CD9EA46E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2FDD-9AD4-4DC8-8EA2-D391880C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56F-1653-4DA7-AD8B-D48FC433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CC4-2719-4123-BA07-7909312E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4E5C-1449-4BD8-A536-E87FBAA2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4862-DFE2-4D69-A123-9FEE8413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8E52-5765-4ACB-859C-EE1F1D9B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B83-BB0B-438E-8446-DB38E745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D65A-C359-4AEA-A702-AEE070E3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A5B5-7A56-487D-99E4-198AD2070AA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FE02-68FF-47A7-A9C1-0680F8AE214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438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6153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7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609480" y="1828800"/>
            <a:ext cx="822960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讨论：为何会误入“藕花深处”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p:transition>
    <p:push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685800" y="380880"/>
            <a:ext cx="3886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一滩鸥鹭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"/>
          <p:cNvSpPr/>
          <p:nvPr/>
        </p:nvSpPr>
        <p:spPr>
          <a:xfrm>
            <a:off x="3506760" y="2819520"/>
            <a:ext cx="292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争渡，争渡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惊起一滩鸥鹭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67840" y="50734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"/>
              </a:rPr>
              <a:t>你听到了什么？看到了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315200" y="4800600"/>
            <a:ext cx="1676520" cy="1419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523880" y="2133720"/>
            <a:ext cx="2286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醉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67080" y="2286000"/>
            <a:ext cx="1828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split dir="in" orient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14400" y="1066680"/>
            <a:ext cx="771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首词写的是一个夏天的傍晚，出游归来的女词人，泛舟清溪之上，看到藕花绽开、鸥鹭惊飞的美好景色，表达了作者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愉快的心情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及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对美好景色的热爱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012560" y="882360"/>
            <a:ext cx="187236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5400" spc="-1" strike="noStrike">
                <a:solidFill>
                  <a:srgbClr val="008000"/>
                </a:solidFill>
                <a:latin typeface="Arial"/>
              </a:rPr>
              <a:t>如梦令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昨夜雨疏风骤，浓睡不消残酒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试问卷帘人，却道海棠依旧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知否，知否，应是绿肥红瘦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819680" y="609480"/>
            <a:ext cx="144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如梦令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常记溪亭日暮，沉醉不知归路。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兴尽晚回舟，误入藕花深处。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争渡，争渡，惊起一滩鸥鹭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78000" y="3277080"/>
            <a:ext cx="198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如梦令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昨夜雨疏风骤，浓睡不消残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试问卷帘人，却道海棠依旧。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知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知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应是绿肥红瘦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8000" y="874440"/>
            <a:ext cx="667800" cy="50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比较两首词有何异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356153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李清照，南宋 著名女词人，号易安居士。婉约派代表。早年生活在趵突泉边，大明湖畔，官宦之家，生活优越，词作多写其悠闲生活，词风欢快清新，自丈夫赵明诚死后，加上流寓南方，境遇孤苦，她的词多忧伤。后人有《漱玉词》辑本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12960" y="2133720"/>
            <a:ext cx="73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还时常记得游溪亭，玩到日黑天暮，醉酒忘记归路。一直玩到兴尽，回舟返途，却误入藕花的深处。大家划呀划，荷深不见路，惊起了满滩的鸥鹭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2280" y="0"/>
            <a:ext cx="4572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我能读懂诗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comb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-28584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604040" y="1600200"/>
            <a:ext cx="3701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常记溪亭日暮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沉醉不知归路。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-477720"/>
            <a:ext cx="73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Arial"/>
              </a:rPr>
              <a:t>溪亭日暮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50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465720" y="1039680"/>
            <a:ext cx="444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常记溪亭日暮，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沉醉不知归路。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-380880"/>
            <a:ext cx="9753480" cy="7772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54320" y="228600"/>
            <a:ext cx="1839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b7"/>
                </a:solidFill>
                <a:latin typeface="Arial Black"/>
              </a:rPr>
              <a:t>接天莲叶无穷碧，</a:t>
            </a:r>
            <a:br>
              <a:rPr sz="6600"/>
            </a:br>
            <a:r>
              <a:rPr b="1" lang="zh-CN" sz="6600" spc="-1" strike="noStrike">
                <a:solidFill>
                  <a:srgbClr val="ffffb7"/>
                </a:solidFill>
                <a:latin typeface="Arial Black"/>
              </a:rPr>
              <a:t>映日荷花别样红 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小荷才露尖尖角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早有蜻蜓立上头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 rot="1102200">
            <a:off x="4419360" y="0"/>
            <a:ext cx="4038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藕花深处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2" name=""/>
          <p:cNvSpPr/>
          <p:nvPr/>
        </p:nvSpPr>
        <p:spPr>
          <a:xfrm>
            <a:off x="2687400" y="2743200"/>
            <a:ext cx="298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"/>
              </a:rPr>
              <a:t>兴尽晚回舟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"/>
              </a:rPr>
              <a:t>误入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"/>
              </a:rPr>
              <a:t>藕花深处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"/>
              </a:rPr>
              <a:t>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98320" y="5045040"/>
            <a:ext cx="28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隶书"/>
              </a:rPr>
              <a:t>说说你对“藕花深处”的理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1:48:30Z</dcterms:created>
  <dc:creator>leiyan</dc:creator>
  <dc:description/>
  <dc:language>en-US</dc:language>
  <cp:lastModifiedBy>雨林木风</cp:lastModifiedBy>
  <dcterms:modified xsi:type="dcterms:W3CDTF">2012-03-15T05:20:2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