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9.gif" ContentType="image/gif"/>
  <Override PartName="/ppt/media/image40.jpeg" ContentType="image/jpeg"/>
  <Override PartName="/ppt/media/image44.jpeg" ContentType="image/jpeg"/>
  <Override PartName="/ppt/media/image9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A93-E44D-488A-9791-99E92FD1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1CD-6CF1-4CDD-816F-D6E841A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9BF-6572-4C82-A76D-CE56C30F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EC3-129A-40CA-86E4-A148A621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C4EE-9FE1-4BE1-B2EF-7FF6F70A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4B79-A458-4CAB-ABC8-54ABBD17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28C-101B-4D48-B562-8DED5FAB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024-6B6E-4136-98C8-85874835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4411-A3C6-4002-A597-A17DA238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B9E-6DC1-448B-96E2-95D3AAD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C5BB-90E5-4C76-A85D-A16D7FE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401-FE53-4836-A0B1-56B475C0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ED2-770A-43CB-B08D-A0396A1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200-B8CF-4352-9A36-AF38BD3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DC6-FEFA-4610-BF37-C6ED4D8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9DC2-7D4C-477F-A2D8-C03FF94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D637-95CC-48E5-BBD4-121D7BB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009B-9825-4FC5-B1A8-3F98FAC2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90D5-FD7C-47FD-9CD3-2ED596F8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74B3-0BDD-414C-B42F-4949885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B1D5-71EA-4B9B-A6D1-BC3A3887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3277-8E59-4CF6-9EFC-F7A467E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4DB-8630-4B65-BA4A-23F601CE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C0AF-044F-4DC3-87BD-56A080A9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F803-186D-46FB-B899-8E9F5B7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7502-B92E-4B21-9F33-06B98F9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FD03-7B56-4E36-99C7-516CC74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0635-5A99-44D8-81D6-880F13D0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756D-0E05-44BA-8085-A330DA2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0F2B-3862-4705-AC89-B0D8855A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E2F9-ED28-41C2-A852-831DAC23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3FFD-CDF8-4376-AB3D-3408C2A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0EE5-E402-4F22-871E-699CC4E5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9B9-4CCC-4AE1-A26E-93C9A46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7303-9CC6-41D5-97C8-CC7CCE1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AFA5-EACA-4BA4-B56B-B806AA6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F48F-38D7-469E-99B6-EF5B6C4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C3EE-FBC0-4E67-8646-3295775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AF90-CC07-48FE-94D1-FD3EDE8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A942-4068-48D7-9D70-BECC62A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58DF-340B-4BCE-8EC4-2DF228F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003F-66F1-47FB-9AF5-F64FB1C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AED8-95B0-4544-95A1-65D1A78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4269A-E4B6-44E7-A684-B35393A9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99C-25B5-4565-8826-2F7FE8F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0348-D67F-4A5B-825A-42C9217C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77CCA-7B39-4A3D-AC6C-BDF345F0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EB31-858E-4794-9CAE-A196532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8D40-C4F4-4356-9122-342E408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466C-4036-42E3-A87B-5C5D128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941A-DC8B-4A2D-AC59-44495F4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FA78-3221-4049-A980-4351D87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75A3-EEBF-4DDA-A6F0-598B651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2937-9C6C-4F85-8B97-CFFCF779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60D8-A053-483D-B72E-00545790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EEB-1C9C-4079-8C08-E685181C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A832-D195-4C61-8DF6-1708D69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CB3-D4DB-468E-B6F1-419B189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87F-5AEF-46F4-8A84-73F12D6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BA-E9B6-4149-8653-556E5CD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1C5-2DA0-4E84-A03B-83D8B7A13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42C-E15C-4E0A-B125-850C4D73C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6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4DC-9BFB-4016-B547-67F2C36E6B2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57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9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80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61F5-5361-48C8-A609-2CE042899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5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822-6C79-40B0-88C6-286CE994B20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ms.tom.com/fast_send_meet.php?inc=2&amp;type=44&amp;id=22517&amp;user_id=6405&amp;code_id=99&amp;key=dd577177ec1dd91ddf26629545dcc852&amp;bt=color_pic" TargetMode="Externa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e7d28a12c4c32b26f919b892"/>
          <p:cNvPicPr/>
          <p:nvPr/>
        </p:nvPicPr>
        <p:blipFill>
          <a:blip r:embed="rId1"/>
          <a:stretch/>
        </p:blipFill>
        <p:spPr>
          <a:xfrm>
            <a:off x="0" y="0"/>
            <a:ext cx="9123480" cy="6850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3568680" y="1447920"/>
            <a:ext cx="546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-86040" y="1355760"/>
            <a:ext cx="261828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Times New Roman"/>
              </a:rPr>
              <a:t>如梦令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680200" y="33379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李清照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a2a3f5433a806663b293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3"/>
          <p:cNvGraphicFramePr/>
          <p:nvPr/>
        </p:nvGraphicFramePr>
        <p:xfrm>
          <a:off x="7848720" y="5738760"/>
          <a:ext cx="1295280" cy="11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738760"/>
                    <a:ext cx="12952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0" y="0"/>
          <a:ext cx="1219320" cy="105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2193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7848720" y="0"/>
          <a:ext cx="1295280" cy="111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8720" y="0"/>
                    <a:ext cx="12952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6"/>
          <p:cNvGraphicFramePr/>
          <p:nvPr/>
        </p:nvGraphicFramePr>
        <p:xfrm>
          <a:off x="0" y="5738760"/>
          <a:ext cx="1295280" cy="111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738760"/>
                    <a:ext cx="12952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7"/>
          <p:cNvSpPr/>
          <p:nvPr/>
        </p:nvSpPr>
        <p:spPr>
          <a:xfrm>
            <a:off x="762120" y="762120"/>
            <a:ext cx="769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是古代诗歌的一个分支，原来也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、曲子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又因句子参差不齐而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短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而最常见的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词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名称，相当于我们现在的歌词。词，早先都是入乐的，要按照曲调的要求来写，所以作词又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填词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每一个曲调都有一个名称，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曲牌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词牌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1a4285d1d9912c439a5027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876920" y="380880"/>
            <a:ext cx="380988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如梦令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宋 李清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常记溪亭日暮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沉醉不知归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兴尽晚回舟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误入藕花深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争渡，争渡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惊起一滩鸥鹭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9 如梦令 课文朗读MP3 苏教版六年级语文下册 第十二册语文.mp3" descr=""/>
          <p:cNvPicPr/>
          <p:nvPr/>
        </p:nvPicPr>
        <p:blipFill>
          <a:blip r:embed="rId2"/>
          <a:stretch/>
        </p:blipFill>
        <p:spPr>
          <a:xfrm>
            <a:off x="411480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wz-00"/>
          <p:cNvPicPr/>
          <p:nvPr/>
        </p:nvPicPr>
        <p:blipFill>
          <a:blip r:embed="rId3"/>
          <a:stretch/>
        </p:blipFill>
        <p:spPr>
          <a:xfrm>
            <a:off x="304920" y="4572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2570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1a4285d1d9912c439a5027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平湖秋月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5486400" y="380880"/>
            <a:ext cx="3429000" cy="55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如梦令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宋 李清照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常记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溪亭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日暮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沉醉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不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归路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兴尽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晚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回舟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误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藕花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深处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争渡，争渡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惊起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一滩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鸥鹭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7" name="Picture 5" descr="wz-00"/>
          <p:cNvPicPr/>
          <p:nvPr/>
        </p:nvPicPr>
        <p:blipFill>
          <a:blip r:embed="rId3"/>
          <a:stretch/>
        </p:blipFill>
        <p:spPr>
          <a:xfrm>
            <a:off x="304920" y="457200"/>
            <a:ext cx="5105160" cy="571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72406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3262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6326280" y="3886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7240680" y="3886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326280" y="1676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7240680" y="1676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6324480" y="2438280"/>
            <a:ext cx="2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7240680" y="243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6326280" y="3124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6858000" y="3124080"/>
            <a:ext cx="3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9fb6c0f0dedfc6d8a50f529e"/>
          <p:cNvPicPr/>
          <p:nvPr/>
        </p:nvPicPr>
        <p:blipFill>
          <a:blip r:embed="rId1"/>
          <a:stretch/>
        </p:blipFill>
        <p:spPr>
          <a:xfrm>
            <a:off x="341964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图片1"/>
          <p:cNvPicPr/>
          <p:nvPr/>
        </p:nvPicPr>
        <p:blipFill>
          <a:blip r:embed="rId2"/>
          <a:stretch/>
        </p:blipFill>
        <p:spPr>
          <a:xfrm>
            <a:off x="-33480" y="0"/>
            <a:ext cx="342612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3348000" y="189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首词记叙了一件什么事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348000" y="1413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事情发生的时间、地点分别是什么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348000" y="2708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你怎么知道是夏季的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276720" y="40053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词人写作的是当天的事吗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3203640" y="5445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词人是一个人去的吗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78749c2e49cc07274dc22676"/>
          <p:cNvPicPr/>
          <p:nvPr/>
        </p:nvPicPr>
        <p:blipFill>
          <a:blip r:embed="rId2"/>
          <a:stretch/>
        </p:blipFill>
        <p:spPr>
          <a:xfrm>
            <a:off x="34196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3419640" y="62064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词人当时的心情如何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48000" y="15573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词人为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知归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419640" y="278136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词人为什么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误入藕花深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492360" y="4076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词人在误入后又有何表现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710160" y="530208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词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词会常想起这件事呢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22869a7e0"/>
          <p:cNvPicPr/>
          <p:nvPr/>
        </p:nvPicPr>
        <p:blipFill>
          <a:blip r:embed="rId2"/>
          <a:stretch/>
        </p:blipFill>
        <p:spPr>
          <a:xfrm>
            <a:off x="228600" y="609480"/>
            <a:ext cx="4325760" cy="53294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是件有趣且值得回味的事情，难怪词人把它记录下来了。你能用语言来描绘一下吗？想象一下画面，然后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9fb6c0f0dedfc6d8a50f52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533520" y="181332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经常记起在溪边的亭子游玩直到太阳落山的时候，沉醉在这风景中，甚至不知道回去的路。玩得尽兴了，而且天已经黑了，只好往回划船，不小心闯入了荷花池深处。赶快划呀，赶快划呀。不小心，惊动了在这里栖息的水鸟，成群的从水面飞起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6" name="Picture 4" descr="389484782"/>
          <p:cNvPicPr/>
          <p:nvPr/>
        </p:nvPicPr>
        <p:blipFill>
          <a:blip r:embed="rId2"/>
          <a:srcRect l="3247" t="7678" r="27591" b="3186"/>
          <a:stretch/>
        </p:blipFill>
        <p:spPr>
          <a:xfrm>
            <a:off x="5105520" y="0"/>
            <a:ext cx="39369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1122869a7e0"/>
          <p:cNvPicPr/>
          <p:nvPr/>
        </p:nvPicPr>
        <p:blipFill>
          <a:blip r:embed="rId2"/>
          <a:stretch/>
        </p:blipFill>
        <p:spPr>
          <a:xfrm>
            <a:off x="380880" y="609480"/>
            <a:ext cx="4038840" cy="56390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4648320" y="76212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么美的画面，你能读好它吗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人说，诗言志。意思是：写诗歌的目的是为了表达某种意愿或心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在这首词中，词人描绘了这么一种美妙的场景，表达了她的什么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首词是作者青年时期悠闲生活的写照，全词文字不多，到叙述却十分完整，意境优美，构成一幅夏日郊游的欢乐图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20027121201444396_jpg"/>
          <p:cNvPicPr/>
          <p:nvPr/>
        </p:nvPicPr>
        <p:blipFill>
          <a:blip r:embed="rId1"/>
          <a:stretch/>
        </p:blipFill>
        <p:spPr>
          <a:xfrm>
            <a:off x="0" y="380880"/>
            <a:ext cx="4572000" cy="4411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4716360" y="76212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李清照</a:t>
            </a:r>
            <a:r>
              <a:rPr b="0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（</a:t>
            </a:r>
            <a:r>
              <a:rPr b="0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1084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—</a:t>
            </a:r>
            <a:r>
              <a:rPr b="0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1155</a:t>
            </a:r>
            <a:r>
              <a:rPr b="0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），号易安居士，宋代济南人。著名的女词人。有《漱玉词》传世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74" name="Picture 4" descr="乌龟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54864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1447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晋朝的王徽之，是大书法家王羲之的儿子。在一个雪夜，他从山阴家中出发，泛舟剡（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shàn)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溪，为的是忽然兴至，要去访问一个朋友戴安道。等到了戴家门口，他并没有走进去，就吩咐回舟而归了。有人训他为什么这样，他说：“乘兴而来，兴尽而返，我又何必见安道呢？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457200" y="4495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李清照和王徽之正是有同样的洒落情怀。既然兴尽即返，不问归路，自然难免有驾船驶入荷花浓密之处的失误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625760" y="68580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兴尽”是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兴尽而返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的典故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44" name="Object 5"/>
          <p:cNvGraphicFramePr/>
          <p:nvPr/>
        </p:nvGraphicFramePr>
        <p:xfrm>
          <a:off x="7543800" y="5738760"/>
          <a:ext cx="160020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738760"/>
                    <a:ext cx="16002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523880" y="609480"/>
            <a:ext cx="5791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Times New Roman"/>
                <a:ea typeface="隶书"/>
              </a:rPr>
              <a:t>主旨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这首词在对大自然的赞美之中，又渗透着词人热爱生活、热爱自然、热爱美好事物的性格特征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7" name="Picture 3" descr="52067465_189909921964"/>
          <p:cNvPicPr/>
          <p:nvPr/>
        </p:nvPicPr>
        <p:blipFill>
          <a:blip r:embed="rId1"/>
          <a:stretch/>
        </p:blipFill>
        <p:spPr>
          <a:xfrm>
            <a:off x="5486400" y="4624560"/>
            <a:ext cx="3657600" cy="2541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39621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梦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昨夜雨疏风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浓睡不消残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问卷帘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却道海棠依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否，知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肥红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191120" y="3045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剪梅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解罗裳，独上兰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雁字回时，月满西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自飘零水自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种相思，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情无计可消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才下眉头，却上心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7794fdfbc24d9d186c22ebd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3"/>
          <p:cNvSpPr txBox="1"/>
          <p:nvPr/>
        </p:nvSpPr>
        <p:spPr>
          <a:xfrm>
            <a:off x="4572000" y="3500280"/>
            <a:ext cx="38052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ccffcc">
                    <a:alpha val="50000"/>
                  </a:srgbClr>
                </a:solidFill>
                <a:latin typeface="宋体"/>
              </a:rPr>
              <a:t>如梦令</a:t>
            </a:r>
            <a:endParaRPr b="1" lang="en-US" sz="6000" spc="1" strike="noStrike">
              <a:ln w="34920">
                <a:solidFill>
                  <a:srgbClr val="000000"/>
                </a:solidFill>
                <a:miter/>
              </a:ln>
              <a:solidFill>
                <a:srgbClr val="ccffcc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ss_telet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6477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如梦令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                 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李清照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常记溪亭日暮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沉醉不知归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62120" y="4572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词牌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505320" y="1523880"/>
            <a:ext cx="5638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隶书"/>
              </a:rPr>
              <a:t>常记”说明所叙的是往事的回忆。“溪亭”指明了饮酒作兴的处所，“日暮”是指时间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352680" y="3124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沉醉”交代了事情的起因词人和几个 女友在溪亭开怀畅饮，兴奋异常，到日暮之时还兴犹未尽，留恋忘返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04920" y="5181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这两句主要交代了往事发生的时间、地点及起因，同时既写出了她们郊外游玩的欢娱心情，又为下边的波澜曲折作了必要的铺垫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438280" y="76212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兴尽晚回舟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误入藕花深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447920" y="3809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在沉醉未醉、意态朦胧之中，“回舟”荡漾，不知不觉又误入了一个新天地：斜阳映照的湖面，藕花亭亭，荷叶田田，夜风袭来，清香飘溢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0" name="Picture 4" descr="ss_telet_006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62730966_189780080344"/>
          <p:cNvPicPr/>
          <p:nvPr/>
        </p:nvPicPr>
        <p:blipFill>
          <a:blip r:embed="rId2"/>
          <a:stretch/>
        </p:blipFill>
        <p:spPr>
          <a:xfrm>
            <a:off x="0" y="457200"/>
            <a:ext cx="206676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62730966_189785374593"/>
          <p:cNvPicPr/>
          <p:nvPr/>
        </p:nvPicPr>
        <p:blipFill>
          <a:blip r:embed="rId1"/>
          <a:stretch/>
        </p:blipFill>
        <p:spPr>
          <a:xfrm>
            <a:off x="1981080" y="0"/>
            <a:ext cx="5965920" cy="597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ss_telet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7623000" y="380880"/>
            <a:ext cx="152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兴尽晚回舟，误入藕花深处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ss_shyu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80880" y="68580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李清照是宋朝著名的女词人。其父李格非是当时著名的学者，其夫赵明诚，是宰相赵挺之之子，历任州郡行政长官。他们婚后的生活很优裕。搜集了大量的书画金石，共同从事学术研究工作。金兵入据中原后，流离南方。不久，其夫赵明诚病死，她精神上受到沉重的打击。宋高宗建炎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年（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1129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年），金兵南下，她又在浙江亲历变乱，生活颠沛流离。此后即在孤寂中度过晚年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755640" y="14050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还想在这藕花世界里流连欣赏，但已使暮色苍茫；想要荡出“藕花深处”，却不知怎么走。情急之中，少女们禁不住发出了“怎么渡，怎么渡”的呼叫声。不料几声婉转的“争渡”声，却惊动了栖息于湖边的水鸟，“呼啦”一声，腾空而飞。暮色苍茫的天空，突然出现一群雪白的鸥鹭，与湖面碧绿的莲叶、或火红或洁白的荷花交相辉映；宁静的湖面上空，突然奏起人声鸟声和水声的交响乐章。这是一种多么动人心弦、令人陶醉的境界啊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09480" y="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争渡，争渡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惊起一滩鸥鹭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8" name="Picture 4" descr="21825598_189971412462"/>
          <p:cNvPicPr/>
          <p:nvPr/>
        </p:nvPicPr>
        <p:blipFill>
          <a:blip r:embed="rId1"/>
          <a:stretch/>
        </p:blipFill>
        <p:spPr>
          <a:xfrm>
            <a:off x="7696080" y="380880"/>
            <a:ext cx="1028880" cy="765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ss_telet_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80880" y="5335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齐声朗诵这首词，注意读出清新的画面美来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5334120" y="0"/>
            <a:ext cx="5029200" cy="82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如梦令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           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李清照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常记溪亭日暮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沉醉不知归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兴尽晚回舟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误入藕花深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争渡，争渡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惊起一滩鸥鹭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7848720" y="5738760"/>
          <a:ext cx="129528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738760"/>
                    <a:ext cx="12952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Text Box 3"/>
          <p:cNvSpPr/>
          <p:nvPr/>
        </p:nvSpPr>
        <p:spPr>
          <a:xfrm>
            <a:off x="611280" y="1413000"/>
            <a:ext cx="358128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如梦令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昨夜雨疏风骤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浓手不消残酒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试问卷帘人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却道海棠依旧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知否？知否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应是绿肥红瘦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3809880" y="1676520"/>
            <a:ext cx="0" cy="44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038480" y="152388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问卷帘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句中谁在问？问什么？卷帘人如何回答的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绿肥红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句中体会出词人对枯萎消瘦的海棠花抱有什么样的感情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给我们描述词中所表现的情景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用一个字概括这首词所表达的思想感情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WordArt 6"/>
          <p:cNvSpPr txBox="1"/>
          <p:nvPr/>
        </p:nvSpPr>
        <p:spPr>
          <a:xfrm rot="100800">
            <a:off x="4114800" y="838080"/>
            <a:ext cx="16826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练习：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" name="Picture 4" descr="20031020222251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3808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李清照工诗能文，所作词尤为宋朝一大家。早期的作品，韵调优美，多写其悠闲的闺中生活。南渡后，深厚的故乡之思，凄哭的身世之感，都在她的作品中抒发出来，情调伤感，风格突变，社会意义也扩大了。她精于谴词造句，善于创意出奇，还善于用白描手法塑造出鲜明动人的形象。语言清丽，在语言艺术上有独到之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77" name="Picture 3" descr="招财猪！"/>
          <p:cNvPicPr/>
          <p:nvPr/>
        </p:nvPicPr>
        <p:blipFill>
          <a:blip r:embed="rId1"/>
          <a:stretch/>
        </p:blipFill>
        <p:spPr>
          <a:xfrm>
            <a:off x="6400800" y="5257800"/>
            <a:ext cx="1265400" cy="94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yian_jpg"/>
          <p:cNvPicPr/>
          <p:nvPr/>
        </p:nvPicPr>
        <p:blipFill>
          <a:blip r:embed="rId1"/>
          <a:stretch/>
        </p:blipFill>
        <p:spPr>
          <a:xfrm>
            <a:off x="838080" y="457200"/>
            <a:ext cx="4496040" cy="59817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7543800" y="914400"/>
            <a:ext cx="838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李清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200281422293019490_jpg"/>
          <p:cNvPicPr/>
          <p:nvPr/>
        </p:nvPicPr>
        <p:blipFill>
          <a:blip r:embed="rId1"/>
          <a:stretch/>
        </p:blipFill>
        <p:spPr>
          <a:xfrm>
            <a:off x="1295280" y="380880"/>
            <a:ext cx="3429000" cy="6134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21681226_189780025634"/>
          <p:cNvPicPr/>
          <p:nvPr/>
        </p:nvPicPr>
        <p:blipFill>
          <a:blip r:embed="rId2"/>
          <a:stretch/>
        </p:blipFill>
        <p:spPr>
          <a:xfrm>
            <a:off x="7010280" y="3733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00281422334728694_jpg"/>
          <p:cNvPicPr/>
          <p:nvPr/>
        </p:nvPicPr>
        <p:blipFill>
          <a:blip r:embed="rId1"/>
          <a:stretch/>
        </p:blipFill>
        <p:spPr>
          <a:xfrm>
            <a:off x="1371600" y="1066680"/>
            <a:ext cx="3648240" cy="5372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21825598_189971412462"/>
          <p:cNvPicPr/>
          <p:nvPr/>
        </p:nvPicPr>
        <p:blipFill>
          <a:blip r:embed="rId2"/>
          <a:stretch/>
        </p:blipFill>
        <p:spPr>
          <a:xfrm>
            <a:off x="6629400" y="5029200"/>
            <a:ext cx="2057400" cy="1530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5410080" y="990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作为一位杰出词人，李清照对美化和丰富祖国语言做出了巨大贡献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200281414362351308_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7396200" y="2362320"/>
            <a:ext cx="1185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  <a:ea typeface="隶书"/>
              </a:rPr>
              <a:t>李清照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562720" y="16002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婉约派词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liqingzhaowangyuetu_jpg"/>
          <p:cNvPicPr/>
          <p:nvPr/>
        </p:nvPicPr>
        <p:blipFill>
          <a:blip r:embed="rId1"/>
          <a:stretch/>
        </p:blipFill>
        <p:spPr>
          <a:xfrm>
            <a:off x="4202280" y="0"/>
            <a:ext cx="4941720" cy="73915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250920" y="1486080"/>
            <a:ext cx="4825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莫道不消魂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6600"/>
                </a:solidFill>
                <a:latin typeface="Times New Roman"/>
              </a:rPr>
              <a:t>帘卷西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人比黄花瘦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7:51:58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3-29T03:17:16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