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AB8-12E6-48E7-A0C9-75C80654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8B9-B114-48ED-B473-C6995C16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6B650-FE4D-4F9D-9865-391BF906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D560B-AA4D-4C71-9375-EF1DA996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88D37-E018-4AA2-8ED6-1AB5869F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AEA4C-3B24-42EE-BBDE-159F0A9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B6359-1E28-489E-A313-9FE0BC6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142B9-565D-4941-A065-A3CF09D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3A80D-04B8-41E2-A555-35B0F222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DBFC7-DEE5-4263-A4C9-0A636B00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1AE0-1F6E-48AC-AB67-C0153662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70305-D25B-4A48-8B9D-B7C49946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94B-DB1C-4455-935B-115657F9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40FB-ADE5-4C70-91C4-96CBDDB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046B-EC26-4E90-8E97-8F416232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0E4B9-6F7A-4233-9C27-E54F34AD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B33B2-1052-4C64-8A93-ACB4E50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B6EF-A4F7-457F-A627-387C3FF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FCD21-7314-4C2C-9DA4-AF52DD7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2F4A4-B1C1-4CB3-88E5-050E831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A542-2BEF-46F1-8786-7F8E920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ACE0-7BA5-4D31-AFCD-05C393FB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C4166-5613-4869-8383-DB17A46C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267-937D-46D1-9AD2-CBCBE3B4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CEE01-0E53-41D0-9885-E9856957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C6DF-545F-47D2-8E53-D017DE0E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A70E1-C12E-42C1-8903-AEDF986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2AA6-9103-4CF4-AC0F-71523AF6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1D6B-B234-4AD3-9224-9C1854DC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F6D82-42B7-4215-8B73-1960725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273CD-8CAD-4361-A5D0-F8F48BB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A24D5-4AE4-493A-9225-5AF3C6D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E7627-27CC-45CB-9F81-CE2DAF56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CEE8-7A0B-498F-B09D-BFF7508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074-7A07-4FBF-8384-DB6382FB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D40BA-F01F-416B-B70A-FA76B9F6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53C1E-2ADA-4DA3-A8BE-8EB325BA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C5D74-ABDB-47D0-8D42-DB386EED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7507E-1BBB-4E76-8613-79F633B8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18FEC-C082-4653-90AF-AEEA32D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E5C5E-625F-4E16-A104-03E63EA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70F84-06CF-47BE-A1DA-6F21688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43BCF-7418-4A2A-9E3B-9C0B4D5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A81FF-69F3-422C-AAB4-64FB783E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19A18-75D8-4505-9264-9D976B7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0E4-B1F9-4149-9ED9-0BE6CD9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2D547-1F67-486C-9880-E708329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85D4B-4BE4-4535-9786-A65FA3F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98524-FD7F-46C9-9A73-EA8464A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CD87C-4D76-4C81-80B6-CE89AD7D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02C9D-F27C-413E-8B24-52BDEEA9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2B00-2963-4AD2-A198-8E55B65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086A-0BA6-4FE6-92A0-8BF3117E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61B8-0519-47B5-BF8B-DF76D8D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E873-B65D-4B5B-8CD5-2DBF33E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F02-FB22-4CD9-BB21-148A37B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308-DACD-4A08-A433-7D08507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681F-E43E-4AB1-9A31-70E714A1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602-C13A-427B-A8F5-746DBFC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C8F-13AE-4781-A014-B6C26BF5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AF89-25C1-47C1-B632-9BBA638C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818-05BE-4F55-B609-331107B3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9389-AF53-4DDC-86E6-499B62B3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AE3E-1488-45FF-991C-6D579DF0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A692-20AC-4CBC-B71D-DB7916D3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E568-10ED-46EA-92CF-E55EE21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2B3D-AA7A-4793-A876-EB09828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E5B-E2F8-4B91-BA2E-261586D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F084-7CC9-440F-B1C8-B22E92E1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C187-931A-4D19-BCA7-0AB8EE6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0AD5-0FEC-4B57-BE42-0DB3C2A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08DF-303A-44C7-AFCE-C9E4896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47D5-AD88-40C7-80F8-3F70588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C6B5-E9C6-4A65-BD30-23B6191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988A-A062-400C-878E-0A60D247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911F-2D98-4535-A822-CC392317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37B3-364D-4047-8AA3-6D73BB8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023D-75DB-47EA-AF9E-DB2F0DE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47F-6F3A-4BAC-BBCE-B65144F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C2A9-F952-4A50-96E6-52ED5D0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31F4-C219-4EA3-9303-ACFAAE3B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0947-698A-4229-900C-BC75FC3C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F62B-8D92-46D3-91A0-3F926D8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C6F2-1B71-4860-A3FA-5F23561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38C1-2311-44D7-A5EE-68727D0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AB94-F8E6-4B9F-84F5-58E1442D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E00F-09A1-457B-A8DC-2F29C71D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B806-DF64-45D5-A78B-E0D6B1E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D7F1-E536-4438-95C7-392BB8C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313-AA5B-4129-B9F9-90A1501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42505-2CF8-460A-8CF2-F4B37603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F939-D303-4927-AEC9-030505F0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875D-CED8-4E01-B931-148ABAC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C2BF-8449-4ACE-97B8-D00FA77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C349-2112-4392-8DD2-B20B87A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994F-07C4-452A-BB5E-E424085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5FDA-76D6-45AF-B67C-0DED3A0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ED59-081F-4A7A-AC5B-3511201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79CC-17C5-438C-B07D-107B000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F287B-5265-4900-B2C4-9C075A9B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988-5BD1-4049-ADDB-843588F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335B-7D2E-4CA5-85BE-8396F3B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3C331-19C7-4FC2-BD2A-B6972D59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7025-9D44-47A8-A7EA-5BE83EA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04EB-36B9-468A-92D6-DB21577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4E2A-91C4-4880-A2D3-7DD16A5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EF8CF-1499-4711-A337-D2A849BB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9A9F-1E1A-49DB-B018-BEF3108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0823-AD99-4F96-9DB7-B96992C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E8AE-9DBC-4E99-9897-ACF9F0B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08B4-5F22-462A-AD19-287B761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4EC-4D2D-4814-A31B-D603D2B1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A6E4-C2B6-41A4-A933-85BBF13F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9CDC-875E-46E5-8CEC-3A67A07B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3FAD-E464-4563-96F2-1D7147C2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A531-4A98-4B61-9B60-AA9EBE3C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D9A0-13D5-4706-B3A2-9CBF4416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A040-9D7C-482B-A123-0225AFAA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2DD6-6EA5-4AF4-BCFC-ADEF453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C47D-D03D-4B72-A98F-53C8A897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F976-DFCF-46D4-B94C-E59E5B7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F8CF3-3BC4-4BA0-9B98-799D533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A2D-F9A0-47E4-8EE4-19E95EE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E975-7B02-4291-85E2-C111BF5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82AE-8879-4334-A554-2A2AAB2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9E0B5-4874-431D-B0D7-4A6D7D0E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E5D9-E6AC-4513-B000-5FC1B00B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3B38-5698-4CEF-8E75-33442C45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8D47-7799-486A-AA1F-7F478530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8DE4-DF64-443F-AF72-C61FA65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9F5A-C5AC-4B53-98A3-DEA52EF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6787-82AF-4ED3-9F36-0806C9B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EB1B-35CC-4963-AD1F-C78BF1D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7A9-F28B-488E-B4B6-16BE1C1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F1972-EB87-43C0-A7A4-D61E82B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BB63-636E-4B29-96BD-2DB3F16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96A0-2681-44A0-A303-7F986AE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4907-5027-4B47-B326-F17933C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CD2FF-698D-44AA-A8FB-52EDC21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EF5DA-9A9C-491A-85B9-E6BCB168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E9BA-22AC-4362-86F9-27D8E9A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776E-5A80-4401-B553-F6AB4A16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E880-EAF3-4614-9E3E-BD8A9DF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9C5A-0951-4EF7-839B-288E3077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1AF-F57A-496B-A092-7C4D9CF6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9F6-44FB-4C64-A355-98C5356C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CD3-C2D4-41EF-9781-1A820EC4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5A9-A676-4C31-B4C8-1560A42B2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372-F0AA-4F30-8773-58BF4CA8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EE1-B039-496E-8FD6-66735055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D5CF-CE50-4B26-9AD4-62BBA20F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7178-08B5-4687-8C60-29B44F52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610-141A-4AC9-966D-BF051002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A227-D7A8-438B-A7F3-63B54DCE2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28D-24DE-4985-9C75-F31DB961E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E69-D49E-4EE7-B2FB-21D92AEC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8"/>
          <p:cNvSpPr/>
          <p:nvPr/>
        </p:nvSpPr>
        <p:spPr>
          <a:xfrm>
            <a:off x="3184560" y="44258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2346480" y="389268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WordArt 55"/>
          <p:cNvSpPr txBox="1"/>
          <p:nvPr/>
        </p:nvSpPr>
        <p:spPr>
          <a:xfrm>
            <a:off x="971640" y="981000"/>
            <a:ext cx="7280280" cy="32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cc99ff"/>
                  </a:solidFill>
                  <a:round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人的高贵在于灵魂</a:t>
            </a:r>
            <a:endParaRPr b="1" lang="en-US" sz="2400" spc="1" strike="noStrike">
              <a:ln cap="sq" w="9360">
                <a:solidFill>
                  <a:srgbClr val="cc99ff"/>
                </a:solidFill>
                <a:round/>
              </a:ln>
              <a:solidFill>
                <a:srgbClr val="00206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Text Box 57"/>
          <p:cNvSpPr/>
          <p:nvPr/>
        </p:nvSpPr>
        <p:spPr>
          <a:xfrm>
            <a:off x="6588000" y="44258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周国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71640" y="1447920"/>
            <a:ext cx="7697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我们来欣赏吧！</a:t>
            </a:r>
            <a:br>
              <a:rPr sz="9600"/>
            </a:b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11788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43208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1828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64176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46483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4976640" y="2784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5" descr="G:\闪耀的雷锋精神0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Picture 5" descr="G:\闪耀的雷锋精神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G:\闪耀的雷锋精神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G:\闪耀的雷锋精神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5" descr="G:\献爱心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G:\献爱心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G:\献爱心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G:\献爱心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G:\献爱心7.jpg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030"/>
          <p:cNvSpPr/>
          <p:nvPr/>
        </p:nvSpPr>
        <p:spPr>
          <a:xfrm>
            <a:off x="480960" y="1371600"/>
            <a:ext cx="82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理解人的高贵在于灵魂，保持纯正的精神追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031"/>
          <p:cNvSpPr/>
          <p:nvPr/>
        </p:nvSpPr>
        <p:spPr>
          <a:xfrm>
            <a:off x="509760" y="227664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把握文章的严谨的结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1032"/>
          <p:cNvSpPr/>
          <p:nvPr/>
        </p:nvSpPr>
        <p:spPr>
          <a:xfrm>
            <a:off x="509760" y="3154320"/>
            <a:ext cx="57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理解文章的说理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033"/>
          <p:cNvSpPr/>
          <p:nvPr/>
        </p:nvSpPr>
        <p:spPr>
          <a:xfrm>
            <a:off x="539640" y="393372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学习本文准确的语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036"/>
          <p:cNvSpPr/>
          <p:nvPr/>
        </p:nvSpPr>
        <p:spPr>
          <a:xfrm>
            <a:off x="324000" y="26028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学习目标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5" descr="G:\献爱心活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G:\中山医院医生和护士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7621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6" descr="G:\做好事存“道德银行”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通过本文的学习，你应该对灵魂有了一个新的认识，那么请每一个同学写一篇小作文。题目：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浅谈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的灵魂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隶书"/>
              </a:rPr>
              <a:t>作者介绍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0560" y="1341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周国平，中国社会科学院研究员，出版各类著作二十多种，其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人与守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守望的距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妞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父亲的杂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尼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世纪的转折点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产生了极大的反响，是当代具有号召力的学者、作家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4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生于上海，先后就读于上海市（紫金小学、成都中学、上海中学）和北京大学哲学系。先后获得哲学硕士、博士学位。现在进中国社会科学院哲学研究院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7"/>
          <p:cNvSpPr/>
          <p:nvPr/>
        </p:nvSpPr>
        <p:spPr>
          <a:xfrm>
            <a:off x="1040400" y="1747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灵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4959720" y="19051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宗教所信居于人的身体内主宰身体的精神体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438280" y="47451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1990800" y="23893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心灵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4356720" y="28558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比喻起指导作用和决定作用的因素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1227240" y="3573360"/>
            <a:ext cx="77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课文对“灵魂”赋予了它新的意义，那么它的内涵是什么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WordArt 14"/>
          <p:cNvSpPr txBox="1"/>
          <p:nvPr/>
        </p:nvSpPr>
        <p:spPr>
          <a:xfrm>
            <a:off x="0" y="2817720"/>
            <a:ext cx="140328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思考</a:t>
            </a:r>
            <a:endParaRPr b="1" lang="en-US" sz="4000" spc="-1" strike="noStrike">
              <a:ln w="0">
                <a:noFill/>
              </a:ln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1187280" y="446076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从文章内容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1632240" y="5084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从作者举例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3403440" y="5105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阿基米德、第欧根尼、王尔德、一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少女、许多青年画家的纯正追求。他们的所作所为可以看作“灵魂”的注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3422520" y="440532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能思想”“纯正的追求”“自己的内心世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1258920" y="61657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概括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2666880" y="62182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  <a:ea typeface="宋体"/>
              </a:rPr>
              <a:t>一个人的精神追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50920" y="4762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自学指导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755640" y="333360"/>
            <a:ext cx="46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自学指导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68360" y="1628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议论文一般是按照提出问题、分析问题、解决问题的思路来展开的。本文的思路大家可以理一下吗？你还能概括各部分的大意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03640" y="6091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文章结构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-42480" y="1828800"/>
            <a:ext cx="1277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人的高贵在于灵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533600" y="35352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1371600" y="3352680"/>
            <a:ext cx="976320" cy="4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2803680" y="220968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提出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2727360" y="313848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分析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95480" y="434340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解决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2443320" y="3535200"/>
            <a:ext cx="5540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2362320" y="25146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44038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AutoShape 17"/>
          <p:cNvSpPr/>
          <p:nvPr/>
        </p:nvSpPr>
        <p:spPr>
          <a:xfrm>
            <a:off x="4724280" y="2438280"/>
            <a:ext cx="609840" cy="76320"/>
          </a:xfrm>
          <a:custGeom>
            <a:avLst/>
            <a:gdLst>
              <a:gd name="textAreaLeft" fmla="*/ 75960 w 609840"/>
              <a:gd name="textAreaRight" fmla="*/ 533880 w 6098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463248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20"/>
          <p:cNvSpPr/>
          <p:nvPr/>
        </p:nvSpPr>
        <p:spPr>
          <a:xfrm>
            <a:off x="4724280" y="3505320"/>
            <a:ext cx="609840" cy="75960"/>
          </a:xfrm>
          <a:custGeom>
            <a:avLst/>
            <a:gdLst>
              <a:gd name="textAreaLeft" fmla="*/ 75960 w 609840"/>
              <a:gd name="textAreaRight" fmla="*/ 533880 w 6098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463248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AutoShape 22"/>
          <p:cNvSpPr/>
          <p:nvPr/>
        </p:nvSpPr>
        <p:spPr>
          <a:xfrm>
            <a:off x="4724280" y="4572000"/>
            <a:ext cx="609840" cy="76320"/>
          </a:xfrm>
          <a:custGeom>
            <a:avLst/>
            <a:gdLst>
              <a:gd name="textAreaLeft" fmla="*/ 75960 w 609840"/>
              <a:gd name="textAreaRight" fmla="*/ 533880 w 6098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435640" y="204948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提出论点稍加阐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25"/>
          <p:cNvSpPr/>
          <p:nvPr/>
        </p:nvSpPr>
        <p:spPr>
          <a:xfrm>
            <a:off x="6041880" y="3573360"/>
            <a:ext cx="1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64000" y="29242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从不同角度举例、引用论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5435640" y="4292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结合实际表达愿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324000" y="1197000"/>
            <a:ext cx="882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说一说证明论点列举的典型事例和所讲述的道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-130680" y="2666880"/>
            <a:ext cx="911880" cy="2895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人的高贵在于灵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1523880" y="2666880"/>
            <a:ext cx="16765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阿基米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1600200" y="3429000"/>
            <a:ext cx="160020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第欧根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828800" y="4114800"/>
            <a:ext cx="12952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王尔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1116000" y="4724280"/>
            <a:ext cx="2209680" cy="825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车厢中的少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许多青年画家的追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1071720" y="3763800"/>
            <a:ext cx="5540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838080" y="28954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4191120" y="2666880"/>
            <a:ext cx="358128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爱思想胜于爱自己的生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31082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4114800" y="3429000"/>
            <a:ext cx="41911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灵魂生活比显赫的权势更高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303228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4114800" y="4114800"/>
            <a:ext cx="419112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世间没有比人的灵魂更宝贵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37940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4191120" y="4724280"/>
            <a:ext cx="3962160" cy="459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致力于纯正追求的青春岁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3565440" y="261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24"/>
          <p:cNvSpPr/>
          <p:nvPr/>
        </p:nvSpPr>
        <p:spPr>
          <a:xfrm>
            <a:off x="3352680" y="2743200"/>
            <a:ext cx="824040" cy="228600"/>
          </a:xfrm>
          <a:prstGeom prst="rightArrow">
            <a:avLst>
              <a:gd name="adj1" fmla="val 50000"/>
              <a:gd name="adj2" fmla="val 9010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0"/>
          <p:cNvSpPr/>
          <p:nvPr/>
        </p:nvSpPr>
        <p:spPr>
          <a:xfrm>
            <a:off x="3336840" y="33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31"/>
          <p:cNvSpPr/>
          <p:nvPr/>
        </p:nvSpPr>
        <p:spPr>
          <a:xfrm>
            <a:off x="3352680" y="3429000"/>
            <a:ext cx="747720" cy="228600"/>
          </a:xfrm>
          <a:prstGeom prst="rightArrow">
            <a:avLst>
              <a:gd name="adj1" fmla="val 50000"/>
              <a:gd name="adj2" fmla="val 8177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3336840" y="405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3276720" y="4191120"/>
            <a:ext cx="823680" cy="228600"/>
          </a:xfrm>
          <a:prstGeom prst="rightArrow">
            <a:avLst>
              <a:gd name="adj1" fmla="val 50000"/>
              <a:gd name="adj2" fmla="val 9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34"/>
          <p:cNvSpPr/>
          <p:nvPr/>
        </p:nvSpPr>
        <p:spPr>
          <a:xfrm>
            <a:off x="3489480" y="47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AutoShape 35"/>
          <p:cNvSpPr/>
          <p:nvPr/>
        </p:nvSpPr>
        <p:spPr>
          <a:xfrm>
            <a:off x="3352680" y="4800600"/>
            <a:ext cx="824040" cy="228600"/>
          </a:xfrm>
          <a:prstGeom prst="rightArrow">
            <a:avLst>
              <a:gd name="adj1" fmla="val 50000"/>
              <a:gd name="adj2" fmla="val 9010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39"/>
          <p:cNvSpPr/>
          <p:nvPr/>
        </p:nvSpPr>
        <p:spPr>
          <a:xfrm>
            <a:off x="539640" y="2602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自学指导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1844640"/>
            <a:ext cx="838188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讨论：读了课文以后，你觉得一个人的高贵体现在哪里？高贵能否用“高尚”来代替？为什么？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4360" y="3716280"/>
            <a:ext cx="777240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）有思想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）有丰富的精神财富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）有一种纯正的追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高贵：强调的是人要“有一颗能思想的灵魂</a:t>
            </a: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而高尚指：指人的道德水平或趣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546120" y="18900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自学指导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课文中大都举的是名人事例，其实我们稍微留心观察周围的现象，常常发现，在平庸的背景下，哪怕是一点不起眼的灵魂生活的迹象，也会闪现出很动人的光彩。谁能把自己平时发现过的这样“动人的光彩”讲给同学们听听，好吗？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2034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256200" y="609480"/>
            <a:ext cx="415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宋体"/>
              </a:rPr>
              <a:t>大家交流：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0:25:39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10:47:12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