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647-9711-43D7-8BDA-8512987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CF5-30C1-4879-ABAC-7D1795F9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759-FD7B-4A4E-A3CE-6F66D653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D0F-E394-467C-B2BE-99DB5934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98B8-0157-48E5-ACDF-B8C0BC69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52FB-28FD-4DF4-BE2B-8CA8FD8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2C8-6427-4D96-87B0-66552ABD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5857-BBE3-4AF9-87F3-084A54CF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E0E1-51D8-4010-9D46-1CAF22C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F23-7472-459E-B064-6341F6C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9C04-1A44-458D-AB78-F518F5E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8D2-0B8D-4E88-9287-18E7CA52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6F4-039D-48D7-A216-E53BA51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D394-85F2-40D2-8A3F-AA3CEDF8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B63A-3D16-4D59-8B89-C165F0D7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1F23-3D44-41F6-A247-419547E0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0A3-1200-4BFB-B706-1CEBE83E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F395-4ED1-4FB7-812B-97130513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CE85-6DF0-4EA0-92C9-91E5C0A7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4636-C492-4EB3-891B-FFEDE454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385A-9028-47E2-BAE5-E641180D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4F5A-D5F4-4300-988E-0E6E0595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36D-790B-4CEE-AB3F-D38796DC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E57C-C3B6-4D06-9CE8-9DCE3BD3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331F-600C-40D5-8D98-C8225CBA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2EB5-E457-4DA6-A61A-2044C7B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FB86-4939-4B86-843C-A8B5C6A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6F93-6291-46A7-A2BC-4CA96864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1448-0F76-4085-AA38-791D6B69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493F-D5D0-460C-9FBB-D62EE938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57C-5833-4FB0-8311-F3E81EE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258-269C-4966-A9E5-FB55228B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637-A42B-4CC8-B475-4089089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338-6A64-44DD-BEEF-2A47638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F99-3EB6-452B-9A7D-DAC772B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EDB-B2F0-4F2C-812E-5A727667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6C1A-5182-4D1F-8B5A-45D4485FD49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3CE-99FE-412E-BC5F-E3D327CF4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FD2-D714-4E10-A546-B2106FE135B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803_78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63640" y="1989000"/>
            <a:ext cx="79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3300"/>
                </a:solidFill>
                <a:latin typeface="Tahoma"/>
                <a:ea typeface="华文行楷"/>
              </a:rPr>
              <a:t>热 爱 生 命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探讨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0880" y="1384200"/>
            <a:ext cx="793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95280" y="1341360"/>
            <a:ext cx="83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应热爱生命这种态度你是否认同，怎么去做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章提到了哪些方法，我们能不能再结合自身的实际谈谈设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9640" y="3502080"/>
            <a:ext cx="78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热爱生命、享受生活要关注生活，要有效的利用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198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摘抄下文章的名言警句，并试着写下自己的理解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4360" y="2925720"/>
            <a:ext cx="81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坏日子，要飞快地“度”，好日子，要停下来细细品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我们觉得不堪生之重压或是白白虚度此生，那也只能怪我们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享受生活要讲究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33"/>
                </a:solidFill>
                <a:latin typeface="Garamond"/>
              </a:rPr>
              <a:t>作者介绍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2000" y="1628280"/>
            <a:ext cx="47624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蒙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533-159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平：生活的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早期教育、法官生涯、离群索居、思想孕育的孩子、旅行、波多尔市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造：“我知道什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蒙田随笔集》（日常生活、传统习俗、人生哲理、各类评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049800" y="1413000"/>
            <a:ext cx="25909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821988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《热爱生命》朗诵录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蒙田《热爱生命》.mp3" descr="蒙田《热爱生命》"/>
          <p:cNvPicPr/>
          <p:nvPr/>
        </p:nvPicPr>
        <p:blipFill>
          <a:blip r:embed="rId1"/>
          <a:stretch/>
        </p:blipFill>
        <p:spPr>
          <a:xfrm>
            <a:off x="4451400" y="330840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892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96720" y="11736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议论文写作提纲的构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68160" y="98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确定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585240" y="98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论述的问题或论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69160" y="155736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大黑简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确定论点以及怎样引出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25760" y="2205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大黑简体"/>
              </a:rPr>
              <a:t>三、围绕论点确定几个论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42920" y="2205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包括道理论据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及与之相配套的事实论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79280" y="328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大黑简体"/>
              </a:rPr>
              <a:t>四、确定论据之间的连接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042920" y="3284640"/>
            <a:ext cx="1277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　　　　　　　　　（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使读者更能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楚地看清文章的论证脉络，条理清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79280" y="436572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、确定从哪方面来联系实际或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629800" y="5013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大黑简体"/>
              </a:rPr>
              <a:t>六、确定结论，即如何收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《热爱生命》提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22360" y="117936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题目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热爱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06520" y="2154240"/>
            <a:ext cx="601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1989000"/>
            <a:ext cx="7550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确定论点以及怎样引出论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论点：热爱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引论：文章开头，作者开门见山表明热爱生活的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9640" y="3860640"/>
            <a:ext cx="8425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围绕论点确定几个论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哲人和作者对时光或生命的看法的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引用古罗马哲学家塞涅卡的名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谈到生命的孪生兄弟：死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946080" y="958680"/>
            <a:ext cx="643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620640"/>
            <a:ext cx="8324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确定论据之间的联系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果我们觉得不堪生之重压或是白白虚度此生，那么只能怪我们自己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糊涂人一生枯燥无味，躁动不安，却将全部希望寄托于来世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925720"/>
            <a:ext cx="8208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确定从哪些方面来联系实际或解决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热爱生命、享受生活要关注生活，要有效的利用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4000" y="4726080"/>
            <a:ext cx="7851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、确定结论，即如何收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剩下的生命愈是短暂，我愈要使之过得丰盈饱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析难解语句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15960" y="1384200"/>
            <a:ext cx="82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坏日子，要飞快地‘度’，好日子，要停下来细细的品尝。”而我们我们常说坏日子难熬，好日子过得快，这是不是矛盾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4360" y="32860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们不要任欢乐冲没我们，以至忘记了有时想起我们的娱乐往往只是死的先声”。坏日子不要拒绝，享乐不要过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684360" y="476280"/>
            <a:ext cx="79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文章中说：“生之本质在于死。”这句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96720" y="184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是一团欲望，欲望不满足便空虚，满足便无聊，人生就是在空虚与无聊之间徘徊。”（叔本华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39640" y="3573360"/>
            <a:ext cx="82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思是说，作为个体生命的存在，都是短暂的、有限的，总是要死亡的，是人人所不能避免的。这句话从生命的终极归宿上来看待生命，由此引出珍惜生命的话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612720" y="40464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文章中说：“乐于生的人才能真正不感到死之苦恼。”这句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50920" y="1413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惜生命，热爱生命，认真而充实地生活，善于享受生活中各种快乐的人就感到死而无憾，就不感到死的苦恼了。如果一辈子懒散拖沓，萎靡不振，不能积极乐观地对待生活，留有好多遗憾，临死时必然感到苦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9280" y="4005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哲学上说，人在追求自己的生命价值时可以超越死亡。在人类的历史上，饮鸩的苏格拉底，自沉汨罗的屈原，断头台上的谭嗣同，这些著名人物都把个体的“小我”融会于人类的“大我”之中，实现了人的生命的自我超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9:28:11Z</dcterms:created>
  <dc:creator/>
  <dc:description/>
  <cp:keywords/>
  <dc:language>en-US</dc:language>
  <cp:lastModifiedBy>ABC</cp:lastModifiedBy>
  <cp:lastPrinted>1899-12-30T00:00:00Z</cp:lastPrinted>
  <dcterms:modified xsi:type="dcterms:W3CDTF">2015-12-23T05:51:4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