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chimes.wav" ContentType="audio/x-wav"/>
  <Override PartName="/ppt/media/image2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7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6.jpeg" ContentType="image/jpeg"/>
  <Override PartName="/ppt/media/type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2808-DE35-461C-9B6E-8CA82031A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B47F-2AC2-49B8-9F1D-CFA849285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13EC-BA0B-43B2-86B5-F3D1AD6BC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46AB-777B-4732-ABA1-C0E2E6448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7BF6-7CE2-4708-9CDD-A387B7449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826B-8601-464B-A213-0280BB6C3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F7F4-E63D-41A5-8584-EF56B1713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3BEF-9CC9-48C4-B4AE-A8BE053CD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4CF3-EA6B-486F-B807-824AD9DC9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81A7-C488-4127-AF96-8A8ED6BC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73DE-5C5C-457B-A071-D2F49EA6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4262-DF4F-46A7-B30E-7F5FABDF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E8E4-9187-43C0-8D83-DC8C46CB5E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shhpl.com/difang/ACCESS/Photo_Viewer.asp?UrlID=1&amp;PhotoID=219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00511210038546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3b_1_sb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SongT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04920" y="169236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茅盾故乡乌镇的小河两岸都是密密的芦苇，真是密不透风，每当其间显现一座石桥时，仿佛发闷的苇丛做了一次深呼吸，透了一口舒畅的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book_552789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桥-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3"/>
          <p:cNvSpPr/>
          <p:nvPr/>
        </p:nvSpPr>
        <p:spPr>
          <a:xfrm>
            <a:off x="152280" y="228600"/>
            <a:ext cx="8915400" cy="640080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304920" y="126540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660033"/>
                </a:solidFill>
                <a:latin typeface="宋体"/>
              </a:rPr>
              <a:t>早春天气，江南乡间石桥头细柳飘丝，那纤细的游丝拂着桥身坚硬的石块，即使碰不见晓风残月，也令画家销魂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东湖二十三孔景桥"/>
          <p:cNvPicPr/>
          <p:nvPr/>
        </p:nvPicPr>
        <p:blipFill>
          <a:blip r:embed="rId1"/>
          <a:srcRect l="0" t="0" r="0" b="644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十七孔桥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304920" y="156996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湖水苍茫，水天一色，在一片单纯明亮的背景前突然出现了一座长桥，卧龙一般，它有生命，而且往往有几百上千年的年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廊桥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U398P1T1D2950107F21DT20040224191419"/>
          <p:cNvPicPr/>
          <p:nvPr/>
        </p:nvPicPr>
        <p:blipFill>
          <a:blip r:embed="rId1"/>
          <a:stretch/>
        </p:blipFill>
        <p:spPr>
          <a:xfrm>
            <a:off x="0" y="0"/>
            <a:ext cx="9144000" cy="77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huilongbri"/>
          <p:cNvPicPr/>
          <p:nvPr/>
        </p:nvPicPr>
        <p:blipFill>
          <a:blip r:embed="rId1"/>
          <a:stretch/>
        </p:blipFill>
        <p:spPr>
          <a:xfrm>
            <a:off x="-324000" y="0"/>
            <a:ext cx="946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fade/>
    <p:sndAc>
      <p:stSnd>
        <p:snd r:embed="rId2" name="typ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3733920"/>
            <a:ext cx="9144000" cy="312408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200511295856205[1]"/>
          <p:cNvPicPr/>
          <p:nvPr/>
        </p:nvPicPr>
        <p:blipFill>
          <a:blip r:embed="rId1"/>
          <a:stretch/>
        </p:blipFill>
        <p:spPr>
          <a:xfrm>
            <a:off x="0" y="0"/>
            <a:ext cx="9144000" cy="37339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4"/>
          <p:cNvSpPr/>
          <p:nvPr/>
        </p:nvSpPr>
        <p:spPr>
          <a:xfrm>
            <a:off x="457200" y="40384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唐朝的张嘉贞是如何评价这座桥的？是从哪个角度进行评价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1295280" y="5105520"/>
            <a:ext cx="784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茅以升是如何评价这座桥的结构的？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200308071500122331201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程阳桥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304920" y="152388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广西、云南、贵州等省山区往往碰到风雨桥，桥面上盖成遮雨的廊和亭，那是古代山水画中点缀人物的理想位置。因桥下多半是急流，人们到此总要驻足欣赏飞瀑流泉，画家和摄影师们必然要在此展开一番搏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chingming_4_7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304920" y="152388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桥上桥下，往返行人，各样船只，必然展现生动活泼的场面，两岸街头浓厚的生活情调也被桥相联而成浓缩的画图。矛盾的发展促成戏剧的高潮，形象的重叠和交错构成丰富的画面，桥往往担任了联系形象的重叠和交错的角色，难怪绘画和摄影作品中经常碰见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89154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小桥流水家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fade/>
    <p:sndAc>
      <p:stSnd>
        <p:snd r:embed="rId2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桥-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3"/>
          <p:cNvSpPr/>
          <p:nvPr/>
        </p:nvSpPr>
        <p:spPr>
          <a:xfrm>
            <a:off x="152280" y="228600"/>
            <a:ext cx="8763120" cy="640080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304920" y="152388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极目一片庄稼地，有些单调，小径尽头忽然出现一座小桥，桥下小河里倒映着桥的倒影，倒影又往往被浮萍、杂草刺破。无论是木桥还是石桥，其身段的纵横与桥下的水波协同谱出形与色的乐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20048231443356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200307171823486350824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桥j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304920" y="152388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人道索桥险，画家们眼里的索桥却是一道线，一道富有弹性的线！一道孤立的线很难说有什么生命力，是险峻的环境孕育了桥之生命，是山岩、树丛及急流的多种多样的线的衬托，才使索桥获得了具有独特生命力的线的效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桥-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304920" y="152388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四、我看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桥之美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380880" y="243828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、文章中写到的这些桥，作者都认为它们美吗？有没有作者认为不美的桥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二十四桥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2590920" y="106668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660033"/>
                </a:solidFill>
                <a:latin typeface="Times New Roman"/>
                <a:ea typeface="华文新魏"/>
              </a:rPr>
              <a:t>桥 之 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5867280" y="251460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Times New Roman"/>
                <a:ea typeface="华文新魏"/>
              </a:rPr>
              <a:t>吴冠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桥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228600" y="121932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“凡是起到构成及联系之关键作用的形象，其实也就具备了桥之美！”请说说你的理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桥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80880" y="838080"/>
            <a:ext cx="3962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Wingdings 2"/>
                <a:ea typeface="Wingdings 2"/>
              </a:rPr>
              <a:t>拓</a:t>
            </a:r>
            <a:r>
              <a:rPr b="1" lang="zh-CN" sz="4400" spc="-1" strike="noStrike">
                <a:solidFill>
                  <a:srgbClr val="99cc00"/>
                </a:solidFill>
                <a:latin typeface="Wingdings 2"/>
                <a:ea typeface="Wingdings 2"/>
              </a:rPr>
              <a:t>展</a:t>
            </a:r>
            <a:r>
              <a:rPr b="1" lang="zh-CN" sz="4400" spc="-1" strike="noStrike">
                <a:solidFill>
                  <a:srgbClr val="66ff66"/>
                </a:solidFill>
                <a:latin typeface="Wingdings 2"/>
                <a:ea typeface="Wingdings 2"/>
              </a:rPr>
              <a:t>延</a:t>
            </a:r>
            <a:r>
              <a:rPr b="1" lang="zh-CN" sz="4400" spc="-1" strike="noStrike">
                <a:solidFill>
                  <a:srgbClr val="000000"/>
                </a:solidFill>
                <a:latin typeface="Wingdings 2"/>
                <a:ea typeface="Wingdings 2"/>
              </a:rPr>
              <a:t>伸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380880" y="1523880"/>
            <a:ext cx="815364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同学们回去找找自己身边，或者旅游途中的风景照，或者利用网络或书籍寻找一些有关各地风土人情等的照片，给各自查找到的图片配上一段说明文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桥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762120" y="28954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桥的确很美，那么在画家的眼里桥美在何处呢？请同学们速读课文，在文中找到答案。</a:t>
            </a:r>
            <a:r>
              <a:rPr b="0" lang="zh-CN" sz="3200" spc="-1" strike="noStrike">
                <a:solidFill>
                  <a:srgbClr val="660033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533520" y="609480"/>
            <a:ext cx="3962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Wingdings 2"/>
                <a:ea typeface="Wingdings 2"/>
              </a:rPr>
              <a:t>文本解读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85800" y="19810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一、画家眼中的“桥之美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6_1_b[1]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桥b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533520" y="8380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宋体"/>
              </a:rPr>
              <a:t>二、不同环境中的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660033"/>
                </a:solidFill>
                <a:latin typeface="宋体"/>
              </a:rPr>
              <a:t>桥之美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380880" y="457200"/>
            <a:ext cx="3962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685800" y="1752480"/>
            <a:ext cx="7924680" cy="44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宋体"/>
              </a:rPr>
              <a:t>乌镇苇丛中的石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宋体"/>
              </a:rPr>
              <a:t>江南乡间细柳下的石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宋体"/>
              </a:rPr>
              <a:t>水天间的长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宋体"/>
              </a:rPr>
              <a:t>桥外是飞瀑流泉，桥面上有廊和亭的风雨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660033"/>
                </a:solidFill>
                <a:latin typeface="宋体"/>
              </a:rPr>
              <a:t>清明上河图</a:t>
            </a:r>
            <a:r>
              <a:rPr b="1" lang="en-US" sz="2400" spc="-1" strike="noStrike">
                <a:solidFill>
                  <a:srgbClr val="660033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660033"/>
                </a:solidFill>
                <a:latin typeface="宋体"/>
              </a:rPr>
              <a:t>中的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宋体"/>
              </a:rPr>
              <a:t>庄稼地、小径尽头的小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宋体"/>
              </a:rPr>
              <a:t>铁索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宋体"/>
              </a:rPr>
              <a:t>南京长江大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宋体"/>
              </a:rPr>
              <a:t>钱塘江大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宋体"/>
              </a:rPr>
              <a:t>鹊桥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3b_1_sb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桥-h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十七孔桥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程阳桥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chingming_4_7[1]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桥j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桥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533520" y="1219320"/>
            <a:ext cx="792468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三、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品味、赏析“桥之美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看到这些桥，会有什么样的感受？为什么会有这样的感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533520" y="609480"/>
            <a:ext cx="3962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重庆古桥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07:13:26Z</dcterms:created>
  <dc:creator/>
  <dc:description/>
  <cp:keywords/>
  <dc:language>en-US</dc:language>
  <cp:lastModifiedBy>ABC</cp:lastModifiedBy>
  <dcterms:modified xsi:type="dcterms:W3CDTF">2015-12-23T04:43:21Z</dcterms:modified>
  <cp:revision>3</cp:revision>
  <dc:subject/>
  <dc:title>PowerPoint 演示文稿</dc:title>
</cp:coreProperties>
</file>